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F89-9190-4F73-8194-49489328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3F6-C553-447C-88D9-566D5880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565-5443-4C2D-8DC8-90188B1E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A0E-3C26-4A01-BA56-85A6CFFE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E24-31B7-4AD6-B096-5CF5798D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C16-6756-46B1-A5BB-BD372D97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583-D2E1-4B68-A328-7184812E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BAC-827B-4FCE-8CC3-A2F180E7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D90-D970-4A19-BF18-FC74ADFF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8B7-38D5-4431-9975-8A863097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F1A-FCBC-4135-AD56-6C1C139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8D0-EE52-4AD2-BD4E-2877C2C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944A-2266-4E6A-97D7-0CE27EE7C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irnov01" descr=""/>
          <p:cNvPicPr/>
          <p:nvPr/>
        </p:nvPicPr>
        <p:blipFill>
          <a:blip r:embed="rId1"/>
          <a:stretch/>
        </p:blipFill>
        <p:spPr>
          <a:xfrm>
            <a:off x="3505320" y="-838080"/>
            <a:ext cx="5451480" cy="903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04920"/>
            <a:ext cx="3429000" cy="59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PL Experiment Semi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21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capillary porous system on T-1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ering of Deuterium and 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terium retention in Li lim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irnov10" descr=""/>
          <p:cNvPicPr/>
          <p:nvPr/>
        </p:nvPicPr>
        <p:blipFill>
          <a:blip r:embed="rId1"/>
          <a:stretch/>
        </p:blipFill>
        <p:spPr>
          <a:xfrm>
            <a:off x="3962520" y="0"/>
            <a:ext cx="5310000" cy="7261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304920"/>
            <a:ext cx="40384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droplets at the port walls for Var. I (limiter was removed while pictur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.I. Enhanced view on back side of the vacuum chamber and  on the plasma facing surface of the 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t II of the Li limiter generated no droplets on the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irnov11" descr="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720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304920"/>
            <a:ext cx="3657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T-11M AXUV diagnostics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system is used on CDX-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irnov12" descr=""/>
          <p:cNvPicPr/>
          <p:nvPr/>
        </p:nvPicPr>
        <p:blipFill>
          <a:blip r:embed="rId1"/>
          <a:stretch/>
        </p:blipFill>
        <p:spPr>
          <a:xfrm>
            <a:off x="3325680" y="-228600"/>
            <a:ext cx="5818320" cy="812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380880"/>
            <a:ext cx="3353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characteristics of the silicon AXUV  detectors used on T-11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irnov13" descr=""/>
          <p:cNvPicPr/>
          <p:nvPr/>
        </p:nvPicPr>
        <p:blipFill>
          <a:blip r:embed="rId1"/>
          <a:stretch/>
        </p:blipFill>
        <p:spPr>
          <a:xfrm>
            <a:off x="3267000" y="-1241280"/>
            <a:ext cx="5877000" cy="8099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80880"/>
            <a:ext cx="3047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deposition on the Li limiter (top-left picture) during a typical discharge on T-11M (reported at the ISFNT  meeting, Madrid, Spain, August, 2000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irnov14" descr=""/>
          <p:cNvPicPr/>
          <p:nvPr/>
        </p:nvPicPr>
        <p:blipFill>
          <a:blip r:embed="rId1"/>
          <a:stretch/>
        </p:blipFill>
        <p:spPr>
          <a:xfrm>
            <a:off x="3875040" y="0"/>
            <a:ext cx="5268960" cy="7261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30492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ry behavior of the Li radiation during the T-11M discharge for different initial temperatures of the CPS lim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irnov16" descr=""/>
          <p:cNvPicPr/>
          <p:nvPr/>
        </p:nvPicPr>
        <p:blipFill>
          <a:blip r:embed="rId1"/>
          <a:stretch/>
        </p:blipFill>
        <p:spPr>
          <a:xfrm>
            <a:off x="3962520" y="0"/>
            <a:ext cx="5349600" cy="7467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380880"/>
            <a:ext cx="38862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discharges on T-11M with the hot Li limiter demonstrate reduction in the plasma density with the number of dischar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ed by the  gettering effect of the Li coating of the side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irnov17" descr=""/>
          <p:cNvPicPr/>
          <p:nvPr/>
        </p:nvPicPr>
        <p:blipFill>
          <a:blip r:embed="rId1"/>
          <a:stretch/>
        </p:blipFill>
        <p:spPr>
          <a:xfrm>
            <a:off x="4051440" y="0"/>
            <a:ext cx="5092560" cy="710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304920"/>
            <a:ext cx="396216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discharge with limiters removed and walls heavily coated by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form of the plasma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form of the electron plasma density showing a large gettering effect of the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form of Shafranov shi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form of the SX signal showing suppression of runaway electron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Mirnov18" descr=""/>
          <p:cNvPicPr/>
          <p:nvPr/>
        </p:nvPicPr>
        <p:blipFill>
          <a:blip r:embed="rId1"/>
          <a:stretch/>
        </p:blipFill>
        <p:spPr>
          <a:xfrm>
            <a:off x="4038480" y="-152280"/>
            <a:ext cx="5877000" cy="809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457200"/>
            <a:ext cx="41148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pressure reduction during the discharge  and recovery after the  discharge for different initial pressure in the discharge chamber. Speed of the vacuum pumping system was re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m temperature of the walls. Wall heating eliminates the eff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Mirnov19" descr=""/>
          <p:cNvPicPr/>
          <p:nvPr/>
        </p:nvPicPr>
        <p:blipFill>
          <a:blip r:embed="rId1"/>
          <a:stretch/>
        </p:blipFill>
        <p:spPr>
          <a:xfrm>
            <a:off x="4040280" y="0"/>
            <a:ext cx="5103720" cy="7032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304920"/>
            <a:ext cx="441936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uterium discharges: Plasma current wave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density  for normal gas puffing with Li and C limiter, and for maximum gas puffing with Li coated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 rump down due to wall gettering effect after one gas puffing pul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Mirnov20" descr=""/>
          <p:cNvPicPr/>
          <p:nvPr/>
        </p:nvPicPr>
        <p:blipFill>
          <a:blip r:embed="rId1"/>
          <a:stretch/>
        </p:blipFill>
        <p:spPr>
          <a:xfrm>
            <a:off x="3657600" y="-457200"/>
            <a:ext cx="5749920" cy="7924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457200"/>
            <a:ext cx="4114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 behavior in the maximum gas puffing  deuterium discharge after shutting down the gas puff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_alpha behavior at the gas puffing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irnov02" descr=""/>
          <p:cNvPicPr/>
          <p:nvPr/>
        </p:nvPicPr>
        <p:blipFill>
          <a:blip r:embed="rId1"/>
          <a:stretch/>
        </p:blipFill>
        <p:spPr>
          <a:xfrm>
            <a:off x="3084480" y="-304920"/>
            <a:ext cx="6059520" cy="835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380880"/>
            <a:ext cx="31240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metal activity in tokamak re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Star”-TRINITI collaboration in Russian Fed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Mirnov21" descr=""/>
          <p:cNvPicPr/>
          <p:nvPr/>
        </p:nvPicPr>
        <p:blipFill>
          <a:blip r:embed="rId1"/>
          <a:stretch/>
        </p:blipFill>
        <p:spPr>
          <a:xfrm>
            <a:off x="4038480" y="-152280"/>
            <a:ext cx="5362560" cy="7391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457200"/>
            <a:ext cx="3810240" cy="61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i limiter temperature discharge with the H2 puff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forms of the plasma current, emission at the puffing port, resistive voltage, H_alpha emission at the Li limiter, “Spitzer Te”, visible Li limiter light, SXR, light from the C-limiter zone, plasma density, and the total radiation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 the hydrogen content is dropping, the content of Li in plasma is increa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irnov22" descr=""/>
          <p:cNvPicPr/>
          <p:nvPr/>
        </p:nvPicPr>
        <p:blipFill>
          <a:blip r:embed="rId1"/>
          <a:stretch/>
        </p:blipFill>
        <p:spPr>
          <a:xfrm>
            <a:off x="3581280" y="-304920"/>
            <a:ext cx="5712120" cy="7871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380880"/>
            <a:ext cx="3733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(relative to the ohmic heating) released at the Li limiter (y-axis) drops with an increase of the initial temperature (x-axis) of the limiter, thus, suggesting a “self-protection” by the Li irrad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Mirnov23a" descr=""/>
          <p:cNvPicPr/>
          <p:nvPr/>
        </p:nvPicPr>
        <p:blipFill>
          <a:blip r:embed="rId1"/>
          <a:stretch/>
        </p:blipFill>
        <p:spPr>
          <a:xfrm>
            <a:off x="1523880" y="0"/>
            <a:ext cx="8751960" cy="6350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52280"/>
            <a:ext cx="2895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of deuterium (total amount of about 4 single discharge contents). The Li limiter was gradually  heated for about 30 min after an experimental campa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irnov24" descr=""/>
          <p:cNvPicPr/>
          <p:nvPr/>
        </p:nvPicPr>
        <p:blipFill>
          <a:blip r:embed="rId1"/>
          <a:stretch/>
        </p:blipFill>
        <p:spPr>
          <a:xfrm>
            <a:off x="4151160" y="-152280"/>
            <a:ext cx="4992840" cy="6879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152280"/>
            <a:ext cx="43434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urface metal is vulnerable to disru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S can withstand the disru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 covered walls getter both He and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ing of CPS leads to the hydrogen re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irnov03" descr=""/>
          <p:cNvPicPr/>
          <p:nvPr/>
        </p:nvPicPr>
        <p:blipFill>
          <a:blip r:embed="rId1"/>
          <a:stretch/>
        </p:blipFill>
        <p:spPr>
          <a:xfrm>
            <a:off x="3681360" y="0"/>
            <a:ext cx="5284800" cy="7283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533520"/>
            <a:ext cx="403848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lium droplet lim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periments were done on T-3M tokamak in Shatura, in1984-8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lium film (gravity driven) lim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periments were done on T-3M in Shatura, in 1986-8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irnov04" descr=""/>
          <p:cNvPicPr/>
          <p:nvPr/>
        </p:nvPicPr>
        <p:blipFill>
          <a:blip r:embed="rId1"/>
          <a:stretch/>
        </p:blipFill>
        <p:spPr>
          <a:xfrm>
            <a:off x="3929040" y="152280"/>
            <a:ext cx="5214960" cy="713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80880"/>
            <a:ext cx="3657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of “Radiative Li Divertor” with porous capillary divert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TER-like  tokama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irnov05" descr=""/>
          <p:cNvPicPr/>
          <p:nvPr/>
        </p:nvPicPr>
        <p:blipFill>
          <a:blip r:embed="rId1"/>
          <a:stretch/>
        </p:blipFill>
        <p:spPr>
          <a:xfrm>
            <a:off x="1754280" y="0"/>
            <a:ext cx="7389720" cy="1010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228600"/>
            <a:ext cx="335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-picture of the surface of the Li filled capillary mesh system with 100 micron thick Molybdenum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irnov06" descr=""/>
          <p:cNvPicPr/>
          <p:nvPr/>
        </p:nvPicPr>
        <p:blipFill>
          <a:blip r:embed="rId1"/>
          <a:stretch/>
        </p:blipFill>
        <p:spPr>
          <a:xfrm>
            <a:off x="3537000" y="-228600"/>
            <a:ext cx="5607000" cy="766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342900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of total Li radiation as a function of the electron plasma tempera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curves correspond to different products of the plasma density and the Li life time in the plas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irnov07a" descr=""/>
          <p:cNvPicPr/>
          <p:nvPr/>
        </p:nvPicPr>
        <p:blipFill>
          <a:blip r:embed="rId1"/>
          <a:stretch/>
        </p:blipFill>
        <p:spPr>
          <a:xfrm>
            <a:off x="1806480" y="457200"/>
            <a:ext cx="7337520" cy="525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457200"/>
            <a:ext cx="31240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ing of the Li capillary mesh limiter and a conventional carbon limiter at T-11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f the limiters can be moved out of plasma tou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irnov08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5087880" cy="695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80880"/>
            <a:ext cx="403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 limiter with the Li capillary porous system at the top of moving st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irnov09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5182920" cy="708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457200"/>
            <a:ext cx="34290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designs of the Li capillary rail lim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t I ejected Li droplets during the plasma disru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, Variant II can withstand the disruptions with no droplet expul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11:33:35Z</dcterms:created>
  <dc:creator>zakharov</dc:creator>
  <dc:description/>
  <dc:language>en-US</dc:language>
  <cp:lastModifiedBy>zakharov</cp:lastModifiedBy>
  <dcterms:modified xsi:type="dcterms:W3CDTF">2001-03-03T20:27:03Z</dcterms:modified>
  <cp:revision>4</cp:revision>
  <dc:subject/>
  <dc:title>PowerPoint Presentation</dc:title>
</cp:coreProperties>
</file>