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46A86-9340-46C3-9FC9-94CDBF80C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8"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DB1F1-C3B3-4CD1-8749-5AF207AAF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1"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96EEF-F864-47D6-AD63-834090035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6"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45379-9AC7-4A7E-A951-3950EE6C8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7"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8FA43-1BF3-4551-A80B-F27B98EC1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55E2D-3C66-40AD-A518-5E67380C9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1"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86105-49B2-4A4F-A766-2CA776A0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E2805-B8A6-4D28-AFF1-1832B5595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FC46A-547D-496D-A837-ABCF4D38B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6"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2798B-037F-4294-BDEF-0D54BF97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0"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DBFF-2FA8-4AFF-B27D-586F5564A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4"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FDFA-7AFD-414D-BFAE-918D003B2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lick to edit the title text format</a:t>
            </a:r>
            <a:endParaRPr b="1" lang="en-US" sz="2400" spc="-1" strike="noStrike">
              <a:solidFill>
                <a:srgbClr val="0000cc"/>
              </a:solidFill>
              <a:latin typeface="Times New Roman"/>
            </a:endParaRPr>
          </a:p>
        </p:txBody>
      </p:sp>
      <p:sp>
        <p:nvSpPr>
          <p:cNvPr id="1" name="PlaceHolder 2"/>
          <p:cNvSpPr>
            <a:spLocks noGrp="1"/>
          </p:cNvSpPr>
          <p:nvPr>
            <p:ph type="body"/>
          </p:nvPr>
        </p:nvSpPr>
        <p:spPr>
          <a:xfrm>
            <a:off x="609480" y="106668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2" name="PlaceHolder 3"/>
          <p:cNvSpPr>
            <a:spLocks noGrp="1"/>
          </p:cNvSpPr>
          <p:nvPr>
            <p:ph type="dt" idx="1"/>
          </p:nvPr>
        </p:nvSpPr>
        <p:spPr>
          <a:xfrm>
            <a:off x="1219320" y="6629040"/>
            <a:ext cx="13716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17DF-8BD6-4DDF-9773-5D6A3D68D8CE}"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0" y="6629040"/>
            <a:ext cx="9144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2C6B-AE39-4C19-8E3D-9F7695720E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52280" y="838080"/>
            <a:ext cx="8763120" cy="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39760" y="0"/>
            <a:ext cx="8780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Generic questions</a:t>
            </a:r>
            <a:endParaRPr b="1" lang="en-US" sz="2400" spc="-1" strike="noStrike">
              <a:solidFill>
                <a:srgbClr val="0000cc"/>
              </a:solidFill>
              <a:latin typeface="Times New Roman"/>
            </a:endParaRPr>
          </a:p>
        </p:txBody>
      </p:sp>
      <p:sp>
        <p:nvSpPr>
          <p:cNvPr id="43" name="PlaceHolder 2"/>
          <p:cNvSpPr>
            <a:spLocks noGrp="1"/>
          </p:cNvSpPr>
          <p:nvPr>
            <p:ph/>
          </p:nvPr>
        </p:nvSpPr>
        <p:spPr>
          <a:xfrm>
            <a:off x="100080" y="875880"/>
            <a:ext cx="8943840" cy="5761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ew scientific insights/conceptual breakthroughs enabled  by SciDAC</a:t>
            </a:r>
            <a:endParaRPr b="1" lang="en-US" sz="18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Changed understanding of mode ICRF conversion</a:t>
            </a:r>
            <a:endParaRPr b="1" lang="en-US" sz="16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Importance of conversion to ion cyclotron wave</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Solution in 2D – gives never before seen complete picture, connects antenna to conversion region</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Textbook example of partnership of theory, experiment, computational modeling</a:t>
            </a:r>
            <a:endParaRPr b="1" lang="en-US" sz="14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Potential breakthroughs</a:t>
            </a:r>
            <a:endParaRPr b="1" lang="en-US" sz="16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Full wave lower hybrid solutions – role of diffraction and spectral broadening</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Solutions in 3D – mode conversion, interaction with 3D plasma perturbation, MHD processes</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Arbitrary non-Maxwellian distribution in non-uniform distributions – higher dimensions</a:t>
            </a:r>
            <a:endParaRPr b="1" lang="en-US" sz="1400" spc="-1" strike="noStrike">
              <a:solidFill>
                <a:srgbClr val="000000"/>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monstrated utilization of terascale computing</a:t>
            </a:r>
            <a:endParaRPr b="1" lang="en-US" sz="18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Next slide</a:t>
            </a:r>
            <a:endParaRPr b="1" lang="en-US" sz="1600" spc="-1" strike="noStrike">
              <a:solidFill>
                <a:srgbClr val="000000"/>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kelyhood of timely delivery of timely delivery of terascale computing capability modeling capabilities addressing burning plasma physics issues relevant to ITER</a:t>
            </a:r>
            <a:endParaRPr b="1" lang="en-US" sz="18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rtain</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We already can do fast wave calculations for relevant ITER parameters, including non-thermal effect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We have codes capable of studying mode conversion and full wave lower hybrid on ITER (if we could get a big enough computer) – INSITE proposal being developed</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Our models are ready to be integrated with transport models and MHD and will be necessary elements for ITER scenario design and experimental interpretation</a:t>
            </a:r>
            <a:endParaRPr b="1"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4C38BE07-7A10-43C3-AA42-8167041FDD7A}" type="slidenum">
              <a:t>1</a:t>
            </a:fld>
          </a:p>
        </p:txBody>
      </p:sp>
      <p:sp>
        <p:nvSpPr>
          <p:cNvPr id="6" name="PlaceHolder 5"/>
          <p:cNvSpPr>
            <a:spLocks noGrp="1"/>
          </p:cNvSpPr>
          <p:nvPr>
            <p:ph type="dt" idx="1"/>
          </p:nvPr>
        </p:nvSpPr>
        <p:spPr/>
        <p:txBody>
          <a:bodyPr/>
          <a:p>
            <a:fld id="{B8474538-3C4F-4F75-A3A2-A137F9C88AF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74760" y="0"/>
            <a:ext cx="8083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emonstrated utilization of terascale computing capability</a:t>
            </a:r>
            <a:endParaRPr b="1" lang="en-US" sz="2400" spc="-1" strike="noStrike">
              <a:solidFill>
                <a:srgbClr val="0000cc"/>
              </a:solidFill>
              <a:latin typeface="Times New Roman"/>
            </a:endParaRPr>
          </a:p>
        </p:txBody>
      </p:sp>
      <p:graphicFrame>
        <p:nvGraphicFramePr>
          <p:cNvPr id="45" name=""/>
          <p:cNvGraphicFramePr/>
          <p:nvPr/>
        </p:nvGraphicFramePr>
        <p:xfrm>
          <a:off x="2867040" y="1270080"/>
          <a:ext cx="5978520" cy="1908000"/>
        </p:xfrm>
        <a:graphic>
          <a:graphicData uri="http://schemas.openxmlformats.org/presentationml/2006/ole">
            <p:oleObj progId="Word.Document.12" r:id="rId1" spid="">
              <p:embed/>
              <p:pic>
                <p:nvPicPr>
                  <p:cNvPr id="46" name="" descr=""/>
                  <p:cNvPicPr/>
                  <p:nvPr/>
                </p:nvPicPr>
                <p:blipFill>
                  <a:blip r:embed="rId2"/>
                  <a:stretch/>
                </p:blipFill>
                <p:spPr>
                  <a:xfrm>
                    <a:off x="2867040" y="1270080"/>
                    <a:ext cx="5978520" cy="1908000"/>
                  </a:xfrm>
                  <a:prstGeom prst="rect">
                    <a:avLst/>
                  </a:prstGeom>
                  <a:ln w="0">
                    <a:noFill/>
                  </a:ln>
                </p:spPr>
              </p:pic>
            </p:oleObj>
          </a:graphicData>
        </a:graphic>
      </p:graphicFrame>
      <p:sp>
        <p:nvSpPr>
          <p:cNvPr id="47" name=""/>
          <p:cNvSpPr/>
          <p:nvPr/>
        </p:nvSpPr>
        <p:spPr>
          <a:xfrm>
            <a:off x="3429000" y="949320"/>
            <a:ext cx="544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ORSA jobs run last two weeks</a:t>
            </a:r>
            <a:endParaRPr b="0" lang="en-US" sz="1800" spc="-1" strike="noStrike">
              <a:solidFill>
                <a:srgbClr val="000000"/>
              </a:solidFill>
              <a:latin typeface="Times New Roman"/>
            </a:endParaRPr>
          </a:p>
        </p:txBody>
      </p:sp>
      <p:sp>
        <p:nvSpPr>
          <p:cNvPr id="48" name=""/>
          <p:cNvSpPr/>
          <p:nvPr/>
        </p:nvSpPr>
        <p:spPr>
          <a:xfrm>
            <a:off x="536400" y="2440080"/>
            <a:ext cx="184320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nd there is effective usage of terascale computers</a:t>
            </a:r>
            <a:endParaRPr b="0" lang="en-US" sz="1800" spc="-1" strike="noStrike">
              <a:solidFill>
                <a:srgbClr val="000000"/>
              </a:solidFill>
              <a:latin typeface="Times New Roman"/>
            </a:endParaRPr>
          </a:p>
        </p:txBody>
      </p:sp>
      <p:graphicFrame>
        <p:nvGraphicFramePr>
          <p:cNvPr id="49" name=""/>
          <p:cNvGraphicFramePr/>
          <p:nvPr/>
        </p:nvGraphicFramePr>
        <p:xfrm>
          <a:off x="3344760" y="3730680"/>
          <a:ext cx="5799240" cy="2682720"/>
        </p:xfrm>
        <a:graphic>
          <a:graphicData uri="http://schemas.openxmlformats.org/drawingml/2006/table">
            <a:tbl>
              <a:tblPr/>
              <a:tblGrid>
                <a:gridCol w="1933560"/>
                <a:gridCol w="1932120"/>
                <a:gridCol w="19335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spa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iguration spac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8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ber of equ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8,8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9,49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iz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90 Gby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 GBy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to load matri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1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olve (ScaLAPAC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44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transfor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5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tal CPU 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8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ops/process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 Gflo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 Gflo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
          <p:cNvSpPr/>
          <p:nvPr/>
        </p:nvSpPr>
        <p:spPr>
          <a:xfrm>
            <a:off x="264960" y="1047600"/>
            <a:ext cx="1843200" cy="916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ere is usage of terascale computers</a:t>
            </a:r>
            <a:endParaRPr b="0" lang="en-US" sz="1800" spc="-1" strike="noStrike">
              <a:solidFill>
                <a:srgbClr val="000000"/>
              </a:solidFill>
              <a:latin typeface="Times New Roman"/>
            </a:endParaRPr>
          </a:p>
        </p:txBody>
      </p:sp>
      <p:pic>
        <p:nvPicPr>
          <p:cNvPr id="51" name="" descr=""/>
          <p:cNvPicPr/>
          <p:nvPr/>
        </p:nvPicPr>
        <p:blipFill>
          <a:blip r:embed="rId3"/>
          <a:srcRect l="0" t="0" r="0" b="27710"/>
          <a:stretch/>
        </p:blipFill>
        <p:spPr>
          <a:xfrm>
            <a:off x="0" y="3551400"/>
            <a:ext cx="3452760" cy="3036600"/>
          </a:xfrm>
          <a:prstGeom prst="rect">
            <a:avLst/>
          </a:prstGeom>
          <a:ln w="3240">
            <a:solidFill>
              <a:srgbClr val="000000"/>
            </a:solidFill>
            <a:miter/>
          </a:ln>
        </p:spPr>
      </p:pic>
      <p:sp>
        <p:nvSpPr>
          <p:cNvPr id="52" name=""/>
          <p:cNvSpPr/>
          <p:nvPr/>
        </p:nvSpPr>
        <p:spPr>
          <a:xfrm>
            <a:off x="4334040" y="2763720"/>
            <a:ext cx="4483080" cy="520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ORSA is a JOULE cod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27DDA111-6DED-410A-ABF2-F26E78234E50}" type="slidenum">
              <a:t>2</a:t>
            </a:fld>
          </a:p>
        </p:txBody>
      </p:sp>
      <p:sp>
        <p:nvSpPr>
          <p:cNvPr id="5" name="PlaceHolder 4"/>
          <p:cNvSpPr>
            <a:spLocks noGrp="1"/>
          </p:cNvSpPr>
          <p:nvPr>
            <p:ph type="dt" idx="1"/>
          </p:nvPr>
        </p:nvSpPr>
        <p:spPr/>
        <p:txBody>
          <a:bodyPr/>
          <a:p>
            <a:fld id="{0769A423-BBE0-4301-ABCA-E1BCCAB3163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9760" y="0"/>
            <a:ext cx="8780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Generic questions</a:t>
            </a:r>
            <a:endParaRPr b="1" lang="en-US" sz="2000" spc="-1" strike="noStrike">
              <a:solidFill>
                <a:srgbClr val="0000cc"/>
              </a:solidFill>
              <a:latin typeface="Times New Roman"/>
            </a:endParaRPr>
          </a:p>
        </p:txBody>
      </p:sp>
      <p:sp>
        <p:nvSpPr>
          <p:cNvPr id="54" name="PlaceHolder 2"/>
          <p:cNvSpPr>
            <a:spLocks noGrp="1"/>
          </p:cNvSpPr>
          <p:nvPr>
            <p:ph/>
          </p:nvPr>
        </p:nvSpPr>
        <p:spPr>
          <a:xfrm>
            <a:off x="100080" y="875880"/>
            <a:ext cx="8943840" cy="5761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ecific steps to ensure more analysis of simulation data</a:t>
            </a:r>
            <a:endParaRPr b="1" lang="en-US" sz="20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Relation of solutions to simple 0D/1D wave concepts</a:t>
            </a:r>
            <a:endParaRPr b="1" lang="en-US" sz="16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Local modes</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Mode conversion</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Local damping or macroscopic force</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New fundamental concepts of wave plasma interaction</a:t>
            </a:r>
            <a:endParaRPr b="1" lang="en-US" sz="1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        </a:t>
            </a:r>
            <a:r>
              <a:rPr b="1" lang="en-US" sz="1600" spc="-1" strike="noStrike">
                <a:solidFill>
                  <a:srgbClr val="ff0000"/>
                </a:solidFill>
                <a:latin typeface="Times New Roman"/>
                <a:ea typeface="Times New Roman"/>
              </a:rPr>
              <a:t>Fair question we will have to think about how to do this better</a:t>
            </a:r>
            <a:r>
              <a:rPr b="1" lang="en-US" sz="1600" spc="-1" strike="noStrike">
                <a:solidFill>
                  <a:srgbClr val="0000cc"/>
                </a:solidFill>
                <a:latin typeface="Times New Roman"/>
                <a:ea typeface="Times New Roman"/>
              </a:rPr>
              <a:t>   </a:t>
            </a:r>
            <a:endParaRPr b="1" lang="en-US" sz="16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Code verification – multiple code instance – AORSA/TORIC, CQL3D, Orbit/RF, direct orbit integration in Rf fields</a:t>
            </a:r>
            <a:endParaRPr b="1" lang="en-US" sz="16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Code validation – we have an ongoing program of comparison with experiments</a:t>
            </a:r>
            <a:endParaRPr b="1" lang="en-US" sz="1600" spc="-1" strike="noStrike">
              <a:solidFill>
                <a:srgbClr val="000000"/>
              </a:solidFill>
              <a:latin typeface="Times New Roman"/>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hat would our ideal computer look like?</a:t>
            </a:r>
            <a:endParaRPr b="1" lang="en-US" sz="20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We have many different mathematical operations so we need a well balanced platform</a:t>
            </a:r>
            <a:endParaRPr b="1" lang="en-US" sz="16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e can’t say whether vector vs MPP scalar is better, yet – not enough experience with new vector architecture and we don’t know where the bottlenecks will be with integrated codes</a:t>
            </a:r>
            <a:endParaRPr b="1" lang="en-US" sz="14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here is an upper limit on memory/speed/run time required for ITER, but we can only give gross extrapolations as to what these are.</a:t>
            </a:r>
            <a:endParaRPr b="1" lang="en-US" sz="16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Reasonable turn around time</a:t>
            </a:r>
            <a:endParaRPr b="1"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F9AF59EF-7C4A-489B-BC77-0F3DF2980AB2}" type="slidenum">
              <a:t>3</a:t>
            </a:fld>
          </a:p>
        </p:txBody>
      </p:sp>
      <p:sp>
        <p:nvSpPr>
          <p:cNvPr id="6" name="PlaceHolder 5"/>
          <p:cNvSpPr>
            <a:spLocks noGrp="1"/>
          </p:cNvSpPr>
          <p:nvPr>
            <p:ph type="dt" idx="1"/>
          </p:nvPr>
        </p:nvSpPr>
        <p:spPr/>
        <p:txBody>
          <a:bodyPr/>
          <a:p>
            <a:fld id="{F8E5E65E-BD22-470E-B524-FB98F525020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9760" y="0"/>
            <a:ext cx="8780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pecific questions</a:t>
            </a:r>
            <a:endParaRPr b="1" lang="en-US" sz="2000" spc="-1" strike="noStrike">
              <a:solidFill>
                <a:srgbClr val="0000cc"/>
              </a:solidFill>
              <a:latin typeface="Times New Roman"/>
            </a:endParaRPr>
          </a:p>
        </p:txBody>
      </p:sp>
      <p:sp>
        <p:nvSpPr>
          <p:cNvPr id="56" name="PlaceHolder 2"/>
          <p:cNvSpPr>
            <a:spLocks noGrp="1"/>
          </p:cNvSpPr>
          <p:nvPr>
            <p:ph/>
          </p:nvPr>
        </p:nvSpPr>
        <p:spPr>
          <a:xfrm>
            <a:off x="100080" y="875880"/>
            <a:ext cx="8943840" cy="5761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at will we do to validate the quasilinear approach?</a:t>
            </a:r>
            <a:endParaRPr b="1" lang="en-US" sz="1600" spc="-1" strike="noStrike">
              <a:solidFill>
                <a:srgbClr val="000000"/>
              </a:solidFill>
              <a:latin typeface="Times New Roman"/>
            </a:endParaRPr>
          </a:p>
          <a:p>
            <a:pPr marL="343080" indent="-343080">
              <a:lnSpc>
                <a:spcPct val="90000"/>
              </a:lnSpc>
              <a:spcBef>
                <a:spcPts val="437"/>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Issue 1 – decorrelation of particle orbits in RF field solutions</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Plug in numbers in Stix Chapter 14-17</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To explore other decorrelation mechanisms – direct orbit solutions and comparison</a:t>
            </a:r>
            <a:endParaRPr b="1" lang="en-US" sz="1400" spc="-1" strike="noStrike">
              <a:solidFill>
                <a:srgbClr val="000000"/>
              </a:solidFill>
              <a:latin typeface="Times New Roman"/>
            </a:endParaRPr>
          </a:p>
          <a:p>
            <a:pPr marL="343080" indent="-343080">
              <a:lnSpc>
                <a:spcPct val="90000"/>
              </a:lnSpc>
              <a:spcBef>
                <a:spcPts val="437"/>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Issue 2 – linearization of Vlasov-Maxwell system that give the first order equations </a:t>
            </a:r>
            <a:r>
              <a:rPr b="1" lang="en-US" sz="1400" spc="-1" strike="noStrike">
                <a:solidFill>
                  <a:srgbClr val="0000cc"/>
                </a:solidFill>
                <a:latin typeface="Symbol"/>
                <a:ea typeface="Symbol"/>
              </a:rPr>
              <a:t></a:t>
            </a:r>
            <a:r>
              <a:rPr b="1" lang="en-US" sz="1400" spc="-1" strike="noStrike">
                <a:solidFill>
                  <a:srgbClr val="0000cc"/>
                </a:solidFill>
                <a:latin typeface="Times New Roman"/>
                <a:ea typeface="Times New Roman"/>
              </a:rPr>
              <a:t> nonlinear mode coupling </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Probably ok in core plasma, likely not ok in edge plasma where nonlinear effects  may be present</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Part of our edge/antenna component addresses this – Time dependent PIC simulation</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Also a fair question that we will put some thought into</a:t>
            </a:r>
            <a:endParaRPr b="1" lang="en-US" sz="1400" spc="-1" strike="noStrike">
              <a:solidFill>
                <a:srgbClr val="000000"/>
              </a:solidFill>
              <a:latin typeface="Times New Roman"/>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es bounce average include radial motion of fast particles?</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No – CQL3D is a zero orbit width code (i.e. particles stay on a flux surface).  Both the collision operator and the quasilinear operator are bounce averaged with this assumption.  AORSA calculates velocity space diffusion coefficients local in space and velocity space which are then bounce averaged assuming no deviation from flux surface</a:t>
            </a:r>
            <a:endParaRPr b="1"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ns for terascale computing applications beyond linear dense matrix solve?</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Dense matrix solve in no longer the dominant computation load in AORSA</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High resolution mode conversion calculations, full wave lower hybrid</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Integrated models – AORSA/Fokker Planck, TORIC/TOPICA, Edge/antenna integrated models</a:t>
            </a:r>
            <a:endParaRPr b="1"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762D6CE9-52B8-4C2B-AAC8-D658856EBEC4}" type="slidenum">
              <a:t>4</a:t>
            </a:fld>
          </a:p>
        </p:txBody>
      </p:sp>
      <p:sp>
        <p:nvSpPr>
          <p:cNvPr id="6" name="PlaceHolder 5"/>
          <p:cNvSpPr>
            <a:spLocks noGrp="1"/>
          </p:cNvSpPr>
          <p:nvPr>
            <p:ph type="dt" idx="1"/>
          </p:nvPr>
        </p:nvSpPr>
        <p:spPr/>
        <p:txBody>
          <a:bodyPr/>
          <a:p>
            <a:fld id="{AEE638A6-8F58-480F-9205-3624BB5C8F4E}"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9:43:10Z</dcterms:created>
  <dc:creator>D. B. Batchelor</dc:creator>
  <dc:description/>
  <dc:language>en-US</dc:language>
  <cp:lastModifiedBy>Don Batchelor</cp:lastModifiedBy>
  <cp:lastPrinted>2005-06-02T14:48:43Z</cp:lastPrinted>
  <dcterms:modified xsi:type="dcterms:W3CDTF">2005-06-03T14:01:41Z</dcterms:modified>
  <cp:revision>162</cp:revision>
  <dc:subject/>
  <dc:title>PowerPoint Presentation  -  Numerical Calculations of Wave-Plasma Interactions in Multi-dimensional Systems</dc:title>
</cp:coreProperties>
</file>