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39800" y="626760"/>
            <a:ext cx="887256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38080"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TORIC and AORSA are being used to design flow drive experiments on Alcator C-M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Work by Myra, Jaeger et al. [PRL, 2003] demonstrated significant shear flow generation is possible in fast wave to ion cyclotron wave (ICW) mode conversion  experiments on C-Mod [Melby et al., PRL, 2003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83000"/>
              </a:lnSpc>
              <a:spcAft>
                <a:spcPts val="1137"/>
              </a:spcAft>
              <a:buClr>
                <a:srgbClr val="3333cc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echanism relies on mode converted ICW damping at ion resonance as wave propagates back toward the tokamak LF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8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RIC and AORSA are being used to identify C-Mod scenarios (multi-ion species) where cyclotron absorption is maximum and electron damping of ICW is minimiz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83000"/>
              </a:lnSpc>
              <a:spcAft>
                <a:spcPts val="1137"/>
              </a:spcAft>
              <a:buClr>
                <a:srgbClr val="ff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de comparisons [J.C. Wright et al., PoP, 2004] are a critical feature of these studies to cross-check high resolution TORIC simulations against integral conductivity operator of AOR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0">
              <a:lnSpc>
                <a:spcPct val="83000"/>
              </a:lnSpc>
              <a:spcAft>
                <a:spcPts val="1137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41360" y="10800"/>
            <a:ext cx="8035920" cy="96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Field solvers employing different conductivity models give very similar resul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20840" y="5375160"/>
            <a:ext cx="4032000" cy="11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3240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TORIC at 240N</a:t>
            </a:r>
            <a:r>
              <a:rPr b="0" lang="en-GB" sz="2400" spc="-1" strike="noStrike" baseline="-33000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 x 255 N</a:t>
            </a:r>
            <a:r>
              <a:rPr b="0" lang="en-GB" sz="2400" spc="-1" strike="noStrike" baseline="-33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. Wright, PSFC, PoP, 2004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267600" y="1233360"/>
            <a:ext cx="3244680" cy="40100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rcRect l="0" t="0" r="16829" b="0"/>
          <a:stretch/>
        </p:blipFill>
        <p:spPr>
          <a:xfrm>
            <a:off x="279360" y="1251000"/>
            <a:ext cx="3316320" cy="3992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39920" y="2538360"/>
            <a:ext cx="579600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19360" y="3594240"/>
            <a:ext cx="5691240" cy="14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69920" y="3365640"/>
            <a:ext cx="5938920" cy="14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71200" y="2152440"/>
            <a:ext cx="5936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IC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644000" y="2987280"/>
            <a:ext cx="5936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IB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965120" y="3627000"/>
            <a:ext cx="4579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F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60840" y="5375160"/>
            <a:ext cx="4032360" cy="11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76200" indent="-376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798480"/>
                <a:tab algn="l" pos="1595520"/>
                <a:tab algn="l" pos="2394000"/>
                <a:tab algn="l" pos="3192480"/>
                <a:tab algn="l" pos="3989520"/>
                <a:tab algn="l" pos="4788000"/>
                <a:tab algn="l" pos="5586480"/>
                <a:tab algn="l" pos="6383160"/>
                <a:tab algn="l" pos="7182000"/>
                <a:tab algn="l" pos="7978680"/>
                <a:tab algn="l" pos="8777160"/>
                <a:tab algn="l" pos="9575640"/>
                <a:tab algn="l" pos="10064880"/>
                <a:tab algn="l" pos="10568160"/>
              </a:tabLst>
            </a:pPr>
            <a:r>
              <a:rPr b="0" lang="en-US" sz="2600" spc="-1" strike="noStrike" baseline="-33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3333cc"/>
                </a:solidFill>
                <a:latin typeface="Times New Roman"/>
              </a:rPr>
              <a:t>AORSA at 230N</a:t>
            </a:r>
            <a:r>
              <a:rPr b="0" lang="en-GB" sz="2600" spc="-1" strike="noStrike" baseline="-33000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GB" sz="2600" spc="-1" strike="noStrike">
                <a:solidFill>
                  <a:srgbClr val="3333cc"/>
                </a:solidFill>
                <a:latin typeface="Times New Roman"/>
              </a:rPr>
              <a:t> x 230 N</a:t>
            </a:r>
            <a:r>
              <a:rPr b="0" lang="en-GB" sz="2600" spc="-1" strike="noStrike" baseline="-33000">
                <a:solidFill>
                  <a:srgbClr val="3333cc"/>
                </a:solidFill>
                <a:latin typeface="Times New Roman"/>
              </a:rPr>
              <a:t>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798480"/>
                <a:tab algn="l" pos="1595520"/>
                <a:tab algn="l" pos="2394000"/>
                <a:tab algn="l" pos="3192480"/>
                <a:tab algn="l" pos="3989520"/>
                <a:tab algn="l" pos="4788000"/>
                <a:tab algn="l" pos="5586480"/>
                <a:tab algn="l" pos="6383160"/>
                <a:tab algn="l" pos="7182000"/>
                <a:tab algn="l" pos="7978680"/>
                <a:tab algn="l" pos="8777160"/>
                <a:tab algn="l" pos="9575640"/>
                <a:tab algn="l" pos="10064880"/>
                <a:tab algn="l" pos="10568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.F. Jaeger, PRL, 200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798480"/>
                <a:tab algn="l" pos="1595520"/>
                <a:tab algn="l" pos="2394000"/>
                <a:tab algn="l" pos="3192480"/>
                <a:tab algn="l" pos="3989520"/>
                <a:tab algn="l" pos="4788000"/>
                <a:tab algn="l" pos="5586480"/>
                <a:tab algn="l" pos="6383160"/>
                <a:tab algn="l" pos="7182000"/>
                <a:tab algn="l" pos="7978680"/>
                <a:tab algn="l" pos="8777160"/>
                <a:tab algn="l" pos="9575640"/>
                <a:tab algn="l" pos="10064880"/>
                <a:tab algn="l" pos="10568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RF SciDAC Project is Providing Critical Input to ITPA For ICRF Code Benchmark Activ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915400" cy="20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CRF Simulations of 2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Heating in the ITER Device Are Being Performed using AORSA and TORIC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3000"/>
              </a:lnSpc>
              <a:spcAft>
                <a:spcPts val="1137"/>
              </a:spcAft>
              <a:buClr>
                <a:srgbClr val="0066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Calculations use ELMY H-Mode Parameters (ITER Scenario 2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3000"/>
              </a:lnSpc>
              <a:spcAft>
                <a:spcPts val="1137"/>
              </a:spcAft>
              <a:buClr>
                <a:srgbClr val="0066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Include energetic fusion alpha particle popu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90720" y="3657600"/>
            <a:ext cx="1957320" cy="3662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181480" y="3581280"/>
            <a:ext cx="2256120" cy="35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Initial Comparisons Between AORSA and TORIC are Favor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2361960"/>
            <a:ext cx="398304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ower balance - TO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(2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 = 50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(ELD) = 3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(D) = 1.8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(alpha) = 14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0">
              <a:lnSpc>
                <a:spcPct val="93000"/>
              </a:lnSpc>
              <a:spcAft>
                <a:spcPts val="850"/>
              </a:spcAft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i-Maxellian for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0">
              <a:lnSpc>
                <a:spcPct val="93000"/>
              </a:lnSpc>
              <a:spcAft>
                <a:spcPts val="850"/>
              </a:spcAft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eff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1.6 M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444840" y="1932120"/>
            <a:ext cx="461952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788000" y="2286000"/>
            <a:ext cx="4871880" cy="40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  <a:ea typeface="msgothic"/>
              </a:rPr>
              <a:t>Power balance – AORSA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msgothic"/>
              </a:rPr>
              <a:t>P(2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  <a:ea typeface="msgothic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msgothic"/>
              </a:rPr>
              <a:t>) = 45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msgothic"/>
              </a:rPr>
              <a:t>P(ELD) = 38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msgothic"/>
              </a:rPr>
              <a:t>P(D) = -0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msgothic"/>
              </a:rPr>
              <a:t>P(alpha) = 17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msgothic"/>
              </a:rPr>
              <a:t>Slowing down distribution for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gothic"/>
              </a:rPr>
              <a:t>f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msgothic"/>
              </a:rPr>
              <a:t>(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msgothic"/>
              </a:rPr>
              <a:t>Calculations using exact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gothic"/>
              </a:rPr>
              <a:t>f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msgothic"/>
              </a:rPr>
              <a:t>(v) from CQL3D are in prog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TORIC Results for ICRF Absorption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(N</a:t>
            </a:r>
            <a:r>
              <a:rPr b="0" lang="en-US" sz="2800" spc="-1" strike="noStrike" baseline="-25000">
                <a:solidFill>
                  <a:srgbClr val="0066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=127, N</a:t>
            </a:r>
            <a:r>
              <a:rPr b="0" lang="en-US" sz="2800" spc="-1" strike="noStrike" baseline="-25000">
                <a:solidFill>
                  <a:srgbClr val="0066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=480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n and Fred – Below Please Insert a Comparison Figure  From AORSA !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52360" y="1847880"/>
            <a:ext cx="4451400" cy="4825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595520" y="6383160"/>
            <a:ext cx="6721560" cy="11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257800" y="1981080"/>
            <a:ext cx="4227480" cy="45594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460840" y="6551640"/>
            <a:ext cx="403236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rmAutofit fontScale="94000"/>
          </a:bodyPr>
          <a:p>
            <a:pPr marL="405720" indent="-3042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msgothic"/>
              </a:rPr>
              <a:t>Injected fast wave electric field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05720" indent="-3042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msgothic"/>
              </a:rPr>
              <a:t>exhibit strong focu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2400" y="39600"/>
            <a:ext cx="8607600" cy="15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ntenna coupling for impedance calculations under way using TOPICA3 + 2D Wave Solver - TORIC</a:t>
            </a:r>
            <a:br>
              <a:rPr sz="3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– to be completed in 4 week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9485280" cy="28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401400" indent="-30096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view the relationship between H and E on the LFS and to develop the final form of the reaction integrals in the spectral domain -</a:t>
            </a:r>
            <a:r>
              <a:rPr b="0" lang="en-GB" sz="2000" spc="-1" strike="noStrike">
                <a:solidFill>
                  <a:srgbClr val="006600"/>
                </a:solidFill>
                <a:latin typeface="Times New Roman"/>
              </a:rPr>
              <a:t>Torino, do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01400" indent="-30096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nd the best way to approximate the aperture and transform to the spectral domain -</a:t>
            </a:r>
            <a:r>
              <a:rPr b="0" lang="en-GB" sz="2000" spc="-1" strike="noStrike">
                <a:solidFill>
                  <a:srgbClr val="006600"/>
                </a:solidFill>
                <a:latin typeface="Times New Roman"/>
              </a:rPr>
              <a:t>Torino, do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01400" indent="-30096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de a subroutine implementing the aperture transform in 2)-</a:t>
            </a:r>
            <a:r>
              <a:rPr b="0" lang="en-GB" sz="2000" spc="-1" strike="noStrike">
                <a:solidFill>
                  <a:srgbClr val="006600"/>
                </a:solidFill>
                <a:latin typeface="Times New Roman"/>
              </a:rPr>
              <a:t>Torino to 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01400" indent="-30096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de changes to TORIC solver and output routines to do impedance calculation for individual n</a:t>
            </a:r>
            <a:r>
              <a:rPr b="0" lang="en-GB" sz="2000" spc="-1" strike="noStrike" baseline="-33000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M{n} and m</a:t>
            </a:r>
            <a:r>
              <a:rPr b="0" lang="en-GB" sz="2000" spc="-1" strike="noStrike" baseline="-33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b{m}– </a:t>
            </a:r>
            <a:r>
              <a:rPr b="0" lang="en-GB" sz="2000" spc="-1" strike="noStrike">
                <a:solidFill>
                  <a:srgbClr val="006600"/>
                </a:solidFill>
                <a:latin typeface="Times New Roman"/>
              </a:rPr>
              <a:t>MIT to 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01400" indent="-30096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mbine with per mode loading from TOPICA to get total loading and fields consistent with that loading in postprocessing step– </a:t>
            </a:r>
            <a:r>
              <a:rPr b="0" lang="en-GB" sz="2000" spc="-1" strike="noStrike">
                <a:solidFill>
                  <a:srgbClr val="006600"/>
                </a:solidFill>
                <a:latin typeface="Times New Roman"/>
              </a:rPr>
              <a:t>MIT/Torino to 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5181480" y="5791320"/>
                <a:ext cx="43722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,m'</m:t>
                        </m:r>
                      </m:sub>
                    </m:sSub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'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b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n,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533520" y="5410080"/>
            <a:ext cx="4038480" cy="16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Toric stiffness matrix, M, is fctn of n</a:t>
            </a:r>
            <a:r>
              <a:rPr b="0" lang="en-GB" sz="2200" spc="-1" strike="noStrike" baseline="-33000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, boundary vector; b is a fctn of antenna mode pair.  Solution, x, is one column in impedance matrix, Y</a:t>
            </a:r>
            <a:r>
              <a:rPr b="0" lang="en-GB" sz="2200" spc="-1" strike="noStrike" baseline="-33000">
                <a:solidFill>
                  <a:srgbClr val="000000"/>
                </a:solidFill>
                <a:latin typeface="Times New Roman"/>
              </a:rPr>
              <a:t>m,m'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, which is closely related to M</a:t>
            </a:r>
            <a:r>
              <a:rPr b="0" lang="en-GB" sz="2200" spc="-1" strike="noStrike" baseline="33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61640"/>
            <a:ext cx="92394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200" spc="-1" strike="noStrike">
                <a:solidFill>
                  <a:srgbClr val="ff3300"/>
                </a:solidFill>
                <a:latin typeface="Times New Roman"/>
              </a:rPr>
              <a:t>TOPICA3 was recently coupled to the 1D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Wave Code FELICE and used to simulate loading in the Alcator C-Mod “E” Antenna (R. Maggiora et al., APS, 20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3157560" cy="3581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419720" y="2514600"/>
            <a:ext cx="5268960" cy="38289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477120" y="1778040"/>
            <a:ext cx="1595160" cy="64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it-IT" sz="1800" spc="-1" strike="noStrike">
                <a:solidFill>
                  <a:srgbClr val="3333cc"/>
                </a:solidFill>
                <a:latin typeface="Tahoma"/>
              </a:rPr>
              <a:t>Computed Load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2590560"/>
            <a:ext cx="685800" cy="5331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229600" y="6553080"/>
            <a:ext cx="1595520" cy="64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it-IT" sz="1800" spc="-1" strike="noStrike">
                <a:solidFill>
                  <a:srgbClr val="00cc00"/>
                </a:solidFill>
                <a:latin typeface="Tahoma"/>
              </a:rPr>
              <a:t>Measured Loa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324480" y="3505320"/>
            <a:ext cx="2667240" cy="2971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324480" y="6248520"/>
            <a:ext cx="1600200" cy="3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Plasma sh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5791320"/>
            <a:ext cx="434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Computations and Code Implementation on the MIT Beowulf Cluster – Using the measured density profiles in the C-Mod SO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Free boundary MHD simulations and ideal stability analysis with self-consistent current profile contr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96600" y="23317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F simulator with driven RF current electron response will soon be available [CQL3D+TORIC and CQL3D + AORSA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83000"/>
              </a:lnSpc>
              <a:spcAft>
                <a:spcPts val="1137"/>
              </a:spcAft>
              <a:buClr>
                <a:srgbClr val="0066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urrent density source terms due to LHCD, FWCD, or MCC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 to couple the driven current source term to a free boundary MHD solver and iterate [ACCOME code - Bonoli, Ramos, Kessel et al.,  PPCF, 1997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83000"/>
              </a:lnSpc>
              <a:spcAft>
                <a:spcPts val="1137"/>
              </a:spcAft>
              <a:buClr>
                <a:srgbClr val="0066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esulting MHD equilibrium and current density source terms are then consistent with each oth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HD equilibrium can then be tested for ideal stability (ballooning and low-n external kink modes) by coupling to a stability package [PEST-II]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first step, the ACCOME code has been successfully implemented and tested on the MIT Beowulf clu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onoli</cp:lastModifiedBy>
  <dcterms:modified xsi:type="dcterms:W3CDTF">2005-05-31T14:03:00Z</dcterms:modified>
  <cp:revision>19</cp:revision>
  <dc:subject/>
  <dc:title>Antenna coupling for impedance calculations under way TOPICA+TORIC  – to be completed in 4 weeks</dc:title>
</cp:coreProperties>
</file>