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126-D287-4388-B31C-8AEF853A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F17-82B3-4DC1-8831-ACE84956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061-F0EC-48DA-B0B0-DF464F68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20E-68B8-44EB-AF94-7045C4F2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D7B-4C62-49C3-B255-12BB732A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22B-D33E-46F0-BA75-47F0D22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850-F59D-4E92-BDA0-5D60B93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D54-17FD-44BC-A57A-8E19C9A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A57-1EA4-4219-BDE6-AE2815A9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E6C-318C-498C-B9E3-F297AAC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064-9E97-4A4D-ABCC-44F6534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4B8-A90B-45CB-84F4-DF9042DA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69E2-2B10-4205-8F3C-81C89E50B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CEM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s to the PAC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C. Jar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3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ton Plasma Physics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4. What other Nonlinear Benchmarks will you be doing?  What physics will be compa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DX-U nonlinear benchmark is near completion.  During the next year, we will document, assess, and publish this benchmark and determine if there is a need for a follow-up nonlinear benchm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sures Workshop and discussion may result in another non-linear benchmark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5.  How will you benchmark the 2-fluid cap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wave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fluid effects on magnetic re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conservation and convergence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ELM results with 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o define a 2-fluid test problem.  This will be discussed in Closures Worksh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6. What are your plans to optimize your codes for the Cray X-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jority of the M3D time is spent in the linear solvers, which are done with PET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solvers heavily depend on how fast the matrix-vector product can be done, particularly CG/Jacobi.  The initial improvement here by ORNL helped……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need another 10 times improvement.  We are discussing with Cray how to do this.  May require a PETSc interface to access an optimized Cray sparse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MROD requires either a version of SuperLU optimized to the Cray, or equival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doing some exploratory timing studies with co-array Fortran to better understand the optimization issues with the X1.  This could lead to new solvers, separate from PET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3D-C1 code should perform well since most of the time is spent in defining the matrix elements, but it also requires SuperLU avai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esently do not have significant time allocated on the X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lso exploring the Red Storm and IBM Blue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00200" y="441972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7. What are the plans to implement AMR in the flagship co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esently have 3 code lines that we will contin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35268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3352680"/>
            <a:ext cx="1295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3352680"/>
            <a:ext cx="1447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429000"/>
            <a:ext cx="14479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P-2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RM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3434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3D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Implicit 2-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2362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-structured AMR, conservative finite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3623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order finite element, spectral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43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ructured finite element, grid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4495680"/>
            <a:ext cx="297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meyer Mesh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let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onic gas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applicatio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419720"/>
            <a:ext cx="1295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419720"/>
            <a:ext cx="14475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Implicit 2-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5257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Unstructured, triangles, adaptive h-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257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daptation via mesh distortion without changing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8. What new scientific insights/conceptual breakthroughs have been enabled by the FES SciDAC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523880"/>
            <a:ext cx="82296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sawtooth cycle of a small tokama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the nonlinear role of the higher toroidal har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saturation of the Fishbone mode in a burning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cluding mode chir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redistribution of mass after pellet injection into a tokam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ce between low and high-field side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formation of closed flux surfaces in a gun-injected spherom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optimize the timings and ratios of the driving vol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saturation of the n=1 mode in a high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 with co-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cial role of the 2-flui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linear physics of the Edge Localized Mode (prelimin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9. Demonstrated utilization of terascale computing cap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ly all of the applications presented were performed on the IBM SP3 ( Seaborg ) at NER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Million node-hours used.  Exact amount available upon request or by checking NIM web p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10. Likelihood of timely delivery of reliable computational modeling capabilities addressing burning plasma physics issues relevant to I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critical problems identified in our proposal that are important for 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wtoot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oclassical Tear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ive Wal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etic Particl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Localized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Displaceme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let and Supersonic Gas Jet fu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Activities will focus on ITE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calculation of sawtooth stabilization/destabilization by RF (with RF SciDAC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calculation of neoclassical closures (with ORN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3D (NIMROD) are part of C.S. Cheng, et al , (R. Cohen, et al) Edge F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1. What steps are you going to take to insure that there is more analysis of th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enhance common HDF5/AVS-based M3D/ NIMROD viewer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care pl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s to analyze stochast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fractal dimensi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real-time data streaming of simulation data to local sites for visualization and analysis (Klasky, et 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ing automated data management with SDM/SPA SciDAC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acterizing Field Line Structure with Fractal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mensionality of a field line inside the separatrix of a tokamak provides information relevant to confi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tracing out irrational surfaces are two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tracing out rational surfaces are one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hastic field lines are space-filling and potentially three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tent to which stochastic lines fill space may give an indication of the effect of parallel heat conduction on radial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asure of non-integer dimensions in data sets is provided by the Hausdorff-Besicovitch fract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895480" y="4495680"/>
                <a:ext cx="26672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1960" y="5638680"/>
            <a:ext cx="82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minimum number of hypercubes of linear siz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ecessar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 all points in the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actal Dimension: Good Flux Su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042920"/>
            <a:ext cx="7772400" cy="581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7848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6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4560" y="47242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838080"/>
            <a:ext cx="1844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actal Dimension: Large 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848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795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797960" cy="584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1840" y="39625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81680" y="839880"/>
            <a:ext cx="1809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actal Dimension: High Stochast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7848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39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019160"/>
            <a:ext cx="7805880" cy="583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1840" y="38862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81680" y="839880"/>
            <a:ext cx="1809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ractal Dimension: Moderate Stochast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272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944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788240" cy="584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0520" y="48769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3962520"/>
            <a:ext cx="1809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2. What kind of hardware and computing environment would you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mportant thing for “research codes” (as opposed to production codes) is that there be availability to computing platforms without long queue wai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IMROD and M3D production jobs need to run for long times.   They need a queuing system where they can submit long runs (24-48 hours) without waiting a long time for the job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es perform and scale best on machines with high-performance networking and associated very low MPI latencies, like the SGI Alt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seamless way to get simulation data back to local site storage for subsequent analysis and visualization.  We are working on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3. What is your plan for addressing development of closures, including sub-gridscale mod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“closure experts” on our team [Callen, Ramos, Hegna, Held…] who are willing to work with the computational people in developing closures that are practical for numerical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ill be an initial closures discussion this Summer in Wisconsin to discuss this issue, and begin planning for the pre-APS workshop and the Spring 2006 worksh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ivity will be featured topic of the CEMM meeting this fall at APS, and we expect that CEMM will become central to such a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lan to organize a Closures Workshop for late winter/early spring of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00:01:23Z</dcterms:created>
  <dc:creator>sjardin</dc:creator>
  <dc:description/>
  <dc:language>en-US</dc:language>
  <cp:lastModifiedBy>sjardin</cp:lastModifiedBy>
  <dcterms:modified xsi:type="dcterms:W3CDTF">2005-06-03T12:56:03Z</dcterms:modified>
  <cp:revision>9</cp:revision>
  <dc:subject/>
  <dc:title>Slide 1</dc:title>
</cp:coreProperties>
</file>