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58400" cy="7772400"/>
  <p:notesSz cx="91979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67708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581720"/>
            <a:ext cx="867708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58172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08120" y="458172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95400" y="175248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9040" y="175248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58172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95400" y="458172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9040" y="458172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F7C-B855-4003-A138-191E0B51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61760" y="1752480"/>
            <a:ext cx="867708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324"/>
              </a:spcBef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3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B32-F9A3-46A3-9728-442EEF40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67708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0FB-2A50-4A9E-85F3-BEAE7A81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DCA-95EB-486F-A799-374AA8B7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B93-3AF2-48E8-AABB-E3FCE549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400" y="604800"/>
            <a:ext cx="8794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324"/>
              </a:spcBef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3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C735-DB49-4CE9-8405-3167660E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1760" y="458172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EF2-BCE5-4C30-AED0-753A8BA4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752480"/>
            <a:ext cx="867708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324"/>
              </a:spcBef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3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08120" y="458172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00D-EE88-4AB7-8406-B2E1A461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581720"/>
            <a:ext cx="867708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A44-853B-444C-B669-72CF8430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67708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61760" y="4581720"/>
            <a:ext cx="867708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C18-1C37-4EA3-8274-786BEF9E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458172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08120" y="458172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C9C-A19A-40DA-8B15-45E08504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95400" y="175248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29040" y="175248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61760" y="458172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95400" y="458172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29040" y="4581720"/>
            <a:ext cx="279360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691-E534-4521-9A2E-C9B3C7F9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67708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71400" y="604800"/>
            <a:ext cx="8794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324"/>
              </a:spcBef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3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58172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08120" y="458172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400" y="441360"/>
            <a:ext cx="8794800" cy="1030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8120" y="1752480"/>
            <a:ext cx="423432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581720"/>
            <a:ext cx="8677080" cy="2583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 algn="just">
              <a:lnSpc>
                <a:spcPct val="110000"/>
              </a:lnSpc>
              <a:spcBef>
                <a:spcPts val="1125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1400" y="604800"/>
            <a:ext cx="8794800" cy="8668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5800" spc="-1" strike="noStrike">
                <a:solidFill>
                  <a:srgbClr val="ff6633"/>
                </a:solidFill>
                <a:latin typeface="Times New Roman"/>
              </a:rPr>
              <a:t>Click to edit the title text format</a:t>
            </a:r>
            <a:endParaRPr b="1" lang="en-US" sz="5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752480"/>
            <a:ext cx="8677080" cy="54165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 fontScale="84000"/>
          </a:bodyPr>
          <a:p>
            <a:pPr marL="461160" indent="-461160" algn="just">
              <a:lnSpc>
                <a:spcPct val="110000"/>
              </a:lnSpc>
              <a:spcBef>
                <a:spcPts val="1125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45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  <a:p>
            <a:pPr lvl="1" marL="998640" indent="-383760" algn="just">
              <a:lnSpc>
                <a:spcPct val="110000"/>
              </a:lnSpc>
              <a:spcBef>
                <a:spcPts val="1125"/>
              </a:spcBef>
              <a:buClr>
                <a:srgbClr val="003399"/>
              </a:buClr>
              <a:buSzPct val="65000"/>
              <a:buFont typeface="Monotype Sorts" charset="2"/>
              <a:buChar char="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45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  <a:p>
            <a:pPr lvl="2" marL="1536120" indent="-306360" algn="just">
              <a:lnSpc>
                <a:spcPct val="11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45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  <a:p>
            <a:pPr lvl="3" marL="2150640" indent="-307800" algn="just">
              <a:lnSpc>
                <a:spcPct val="110000"/>
              </a:lnSpc>
              <a:spcBef>
                <a:spcPts val="1125"/>
              </a:spcBef>
              <a:buClr>
                <a:srgbClr val="003399"/>
              </a:buClr>
              <a:buSzPct val="55000"/>
              <a:buFont typeface="Monotype Sorts" charset="2"/>
              <a:buChar char="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45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  <a:p>
            <a:pPr lvl="4" marL="2765520" indent="-307800" algn="just">
              <a:lnSpc>
                <a:spcPct val="11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45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  <a:p>
            <a:pPr lvl="5" marL="2765520" indent="-307800" algn="just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45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  <a:p>
            <a:pPr lvl="6" marL="2765520" indent="-307800" algn="just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45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1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200" y="7254720"/>
            <a:ext cx="8718480" cy="0"/>
          </a:xfrm>
          <a:prstGeom prst="line">
            <a:avLst/>
          </a:prstGeom>
          <a:ln w="19080">
            <a:solidFill>
              <a:srgbClr val="6363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477120" y="7238880"/>
            <a:ext cx="358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146160" tIns="73080" bIns="73080" anchor="t">
            <a:noAutofit/>
          </a:bodyPr>
          <a:p>
            <a:pPr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MRS Review, PPPL, 5 June 200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7200" spc="-1" strike="noStrike">
                <a:solidFill>
                  <a:srgbClr val="ff6633"/>
                </a:solidFill>
                <a:latin typeface="Times New Roman"/>
              </a:rPr>
              <a:t>Click to edit the title text format</a:t>
            </a:r>
            <a:endParaRPr b="1" lang="en-US" sz="72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 algn="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fld id="{3D48D5D0-1057-463A-8B19-3C2E1831B786}" type="slidenum"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OPS_logo_large" descr=""/>
          <p:cNvPicPr/>
          <p:nvPr/>
        </p:nvPicPr>
        <p:blipFill>
          <a:blip r:embed="rId1"/>
          <a:stretch/>
        </p:blipFill>
        <p:spPr>
          <a:xfrm>
            <a:off x="4648320" y="3200400"/>
            <a:ext cx="4757760" cy="2384280"/>
          </a:xfrm>
          <a:prstGeom prst="rect">
            <a:avLst/>
          </a:prstGeom>
          <a:ln w="0">
            <a:noFill/>
          </a:ln>
        </p:spPr>
      </p:pic>
      <p:pic>
        <p:nvPicPr>
          <p:cNvPr id="81" name="scidac_logo" descr=""/>
          <p:cNvPicPr/>
          <p:nvPr/>
        </p:nvPicPr>
        <p:blipFill>
          <a:blip r:embed="rId2"/>
          <a:stretch/>
        </p:blipFill>
        <p:spPr>
          <a:xfrm>
            <a:off x="685800" y="6559560"/>
            <a:ext cx="4191120" cy="704880"/>
          </a:xfrm>
          <a:prstGeom prst="rect">
            <a:avLst/>
          </a:prstGeom>
          <a:ln w="0">
            <a:noFill/>
          </a:ln>
        </p:spPr>
      </p:pic>
      <p:pic>
        <p:nvPicPr>
          <p:cNvPr id="82" name="LOGO7" descr=""/>
          <p:cNvPicPr/>
          <p:nvPr/>
        </p:nvPicPr>
        <p:blipFill>
          <a:blip r:embed="rId3"/>
          <a:stretch/>
        </p:blipFill>
        <p:spPr>
          <a:xfrm>
            <a:off x="304920" y="0"/>
            <a:ext cx="5105160" cy="3828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86200" y="2514600"/>
            <a:ext cx="15238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3399"/>
                </a:solidFill>
                <a:latin typeface="Times New Roman"/>
              </a:rPr>
              <a:t>&amp;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334800" y="1654200"/>
            <a:ext cx="9723600" cy="5421240"/>
            <a:chOff x="334800" y="1654200"/>
            <a:chExt cx="9723600" cy="542124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782720" y="1654200"/>
              <a:ext cx="173844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60400" y="5388120"/>
              <a:ext cx="176076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34800" y="1727280"/>
              <a:ext cx="134172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4 projects in </a:t>
              </a: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  <a:ea typeface="MS Mincho"/>
                </a:rPr>
                <a:t>high energy and nuclear</a:t>
              </a: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  <a:ea typeface="Courier New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  <a:ea typeface="MS Mincho"/>
                </a:rPr>
                <a:t>phys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0880" y="5570640"/>
              <a:ext cx="137952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5 projects in </a:t>
              </a: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  <a:ea typeface="MS Mincho"/>
                </a:rPr>
                <a:t>fusion energy sc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5951520" y="1655640"/>
              <a:ext cx="2278080" cy="17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5951520" y="5286240"/>
              <a:ext cx="213840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298000" y="1857240"/>
              <a:ext cx="176040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14 projects in </a:t>
              </a: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  <a:ea typeface="MS Mincho"/>
                </a:rPr>
                <a:t>biological and environmental resear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77320" y="5345280"/>
              <a:ext cx="139356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10 projects in </a:t>
              </a: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  <a:ea typeface="MS Mincho"/>
                </a:rPr>
                <a:t>basic energy sc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09480" y="460440"/>
            <a:ext cx="90680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33"/>
                </a:solidFill>
                <a:latin typeface="Times New Roman"/>
              </a:rPr>
              <a:t>“</a:t>
            </a:r>
            <a:r>
              <a:rPr b="1" i="1" lang="en-US" sz="2600" spc="-1" strike="noStrike">
                <a:solidFill>
                  <a:srgbClr val="ff6633"/>
                </a:solidFill>
                <a:latin typeface="Times New Roman"/>
              </a:rPr>
              <a:t>The partial differential equation entered theoretical physics as a handmaid, but has gradually become mistress.” – </a:t>
            </a: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A. Einste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865240" y="2846880"/>
            <a:ext cx="3562920" cy="3092400"/>
            <a:chOff x="2865240" y="2846880"/>
            <a:chExt cx="3562920" cy="3092400"/>
          </a:xfrm>
        </p:grpSpPr>
        <p:grpSp>
          <p:nvGrpSpPr>
            <p:cNvPr id="95" name=""/>
            <p:cNvGrpSpPr/>
            <p:nvPr/>
          </p:nvGrpSpPr>
          <p:grpSpPr>
            <a:xfrm>
              <a:off x="2865240" y="2846880"/>
              <a:ext cx="3562920" cy="3092400"/>
              <a:chOff x="2865240" y="2846880"/>
              <a:chExt cx="3562920" cy="3092400"/>
            </a:xfrm>
          </p:grpSpPr>
          <p:sp>
            <p:nvSpPr>
              <p:cNvPr id="96" name=""/>
              <p:cNvSpPr/>
              <p:nvPr/>
            </p:nvSpPr>
            <p:spPr>
              <a:xfrm>
                <a:off x="3687480" y="3530880"/>
                <a:ext cx="192816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687480" y="3539880"/>
                <a:ext cx="2012040" cy="17276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9060200">
                <a:off x="5308560" y="3136680"/>
                <a:ext cx="1073880" cy="550440"/>
              </a:xfrm>
              <a:custGeom>
                <a:avLst/>
                <a:gdLst>
                  <a:gd name="textAreaLeft" fmla="*/ 134280 w 1073880"/>
                  <a:gd name="textAreaRight" fmla="*/ 939960 w 1073880"/>
                  <a:gd name="textAreaTop" fmla="*/ 137520 h 550440"/>
                  <a:gd name="textAreaBottom" fmla="*/ 412920 h 55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351400">
                <a:off x="5294520" y="5094720"/>
                <a:ext cx="1073880" cy="550800"/>
              </a:xfrm>
              <a:custGeom>
                <a:avLst/>
                <a:gdLst>
                  <a:gd name="textAreaLeft" fmla="*/ 134280 w 1073880"/>
                  <a:gd name="textAreaRight" fmla="*/ 939960 w 1073880"/>
                  <a:gd name="textAreaTop" fmla="*/ 137520 h 550800"/>
                  <a:gd name="textAreaBottom" fmla="*/ 413280 h 55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3089000">
                <a:off x="2920680" y="3122640"/>
                <a:ext cx="1073880" cy="550800"/>
              </a:xfrm>
              <a:custGeom>
                <a:avLst/>
                <a:gdLst>
                  <a:gd name="textAreaLeft" fmla="*/ 134280 w 1073880"/>
                  <a:gd name="textAreaRight" fmla="*/ 939960 w 1073880"/>
                  <a:gd name="textAreaTop" fmla="*/ 137520 h 550800"/>
                  <a:gd name="textAreaBottom" fmla="*/ 413280 h 55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8359200">
                <a:off x="2962440" y="5105160"/>
                <a:ext cx="1073880" cy="550440"/>
              </a:xfrm>
              <a:custGeom>
                <a:avLst/>
                <a:gdLst>
                  <a:gd name="textAreaLeft" fmla="*/ 134280 w 1073880"/>
                  <a:gd name="textAreaRight" fmla="*/ 939960 w 1073880"/>
                  <a:gd name="textAreaTop" fmla="*/ 137520 h 550440"/>
                  <a:gd name="textAreaBottom" fmla="*/ 412920 h 55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2" name="TOPS_logo_large" descr=""/>
            <p:cNvPicPr/>
            <p:nvPr/>
          </p:nvPicPr>
          <p:blipFill>
            <a:blip r:embed="rId5"/>
            <a:stretch/>
          </p:blipFill>
          <p:spPr>
            <a:xfrm>
              <a:off x="3962520" y="3808440"/>
              <a:ext cx="152388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962520" y="44956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 ISIC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28800" y="2178000"/>
            <a:ext cx="6248520" cy="5001120"/>
            <a:chOff x="1828800" y="2178000"/>
            <a:chExt cx="6248520" cy="5001120"/>
          </a:xfrm>
        </p:grpSpPr>
        <p:sp>
          <p:nvSpPr>
            <p:cNvPr id="105" name=""/>
            <p:cNvSpPr/>
            <p:nvPr/>
          </p:nvSpPr>
          <p:spPr>
            <a:xfrm>
              <a:off x="4038480" y="2178000"/>
              <a:ext cx="152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0080"/>
                  </a:solidFill>
                  <a:latin typeface="Palatino"/>
                </a:rPr>
                <a:t>PD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800" y="3733920"/>
              <a:ext cx="1523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0080"/>
                  </a:solidFill>
                  <a:latin typeface="Palatino"/>
                </a:rPr>
                <a:t>are den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3809880"/>
              <a:ext cx="198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0080"/>
                  </a:solidFill>
                  <a:latin typeface="Palatino"/>
                </a:rPr>
                <a:t>in the SciDA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5987880"/>
              <a:ext cx="198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0080"/>
                  </a:solidFill>
                  <a:latin typeface="Palatino"/>
                </a:rPr>
                <a:t>portfoli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2840" y="604800"/>
            <a:ext cx="8793000" cy="8668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Scope for TOPS</a:t>
            </a:r>
            <a:endParaRPr b="1" lang="en-US" sz="36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9448920" cy="55674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marL="549360" indent="-54936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Design and implementation of “solvers” for PDE-derived systems</a:t>
            </a: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118908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Monotype Sorts" charset="2"/>
              <a:buChar char="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Linear solv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Monotype Sorts" charset="2"/>
              <a:buChar char="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Eigensolv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Monotype Sorts" charset="2"/>
              <a:buChar char="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Nonlinear solv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Monotype Sorts" charset="2"/>
              <a:buChar char="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Time integrato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908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Monotype Sorts" charset="2"/>
              <a:buChar char="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Optimiz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54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549360" indent="-54936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oftware integration</a:t>
            </a: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549360" indent="-54936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Performance optimization</a:t>
            </a: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2880" y="5888160"/>
            <a:ext cx="82152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146160" tIns="73080" bIns="73080" anchor="t">
            <a:normAutofit/>
          </a:bodyPr>
          <a:p>
            <a:pPr marL="549360" indent="-549360">
              <a:lnSpc>
                <a:spcPct val="110000"/>
              </a:lnSpc>
              <a:spcBef>
                <a:spcPts val="924"/>
              </a:spcBef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719520" y="4495680"/>
                <a:ext cx="25938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733920" y="3657600"/>
                <a:ext cx="26542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800600" y="2133720"/>
                <a:ext cx="14302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84600" y="2895480"/>
                <a:ext cx="16639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495440" y="5334120"/>
                <a:ext cx="482904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u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6477120" y="-557280"/>
            <a:ext cx="3580920" cy="7248600"/>
            <a:chOff x="6477120" y="-557280"/>
            <a:chExt cx="3580920" cy="7248600"/>
          </a:xfrm>
        </p:grpSpPr>
        <p:sp>
          <p:nvSpPr>
            <p:cNvPr id="118" name=""/>
            <p:cNvSpPr/>
            <p:nvPr/>
          </p:nvSpPr>
          <p:spPr>
            <a:xfrm>
              <a:off x="6477120" y="2133720"/>
              <a:ext cx="137124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160" rIns="146160" tIns="73080" bIns="73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1463760"/>
                  <a:tab algn="l" pos="2927520"/>
                  <a:tab algn="l" pos="4390920"/>
                  <a:tab algn="l" pos="5854680"/>
                  <a:tab algn="l" pos="7318440"/>
                  <a:tab algn="l" pos="8782200"/>
                  <a:tab algn="l" pos="1024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ptimiz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72160" y="5189400"/>
              <a:ext cx="11602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160" rIns="146160" tIns="73080" bIns="73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1463760"/>
                  <a:tab algn="l" pos="2927520"/>
                  <a:tab algn="l" pos="4390920"/>
                  <a:tab algn="l" pos="5854680"/>
                  <a:tab algn="l" pos="7318440"/>
                  <a:tab algn="l" pos="8782200"/>
                  <a:tab algn="l" pos="1024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inear sol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744040" y="4106880"/>
              <a:ext cx="131400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160" rIns="146160" tIns="73080" bIns="73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1463760"/>
                  <a:tab algn="l" pos="2927520"/>
                  <a:tab algn="l" pos="4390920"/>
                  <a:tab algn="l" pos="5854680"/>
                  <a:tab algn="l" pos="7318440"/>
                  <a:tab algn="l" pos="8782200"/>
                  <a:tab algn="l" pos="1024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igensol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72160" y="2961000"/>
              <a:ext cx="1019160" cy="5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160" rIns="146160" tIns="73080" bIns="73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1463760"/>
                  <a:tab algn="l" pos="2927520"/>
                  <a:tab algn="l" pos="4390920"/>
                  <a:tab algn="l" pos="5854680"/>
                  <a:tab algn="l" pos="7318440"/>
                  <a:tab algn="l" pos="8782200"/>
                  <a:tab algn="l" pos="1024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me integr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72160" y="4043520"/>
              <a:ext cx="1194840" cy="5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160" rIns="146160" tIns="73080" bIns="73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1463760"/>
                  <a:tab algn="l" pos="2927520"/>
                  <a:tab algn="l" pos="4390920"/>
                  <a:tab algn="l" pos="5854680"/>
                  <a:tab algn="l" pos="7318440"/>
                  <a:tab algn="l" pos="8782200"/>
                  <a:tab algn="l" pos="1024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onlinear sol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82240" y="6425640"/>
              <a:ext cx="343080" cy="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26760" y="6179760"/>
              <a:ext cx="1123560" cy="5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160" rIns="146160" tIns="73080" bIns="73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1463760"/>
                  <a:tab algn="l" pos="2927520"/>
                  <a:tab algn="l" pos="4390920"/>
                  <a:tab algn="l" pos="5854680"/>
                  <a:tab algn="l" pos="7318440"/>
                  <a:tab algn="l" pos="8782200"/>
                  <a:tab algn="l" pos="1024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dicates depend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69040" y="2133720"/>
              <a:ext cx="137124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160" rIns="146160" tIns="73080" bIns="73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1463760"/>
                  <a:tab algn="l" pos="2927520"/>
                  <a:tab algn="l" pos="4390920"/>
                  <a:tab algn="l" pos="5854680"/>
                  <a:tab algn="l" pos="7318440"/>
                  <a:tab algn="l" pos="8782200"/>
                  <a:tab algn="l" pos="1024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ns. Analyz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rot="10890000">
              <a:off x="7285680" y="3335040"/>
              <a:ext cx="2121120" cy="21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8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8915"/>
                </a:path>
              </a:pathLst>
            </a:cu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rot="10890000">
              <a:off x="7923240" y="-294840"/>
              <a:ext cx="1022040" cy="579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50" y="14"/>
                  </a:moveTo>
                  <a:arcTo wR="10800" hR="10800" stAng="-5224886" swAng="54138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50" y="14"/>
                  </a:moveTo>
                  <a:arcTo wR="10800" hR="10800" stAng="-5224886" swAng="5413802"/>
                </a:path>
              </a:pathLst>
            </a:cu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10890000">
              <a:off x="8168760" y="745920"/>
              <a:ext cx="769680" cy="3610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8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8915"/>
                </a:path>
              </a:pathLst>
            </a:cu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rot="10890000">
              <a:off x="7875720" y="1639800"/>
              <a:ext cx="1064880" cy="156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8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8915"/>
                </a:path>
              </a:pathLst>
            </a:cu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16264200">
              <a:off x="4723920" y="1764360"/>
              <a:ext cx="6004440" cy="13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8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8915"/>
                </a:path>
              </a:pathLst>
            </a:cu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rot="16264200">
              <a:off x="5801040" y="1896840"/>
              <a:ext cx="3701520" cy="123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8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8915"/>
                </a:path>
              </a:pathLst>
            </a:cu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rot="16264200">
              <a:off x="6813720" y="1886040"/>
              <a:ext cx="1530720" cy="112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8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8915"/>
                </a:path>
              </a:pathLst>
            </a:cu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5400">
              <a:off x="7674120" y="5376600"/>
              <a:ext cx="190800" cy="19908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5400">
              <a:off x="7541640" y="4230720"/>
              <a:ext cx="190800" cy="19908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5400">
              <a:off x="7475040" y="3084480"/>
              <a:ext cx="191520" cy="19836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158600">
              <a:off x="8205120" y="5376960"/>
              <a:ext cx="190800" cy="19836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158600">
              <a:off x="8337960" y="4230720"/>
              <a:ext cx="190800" cy="19908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158600">
              <a:off x="8271000" y="3083760"/>
              <a:ext cx="191520" cy="19944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02080" y="3470400"/>
              <a:ext cx="0" cy="6364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69040" y="4552920"/>
              <a:ext cx="0" cy="6998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0769400">
              <a:off x="7868880" y="3916080"/>
              <a:ext cx="265320" cy="19332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0769400">
              <a:off x="7935120" y="5062320"/>
              <a:ext cx="265320" cy="19368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5266800">
              <a:off x="7909200" y="2223000"/>
              <a:ext cx="254160" cy="20196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04280" y="2324520"/>
              <a:ext cx="46476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5238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(w/ sens. anal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4495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(w/ sens. anal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400" y="623880"/>
            <a:ext cx="8794800" cy="8668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Status of CMRS-TOPS collaboration</a:t>
            </a:r>
            <a:endParaRPr b="1" lang="en-US" sz="36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92962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146160" tIns="73080" bIns="73080" anchor="t">
            <a:normAutofit fontScale="99000"/>
          </a:bodyPr>
          <a:p>
            <a:pPr marL="543600" indent="-543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CMRS team has provided TOPS with discretization of model 2D multicomponent Hall magnetic reconnection evolution code in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ETSc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’s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A/DMMG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format, using automatic differentiation for Jacobian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3600" indent="-543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TOPS has implemented fully nonlinearly implicit Newton-GMRES-MG-SOR parallel solver (with deflation of nullspace in CMRS’s doubly periodic form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3600" indent="-543600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Both first- and second-order implicit temporal integration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3600" indent="-543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CMRS and TOPS reproduce the same dynamics on the same grids with the same time-stepping, up to a finite-time singularity due to collapse of current sheet (that falls below presently uniform mesh resol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3600" indent="-543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TOPS code, being implicit, can choose timesteps an order of magnitude larger, with potential for higher ratio in more physically realistic parameter regimes, though it is slower in wall-clock time for small C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3600" indent="-54360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Plan: tune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PETSc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 solver by profiling, blocking, reuse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3600" indent="-54360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Plan: identify the numerical complexity benefits from implicitness (in suppressing fast timescales) and quantify (explicit versus implici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3600" indent="-54360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Plan (with APDEC team): incorporate A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3600" indent="-5436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00" y="5840280"/>
            <a:ext cx="178236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31880"/>
                <a:tab algn="l" pos="14619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GB" sz="2500" spc="-1" strike="noStrike">
                <a:solidFill>
                  <a:srgbClr val="003399"/>
                </a:solidFill>
                <a:latin typeface="Times New Roman"/>
                <a:ea typeface="HG Mincho Light J"/>
              </a:rPr>
              <a:t>Equilibrium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5048280" cy="3316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09480" y="6367320"/>
            <a:ext cx="5065920" cy="81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02480" y="1447920"/>
            <a:ext cx="23522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31880"/>
                <a:tab algn="l" pos="14619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GB" sz="2500" spc="-1" strike="noStrike">
                <a:solidFill>
                  <a:srgbClr val="003399"/>
                </a:solidFill>
                <a:latin typeface="Times New Roman"/>
                <a:ea typeface="HG Mincho Light J"/>
              </a:rPr>
              <a:t>Model equation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60880" y="1398600"/>
            <a:ext cx="28155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731880"/>
                <a:tab algn="l" pos="1461960"/>
                <a:tab algn="l" pos="2195640"/>
                <a:tab algn="l" pos="2927520"/>
                <a:tab algn="l" pos="365760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Porcelli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 al.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1993, 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352680" y="5105520"/>
            <a:ext cx="2905200" cy="866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500040"/>
            <a:ext cx="858852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6633"/>
                </a:solidFill>
                <a:latin typeface="Times New Roman"/>
              </a:rPr>
              <a:t>2D Hall MHD</a:t>
            </a: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ff6633"/>
                </a:solidFill>
                <a:latin typeface="Times New Roman"/>
              </a:rPr>
              <a:t>sawtooth instability </a:t>
            </a:r>
            <a:br>
              <a:rPr sz="3600"/>
            </a:br>
            <a:r>
              <a:rPr b="1" lang="en-GB" sz="2800" spc="-1" strike="noStrike">
                <a:solidFill>
                  <a:srgbClr val="ff6633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6633"/>
                </a:solidFill>
                <a:latin typeface="Arial"/>
              </a:rPr>
              <a:t>PETS</a:t>
            </a:r>
            <a:r>
              <a:rPr b="1" lang="en-US" sz="2800" spc="-1" strike="noStrike">
                <a:solidFill>
                  <a:srgbClr val="ff6633"/>
                </a:solidFill>
                <a:latin typeface="Arial"/>
              </a:rPr>
              <a:t>c </a:t>
            </a: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examples </a:t>
            </a:r>
            <a:r>
              <a:rPr b="1" lang="en-US" sz="2800" spc="-1" strike="noStrike">
                <a:solidFill>
                  <a:srgbClr val="ff6633"/>
                </a:solidFill>
                <a:latin typeface="Arial"/>
              </a:rPr>
              <a:t>/snes/ex29.c</a:t>
            </a: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6633"/>
                </a:solidFill>
                <a:latin typeface="Arial"/>
              </a:rPr>
              <a:t>/sles/ex31.c</a:t>
            </a: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723888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igures c/o A. Bhattacharjee, CM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705720" y="1736640"/>
            <a:ext cx="2819160" cy="1106640"/>
            <a:chOff x="6705720" y="1736640"/>
            <a:chExt cx="2819160" cy="1106640"/>
          </a:xfrm>
        </p:grpSpPr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>
              <a:off x="6727680" y="2057400"/>
              <a:ext cx="25686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705720" y="1736640"/>
              <a:ext cx="28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Vorticity, early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705720" y="2909880"/>
            <a:ext cx="2819160" cy="1074600"/>
            <a:chOff x="6705720" y="2909880"/>
            <a:chExt cx="2819160" cy="1074600"/>
          </a:xfrm>
        </p:grpSpPr>
        <p:pic>
          <p:nvPicPr>
            <p:cNvPr id="161" name="" descr=""/>
            <p:cNvPicPr/>
            <p:nvPr/>
          </p:nvPicPr>
          <p:blipFill>
            <a:blip r:embed="rId5"/>
            <a:stretch/>
          </p:blipFill>
          <p:spPr>
            <a:xfrm>
              <a:off x="6740640" y="3200400"/>
              <a:ext cx="255564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705720" y="2909880"/>
              <a:ext cx="28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Vorticity, later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311960" y="4006800"/>
            <a:ext cx="1603440" cy="3156120"/>
            <a:chOff x="7311960" y="4006800"/>
            <a:chExt cx="1603440" cy="3156120"/>
          </a:xfrm>
        </p:grpSpPr>
        <p:pic>
          <p:nvPicPr>
            <p:cNvPr id="164" name="" descr=""/>
            <p:cNvPicPr/>
            <p:nvPr/>
          </p:nvPicPr>
          <p:blipFill>
            <a:blip r:embed="rId6"/>
            <a:stretch/>
          </p:blipFill>
          <p:spPr>
            <a:xfrm>
              <a:off x="7311960" y="4299120"/>
              <a:ext cx="1603440" cy="28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772400" y="4006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zo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2840" y="690480"/>
            <a:ext cx="8793000" cy="8668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5800" spc="-1" strike="noStrike">
                <a:solidFill>
                  <a:srgbClr val="ff66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PETSc</a:t>
            </a: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’s </a:t>
            </a: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DMMG</a:t>
            </a: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 in Hall MR application</a:t>
            </a:r>
            <a:endParaRPr b="1" lang="en-US" sz="3600" spc="-1" strike="noStrike">
              <a:solidFill>
                <a:srgbClr val="ff6633"/>
              </a:solidFill>
              <a:latin typeface="Times New Roman"/>
            </a:endParaRPr>
          </a:p>
        </p:txBody>
      </p:sp>
      <p:pic>
        <p:nvPicPr>
          <p:cNvPr id="167" name="u.0.1" descr=""/>
          <p:cNvPicPr/>
          <p:nvPr/>
        </p:nvPicPr>
        <p:blipFill>
          <a:blip r:embed="rId1"/>
          <a:stretch/>
        </p:blipFill>
        <p:spPr>
          <a:xfrm>
            <a:off x="304920" y="3386160"/>
            <a:ext cx="4724280" cy="3548160"/>
          </a:xfrm>
          <a:prstGeom prst="rect">
            <a:avLst/>
          </a:prstGeom>
          <a:ln w="0">
            <a:noFill/>
          </a:ln>
        </p:spPr>
      </p:pic>
      <p:pic>
        <p:nvPicPr>
          <p:cNvPr id="168" name="u.0.8" descr=""/>
          <p:cNvPicPr/>
          <p:nvPr/>
        </p:nvPicPr>
        <p:blipFill>
          <a:blip r:embed="rId2"/>
          <a:stretch/>
        </p:blipFill>
        <p:spPr>
          <a:xfrm>
            <a:off x="5181480" y="3387600"/>
            <a:ext cx="4724640" cy="3546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V="1">
            <a:off x="8724960" y="36572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848040" y="3666960"/>
            <a:ext cx="0" cy="289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447920"/>
            <a:ext cx="9296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146160" tIns="73080" bIns="73080" anchor="t">
            <a:normAutofit/>
          </a:bodyPr>
          <a:p>
            <a:pPr marL="549360" indent="-5493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esh and time refinement studies of CMRS Hall magnetic reconnection model problem (4 mesh sizes, dt=0.1 (near CFL limit for fastest wave) on left, dt=0.8 on r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easure of functional inverse to thickness of current sheet versus time, for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&lt;t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(nondimensional), where singularity occurs arou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2840" y="690480"/>
            <a:ext cx="8793000" cy="8668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5800" spc="-1" strike="noStrike">
                <a:solidFill>
                  <a:srgbClr val="ff66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PETSc</a:t>
            </a: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’s DMMG in Hall MR app., cont.</a:t>
            </a:r>
            <a:endParaRPr b="1" lang="en-US" sz="3600" spc="-1" strike="noStrike">
              <a:solidFill>
                <a:srgbClr val="ff6633"/>
              </a:solidFill>
              <a:latin typeface="Times New Roman"/>
            </a:endParaRPr>
          </a:p>
        </p:txBody>
      </p:sp>
      <p:pic>
        <p:nvPicPr>
          <p:cNvPr id="173" name="u.192" descr=""/>
          <p:cNvPicPr/>
          <p:nvPr/>
        </p:nvPicPr>
        <p:blipFill>
          <a:blip r:embed="rId1"/>
          <a:stretch/>
        </p:blipFill>
        <p:spPr>
          <a:xfrm>
            <a:off x="1523880" y="2190600"/>
            <a:ext cx="6705720" cy="5035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1447920"/>
            <a:ext cx="9296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146160" tIns="73080" bIns="73080" anchor="t">
            <a:normAutofit/>
          </a:bodyPr>
          <a:p>
            <a:pPr marL="549360" indent="-5493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Implicit timestep increase studies of CMRS Hall magnetic reconnection model problem, on finest (192</a:t>
            </a:r>
            <a:r>
              <a:rPr b="1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92) mesh of previous slide, in absolute magnitude, rather than semi-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41320" y="590400"/>
            <a:ext cx="83120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b">
            <a:noAutofit/>
          </a:bodyPr>
          <a:p>
            <a:pPr algn="ctr"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Newton-Krylov-Schwarz – </a:t>
            </a:r>
            <a:br>
              <a:rPr sz="3600"/>
            </a:b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a parallel PDE “workhors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" y="5746680"/>
            <a:ext cx="2281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0800" y="6091200"/>
            <a:ext cx="12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69960" y="1641600"/>
            <a:ext cx="2773080" cy="5181120"/>
            <a:chOff x="669960" y="1641600"/>
            <a:chExt cx="2773080" cy="518112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753840" y="2590920"/>
              <a:ext cx="2598480" cy="319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69960" y="5699520"/>
              <a:ext cx="2773080" cy="11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sp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Newt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nlinear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i="1" lang="en-US" sz="2000" spc="-1" strike="noStrike">
                  <a:solidFill>
                    <a:srgbClr val="e34f5d"/>
                  </a:solidFill>
                  <a:latin typeface="Times New Roman"/>
                </a:rPr>
                <a:t>asymptotically quadr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69960" y="1641600"/>
                  <a:ext cx="2682360" cy="38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≈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F</m:t>
                      </m:r>
                      <m:r>
                        <m:t xml:space="preserve">'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δu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1403280" y="2031840"/>
                  <a:ext cx="1362240" cy="38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λ</m:t>
                      </m:r>
                      <m:r>
                        <m:t xml:space="preserve"> </m:t>
                      </m:r>
                      <m:r>
                        <m:t xml:space="preserve">δ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" name=""/>
          <p:cNvGrpSpPr/>
          <p:nvPr/>
        </p:nvGrpSpPr>
        <p:grpSpPr>
          <a:xfrm>
            <a:off x="3521160" y="1643040"/>
            <a:ext cx="2596680" cy="5179680"/>
            <a:chOff x="3521160" y="1643040"/>
            <a:chExt cx="2596680" cy="5179680"/>
          </a:xfrm>
        </p:grpSpPr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3521160" y="2590920"/>
              <a:ext cx="2596680" cy="31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758760" y="5699520"/>
              <a:ext cx="2149200" cy="11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0760" bIns="50760" anchor="t">
              <a:sp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Krylov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el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i="1" lang="en-US" sz="2000" spc="-1" strike="noStrike">
                  <a:solidFill>
                    <a:srgbClr val="e34f5d"/>
                  </a:solidFill>
                  <a:latin typeface="Times New Roman"/>
                </a:rPr>
                <a:t>spectrally adap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390200" y="1643040"/>
                  <a:ext cx="1046880" cy="30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δu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3605040" y="2008080"/>
                  <a:ext cx="2481120" cy="55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u</m:t>
                      </m:r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argmin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  <m:r>
                            <m:t xml:space="preserve">V</m:t>
                          </m:r>
                          <m:r>
                            <m:t xml:space="preserve">≡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F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F</m:t>
                              </m:r>
                              <m:r>
                                <m:t xml:space="preserve">,</m:t>
                              </m:r>
                              <m:sSup>
                                <m:e>
                                  <m:r>
                                    <m:t xml:space="preserve">J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</m:e>
                          </m:d>
                        </m:lim>
                      </m:limLow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Jx</m:t>
                          </m:r>
                          <m:r>
                            <m:t xml:space="preserve">+</m:t>
                          </m:r>
                          <m:r>
                            <m:t xml:space="preserve">F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8" name=""/>
          <p:cNvGrpSpPr/>
          <p:nvPr/>
        </p:nvGrpSpPr>
        <p:grpSpPr>
          <a:xfrm>
            <a:off x="6286680" y="1576440"/>
            <a:ext cx="2555280" cy="5246280"/>
            <a:chOff x="6286680" y="1576440"/>
            <a:chExt cx="2555280" cy="524628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6286680" y="2590920"/>
              <a:ext cx="2541600" cy="31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693840" y="5699520"/>
              <a:ext cx="1692000" cy="11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0760" bIns="50760" anchor="t">
              <a:sp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Schwarz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conditio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i="1" lang="en-US" sz="2000" spc="-1" strike="noStrike">
                  <a:solidFill>
                    <a:srgbClr val="e34f5d"/>
                  </a:solidFill>
                  <a:latin typeface="Times New Roman"/>
                </a:rPr>
                <a:t>paralleliz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6412320" y="1576440"/>
                  <a:ext cx="1884960" cy="34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Jδu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6286680" y="1986120"/>
                  <a:ext cx="255528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</m:e>
                      </m:nary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JR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797360" y="6705720"/>
            <a:ext cx="231840" cy="239760"/>
          </a:xfrm>
          <a:prstGeom prst="diamond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1440" y="6629400"/>
            <a:ext cx="13305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Sc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06840" y="6553080"/>
            <a:ext cx="1117440" cy="6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RS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5760" y="6705720"/>
            <a:ext cx="231840" cy="239760"/>
          </a:xfrm>
          <a:prstGeom prst="diamond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27240" y="2357280"/>
            <a:ext cx="7516800" cy="34005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11120" y="5975280"/>
            <a:ext cx="1914840" cy="5317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24160" y="5975280"/>
            <a:ext cx="1463760" cy="5317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78360" y="5975280"/>
            <a:ext cx="1381320" cy="53172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co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18520" y="5975280"/>
            <a:ext cx="1436400" cy="5317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44800" y="5127480"/>
            <a:ext cx="1164960" cy="4003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40240" y="5127480"/>
            <a:ext cx="1163520" cy="4003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18240" y="4686480"/>
            <a:ext cx="15192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ETSc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56080" y="3935520"/>
            <a:ext cx="0" cy="20397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02440" y="3935520"/>
            <a:ext cx="0" cy="20397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1880" y="1919160"/>
            <a:ext cx="0" cy="405612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55640" y="1919160"/>
            <a:ext cx="0" cy="405612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82720" y="4599000"/>
            <a:ext cx="0" cy="528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40240" y="3735360"/>
            <a:ext cx="0" cy="52884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24160" y="4587840"/>
            <a:ext cx="0" cy="52884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89520" y="2873520"/>
            <a:ext cx="0" cy="528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89520" y="1919160"/>
            <a:ext cx="0" cy="6210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00240" y="1339920"/>
            <a:ext cx="7543800" cy="57924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in Rout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44800" y="4264200"/>
            <a:ext cx="2828880" cy="531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Solvers (S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28960" y="3402000"/>
            <a:ext cx="4957560" cy="5335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linear Solvers (S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44800" y="2540160"/>
            <a:ext cx="5927760" cy="5331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stepping Solvers (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4200" y="690480"/>
            <a:ext cx="8550000" cy="6904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b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br>
              <a:rPr sz="5300"/>
            </a:br>
            <a:r>
              <a:rPr b="1" lang="en-US" sz="3600" spc="-1" strike="noStrike">
                <a:solidFill>
                  <a:srgbClr val="ff6633"/>
                </a:solidFill>
                <a:latin typeface="Times New Roman"/>
              </a:rPr>
              <a:t>CMRS/PETSc Library Interactions</a:t>
            </a:r>
            <a:endParaRPr b="1" lang="en-US" sz="3600" spc="-1" strike="noStrike">
              <a:solidFill>
                <a:srgbClr val="ff66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7120" y="6705720"/>
            <a:ext cx="231480" cy="239760"/>
          </a:xfrm>
          <a:prstGeom prst="diamond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6880" y="6629400"/>
            <a:ext cx="22024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IC generated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2:44:59Z</dcterms:created>
  <dc:creator>William Gropp</dc:creator>
  <dc:description/>
  <dc:language>en-US</dc:language>
  <cp:lastModifiedBy>G. Rewoldt</cp:lastModifiedBy>
  <cp:lastPrinted>1999-11-18T16:36:07Z</cp:lastPrinted>
  <dcterms:modified xsi:type="dcterms:W3CDTF">2003-06-03T13:12:57Z</dcterms:modified>
  <cp:revision>211</cp:revision>
  <dc:subject/>
  <dc:title>Technologies and Tools for High-Performance Distributed Computing</dc:title>
</cp:coreProperties>
</file>