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58400" cy="77724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540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904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540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904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53B-34EE-4233-B63C-91C0D6BF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24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B76-20EA-498F-85F3-7096AE05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618-5925-4AB7-9468-3543AFC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E51-C6D2-4E87-9F2E-1E20B07F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FAC-84DC-4B19-B787-E792342D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400" y="604800"/>
            <a:ext cx="8794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233-6879-484C-8DC6-8333F23A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FE8-8289-4544-AAEE-D1EE6D5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24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CB0-6908-4F0A-BC49-5D231C8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5C1-D6DB-45EC-8D49-B222E42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ACE-46A9-49E0-A039-00698DB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8E8-6FDF-49C4-AF05-F8C08D4E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540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904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540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904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B69-6C18-40A5-9517-A8149B81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1400" y="604800"/>
            <a:ext cx="8794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604800"/>
            <a:ext cx="87948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Click to edit the title text format</a:t>
            </a: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84000"/>
          </a:bodyPr>
          <a:p>
            <a:pPr marL="461160" indent="-4611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1" marL="998640" indent="-3837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2" marL="1536120" indent="-3063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3" marL="2150640" indent="-30780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55000"/>
              <a:buFont typeface="Monotype Sorts" charset="2"/>
              <a:buChar char="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4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5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6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200" y="7254720"/>
            <a:ext cx="8718480" cy="0"/>
          </a:xfrm>
          <a:prstGeom prst="line">
            <a:avLst/>
          </a:prstGeom>
          <a:ln w="19080">
            <a:solidFill>
              <a:srgbClr val="636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723888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pPr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MRS Review, PPPL, 5 June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7200" spc="-1" strike="noStrike">
                <a:solidFill>
                  <a:srgbClr val="ff6633"/>
                </a:solidFill>
                <a:latin typeface="Times New Roman"/>
              </a:rPr>
              <a:t>Click to edit the title text format</a:t>
            </a:r>
            <a:endParaRPr b="1" lang="en-US" sz="72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fld id="{B807556E-B083-4D01-98E3-9F876EF0BA4E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PS_logo_large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4757760" cy="2384280"/>
          </a:xfrm>
          <a:prstGeom prst="rect">
            <a:avLst/>
          </a:prstGeom>
          <a:ln w="0">
            <a:noFill/>
          </a:ln>
        </p:spPr>
      </p:pic>
      <p:pic>
        <p:nvPicPr>
          <p:cNvPr id="81" name="scidac_logo" descr=""/>
          <p:cNvPicPr/>
          <p:nvPr/>
        </p:nvPicPr>
        <p:blipFill>
          <a:blip r:embed="rId2"/>
          <a:stretch/>
        </p:blipFill>
        <p:spPr>
          <a:xfrm>
            <a:off x="685800" y="6559560"/>
            <a:ext cx="4191120" cy="704880"/>
          </a:xfrm>
          <a:prstGeom prst="rect">
            <a:avLst/>
          </a:prstGeom>
          <a:ln w="0">
            <a:noFill/>
          </a:ln>
        </p:spPr>
      </p:pic>
      <p:pic>
        <p:nvPicPr>
          <p:cNvPr id="82" name="LOGO7" descr=""/>
          <p:cNvPicPr/>
          <p:nvPr/>
        </p:nvPicPr>
        <p:blipFill>
          <a:blip r:embed="rId3"/>
          <a:stretch/>
        </p:blipFill>
        <p:spPr>
          <a:xfrm>
            <a:off x="304920" y="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2514600"/>
            <a:ext cx="15238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3399"/>
                </a:solidFill>
                <a:latin typeface="Times New Roman"/>
              </a:rPr>
              <a:t>&amp;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34800" y="1654200"/>
            <a:ext cx="9723600" cy="5421240"/>
            <a:chOff x="334800" y="1654200"/>
            <a:chExt cx="9723600" cy="54212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782720" y="1654200"/>
              <a:ext cx="173844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60400" y="5388120"/>
              <a:ext cx="1760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34800" y="1727280"/>
              <a:ext cx="1341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high energy and nuclear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Courier New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phys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880" y="5570640"/>
              <a:ext cx="13795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fusion energy 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5951520" y="1655640"/>
              <a:ext cx="2278080" cy="17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5951520" y="5286240"/>
              <a:ext cx="213840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98000" y="1857240"/>
              <a:ext cx="176040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4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biological and environmental re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77320" y="5345280"/>
              <a:ext cx="139356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0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basic energy 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09480" y="460440"/>
            <a:ext cx="9068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33"/>
                </a:solidFill>
                <a:latin typeface="Times New Roman"/>
              </a:rPr>
              <a:t>“</a:t>
            </a:r>
            <a:r>
              <a:rPr b="1" i="1" lang="en-US" sz="2600" spc="-1" strike="noStrike">
                <a:solidFill>
                  <a:srgbClr val="ff6633"/>
                </a:solidFill>
                <a:latin typeface="Times New Roman"/>
              </a:rPr>
              <a:t>The partial differential equation entered theoretical physics as a handmaid, but has gradually become mistress.” – </a:t>
            </a: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A. Einst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65240" y="2846880"/>
            <a:ext cx="3562920" cy="3092400"/>
            <a:chOff x="2865240" y="2846880"/>
            <a:chExt cx="3562920" cy="3092400"/>
          </a:xfrm>
        </p:grpSpPr>
        <p:grpSp>
          <p:nvGrpSpPr>
            <p:cNvPr id="95" name=""/>
            <p:cNvGrpSpPr/>
            <p:nvPr/>
          </p:nvGrpSpPr>
          <p:grpSpPr>
            <a:xfrm>
              <a:off x="2865240" y="2846880"/>
              <a:ext cx="3562920" cy="3092400"/>
              <a:chOff x="2865240" y="2846880"/>
              <a:chExt cx="3562920" cy="3092400"/>
            </a:xfrm>
          </p:grpSpPr>
          <p:sp>
            <p:nvSpPr>
              <p:cNvPr id="96" name=""/>
              <p:cNvSpPr/>
              <p:nvPr/>
            </p:nvSpPr>
            <p:spPr>
              <a:xfrm>
                <a:off x="3687480" y="3530880"/>
                <a:ext cx="19281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87480" y="3539880"/>
                <a:ext cx="2012040" cy="1727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060200">
                <a:off x="5308560" y="3136680"/>
                <a:ext cx="1073880" cy="55044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440"/>
                  <a:gd name="textAreaBottom" fmla="*/ 412920 h 55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351400">
                <a:off x="5294520" y="5094720"/>
                <a:ext cx="1073880" cy="55080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800"/>
                  <a:gd name="textAreaBottom" fmla="*/ 41328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3089000">
                <a:off x="2920680" y="3122640"/>
                <a:ext cx="1073880" cy="55080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800"/>
                  <a:gd name="textAreaBottom" fmla="*/ 41328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8359200">
                <a:off x="2962440" y="5105160"/>
                <a:ext cx="1073880" cy="55044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440"/>
                  <a:gd name="textAreaBottom" fmla="*/ 412920 h 55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2" name="TOPS_logo_large" descr=""/>
            <p:cNvPicPr/>
            <p:nvPr/>
          </p:nvPicPr>
          <p:blipFill>
            <a:blip r:embed="rId5"/>
            <a:stretch/>
          </p:blipFill>
          <p:spPr>
            <a:xfrm>
              <a:off x="3962520" y="3808440"/>
              <a:ext cx="152388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62520" y="4495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 IS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2178000"/>
            <a:ext cx="6248520" cy="5001120"/>
            <a:chOff x="1828800" y="2178000"/>
            <a:chExt cx="6248520" cy="5001120"/>
          </a:xfrm>
        </p:grpSpPr>
        <p:sp>
          <p:nvSpPr>
            <p:cNvPr id="105" name=""/>
            <p:cNvSpPr/>
            <p:nvPr/>
          </p:nvSpPr>
          <p:spPr>
            <a:xfrm>
              <a:off x="4038480" y="217800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PD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373392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are den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8098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in the SciDA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59878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portfoli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2840" y="60480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Scope for TOPS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55674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esign and implementation of “solvers” for PDE-derived systems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Linear 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igen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onlinear 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ime integra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Optimiz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oftware integration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erformance optimization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880" y="5888160"/>
            <a:ext cx="8215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19520" y="4495680"/>
                <a:ext cx="2593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733920" y="3657600"/>
                <a:ext cx="26542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800600" y="2133720"/>
                <a:ext cx="1430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84600" y="2895480"/>
                <a:ext cx="16639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95440" y="5334120"/>
                <a:ext cx="48290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u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477120" y="-557280"/>
            <a:ext cx="3580920" cy="7248600"/>
            <a:chOff x="6477120" y="-557280"/>
            <a:chExt cx="3580920" cy="7248600"/>
          </a:xfrm>
        </p:grpSpPr>
        <p:sp>
          <p:nvSpPr>
            <p:cNvPr id="118" name=""/>
            <p:cNvSpPr/>
            <p:nvPr/>
          </p:nvSpPr>
          <p:spPr>
            <a:xfrm>
              <a:off x="6477120" y="2133720"/>
              <a:ext cx="1371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tim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72160" y="5189400"/>
              <a:ext cx="1160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ear 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44040" y="4106880"/>
              <a:ext cx="13140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igen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72160" y="2961000"/>
              <a:ext cx="101916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me integ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72160" y="4043520"/>
              <a:ext cx="119484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linear 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82240" y="6425640"/>
              <a:ext cx="343080" cy="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26760" y="6179760"/>
              <a:ext cx="112356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dicates depen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9040" y="2133720"/>
              <a:ext cx="1371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ns. Analy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10890000">
              <a:off x="7285680" y="3335040"/>
              <a:ext cx="212112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0890000">
              <a:off x="7923240" y="-294840"/>
              <a:ext cx="1022040" cy="57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50" y="14"/>
                  </a:moveTo>
                  <a:arcTo wR="10800" hR="10800" stAng="-5224886" swAng="54138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50" y="14"/>
                  </a:moveTo>
                  <a:arcTo wR="10800" hR="10800" stAng="-5224886" swAng="5413802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0890000">
              <a:off x="8168760" y="745920"/>
              <a:ext cx="769680" cy="361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10890000">
              <a:off x="7875720" y="1639800"/>
              <a:ext cx="1064880" cy="156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64200">
              <a:off x="4723920" y="1764360"/>
              <a:ext cx="6004440" cy="13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6264200">
              <a:off x="5801040" y="1896840"/>
              <a:ext cx="3701520" cy="123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6264200">
              <a:off x="6813720" y="1886040"/>
              <a:ext cx="1530720" cy="11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5400">
              <a:off x="7674120" y="537660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5400">
              <a:off x="7541640" y="423072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5400">
              <a:off x="7475040" y="3084480"/>
              <a:ext cx="191520" cy="1983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158600">
              <a:off x="8205120" y="5376960"/>
              <a:ext cx="190800" cy="1983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158600">
              <a:off x="8337960" y="423072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158600">
              <a:off x="8271000" y="3083760"/>
              <a:ext cx="191520" cy="1994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2080" y="3470400"/>
              <a:ext cx="0" cy="636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69040" y="4552920"/>
              <a:ext cx="0" cy="6998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769400">
              <a:off x="7868880" y="3916080"/>
              <a:ext cx="265320" cy="19332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769400">
              <a:off x="7935120" y="5062320"/>
              <a:ext cx="265320" cy="1936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266800">
              <a:off x="7909200" y="2223000"/>
              <a:ext cx="254160" cy="2019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04280" y="2324520"/>
              <a:ext cx="4647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238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w/ sens. an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w/ sens. an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623880"/>
            <a:ext cx="87948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Status of CMRS-TOPS collaboration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9296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 fontScale="99000"/>
          </a:bodyPr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MRS team has provided TOPS with discretization of model 2D multicomponent Hall magnetic reconnection evolution code in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ETSc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’s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/DMMG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format, using automatic differentiation for Jacobia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OPS has implemented fully nonlinearly implicit Newton-GMRES-MG-SOR parallel solver (with deflation of nullspace in CMRS’s doubly periodic form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Both first- and second-order implicit temporal integratio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MRS and TOPS reproduce the same dynamics on the same grids with the same time-stepping, up to a finite-time singularity due to collapse of current sheet (that falls below presently uniform mesh re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OPS code, being implicit, can choose timesteps an order of magnitude larger, with potential for higher ratio in more physically realistic parameter regimes, though it is slower in wall-clock time for small C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: tune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ETSc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solver by profiling, blocking, reuse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: identify the numerical complexity benefits from implicitness (in suppressing fast timescales) and quantify (explicit versus implic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 (with APDEC team): incorporate A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00" y="5840280"/>
            <a:ext cx="17823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Times New Roman"/>
                <a:ea typeface="HG Mincho Light J"/>
              </a:rPr>
              <a:t>Equilibriu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048280" cy="331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6367320"/>
            <a:ext cx="5065920" cy="81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2480" y="1447920"/>
            <a:ext cx="23522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Times New Roman"/>
                <a:ea typeface="HG Mincho Light J"/>
              </a:rPr>
              <a:t>Model equation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60880" y="1398600"/>
            <a:ext cx="2815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2195640"/>
                <a:tab algn="l" pos="2927520"/>
                <a:tab algn="l" pos="365760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Porcelli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 al.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1993,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352680" y="5105520"/>
            <a:ext cx="2905200" cy="866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85885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6633"/>
                </a:solidFill>
                <a:latin typeface="Times New Roman"/>
              </a:rPr>
              <a:t>2D Hall MHD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6633"/>
                </a:solidFill>
                <a:latin typeface="Times New Roman"/>
              </a:rPr>
              <a:t>sawtooth instability </a:t>
            </a:r>
            <a:br>
              <a:rPr sz="3600"/>
            </a:br>
            <a:r>
              <a:rPr b="1" lang="en-GB" sz="2800" spc="-1" strike="noStrike">
                <a:solidFill>
                  <a:srgbClr val="ff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6633"/>
                </a:solidFill>
                <a:latin typeface="Arial"/>
              </a:rPr>
              <a:t>PETS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examples 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/snes/ex29.c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/sles/ex31.c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2388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gures c/o A. Bhattacharjee, CM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5720" y="1736640"/>
            <a:ext cx="2819160" cy="1106640"/>
            <a:chOff x="6705720" y="1736640"/>
            <a:chExt cx="2819160" cy="110664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6727680" y="2057400"/>
              <a:ext cx="2568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705720" y="173664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Vorticity, early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05720" y="2909880"/>
            <a:ext cx="2819160" cy="1074600"/>
            <a:chOff x="6705720" y="2909880"/>
            <a:chExt cx="2819160" cy="107460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6740640" y="3200400"/>
              <a:ext cx="255564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705720" y="290988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Vorticity, later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11960" y="4006800"/>
            <a:ext cx="1603440" cy="3156120"/>
            <a:chOff x="7311960" y="4006800"/>
            <a:chExt cx="1603440" cy="3156120"/>
          </a:xfrm>
        </p:grpSpPr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7311960" y="4299120"/>
              <a:ext cx="160344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772400" y="4006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69048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ETSc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’s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DMMG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 in Hall MR application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pic>
        <p:nvPicPr>
          <p:cNvPr id="167" name="u.0.1" descr=""/>
          <p:cNvPicPr/>
          <p:nvPr/>
        </p:nvPicPr>
        <p:blipFill>
          <a:blip r:embed="rId1"/>
          <a:stretch/>
        </p:blipFill>
        <p:spPr>
          <a:xfrm>
            <a:off x="304920" y="3386160"/>
            <a:ext cx="4724280" cy="3548160"/>
          </a:xfrm>
          <a:prstGeom prst="rect">
            <a:avLst/>
          </a:prstGeom>
          <a:ln w="0">
            <a:noFill/>
          </a:ln>
        </p:spPr>
      </p:pic>
      <p:pic>
        <p:nvPicPr>
          <p:cNvPr id="168" name="u.0.8" descr=""/>
          <p:cNvPicPr/>
          <p:nvPr/>
        </p:nvPicPr>
        <p:blipFill>
          <a:blip r:embed="rId2"/>
          <a:stretch/>
        </p:blipFill>
        <p:spPr>
          <a:xfrm>
            <a:off x="5181480" y="3387600"/>
            <a:ext cx="4724640" cy="354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8724960" y="36572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48040" y="366696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44792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sh and time refinement studies of CMRS Hall magnetic reconnection model problem (4 mesh sizes, dt=0.1 (near CFL limit for fastest wave) on left, dt=0.8 on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asure of functional inverse to thickness of current sheet versus time, fo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&lt;t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(nondimensional), where singularity occurs arou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2840" y="69048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ETSc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’s DMMG in Hall MR app., cont.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pic>
        <p:nvPicPr>
          <p:cNvPr id="173" name="u.192" descr=""/>
          <p:cNvPicPr/>
          <p:nvPr/>
        </p:nvPicPr>
        <p:blipFill>
          <a:blip r:embed="rId1"/>
          <a:stretch/>
        </p:blipFill>
        <p:spPr>
          <a:xfrm>
            <a:off x="1523880" y="2190600"/>
            <a:ext cx="6705720" cy="503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144792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mplicit timestep increase studies of CMRS Hall magnetic reconnection model problem, on finest (192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92) mesh of previous slide, in absolute magnitude, rather than semi-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41320" y="590400"/>
            <a:ext cx="83120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ctr"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Newton-Krylov-Schwarz – </a:t>
            </a:r>
            <a:br>
              <a:rPr sz="3600"/>
            </a:b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a parallel PDE “workhor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" y="5746680"/>
            <a:ext cx="2281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0800" y="6091200"/>
            <a:ext cx="12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9960" y="1641600"/>
            <a:ext cx="2773080" cy="5181120"/>
            <a:chOff x="669960" y="1641600"/>
            <a:chExt cx="2773080" cy="51811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753840" y="2590920"/>
              <a:ext cx="2598480" cy="31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69960" y="5699520"/>
              <a:ext cx="277308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Newt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linear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asymptotically quadr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69960" y="1641600"/>
                  <a:ext cx="2682360" cy="38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≈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δu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1403280" y="2031840"/>
                  <a:ext cx="1362240" cy="38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λ</m:t>
                      </m:r>
                      <m:r>
                        <m:t xml:space="preserve"> </m:t>
                      </m:r>
                      <m:r>
                        <m:t xml:space="preserve">δ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521160" y="1643040"/>
            <a:ext cx="2596680" cy="5179680"/>
            <a:chOff x="3521160" y="1643040"/>
            <a:chExt cx="2596680" cy="517968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3521160" y="2590920"/>
              <a:ext cx="2596680" cy="31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758760" y="5699520"/>
              <a:ext cx="214920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Krylov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spectrally adap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390200" y="1643040"/>
                  <a:ext cx="1046880" cy="3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δ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605040" y="2008080"/>
                  <a:ext cx="2481120" cy="55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u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argmin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  <m:r>
                            <m:t xml:space="preserve">≡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F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J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e>
                          </m:d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Jx</m:t>
                          </m:r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"/>
          <p:cNvGrpSpPr/>
          <p:nvPr/>
        </p:nvGrpSpPr>
        <p:grpSpPr>
          <a:xfrm>
            <a:off x="6286680" y="1576440"/>
            <a:ext cx="2555280" cy="5246280"/>
            <a:chOff x="6286680" y="1576440"/>
            <a:chExt cx="2555280" cy="524628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6286680" y="2590920"/>
              <a:ext cx="2541600" cy="31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693840" y="5699520"/>
              <a:ext cx="169200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Schwarz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conditio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paralleliz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6412320" y="1576440"/>
                  <a:ext cx="1884960" cy="34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Jδ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286680" y="1986120"/>
                  <a:ext cx="255528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</m:e>
                      </m:nary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J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797360" y="6705720"/>
            <a:ext cx="231840" cy="239760"/>
          </a:xfrm>
          <a:prstGeom prst="diamond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1440" y="6629400"/>
            <a:ext cx="13305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Sc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06840" y="6553080"/>
            <a:ext cx="11174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5760" y="6705720"/>
            <a:ext cx="231840" cy="239760"/>
          </a:xfrm>
          <a:prstGeom prst="diamon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7240" y="2357280"/>
            <a:ext cx="7516800" cy="34005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11120" y="5975280"/>
            <a:ext cx="191484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4160" y="5975280"/>
            <a:ext cx="146376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8360" y="5975280"/>
            <a:ext cx="1381320" cy="531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co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18520" y="5975280"/>
            <a:ext cx="143640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127480"/>
            <a:ext cx="1164960" cy="400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40240" y="5127480"/>
            <a:ext cx="1163520" cy="400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18240" y="4686480"/>
            <a:ext cx="15192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ETSc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56080" y="3935520"/>
            <a:ext cx="0" cy="20397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02440" y="3935520"/>
            <a:ext cx="0" cy="20397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1919160"/>
            <a:ext cx="0" cy="405612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1919160"/>
            <a:ext cx="0" cy="405612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82720" y="4599000"/>
            <a:ext cx="0" cy="528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40240" y="3735360"/>
            <a:ext cx="0" cy="52884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4160" y="4587840"/>
            <a:ext cx="0" cy="52884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89520" y="2873520"/>
            <a:ext cx="0" cy="528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89520" y="1919160"/>
            <a:ext cx="0" cy="6210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00240" y="1339920"/>
            <a:ext cx="7543800" cy="5792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 Rout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4800" y="4264200"/>
            <a:ext cx="2828880" cy="531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Solvers (S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28960" y="3402000"/>
            <a:ext cx="4957560" cy="5335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Solvers (S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4800" y="2540160"/>
            <a:ext cx="5927760" cy="533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stepping Solvers (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690480"/>
            <a:ext cx="8550000" cy="6904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br>
              <a:rPr sz="5300"/>
            </a:b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CMRS/PETSc Library Interactions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6705720"/>
            <a:ext cx="231480" cy="23976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6880" y="6629400"/>
            <a:ext cx="22024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IC generated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2:44:59Z</dcterms:created>
  <dc:creator>William Gropp</dc:creator>
  <dc:description/>
  <dc:language>en-US</dc:language>
  <cp:lastModifiedBy>G. Rewoldt</cp:lastModifiedBy>
  <cp:lastPrinted>1999-11-18T16:36:07Z</cp:lastPrinted>
  <dcterms:modified xsi:type="dcterms:W3CDTF">2003-06-03T13:12:57Z</dcterms:modified>
  <cp:revision>211</cp:revision>
  <dc:subject/>
  <dc:title>Technologies and Tools for High-Performance Distributed Computing</dc:title>
</cp:coreProperties>
</file>