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023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8023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92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8023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8023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668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71720" y="787320"/>
            <a:ext cx="719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30400" y="228600"/>
            <a:ext cx="710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7760" y="0"/>
            <a:ext cx="68904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74560" y="6400800"/>
            <a:ext cx="255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66"/>
                </a:solidFill>
                <a:uFillTx/>
                <a:latin typeface="Arial"/>
              </a:rPr>
              <a:t>Center for Magnetic Reconnection Studie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Univ. of Chicago branch)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29600" y="58680"/>
            <a:ext cx="91440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36920" y="5181480"/>
            <a:ext cx="71136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1143000"/>
            <a:ext cx="7086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5715000"/>
            <a:ext cx="914400" cy="85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43400" y="5943600"/>
            <a:ext cx="69696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2200" y="365040"/>
            <a:ext cx="614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enter for Magnetic Reconnection Studies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523880" cy="125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248520" y="5867280"/>
            <a:ext cx="1752480" cy="561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66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66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lash.uchicago.edu/" TargetMode="External"/><Relationship Id="rId2" Type="http://schemas.openxmlformats.org/officeDocument/2006/relationships/hyperlink" Target="http://flash.uchicago.edu/" TargetMode="External"/><Relationship Id="rId3" Type="http://schemas.openxmlformats.org/officeDocument/2006/relationships/hyperlink" Target="http://flash.uchicago.edu/" TargetMode="External"/><Relationship Id="rId4" Type="http://schemas.openxmlformats.org/officeDocument/2006/relationships/hyperlink" Target="http://flash.uchicago.edu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Magnetic Reconnection Code within the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Framework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imur Linde, Leonid Malyshkin, Robert Rosner, and Andrew Sieg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versity of Chica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une 5, 20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nceton, N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advantages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ed nightl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tantly ported to new platfor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 optimized independent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sualization developed independent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ation mana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suppo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ug datab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formance measured regular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R (tested/documented independently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ding standards enforcement scrip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bugged frequently (lint, forcheck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phisticated versioning, repository manage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ssible interplay with other physics modules (particles, etc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re are we now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have a working 3-D resistive/viscous AMR MHD c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already been used by R. Fitzpatrick in his study of compressible reconne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RC v1.0 exi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LASH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2-D Hall MHD have been joined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are being tes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ired elliptic solves for Helmholtz, Poisson (i.e., multigri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ased on reusable compon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was done by importing the Iowa Hall MHD code as a “module”, but using our own Poisson and Helmholtz solvers; hence we solve exactly the same equations as the Iowa “local framewor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re now running comparisons of MRC with the Iowa Hall MHD cod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ext steps 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lusion of full 3-D Hall MHD, again implemented in a staged manner (almost complete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flexible geometry: cylindrical, toroid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de emphas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ndards of interopera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mple: common i/o formats – can reuse postprocessing tool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re complex: reusing solvers from one meshing package in another – libAMR (Colella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re complex: standard interface for meshing packag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obustness, performance, portability, ease of u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ience emphas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cus is on an astrophysically-interesting and central proble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blem is also highly susceptible to laboratory verif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estions and discu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ich brings us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roject in gener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ole in Magnetic Reconnection Code (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R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? What is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MRC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lly: AMR code for astrophysics problems on ASCI machines (compressible hydro +  burn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volved into two thing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general application cod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framework for building/hosting new probl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86080"/>
            <a:ext cx="7010640" cy="901800"/>
          </a:xfrm>
          <a:prstGeom prst="rect">
            <a:avLst/>
          </a:prstGeom>
          <a:noFill/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LASH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physics modules +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LASH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framewor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LASH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application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3240" y="5334120"/>
            <a:ext cx="598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xt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physics modules doe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ntai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services doe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ramework contain?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13080"/>
            <a:ext cx="7010640" cy="901800"/>
          </a:xfrm>
          <a:prstGeom prst="rect">
            <a:avLst/>
          </a:prstGeom>
          <a:noFill/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ll MHD modules +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LASH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framewor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= Magnetic Reconnection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breakdow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hysics modul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(in)compressible hydro, relativistic hydro/MHD, resistive mhd, 2-D Hall mhd, (nuclear) reaction networks, time-dependent ionization, various equations of state, particles, self-gravity, Boltzmann transport, subgrid models, front-track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rame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block-structured AMR (Paramesh), parallel io (hdf5), runtime vis (pvtk), runtime performance monitoring (PAPI), generic linear solvers tied to mesh, syntax/tool for building new solv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ode suppo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public web-based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lash_test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lash_benchmark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ding standard verifi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ug/feature track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r support schedu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load: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  <a:hlinkClick r:id="rId1"/>
              </a:rPr>
              <a:t>http://flash.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  <a:hlinkClick r:id="rId2"/>
              </a:rPr>
              <a:t>uchicago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  <a:hlinkClick r:id="rId4"/>
              </a:rPr>
              <a:t>ed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eneral features of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ree major releases over four yea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0,000+ lines    (F90 / C / Pyth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ood performa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calable on ASCI machines to 5K proc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ordon Bell prize (2000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mphasis on portability, interoper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tandardization of AMR output format, data sharing via CC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2.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ew release, scheduled June 1, 200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optimized multigrid solve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gnificant improvements in documen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orted to Compaq TRU64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-D runtime visual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optimized uniform gri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upport for different mesh geometri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FFT on uniform gri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optimized multigrid on uniform gri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paramesh3.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Parallel NetCDF i/o modul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Implicit diffus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2.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nal 2.x version (Sept 2004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ci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 initial major empha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a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rta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ter progress in extensibility/reuse: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v3.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ized mesh variable databa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mponent mod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eveloper’s Gu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future of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87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ake this a step further: identify the “acto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. End-us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Run an existing proble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. Module/problem contributo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Use database Module interface but unaware of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internal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.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develop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Work on general framework issues, utility modules, performance, portability, etc. according to needs of astrophysics and (laboratory) code validation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evelopment successively focused on these 3 are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x: emphasis on 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x: expand emphasis to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x: expand emphasis to 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lication scientists lean toward A. and B; programmers/software engineers lean toward C; computer scientists can be involved at any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verybody contributes to design process; software architect must make final decisions on how to implement pla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CM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llows typical pattern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ollabo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totyping, testing, results initially external 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desir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owa AMR-based Hall MHD – Kai Germaschewsk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“commitment” 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operability strategy agreed up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ow are solvers packaged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ata structures are used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operations must mesh support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6483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84240" y="47354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onen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MRS/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trateg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ve portable components between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/local framework as needs warr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ople strateg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eveloper leading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ingle-fluid MHD work (Timur Linde) leads the Chicago MRC develop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MRS supports a postdoctoral fellow (Leonid Malyshkin) fully engaged in developing/testing the MR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 also support a new graduate student (Claudio Zanni/U. Torino) working on the MRC and its extens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ience strateg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mmediate target of our efforts are on re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50000"/>
              <a:buFont typeface="Zapf Dingba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ecifically: what is the consequence of relaxing the “steady state” assumption of reconnection - can one have fast reconnection in time-dependent circumstances under conditions in which steady reconnection cannot occur?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ndrew Siegel</dc:creator>
  <dc:description>2001 Site Review talk</dc:description>
  <cp:keywords>Software Engineering FLASH2.0 Site Review FLASH</cp:keywords>
  <dc:language>en-US</dc:language>
  <cp:lastModifiedBy>G. Rewoldt</cp:lastModifiedBy>
  <dcterms:modified xsi:type="dcterms:W3CDTF">2003-06-03T13:07:46Z</dcterms:modified>
  <cp:revision>1130</cp:revision>
  <dc:subject>FLASH Software Engineering</dc:subject>
  <dc:title>PowerPoint Presentation</dc:title>
</cp:coreProperties>
</file>