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55.jpeg" ContentType="image/jpeg"/>
  <Override PartName="/ppt/media/image50.jpeg" ContentType="image/jpeg"/>
  <Override PartName="/ppt/media/image40.png" ContentType="image/png"/>
  <Override PartName="/ppt/media/image46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2.pct" ContentType="image/x-pict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8.png" ContentType="image/png"/>
  <Override PartName="/ppt/media/image14.jpeg" ContentType="image/jpeg"/>
  <Override PartName="/ppt/media/image48.jpeg" ContentType="image/jpeg"/>
  <Override PartName="/ppt/media/image54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41.pct" ContentType="image/x-pict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4AC-EAE9-48C4-88C7-4C35EDE3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F6A-88D8-4A6C-B0FE-0D92554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B3D-F508-4A74-8BD9-858B1B16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BC8-88B5-45A1-8EF2-BAA0E80E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CE6-BCB2-43F1-A950-BA8205A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8EA-EA3C-4B23-8F81-A28C4DF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FDD-264D-4244-B61F-A3D568E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EE2-8041-4995-B1B1-BB80C64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5A1-FC29-4C45-9C49-429BCB09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F87-9431-4A78-B225-3EED862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B68-6640-4D5B-83F3-D5F36D3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FD3-0BC1-4E53-8A65-F5DE767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81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BD2-7778-4484-A592-6C4605AA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304920"/>
            <a:ext cx="1533600" cy="569880"/>
            <a:chOff x="380880" y="304920"/>
            <a:chExt cx="1533600" cy="5698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380880" y="398880"/>
              <a:ext cx="45324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70480" y="304920"/>
              <a:ext cx="1044000" cy="41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a50021"/>
                  </a:solidFill>
                  <a:latin typeface="Garamond"/>
                </a:rPr>
                <a:t>The University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Garamond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90920" y="304920"/>
            <a:ext cx="3429000" cy="409320"/>
          </a:xfrm>
          <a:prstGeom prst="rect">
            <a:avLst/>
          </a:prstGeom>
          <a:ln w="0">
            <a:noFill/>
          </a:ln>
        </p:spPr>
      </p:pic>
      <p:pic>
        <p:nvPicPr>
          <p:cNvPr id="9" name="uthead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523880" cy="554040"/>
          </a:xfrm>
          <a:prstGeom prst="rect">
            <a:avLst/>
          </a:prstGeom>
          <a:ln w="0">
            <a:noFill/>
          </a:ln>
        </p:spPr>
      </p:pic>
      <p:pic>
        <p:nvPicPr>
          <p:cNvPr id="10" name="LOGO7" descr=""/>
          <p:cNvPicPr/>
          <p:nvPr/>
        </p:nvPicPr>
        <p:blipFill>
          <a:blip r:embed="rId5"/>
          <a:stretch/>
        </p:blipFill>
        <p:spPr>
          <a:xfrm>
            <a:off x="4419720" y="57913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1" name="TOPS_logo_large" descr=""/>
          <p:cNvPicPr/>
          <p:nvPr/>
        </p:nvPicPr>
        <p:blipFill>
          <a:blip r:embed="rId6"/>
          <a:stretch/>
        </p:blipFill>
        <p:spPr>
          <a:xfrm>
            <a:off x="685800" y="5943600"/>
            <a:ext cx="1371600" cy="689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7"/>
          <a:stretch/>
        </p:blipFill>
        <p:spPr>
          <a:xfrm>
            <a:off x="7162920" y="6019920"/>
            <a:ext cx="160020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pct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Center for Magnetic Reconnection Studies: Final Report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2971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tava Bhattacharjee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829b3"/>
                </a:solidFill>
                <a:latin typeface="Times New Roman"/>
              </a:rPr>
              <a:t>Institute for the Study of Earth, Oceans, and Space University of New Hampsh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ACI PAC, Princeton, June 3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598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SciDAC TOPS-CMRS collaboration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981080"/>
            <a:ext cx="84502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520" bIns="6552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team has provided TOPS with model 2D multicomponent MHD evolution code, and explicit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S has implemented fully nonlinearly implicit GMRES-MG-ILU parallel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FormFunctionLocal format using DMMG and automatic differentiation for Jacobian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and TOPS reproduce the same dynamics on the same grids with the same time-ste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to a finite-time singularity due to collapse of current sheet (further dynamics falls below present uniform mesh resolu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S code, being implicit, can choose timesteps an order of magnitude larger, with potential for higher ratio in more physically realistic parameter regi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t is still slower in wall-clock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Interrelationship between fusion, space, and astrophysical plasmas</a:t>
            </a:r>
            <a:endParaRPr b="0" lang="en-US" sz="32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 exampl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2514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Impulsive Reconnection: The Tr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84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exhibits an impulsiveness, that is, a sudden change in the time-derivative of the growth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438280"/>
            <a:ext cx="7810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configuration evolves slowly for a long period of time, only to undergo a sudden dynamical change over a much shorter period of ti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is characterized by the formation of near-singular current and vortex sheets in finite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038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02920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29b3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wtooth oscillations in tokam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ospheric sub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ive solar and stellar f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Sawtooth crash in tokamaks (Yamada et al. 1994)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639040" cy="360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09680" y="11430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066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Magnetospheric Subst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886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Disruption in the Near-Earth Magnetotail</a:t>
            </a: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htani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50160" y="573264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2ae"/>
                </a:solidFill>
                <a:latin typeface="Times New Roman"/>
              </a:rPr>
              <a:t>Ohtani et al.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olar corona</a:t>
            </a:r>
            <a:endParaRPr b="0" lang="en-US" sz="44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3640" y="5264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019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160" y="121932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Beijing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21666" r="0" b="0"/>
          <a:stretch/>
        </p:blipFill>
        <p:spPr>
          <a:xfrm>
            <a:off x="1828800" y="182880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70600" y="579132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eijing"/>
              </a:rPr>
              <a:t>http://uk.cambridge.org/assets/astronom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eijing"/>
              </a:rPr>
              <a:t>encyclopedias/Fig5_28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Impulsive solar/stellar flare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16320" y="1471680"/>
            <a:ext cx="2511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erarchy of collisionless reconnection model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2440" y="1752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3D Hall cylindrical M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800" y="274320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Four-Field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eij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Hazeltin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. 1987, Aydemir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8040" y="22096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field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B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velocity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pressure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6600" y="3581280"/>
            <a:ext cx="65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potential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stream functio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arallel speed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ressure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160" y="449568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eijing"/>
              </a:rPr>
              <a:t>Two-Field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eij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3680" y="457200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Porcelli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et a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.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0640" y="525780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Variables: magnetic potential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Beijing"/>
              </a:rPr>
              <a:t>, stream functio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3680" y="1752480"/>
            <a:ext cx="37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Beijing"/>
              </a:rPr>
              <a:t>with generalized Ohm'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360" y="21333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New Hampshire: A. Bhattacharjee (PI and Director), N. Bessho, K. Germaschewski,  J. Maron, C. S. Ng, P. Z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Iowa: B. Chandran, L.-J. Chen, Z. W. Ma, J. M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Chicago: R. Rosner (PI), T. Linde, L. Malyshkin, A. Sie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ity of Texas at Austin: R. Fitzpatrick (PI), F. Waelbroeck, P. Wat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S collaborators  : D. Keyes, F. Dobrian, B.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81d"/>
                </a:solidFill>
                <a:latin typeface="Times New Roman"/>
              </a:rPr>
              <a:t>CMRS: Interdisciplinary group drawn from applied mathematics, astrophysics, computer science, fluid dynamics, plasma physics, and space science communities (supported also by DOE/ASCI, NASA, NSF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Resolving the current sheet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880" y="1609560"/>
            <a:ext cx="102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09920" y="1971720"/>
            <a:ext cx="3265560" cy="3201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2320" y="196200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61288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15200" y="5638680"/>
            <a:ext cx="4525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666880" y="3124080"/>
            <a:ext cx="2613240" cy="244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33920" y="5638680"/>
            <a:ext cx="4518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226120" cy="3427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2520" y="4952880"/>
            <a:ext cx="99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8120"/>
            <a:ext cx="1012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sland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960560" cy="1920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781680" y="3657600"/>
            <a:ext cx="1960560" cy="1920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0" y="1143000"/>
            <a:ext cx="2021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gneti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flux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8600" y="843120"/>
            <a:ext cx="3382920" cy="3162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94440" y="987480"/>
            <a:ext cx="368748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37280" y="3927600"/>
            <a:ext cx="3654360" cy="257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9880" y="336600"/>
            <a:ext cx="8143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 =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120" y="4084560"/>
            <a:ext cx="1807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0480" y="684360"/>
            <a:ext cx="662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c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3760" y="3624120"/>
            <a:ext cx="7304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14300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a32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2a329"/>
                </a:solidFill>
                <a:latin typeface="Times New Roman"/>
                <a:ea typeface="Times New Roman"/>
              </a:rPr>
              <a:t>Aydemir’s four-field simulations (1992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 of electron pressure gradient in the generalized Ohm’s law causes near-explosive nonlinear growth of m=1 isl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Aydemir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26708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tooth Oscillations in Tokamaks</a:t>
            </a:r>
            <a:br>
              <a:rPr sz="2400"/>
            </a:b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280" y="801720"/>
            <a:ext cx="1886040" cy="1768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0000" y="825480"/>
            <a:ext cx="1886040" cy="1768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631960" y="814320"/>
            <a:ext cx="1886040" cy="176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89160" y="2266920"/>
            <a:ext cx="1744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istive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680" y="252576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548080"/>
            <a:ext cx="693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1160" y="2558880"/>
            <a:ext cx="9936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400" y="112680"/>
            <a:ext cx="5225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oloidal velocity streamlines, 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color co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67560" y="4500720"/>
            <a:ext cx="1201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ll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90680" y="3038400"/>
            <a:ext cx="1887480" cy="1768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668840" y="3062160"/>
            <a:ext cx="1886040" cy="176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622600" y="3049560"/>
            <a:ext cx="1886040" cy="176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3280" y="4795920"/>
            <a:ext cx="693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4920" y="484200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2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3760" y="4851360"/>
            <a:ext cx="695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=3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73880" cy="518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60880" y="257508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514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fluid (or Hall MH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18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ive M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13716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-his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6094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9b3"/>
                </a:solidFill>
                <a:latin typeface="Times New Roman"/>
              </a:rPr>
              <a:t>MRC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3444840" cy="68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362320" cy="1710000"/>
          </a:xfrm>
          <a:prstGeom prst="rect">
            <a:avLst/>
          </a:prstGeom>
          <a:ln w="0">
            <a:noFill/>
          </a:ln>
        </p:spPr>
      </p:pic>
      <p:pic>
        <p:nvPicPr>
          <p:cNvPr id="172" name="Ohtani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3048120" cy="193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609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79680" y="6778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2ae"/>
                </a:solidFill>
                <a:latin typeface="Times New Roman"/>
              </a:rPr>
              <a:t>Observations (Ohtani et al.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5812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2ae"/>
                </a:solidFill>
                <a:latin typeface="Times New Roman"/>
              </a:rPr>
              <a:t>Hall MH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60958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luster observations: Mouikis et al.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331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all MHD Ballooning Instabilitie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867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termediate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Regime for Instability: Compressional Stability at High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626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CMRS: What have we accomplished on the computing front?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Principal Computational Deliverabl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agnetic Reconnection Code (MRC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developed the world’s first two-fluid (or Hall MHD) code in an Adaptive Mesh Refinement (AMR) framework.  Its attribut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y 3D code which integrates two-fluid/Hall MHD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vely parallel with Adaptive Mesh Refinement (AM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: slab (2002) and cylindrical/toroidal (2004) (with AMR in the radial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boundary conditions: free as well as forced reconnection  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for equations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 code, with the flexibility to change algorithms if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performs and scale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 defined by FLASH---developed by active collaboration with computer scient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an be used for diverse applications, not just magnetic re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80880" y="2819520"/>
          <a:ext cx="388620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3886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76920" y="2819520"/>
          <a:ext cx="3200400" cy="1066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19520"/>
                    <a:ext cx="3200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0480" y="1219320"/>
            <a:ext cx="82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rge but finite ky ballooning modes from initial-value stud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wards a nonlinear theory of ballooning and tests of “deto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de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Dependence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6392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ssible Scenario of Substorm Onset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ar-Earth Ballooning Instability Induced by Current Sheet Thinning and/or Reconnection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91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d"/>
                </a:solidFill>
                <a:latin typeface="Times New Roman"/>
              </a:rPr>
              <a:t>Error-field induced reconnection in tokamaks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743200"/>
            <a:ext cx="6400800" cy="21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22800" y="227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6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arison of theory and simulation for different values of resistivity and viscosity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229280" cy="3149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102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05720" y="3200400"/>
            <a:ext cx="16761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334"/>
                </a:solidFill>
                <a:latin typeface="Times New Roman"/>
              </a:rPr>
              <a:t>The Spherical Tearing Mode: A fully 3D model of reconnection (with J. M. Greene and S. Hu)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e (1988) and Lau and Finn (1990): in 3D, topological configuration of great interest is one that has magnetic nulls with loops composed of field lines connecting the nulls.  There are two types of nulls, type A and type B, and they come in pair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ll-null lines are called separators, and these are analogous to closed field lines in toroidal plas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magnetosphere, these ideas were already represented in the vacuum superposition models of Dungey (1963), Cowley (1973), Stern (1973).  But a vacuum carries no current, and hence no spontaneous tearing instabilit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Scalingfig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17944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Scalingfig5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2629080"/>
          </a:xfrm>
          <a:prstGeom prst="rect">
            <a:avLst/>
          </a:prstGeom>
          <a:ln w="0">
            <a:noFill/>
          </a:ln>
        </p:spPr>
      </p:pic>
      <p:pic>
        <p:nvPicPr>
          <p:cNvPr id="203" name="LOGO7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alytical 3D spherical equilibrium with spherical separator containing two magnetic nulls</a:t>
            </a:r>
            <a:r>
              <a:rPr b="0" lang="en-US" sz="3600" spc="-1" strike="noStrike">
                <a:solidFill>
                  <a:srgbClr val="ff08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Scalingfig7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867280" cy="4279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304920"/>
            <a:ext cx="27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840" y="259092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Scalingfig8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608560" cy="222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7000" y="5029200"/>
            <a:ext cx="22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etrat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 t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79840" cy="458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56520" y="285840"/>
            <a:ext cx="71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reaking of the spherical tearing surface allows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eld lines to penetrate into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calingfig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669360" cy="3886200"/>
          </a:xfrm>
          <a:prstGeom prst="rect">
            <a:avLst/>
          </a:prstGeom>
          <a:ln w="0">
            <a:noFill/>
          </a:ln>
        </p:spPr>
      </p:pic>
      <p:pic>
        <p:nvPicPr>
          <p:cNvPr id="213" name="LOGO7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81d"/>
                </a:solidFill>
                <a:latin typeface="Times New Roman"/>
              </a:rPr>
              <a:t>Adaptive Mesh Refinement</a:t>
            </a:r>
            <a:endParaRPr b="0" lang="en-US" sz="28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1825560"/>
            <a:ext cx="3613320" cy="354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65760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257800" cy="4478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90720" y="4572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vidence of spherical tearing in a Global General Circulation Model (GGCM) simulation with northward IMF (with J. Dorelli and J. Rae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79840" cy="4581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20574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GCM picture including solar wind open field lines draping the Earth’s magne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0480" y="1066680"/>
            <a:ext cx="4043520" cy="2900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80876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81d"/>
                </a:solidFill>
                <a:latin typeface="Times New Roman"/>
              </a:rPr>
              <a:t>Effectiveness of AMR</a:t>
            </a:r>
            <a:endParaRPr b="0" lang="en-US" sz="36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480" y="1193760"/>
            <a:ext cx="40230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Example: 2D MHD/Hall MH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080" y="2097000"/>
            <a:ext cx="21726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fficiency of AM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51720" y="969840"/>
            <a:ext cx="2292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gh effective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8480" y="2760840"/>
            <a:ext cx="326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eve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 grid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 grid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70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8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460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0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686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5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45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0421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0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264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1631880"/>
                <a:tab algn="r" pos="32637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60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9672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3022560"/>
            <a:ext cx="358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920" y="5594400"/>
            <a:ext cx="52250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rid points in adaptive simulation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59661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rid points in non-adaptive simulation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687304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r" pos="522432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tio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0.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6600" y="6205680"/>
            <a:ext cx="548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600" y="6573960"/>
            <a:ext cx="548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6600" y="6510240"/>
            <a:ext cx="548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3011760" cy="2824200"/>
          </a:xfrm>
          <a:prstGeom prst="rect">
            <a:avLst/>
          </a:prstGeom>
          <a:ln w="0">
            <a:noFill/>
          </a:ln>
        </p:spPr>
      </p:pic>
      <p:pic>
        <p:nvPicPr>
          <p:cNvPr id="70" name="LOGO7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52800">
            <a:off x="5028480" y="2590560"/>
            <a:ext cx="34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OGO7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81d"/>
                </a:solidFill>
                <a:latin typeface="Times New Roman"/>
              </a:rPr>
              <a:t>Scaling on a model reconnection problem</a:t>
            </a:r>
            <a:endParaRPr b="0" lang="en-US" sz="3200" spc="-1" strike="noStrike">
              <a:solidFill>
                <a:srgbClr val="ff081d"/>
              </a:solidFill>
              <a:latin typeface="Times New Roman"/>
            </a:endParaRPr>
          </a:p>
        </p:txBody>
      </p:sp>
      <p:pic>
        <p:nvPicPr>
          <p:cNvPr id="74" name="scaling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106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CMRS: High-Performance Computing Tools 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gnetic Reconnection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RC), based on extended two-fluid (or Hall MHD) equations, in a parallel AMR framework (Flash, developed at U of 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IC, a fully electromagnetic 3D Particle-in-Cell (PIC)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RC is our principal workhorse and two-fluid equations capture important collisionless/kinetic effects.  Why did we need a PIC c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ized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 current sheets, embedded in the reconnection layer, are subject to instabilities that require kinetic theory for a complete description.  ExPIC is massively parallel and can do realistic electron-to-ion mass rat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28800" y="4343400"/>
                <a:ext cx="404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  <m:r>
                          <m:t xml:space="preserve">´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-Ñ· {</m:t>
                        </m:r>
                        <m:r>
                          <m:t xml:space="preserve">p</m:t>
                        </m:r>
                      </m:e>
                      <m:e/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What  did we originally propose to do with the MRC? And what have we done so far?(√)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pplications to astrophysical, fusion, and space 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wtooth oscillations in tokamaks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agnetotail substorms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-field studies in tokamaks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ophysical applications: galactic dynamo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ansport of magnetic flux to the galactic center </a:t>
            </a:r>
            <a:r>
              <a:rPr b="0" lang="en-US" sz="2000" spc="-1" strike="noStrike">
                <a:solidFill>
                  <a:srgbClr val="ff081d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081d"/>
                </a:solidFill>
                <a:latin typeface="Times New Roman"/>
              </a:rPr>
              <a:t>√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imulations of laboratory magnetic reconnection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P dynamo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we have not completed all the tasks in our original proposal, we have carried out a number of tasks that were not in our proposal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81d"/>
                </a:solidFill>
                <a:latin typeface="Times New Roman"/>
              </a:rPr>
              <a:t>What have we done so far also includes topics that are above and beyond what was proposed originally…. (marked in red)</a:t>
            </a:r>
            <a:endParaRPr b="0" lang="en-US" sz="2400" spc="-1" strike="noStrike">
              <a:solidFill>
                <a:srgbClr val="ff08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wtooth crashes in tokamaks (using two-field, four-field, and full two-fluid equations in slab and cylindrical geom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-field induced islands in tokam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aling of forced reconnection in the Taylor model (resistive and Hall MHD), with and without anomalous resis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Discovery of compressional wave-driven bursty reconnection in the Taylo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totail substorms: role of reconnection and ballooning instabilities at o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3D tearing instabilities involving nulls: discovery of the spherical tearing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Mathematical and computational solution of the Parker problem in coronal 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Investigation of finite-time vortex singularity in Navier-Stokes equations (“Millenium prize proble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of magnetic helicity in a turbulent astrophysical dyn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81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81d"/>
                </a:solidFill>
                <a:latin typeface="Times New Roman"/>
              </a:rPr>
              <a:t>Anisotropic MHD and electron MHD turbul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5:53:52Z</dcterms:created>
  <dc:creator>Trial User</dc:creator>
  <dc:description/>
  <dc:language>en-US</dc:language>
  <cp:lastModifiedBy>Trial User</cp:lastModifiedBy>
  <dcterms:modified xsi:type="dcterms:W3CDTF">2004-05-30T07:10:04Z</dcterms:modified>
  <cp:revision>16</cp:revision>
  <dc:subject/>
  <dc:title>CMRS: What have we accomplished so far?</dc:title>
</cp:coreProperties>
</file>