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55.jpeg" ContentType="image/jpeg"/>
  <Override PartName="/ppt/media/image50.jpeg" ContentType="image/jpeg"/>
  <Override PartName="/ppt/media/image40.png" ContentType="image/png"/>
  <Override PartName="/ppt/media/image46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2.pct" ContentType="image/x-pict"/>
  <Override PartName="/ppt/media/image45.png" ContentType="image/png"/>
  <Override PartName="/ppt/media/image51.jpeg" ContentType="image/jpeg"/>
  <Override PartName="/ppt/media/image43.png" ContentType="image/png"/>
  <Override PartName="/ppt/media/image53.jpeg" ContentType="image/jpeg"/>
  <Override PartName="/ppt/media/image52.jpeg" ContentType="image/jpeg"/>
  <Override PartName="/ppt/media/image8.png" ContentType="image/png"/>
  <Override PartName="/ppt/media/image14.jpeg" ContentType="image/jpeg"/>
  <Override PartName="/ppt/media/image48.jpeg" ContentType="image/jpeg"/>
  <Override PartName="/ppt/media/image54.jpeg" ContentType="image/jpeg"/>
  <Override PartName="/ppt/media/image37.jpeg" ContentType="image/jpeg"/>
  <Override PartName="/ppt/media/image30.png" ContentType="image/png"/>
  <Override PartName="/ppt/media/image10.png" ContentType="image/png"/>
  <Override PartName="/ppt/media/image47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41.pct" ContentType="image/x-pict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2EB-B10D-4A0B-B1F7-4B45C55D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AC2-0840-489B-B8B3-9B65189C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0AE-194A-40D5-A91E-A75463DA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27F-53C0-4FAA-9FC1-8AA38061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845-4E64-4C98-871E-575498E0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7C1-E773-4851-9183-C7334569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4B6-B769-4640-A2BA-4DE5337C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C49-4263-45D9-B92A-27F95D45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19D-1660-4BCD-BDC9-5AC9278B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399-F476-470B-A4E8-0FDDE904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0B2-CAD0-4C82-BB65-9653CF03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EA5-9E14-4A88-9420-23062E30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81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EBE2-E0A7-4900-A5AD-CBBA4E0CD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80880" y="304920"/>
            <a:ext cx="1533600" cy="569880"/>
            <a:chOff x="380880" y="304920"/>
            <a:chExt cx="1533600" cy="56988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380880" y="398880"/>
              <a:ext cx="45324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870480" y="304920"/>
              <a:ext cx="1044000" cy="41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a50021"/>
                  </a:solidFill>
                  <a:latin typeface="Garamond"/>
                </a:rPr>
                <a:t>The University 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Garamond"/>
                </a:rPr>
                <a:t>Chic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590920" y="304920"/>
            <a:ext cx="3429000" cy="409320"/>
          </a:xfrm>
          <a:prstGeom prst="rect">
            <a:avLst/>
          </a:prstGeom>
          <a:ln w="0">
            <a:noFill/>
          </a:ln>
        </p:spPr>
      </p:pic>
      <p:pic>
        <p:nvPicPr>
          <p:cNvPr id="9" name="uthead" descr=""/>
          <p:cNvPicPr/>
          <p:nvPr/>
        </p:nvPicPr>
        <p:blipFill>
          <a:blip r:embed="rId4"/>
          <a:stretch/>
        </p:blipFill>
        <p:spPr>
          <a:xfrm>
            <a:off x="6858000" y="304920"/>
            <a:ext cx="1523880" cy="554040"/>
          </a:xfrm>
          <a:prstGeom prst="rect">
            <a:avLst/>
          </a:prstGeom>
          <a:ln w="0">
            <a:noFill/>
          </a:ln>
        </p:spPr>
      </p:pic>
      <p:pic>
        <p:nvPicPr>
          <p:cNvPr id="10" name="LOGO7" descr=""/>
          <p:cNvPicPr/>
          <p:nvPr/>
        </p:nvPicPr>
        <p:blipFill>
          <a:blip r:embed="rId5"/>
          <a:stretch/>
        </p:blipFill>
        <p:spPr>
          <a:xfrm>
            <a:off x="4419720" y="57913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1" name="TOPS_logo_large" descr=""/>
          <p:cNvPicPr/>
          <p:nvPr/>
        </p:nvPicPr>
        <p:blipFill>
          <a:blip r:embed="rId6"/>
          <a:stretch/>
        </p:blipFill>
        <p:spPr>
          <a:xfrm>
            <a:off x="685800" y="5943600"/>
            <a:ext cx="1371600" cy="6890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7"/>
          <a:stretch/>
        </p:blipFill>
        <p:spPr>
          <a:xfrm>
            <a:off x="7162920" y="6019920"/>
            <a:ext cx="160020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42.pct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81d"/>
                </a:solidFill>
                <a:latin typeface="Times New Roman"/>
              </a:rPr>
              <a:t>Center for Magnetic Reconnection Studies: Final Report </a:t>
            </a:r>
            <a:endParaRPr b="0" lang="en-US" sz="36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297144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itava Bhattacharjee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829b3"/>
                </a:solidFill>
                <a:latin typeface="Times New Roman"/>
              </a:rPr>
              <a:t>Institute for the Study of Earth, Oceans, and Space University of New Hampsh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ACI PAC, Princeton, June 3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598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81d"/>
                </a:solidFill>
                <a:latin typeface="Times New Roman"/>
              </a:rPr>
              <a:t>SciDAC TOPS-CMRS collaboration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981080"/>
            <a:ext cx="845028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520" bIns="6552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RS team has provided TOPS with model 2D multicomponent MHD evolution code, and explicit 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PS has implemented fully nonlinearly implicit GMRES-MG-ILU parallel 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TS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s FormFunctionLocal format using DMMG and automatic differentiation for Jacobian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RS and TOPS reproduce the same dynamics on the same grids with the same time-ste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 to a finite-time singularity due to collapse of current sheet (further dynamics falls below present uniform mesh resolu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PS code, being implicit, can choose timesteps an order of magnitude larger, with potential for higher ratio in more physically realistic parameter regim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ut is still slower in wall-clock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81d"/>
                </a:solidFill>
                <a:latin typeface="Times New Roman"/>
              </a:rPr>
              <a:t>Interrelationship between fusion, space, and astrophysical plasmas</a:t>
            </a:r>
            <a:endParaRPr b="0" lang="en-US" sz="32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n example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00200" y="2514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5335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57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81d"/>
                </a:solidFill>
                <a:latin typeface="Times New Roman"/>
              </a:rPr>
              <a:t>Impulsive Reconnection: The Trigger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066680"/>
            <a:ext cx="845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s exhibits an impulsiveness, that is, a sudden change in the time-derivative of the growth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438280"/>
            <a:ext cx="7810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gnetic configuration evolves slowly for a long period of time, only to undergo a sudden dynamical change over a much shorter period of tim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s is characterized by the formation of near-singular current and vortex sheets in finite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0384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502920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29b3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wtooth oscillations in tokam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ospheric subst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ive solar and stellar f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81d"/>
                </a:solidFill>
                <a:latin typeface="Times New Roman"/>
              </a:rPr>
              <a:t>Sawtooth crash in tokamaks (Yamada et al. 1994)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0384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639040" cy="3601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09680" y="114300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1066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81d"/>
                </a:solidFill>
                <a:latin typeface="Times New Roman"/>
              </a:rPr>
              <a:t>Magnetospheric Subst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3886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Disruption in the Near-Earth Magnetotail</a:t>
            </a:r>
            <a:r>
              <a:rPr b="0" lang="en-US" sz="3600" spc="-1" strike="noStrike">
                <a:solidFill>
                  <a:srgbClr val="ff08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htani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257800" cy="3048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350160" y="573264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2ae"/>
                </a:solidFill>
                <a:latin typeface="Times New Roman"/>
              </a:rPr>
              <a:t>Ohtani et al. 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olar corona</a:t>
            </a: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7920" cy="1085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3640" y="52642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6019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6160" y="1219320"/>
            <a:ext cx="22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Beijing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21666" r="0" b="0"/>
          <a:stretch/>
        </p:blipFill>
        <p:spPr>
          <a:xfrm>
            <a:off x="1828800" y="1828800"/>
            <a:ext cx="4572000" cy="3581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70600" y="579132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Beijing"/>
              </a:rPr>
              <a:t>http://uk.cambridge.org/assets/astronomy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Beijing"/>
              </a:rPr>
              <a:t>encyclopedias/Fig5_28.j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81d"/>
                </a:solidFill>
                <a:latin typeface="Times New Roman"/>
              </a:rPr>
              <a:t>Impulsive solar/stellar flares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316320" y="1471680"/>
            <a:ext cx="25113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ierarchy of collisionless reconnection models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2440" y="175248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eijing"/>
              </a:rPr>
              <a:t>3D Hall cylindrical M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2800" y="2743200"/>
            <a:ext cx="24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eijing"/>
              </a:rPr>
              <a:t>Four-Field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Beij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819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Hazeltine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. 1987, Aydemir 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58040" y="220968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Variables: magnetic field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B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, velocity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v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, pressure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56600" y="3581280"/>
            <a:ext cx="65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Variables: magnetic potential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, stream function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parallel speed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v,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pressure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160" y="4495680"/>
            <a:ext cx="24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eijing"/>
              </a:rPr>
              <a:t>Two-Field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Beij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3680" y="457200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Porcelli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.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80640" y="5257800"/>
            <a:ext cx="63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Variables: magnetic potential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, stream function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3680" y="1752480"/>
            <a:ext cx="37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with generalized Ohm'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360" y="21333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ersity of New Hampshire: A. Bhattacharjee (PI and Director), N. Bessho, K. Germaschewski,  J. Maron, C. S. Ng, P. Zh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ersity of Iowa: B. Chandran, L.-J. Chen, Z. W. Ma, J. M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ersity of Chicago: R. Rosner (PI), T. Linde, L. Malyshkin, A. Sie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ersity of Texas at Austin: R. Fitzpatrick (PI), F. Waelbroeck, P. Wat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PS collaborators  : D. Keyes, F. Dobrian, B.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81d"/>
                </a:solidFill>
                <a:latin typeface="Times New Roman"/>
              </a:rPr>
              <a:t>CMRS: Interdisciplinary group drawn from applied mathematics, astrophysics, computer science, fluid dynamics, plasma physics, and space science communities (supported also by DOE/ASCI, NASA, NSF)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ff08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Resolving the current sheet</a:t>
            </a:r>
            <a:endParaRPr b="0" lang="en-US" sz="2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3880" y="1609560"/>
            <a:ext cx="1029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09920" y="1971720"/>
            <a:ext cx="3265560" cy="3201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52320" y="1962000"/>
            <a:ext cx="3265560" cy="3200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248520" y="3124080"/>
            <a:ext cx="2612880" cy="244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315200" y="5638680"/>
            <a:ext cx="4525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z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666880" y="3124080"/>
            <a:ext cx="2613240" cy="2446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33920" y="5638680"/>
            <a:ext cx="4518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z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5226120" cy="3427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62520" y="4952880"/>
            <a:ext cx="997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048120"/>
            <a:ext cx="10126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sland 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1960560" cy="1920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781680" y="3657600"/>
            <a:ext cx="1960560" cy="1920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58000" y="1143000"/>
            <a:ext cx="2021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agneti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flux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8600" y="843120"/>
            <a:ext cx="3382920" cy="3162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94440" y="987480"/>
            <a:ext cx="3687480" cy="2593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37280" y="3927600"/>
            <a:ext cx="3654360" cy="2570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69880" y="336600"/>
            <a:ext cx="8143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 =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12120" y="4084560"/>
            <a:ext cx="18072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20480" y="684360"/>
            <a:ext cx="6624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c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73760" y="3624120"/>
            <a:ext cx="7304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143000"/>
            <a:ext cx="80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a32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52a329"/>
                </a:solidFill>
                <a:latin typeface="Times New Roman"/>
                <a:ea typeface="Times New Roman"/>
              </a:rPr>
              <a:t>Aydemir’s four-field simulations (1992)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 of electron pressure gradient in the generalized Ohm’s law causes near-explosive nonlinear growth of m=1 isl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5960" y="126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Aydemir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267080" cy="3733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wtooth Oscillations in Tokamaks</a:t>
            </a:r>
            <a:br>
              <a:rPr sz="2400"/>
            </a:br>
            <a:endParaRPr b="0" lang="en-US" sz="2400" spc="-1" strike="noStrike">
              <a:solidFill>
                <a:srgbClr val="ff081d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3280" y="801720"/>
            <a:ext cx="1886040" cy="1768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80000" y="825480"/>
            <a:ext cx="1886040" cy="1768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631960" y="814320"/>
            <a:ext cx="1886040" cy="1768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89160" y="2266920"/>
            <a:ext cx="1744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sistive MH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0680" y="2525760"/>
            <a:ext cx="6951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=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31960" y="2548080"/>
            <a:ext cx="693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=4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91160" y="2558880"/>
            <a:ext cx="9936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=6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9400" y="112680"/>
            <a:ext cx="522504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oloidal velocity streamlines, V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color cod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67560" y="4500720"/>
            <a:ext cx="1201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all MH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90680" y="3038400"/>
            <a:ext cx="1887480" cy="1768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668840" y="3062160"/>
            <a:ext cx="1886040" cy="1768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622600" y="3049560"/>
            <a:ext cx="1886040" cy="1768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03280" y="4795920"/>
            <a:ext cx="693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=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44920" y="4842000"/>
            <a:ext cx="6951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=2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03760" y="4851360"/>
            <a:ext cx="6951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=3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73880" cy="5186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60880" y="2575080"/>
            <a:ext cx="123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2514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fluid (or Hall MH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418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ive M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1371600"/>
            <a:ext cx="2133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me-hist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60948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29b3"/>
                </a:solidFill>
                <a:latin typeface="Times New Roman"/>
              </a:rPr>
              <a:t>MRC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3444840" cy="684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362320" cy="1710000"/>
          </a:xfrm>
          <a:prstGeom prst="rect">
            <a:avLst/>
          </a:prstGeom>
          <a:ln w="0">
            <a:noFill/>
          </a:ln>
        </p:spPr>
      </p:pic>
      <p:pic>
        <p:nvPicPr>
          <p:cNvPr id="172" name="Ohtani" descr=""/>
          <p:cNvPicPr/>
          <p:nvPr/>
        </p:nvPicPr>
        <p:blipFill>
          <a:blip r:embed="rId3"/>
          <a:stretch/>
        </p:blipFill>
        <p:spPr>
          <a:xfrm>
            <a:off x="5410080" y="1066680"/>
            <a:ext cx="3048120" cy="1933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5880" y="609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79680" y="67788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2ae"/>
                </a:solidFill>
                <a:latin typeface="Times New Roman"/>
              </a:rPr>
              <a:t>Observations (Ohtani et al.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358128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2ae"/>
                </a:solidFill>
                <a:latin typeface="Times New Roman"/>
              </a:rPr>
              <a:t>Hall MHD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609588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Cluster observations: Mouikis et al.,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8120" y="152280"/>
            <a:ext cx="33177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all MHD Ballooning Instabilities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8672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termediate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Regime for Instability: Compressional Stability at High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7626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6553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81d"/>
                </a:solidFill>
                <a:latin typeface="Times New Roman"/>
              </a:rPr>
              <a:t>CMRS: What have we accomplished on the computing front?</a:t>
            </a:r>
            <a:endParaRPr b="0" lang="en-US" sz="2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Principal Computational Deliverabl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agnetic Reconnection Code (MRC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developed the world’s first two-fluid (or Hall MHD) code in an Adaptive Mesh Refinement (AMR) framework.  Its attribut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lly 3D code which integrates two-fluid/Hall MHD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vely parallel with Adaptive Mesh Refinement (AM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: slab (2002) and cylindrical/toroidal (2004) (with AMR in the radial dir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boundary conditions: free as well as forced reconnection  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 for equations of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r code, with the flexibility to change algorithms if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performs and scale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 defined by FLASH---developed by active collaboration with computer scient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an be used for diverse applications, not just magnetic re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380880" y="2819520"/>
          <a:ext cx="3886200" cy="106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19520"/>
                    <a:ext cx="3886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876920" y="2819520"/>
          <a:ext cx="3200400" cy="1066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819520"/>
                    <a:ext cx="32004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00480" y="1219320"/>
            <a:ext cx="82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rge but finite ky ballooning modes from initial-value stud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owards a nonlinear theory of ballooning and tests of “deto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odel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Dependence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6392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ossible Scenario of Substorm Onset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ear-Earth Ballooning Instability Induced by Current Sheet Thinning and/or Reconnection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6791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81d"/>
                </a:solidFill>
                <a:latin typeface="Times New Roman"/>
              </a:rPr>
              <a:t>Error-field induced reconnection in tokamaks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2743200"/>
            <a:ext cx="6400800" cy="21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22800" y="227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963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arison of theory and simulation for different values of resistivity and viscosity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4229280" cy="3149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010280" y="31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705720" y="3200400"/>
            <a:ext cx="167616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334"/>
                </a:solidFill>
                <a:latin typeface="Times New Roman"/>
              </a:rPr>
              <a:t>The Spherical Tearing Mode: A fully 3D model of reconnection (with J. M. Greene and S. Hu)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ne (1988) and Lau and Finn (1990): in 3D, topological configuration of great interest is one that has magnetic nulls with loops composed of field lines connecting the nulls.  There are two types of nulls, type A and type B, and they come in pair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ll-null lines are called separators, and these are analogous to closed field lines in toroidal plas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magnetosphere, these ideas were already represented in the vacuum superposition models of Dungey (1963), Cowley (1973), Stern (1973).  But a vacuum carries no current, and hence no spontaneous tearing instability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Scalingfig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2179440" cy="2590920"/>
          </a:xfrm>
          <a:prstGeom prst="rect">
            <a:avLst/>
          </a:prstGeom>
          <a:ln w="0">
            <a:noFill/>
          </a:ln>
        </p:spPr>
      </p:pic>
      <p:pic>
        <p:nvPicPr>
          <p:cNvPr id="202" name="Scalingfig5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4876920" cy="2629080"/>
          </a:xfrm>
          <a:prstGeom prst="rect">
            <a:avLst/>
          </a:prstGeom>
          <a:ln w="0">
            <a:noFill/>
          </a:ln>
        </p:spPr>
      </p:pic>
      <p:pic>
        <p:nvPicPr>
          <p:cNvPr id="203" name="LOGO7" descr=""/>
          <p:cNvPicPr/>
          <p:nvPr/>
        </p:nvPicPr>
        <p:blipFill>
          <a:blip r:embed="rId3"/>
          <a:stretch/>
        </p:blipFill>
        <p:spPr>
          <a:xfrm>
            <a:off x="0" y="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nalytical 3D spherical equilibrium with spherical separator containing two magnetic nulls</a:t>
            </a:r>
            <a:r>
              <a:rPr b="0" lang="en-US" sz="3600" spc="-1" strike="noStrike">
                <a:solidFill>
                  <a:srgbClr val="ff08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081d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Scalingfig7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867280" cy="42796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" y="304920"/>
            <a:ext cx="27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table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0840" y="2590920"/>
            <a:ext cx="22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perturb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Scalingfig8" descr=""/>
          <p:cNvPicPr/>
          <p:nvPr/>
        </p:nvPicPr>
        <p:blipFill>
          <a:blip r:embed="rId2"/>
          <a:stretch/>
        </p:blipFill>
        <p:spPr>
          <a:xfrm>
            <a:off x="6095880" y="4114800"/>
            <a:ext cx="2608560" cy="22287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7000" y="5029200"/>
            <a:ext cx="220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etrating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ical t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79840" cy="4581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56520" y="285840"/>
            <a:ext cx="715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reaking of the spherical tearing surface allows exter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eld lines to penetrate into the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Scalingfig6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6669360" cy="3886200"/>
          </a:xfrm>
          <a:prstGeom prst="rect">
            <a:avLst/>
          </a:prstGeom>
          <a:ln w="0">
            <a:noFill/>
          </a:ln>
        </p:spPr>
      </p:pic>
      <p:pic>
        <p:nvPicPr>
          <p:cNvPr id="213" name="LOGO7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81d"/>
                </a:solidFill>
                <a:latin typeface="Times New Roman"/>
              </a:rPr>
              <a:t>Adaptive Mesh Refinement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24280" y="1825560"/>
            <a:ext cx="3613320" cy="354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65760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257800" cy="4478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90720" y="4572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vidence of spherical tearing in a Global General Circulation Model (GGCM) simulation with northward IMF (with J. Dorelli and J. Rae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379840" cy="4581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205740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GCM picture including solar wind open field lines draping the Earth’s magnet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00480" y="1066680"/>
            <a:ext cx="4043520" cy="29005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80876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81d"/>
                </a:solidFill>
                <a:latin typeface="Times New Roman"/>
              </a:rPr>
              <a:t>Effectiveness of AMR</a:t>
            </a:r>
            <a:endParaRPr b="0" lang="en-US" sz="36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1480" y="1193760"/>
            <a:ext cx="402300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Example: 2D MHD/Hall MH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5080" y="2097000"/>
            <a:ext cx="217260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fficiency of AM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51720" y="969840"/>
            <a:ext cx="2292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igh effective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8480" y="2760840"/>
            <a:ext cx="32644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r" pos="1631880"/>
                <a:tab algn="r" pos="32637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eve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 grid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 grid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1631880"/>
                <a:tab algn="r" pos="32637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70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1631880"/>
                <a:tab algn="r" pos="32637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8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460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1631880"/>
                <a:tab algn="r" pos="32637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0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686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1631880"/>
                <a:tab algn="r" pos="32637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5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5453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1631880"/>
                <a:tab algn="r" pos="32637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97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0421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1631880"/>
                <a:tab algn="r" pos="32637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04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9264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1631880"/>
                <a:tab algn="r" pos="32637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60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9672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1520" y="3022560"/>
            <a:ext cx="358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8920" y="5594400"/>
            <a:ext cx="52250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r" pos="52243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rid points in adaptive simulation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59661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52243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rid points in non-adaptive simulation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687304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52243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tio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0.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6600" y="6205680"/>
            <a:ext cx="548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6600" y="6573960"/>
            <a:ext cx="548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6600" y="6510240"/>
            <a:ext cx="5484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67280" y="3809880"/>
            <a:ext cx="3011760" cy="2824200"/>
          </a:xfrm>
          <a:prstGeom prst="rect">
            <a:avLst/>
          </a:prstGeom>
          <a:ln w="0">
            <a:noFill/>
          </a:ln>
        </p:spPr>
      </p:pic>
      <p:pic>
        <p:nvPicPr>
          <p:cNvPr id="70" name="LOGO7" descr=""/>
          <p:cNvPicPr/>
          <p:nvPr/>
        </p:nvPicPr>
        <p:blipFill>
          <a:blip r:embed="rId3"/>
          <a:stretch/>
        </p:blipFill>
        <p:spPr>
          <a:xfrm>
            <a:off x="0" y="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10852800">
            <a:off x="5028480" y="2590560"/>
            <a:ext cx="347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LOGO7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81d"/>
                </a:solidFill>
                <a:latin typeface="Times New Roman"/>
              </a:rPr>
              <a:t>Scaling on a model reconnection problem</a:t>
            </a:r>
            <a:endParaRPr b="0" lang="en-US" sz="32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74" name="scaling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0106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81d"/>
                </a:solidFill>
                <a:latin typeface="Times New Roman"/>
              </a:rPr>
              <a:t>CMRS: High-Performance Computing Tools </a:t>
            </a:r>
            <a:endParaRPr b="0" lang="en-US" sz="2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gnetic Reconnection 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MRC), based on extended two-fluid (or Hall MHD) equations, in a parallel AMR framework (Flash, developed at U of 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IC, a fully electromagnetic 3D Particle-in-Cell (PIC)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RC is our principal workhorse and two-fluid equations capture important collisionless/kinetic effects.  Why did we need a PIC co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lized Ohm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n current sheets, embedded in the reconnection layer, are subject to instabilities that require kinetic theory for a complete description.  ExPIC is massively parallel and can do realistic electron-to-ion mass rat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828800" y="4343400"/>
                <a:ext cx="404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J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f>
                      <m:num>
                        <m:r>
                          <m:t xml:space="preserve">d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  <m:r>
                          <m:t xml:space="preserve">´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-Ñ· {</m:t>
                        </m:r>
                        <m:r>
                          <m:t xml:space="preserve">p</m:t>
                        </m:r>
                      </m:e>
                      <m:e/>
                      <m:e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81d"/>
                </a:solidFill>
                <a:latin typeface="Times New Roman"/>
              </a:rPr>
              <a:t>What  did we originally propose to do with the MRC? And what have we done so far?(√)</a:t>
            </a:r>
            <a:endParaRPr b="0" lang="en-US" sz="2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pplications to astrophysical, fusion, and space plas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wtooth oscillations in tokamaks</a:t>
            </a:r>
            <a:r>
              <a:rPr b="0" lang="en-US" sz="2000" spc="-1" strike="noStrike">
                <a:solidFill>
                  <a:srgbClr val="ff081d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ff081d"/>
                </a:solidFill>
                <a:latin typeface="Times New Roman"/>
              </a:rPr>
              <a:t>√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magnetotail substorms </a:t>
            </a:r>
            <a:r>
              <a:rPr b="0" lang="en-US" sz="2000" spc="-1" strike="noStrike">
                <a:solidFill>
                  <a:srgbClr val="ff081d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ff081d"/>
                </a:solidFill>
                <a:latin typeface="Times New Roman"/>
              </a:rPr>
              <a:t>√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-field studies in tokamaks </a:t>
            </a:r>
            <a:r>
              <a:rPr b="0" lang="en-US" sz="2000" spc="-1" strike="noStrike">
                <a:solidFill>
                  <a:srgbClr val="ff081d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ff081d"/>
                </a:solidFill>
                <a:latin typeface="Times New Roman"/>
              </a:rPr>
              <a:t>√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rophysical applications: galactic dynamo </a:t>
            </a:r>
            <a:r>
              <a:rPr b="0" lang="en-US" sz="2000" spc="-1" strike="noStrike">
                <a:solidFill>
                  <a:srgbClr val="ff081d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ff081d"/>
                </a:solidFill>
                <a:latin typeface="Times New Roman"/>
              </a:rPr>
              <a:t>√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ransport of magnetic flux to the galactic center </a:t>
            </a:r>
            <a:r>
              <a:rPr b="0" lang="en-US" sz="2000" spc="-1" strike="noStrike">
                <a:solidFill>
                  <a:srgbClr val="ff081d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ff081d"/>
                </a:solidFill>
                <a:latin typeface="Times New Roman"/>
              </a:rPr>
              <a:t>√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imulations of laboratory magnetic reconnection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FP dynamo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we have not completed all the tasks in our original proposal, we have carried out a number of tasks that were not in our proposal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81d"/>
                </a:solidFill>
                <a:latin typeface="Times New Roman"/>
              </a:rPr>
              <a:t>What have we done so far also includes topics that are above and beyond what was proposed originally…. (marked in red)</a:t>
            </a:r>
            <a:endParaRPr b="0" lang="en-US" sz="2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wtooth crashes in tokamaks (using two-field, four-field, and full two-fluid equations in slab and cylindrical geomet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or-field induced islands in tokama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aling of forced reconnection in the Taylor model (resistive and Hall MHD), with and without anomalous resis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81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81d"/>
                </a:solidFill>
                <a:latin typeface="Times New Roman"/>
              </a:rPr>
              <a:t>Discovery of compressional wave-driven bursty reconnection in the Taylor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gnetotail substorms: role of reconnection and ballooning instabilities at o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81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81d"/>
                </a:solidFill>
                <a:latin typeface="Times New Roman"/>
              </a:rPr>
              <a:t>3D tearing instabilities involving nulls: discovery of the spherical tearing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81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81d"/>
                </a:solidFill>
                <a:latin typeface="Times New Roman"/>
              </a:rPr>
              <a:t>Mathematical and computational solution of the Parker problem in coronal phy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81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81d"/>
                </a:solidFill>
                <a:latin typeface="Times New Roman"/>
              </a:rPr>
              <a:t>Investigation of finite-time vortex singularity in Navier-Stokes equations (“Millenium prize problem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wth of magnetic helicity in a turbulent astrophysical dyn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81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81d"/>
                </a:solidFill>
                <a:latin typeface="Times New Roman"/>
              </a:rPr>
              <a:t>Anisotropic MHD and electron MHD turbul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8T15:53:52Z</dcterms:created>
  <dc:creator>Trial User</dc:creator>
  <dc:description/>
  <dc:language>en-US</dc:language>
  <cp:lastModifiedBy>Trial User</cp:lastModifiedBy>
  <dcterms:modified xsi:type="dcterms:W3CDTF">2004-05-30T07:10:04Z</dcterms:modified>
  <cp:revision>16</cp:revision>
  <dc:subject/>
  <dc:title>CMRS: What have we accomplished so far?</dc:title>
</cp:coreProperties>
</file>