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493-0FB3-4200-A616-1ED5E364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4F9-B50F-4F19-A322-59F30F6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2AF-9616-4DF3-9256-D4F59E86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819-164E-49BD-90F2-01D45428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2A6-298D-4DD3-8613-049340DE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E8E-98EC-45DE-AC7A-FA56379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095-923D-4D89-955D-C3E7E2E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B7A-C1D0-411A-A352-45D742F6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9FC-B20B-4701-B0AA-EDA6D4B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33F-562F-4E80-95DD-34E072E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99C-C695-42BA-A9DA-A4DB30A8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868-6272-4B26-A764-34A6084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A7B3-714B-4C0A-A0AE-8DE772AA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most important scientific results over the 3 years:</a:t>
            </a:r>
            <a:br>
              <a:rPr sz="2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not in order of impor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s of the current hole phenom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C. Stratton, J.A. Breslau, R.V. Budny, et al, “The Role of axisymmetric Reconnection Events in JET Discharges with Extreme Shear Reversal”, Plasma Phys. Control.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1127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A. Breslau, S. C. Jardin, and W. Park, “Simulation Studies of the Role of Reconnection in the “Current Hole” experiments in JET”, Phys. Plasmas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665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 Park, J. A. Breslau, J. Chen, et al, “Nonlinear Simulation Studies of Tokamaks and STs”, Nuclear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483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ion of the Richtmyer-Meshkov instability by a magneti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Samtaney, “Suppression of the Richtmyer-Meshkov Instability in the Presence of a Magnetic Field”, Phys. Fluids, 15, L53-L56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magnetic stabilization of MHD modes and enhanced reconnection in stella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 Strauss, G. Fu, W. Park, et al, “Nonlinear MHD and Energetic Particle Modes in Stellarators”, IAEA-CN-94/TH/P2-12 (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AEA Fusion Energy Conf. Lyon, Fr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E. Sugiyama, H. R. Strauss, W. Park, G.Y. Fu, et al, “Two-fluid limits on stellarator performance”  Explanation of three stellarator puzzles and comparison to axisymmetric plasmas, “submitted to IAEA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-principles calculation of a tokamak thermal qu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E. Kruger, D. D. Schnack, D. P. Brennan, T. A. Gianakon, and C. R. Sovinec, “Nonlinear MHD dynamics of tokamak plasmas on multiple time scales”, submitted to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D. Held, J. D. Callen, C. C. Hegna, et al, “Non-local closures for plasma fluid simulations”, Phys. Plasm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19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D and energy transport in S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H. Cohen, H. L. Berk, B. I. Cohen, et al, “Theoretical investigation of field-line quality in a driven spheromak”, Nuclear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220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A. Cone and C.R. Sovinec, “Controlled ramp-down of decaying spheromak plasmas”, Bull. Am. Phys. Soc. 48, 152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5383" t="0" r="0" b="0"/>
          <a:stretch/>
        </p:blipFill>
        <p:spPr>
          <a:xfrm>
            <a:off x="7238880" y="2438280"/>
            <a:ext cx="144792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315200" y="3505320"/>
          <a:ext cx="1219320" cy="91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3505320"/>
                    <a:ext cx="1219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91520" y="4495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238880" y="5487840"/>
            <a:ext cx="14241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the role of Advanced Comput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projects in our center make use of advance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MM center used over 6,000,000 NERSC node-hours in FY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288, mp21, mp94, mp290, m127, m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have we learned from the IS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confirmed that high order (3-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inite elements are a big win for fusion MH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st for highly anisotropic heat co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smaller matrices for same accuracy, making an implicit time advance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 Refinement is a powerful tool for some transient problems with a range of space sca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’s usefulness for slow-growing MHD modes has not been demonst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valuable to have multiple, interoperable linear solver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specially true now that the Cray-X1 is in the mix of architectures available to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progress limited by computing power or by algorith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our new applications will be resource limi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vailable determine the allowed reso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 turn determines what range of physical parameters can be realistically mode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ever, our model extension activities require better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3:14:06Z</dcterms:created>
  <dc:creator>Stephen Jardin</dc:creator>
  <dc:description/>
  <dc:language>en-US</dc:language>
  <cp:lastModifiedBy>Stephen Jardin</cp:lastModifiedBy>
  <dcterms:modified xsi:type="dcterms:W3CDTF">2004-06-04T12:37:00Z</dcterms:modified>
  <cp:revision>7</cp:revision>
  <dc:subject/>
  <dc:title>3-5 most important scientific results over the 3 yea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4391813</vt:r8>
  </property>
  <property fmtid="{D5CDD505-2E9C-101B-9397-08002B2CF9AE}" pid="3" name="_AuthorEmail">
    <vt:lpwstr>sjardin@pppl.gov</vt:lpwstr>
  </property>
  <property fmtid="{D5CDD505-2E9C-101B-9397-08002B2CF9AE}" pid="4" name="_AuthorEmailDisplayName">
    <vt:lpwstr>Stephen C. Jardin</vt:lpwstr>
  </property>
  <property fmtid="{D5CDD505-2E9C-101B-9397-08002B2CF9AE}" pid="5" name="_EmailSubject">
    <vt:lpwstr>today's presentations</vt:lpwstr>
  </property>
</Properties>
</file>