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DEF-FDC8-4AA6-B852-6E2D879C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69E-9271-451A-A528-AC71C748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511-0A57-49BE-9DF5-C9BED94C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E09-7B6A-4CDF-B5AF-1BA5A73E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A66-E6A3-4950-BEC3-1D1467B6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259-F9D5-4451-83EF-56E76053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CE5-105D-41C0-BEF8-D94AAC7C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170-1DB2-473D-8813-2B2F9423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8B9-45E4-46BF-94B0-559A03A1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CE9-FFAC-453D-85E8-14FFB53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717-DD7E-41CB-B4C4-1899781B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2F6-88F1-4689-8408-0FAE1E9B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899D-0B94-40FC-8505-F5DB81E1B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 most important scientific results over the 3 years:</a:t>
            </a:r>
            <a:br>
              <a:rPr sz="2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not in order of impor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s of the current hole phenom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C. Stratton, J.A. Breslau, R.V. Budny, et al, “The Role of axisymmetric Reconnection Events in JET Discharges with Extreme Shear Reversal”, Plasma Phys. Control. Fusi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1127 (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A. Breslau, S. C. Jardin, and W. Park, “Simulation Studies of the Role of Reconnection in the “Current Hole” experiments in JET”, Phys. Plasmas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665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. Park, J. A. Breslau, J. Chen, et al, “Nonlinear Simulation Studies of Tokamaks and STs”, Nuclear Fusi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483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ion of the Richtmyer-Meshkov instability by a magnetic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 Samtaney, “Suppression of the Richtmyer-Meshkov Instability in the Presence of a Magnetic Field”, Phys. Fluids, 15, L53-L56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magnetic stabilization of MHD modes and enhanced reconnection in stella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 Strauss, G. Fu, W. Park, et al, “Nonlinear MHD and Energetic Particle Modes in Stellarators”, IAEA-CN-94/TH/P2-12 (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AEA Fusion Energy Conf. Lyon, Fr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E. Sugiyama, H. R. Strauss, W. Park, G.Y. Fu, et al, “Two-fluid limits on stellarator performance”  Explanation of three stellarator puzzles and comparison to axisymmetric plasmas, “submitted to IAEA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-principles calculation of a tokamak thermal que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E. Kruger, D. D. Schnack, D. P. Brennan, T. A. Gianakon, and C. R. Sovinec, “Nonlinear MHD dynamics of tokamak plasmas on multiple time scales”, submitted to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D. Held, J. D. Callen, C. C. Hegna, et al, “Non-local closures for plasma fluid simulations”, Phys. Plasm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19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D and energy transport in S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 H. Cohen, H. L. Berk, B. I. Cohen, et al, “Theoretical investigation of field-line quality in a driven spheromak”, Nuclear Fusi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220 (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A. Cone and C.R. Sovinec, “Controlled ramp-down of decaying spheromak plasmas”, Bull. Am. Phys. Soc. 48, 152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5383" t="0" r="0" b="0"/>
          <a:stretch/>
        </p:blipFill>
        <p:spPr>
          <a:xfrm>
            <a:off x="7238880" y="2438280"/>
            <a:ext cx="1447920" cy="10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315200" y="3505320"/>
          <a:ext cx="1219320" cy="915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3505320"/>
                    <a:ext cx="12193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91520" y="4495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238880" y="5487840"/>
            <a:ext cx="14241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is the role of Advanced Comput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projects in our center make use of advanced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MM center used over 6,000,000 NERSC node-hours in FY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288, mp21, mp94, mp290, m127, m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at have we learned from the IS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been confirmed that high order (3-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inite elements are a big win for fusion MH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ust for highly anisotropic heat con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smaller matrices for same accuracy, making an implicit time advance 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esh Refinement is a powerful tool for some transient problems with a range of space sca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’s usefulness for slow-growing MHD modes has not been demonst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valuable to have multiple, interoperable linear solver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especially true now that the Cray-X1 is in the mix of architectures available to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progress limited by computing power or by algorith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our new applications will be resource limi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s available determine the allowed resolu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 turn determines what range of physical parameters can be realistically mode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ever, our model extension activities require better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3:14:06Z</dcterms:created>
  <dc:creator>Stephen Jardin</dc:creator>
  <dc:description/>
  <dc:language>en-US</dc:language>
  <cp:lastModifiedBy>Stephen Jardin</cp:lastModifiedBy>
  <dcterms:modified xsi:type="dcterms:W3CDTF">2004-06-04T12:37:00Z</dcterms:modified>
  <cp:revision>7</cp:revision>
  <dc:subject/>
  <dc:title>3-5 most important scientific results over the 3 yea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34391813</vt:r8>
  </property>
  <property fmtid="{D5CDD505-2E9C-101B-9397-08002B2CF9AE}" pid="3" name="_AuthorEmail">
    <vt:lpwstr>sjardin@pppl.gov</vt:lpwstr>
  </property>
  <property fmtid="{D5CDD505-2E9C-101B-9397-08002B2CF9AE}" pid="4" name="_AuthorEmailDisplayName">
    <vt:lpwstr>Stephen C. Jardin</vt:lpwstr>
  </property>
  <property fmtid="{D5CDD505-2E9C-101B-9397-08002B2CF9AE}" pid="5" name="_EmailSubject">
    <vt:lpwstr>today's presentations</vt:lpwstr>
  </property>
</Properties>
</file>