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1.jpeg" ContentType="image/jpeg"/>
  <Override PartName="/ppt/media/image19.pct" ContentType="image/x-pict"/>
  <Override PartName="/ppt/media/image17.pct" ContentType="image/x-pict"/>
  <Override PartName="/ppt/media/image15.pct" ContentType="image/x-pict"/>
  <Override PartName="/ppt/media/image14.png" ContentType="image/png"/>
  <Override PartName="/ppt/media/image24.pct" ContentType="image/x-pict"/>
  <Override PartName="/ppt/media/image1.pct" ContentType="image/x-pict"/>
  <Override PartName="/ppt/media/image31.pct" ContentType="image/x-pict"/>
  <Override PartName="/ppt/media/image28.pct" ContentType="image/x-pict"/>
  <Override PartName="/ppt/media/image2.jpeg" ContentType="image/jpeg"/>
  <Override PartName="/ppt/media/image13.pct" ContentType="image/x-pict"/>
  <Override PartName="/ppt/media/image41.pct" ContentType="image/x-pict"/>
  <Override PartName="/ppt/media/image10.pct" ContentType="image/x-pict"/>
  <Override PartName="/ppt/media/image40.pct" ContentType="image/x-pict"/>
  <Override PartName="/ppt/media/image39.pct" ContentType="image/x-pict"/>
  <Override PartName="/ppt/media/image9.pct" ContentType="image/x-pict"/>
  <Override PartName="/ppt/media/image26.pct" ContentType="image/x-pict"/>
  <Override PartName="/ppt/media/image12.pct" ContentType="image/x-pict"/>
  <Override PartName="/ppt/media/image33.pct" ContentType="image/x-pict"/>
  <Override PartName="/ppt/media/image38.pct" ContentType="image/x-pict"/>
  <Override PartName="/ppt/media/image8.pct" ContentType="image/x-pict"/>
  <Override PartName="/ppt/media/image35.pct" ContentType="image/x-pict"/>
  <Override PartName="/ppt/media/image42.pct" ContentType="image/x-pict"/>
  <Override PartName="/ppt/media/image43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32.pct" ContentType="image/x-pict"/>
  <Override PartName="/ppt/media/image5.png" ContentType="image/png"/>
  <Override PartName="/ppt/media/image16.pct" ContentType="image/x-pict"/>
  <Override PartName="/ppt/media/image18.pct" ContentType="image/x-pict"/>
  <Override PartName="/ppt/media/image20.pct" ContentType="image/x-pict"/>
  <Override PartName="/ppt/media/image34.pct" ContentType="image/x-pict"/>
  <Override PartName="/ppt/media/image7.png" ContentType="image/png"/>
  <Override PartName="/ppt/media/image37.png" ContentType="image/png"/>
  <Override PartName="/ppt/media/image4.pct" ContentType="image/x-pict"/>
  <Override PartName="/ppt/media/image27.pct" ContentType="image/x-pict"/>
  <Override PartName="/ppt/media/image30.pct" ContentType="image/x-pict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8B5-039B-47CB-9810-80D420E1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F8D-43A4-4E69-8560-9F611A35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G.2. 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of the perpendicular spectral density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a GTC simulation of the CYCLONE base case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 curve), from the early non-linear phase(red curve), and the late non-linear phase of the corresponding GYRO simulation.  For reference, the toroidal mode number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= 209 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(b) The perpendicular spectral density integrated ov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splayed as a  function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the same simulations and time interv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8E17-D907-493D-A720-0BB8AC525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IV.A.1.  (a) The radial correlation function from GYRO simulations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10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2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3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yan)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old). (b) The radial correlation function from GYRO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GYRO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GTC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PG3EQ (green) and GS2 (cyan).  For global simulations the radial correlation function is averaged over the interval 0.42 &lt; r/a &lt; 0.58 r/a, while it is averaged the entire radial domain in flux-tube simulations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9A51-8699-427B-85E8-75D465A6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E.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he transverse correlation function. (a) The transverse correlation function is plotted vs.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a sequence of GYRO simulations ha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yan)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old). (b) The transverse correlation function is plotted vs.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simulations of the CYCLONE base case using different codes, including a GYRO flux-tube simulation (black), a GYRO global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a GTC global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ue), a GTC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), a PG3EQ flux-tube simulation (cyan) and a GS2 flux-tube simulation (gol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B5BF-84D3-467D-8B04-8AF70A41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IV.D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Lagrangian correlation function v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Lagrangian correlation function evaluated a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 (the outboard mid-plane) and averaged ov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.42 &lt; r/a &lt; 0.5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for global simulations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ite) or over the entire radial domain (for flux-tube simulation w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Data from (a) a sequence of GYRO simulations ha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105 (red), 210 (blue), 375 (green), 500 (cyan) and 700 (yellow ); and (b) various PMP codes, including a GYRO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lack), GYRO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red), GTC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5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, PG3EQ (green) and GS2 (cy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D04-F775-4670-B325-5FE1D5D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E70-78C8-43B8-9055-90CE6376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296-9B8C-408D-BA7C-50E8D36D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EDF-4729-4494-90A2-0C520DDC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B67-E6C8-431E-95CB-FA0FE08A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0C0-8A7B-4E2D-BCF3-032B6429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838-6882-4ED1-8F38-937B5DB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122-2F4B-4A5F-89A4-C79CC14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021-9BC0-41E7-BEC3-ED9E82F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60C-58BD-40EF-8891-E493184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7E8-F468-4F70-A0CF-210CEE5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E22-4B0C-4777-BC99-61FEED5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2039-3AEA-40BC-899E-5791A5BA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ct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s2.sourceforge.net/" TargetMode="External"/><Relationship Id="rId2" Type="http://schemas.openxmlformats.org/officeDocument/2006/relationships/hyperlink" Target="http://gs2.sourceforge.net/" TargetMode="External"/><Relationship Id="rId3" Type="http://schemas.openxmlformats.org/officeDocument/2006/relationships/hyperlink" Target="http://gs2.sourceforge.net/" TargetMode="External"/><Relationship Id="rId4" Type="http://schemas.openxmlformats.org/officeDocument/2006/relationships/hyperlink" Target="http://fusion.gat.com/comp/parallel/gyro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las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turbulenc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6479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.M. Nevins 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 Microturbulence Projec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4768920"/>
            <a:ext cx="457200" cy="41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2208240"/>
            <a:ext cx="4419360" cy="221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857400">
            <a:off x="609480" y="4876560"/>
            <a:ext cx="99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2d"/>
                    </a:gs>
                  </a:gsLst>
                  <a:lin ang="5400000"/>
                </a:gradFill>
                <a:latin typeface="Impact"/>
              </a:rPr>
              <a:t>UC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2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934320" y="2666880"/>
            <a:ext cx="1676160" cy="65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620120" y="388620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CI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480" y="2529000"/>
            <a:ext cx="11430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315200" y="47307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195-F332-4D9A-9D4A-4084F89E242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alks at major meet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Candy, “Comprehensive Gyrokinetic Simulations of Turbulent Transport in DIII-D with the GYRO Code,” presented at the 44th Meeting of the Division of Plasma Phys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Candy, “GYRO Modeling of Anomalous Transport in Tokamaks,” presented at the International Sherwood Fusion Theory Con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Secondary instabilities in ETG Turbulence,” presented at the VII Easter Plasma Meeting, Tur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Collisionless plasma turbulence,” presented at the 29th Annual IoP Plasma Physics Group Confere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Gyrokinetic Turbulence in Magnetically Confined Plasmas,” presented at the European  Physical Society, Montreu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. Jenko, “Simulations of finite-beta turbulence in tokamaks and stellarators,” presented at the 19th IAEA Fusion Energy Conference, Lyon, Fr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.  Lin, S.  Ethier, T. S.  Hahm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, “Size Scaling of Turbulent Transport in Tokamak Plasmas,” presented at the 19th IAEA Fusion Energy Conference, Lyon, Fr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M. Nevins, “The Experiment/Theory Dialogue in the Age of Simulations,” presented at the 2002 Transport Task Force Meeting, Annapolis, M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I. Cohen, “ "Kinetic electron closures for electromagnetic simulation of drift and shear-Alfven waves"   [B.I. Cohen, et al., Phys. Plasmas 9, 1915 (2002).]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Numerical Simulations and Burning Plasma Concepts in 2004,” presented at the Fourth Symposium on Current Trends in International Fusion Research, Washington, 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. S. Hahm, “Gyrokinetic Simulation of Transport Scalings and Turbulent Structure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E. Waltz, “Gyrokinetic Turbulence Simulation of Profile Shear Stabilization and Broken GyroBohm Scaling,” presented at the 43rd Annual Meeting of the Division of Plasma Physics, Long Beach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4CD-47AC-4A47-A660-62B89D29857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Benchmarking Requ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Bars on our “Measuremen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7720" y="1828800"/>
            <a:ext cx="7634160" cy="380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7800" y="5767560"/>
            <a:ext cx="59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difference between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urves significa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359-6203-4EBD-9C5C-1540E7D98D0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 in the Estimate of  the M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short detour into statis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80920" y="2819520"/>
                <a:ext cx="228780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º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º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º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»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»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r>
                              <m:t xml:space="preserve">dt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13320" y="22096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8840" y="2286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962520" y="2666880"/>
                <a:ext cx="309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76920" y="3378240"/>
                <a:ext cx="241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4038480"/>
                <a:ext cx="1117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3729600" y="3962520"/>
            <a:ext cx="4758840" cy="2171520"/>
            <a:chOff x="3729600" y="3962520"/>
            <a:chExt cx="4758840" cy="2171520"/>
          </a:xfrm>
        </p:grpSpPr>
        <p:sp>
          <p:nvSpPr>
            <p:cNvPr id="102" name=""/>
            <p:cNvSpPr/>
            <p:nvPr/>
          </p:nvSpPr>
          <p:spPr>
            <a:xfrm>
              <a:off x="3729600" y="4784760"/>
              <a:ext cx="475884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eal data has “trends” which must 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emoved from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339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dded back to our error estimate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(and I’m still not completely satisfied 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6095880" y="3962520"/>
                  <a:ext cx="17528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as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quares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C3F-C2E4-4723-86AE-7ED71931A3D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Comparisons (GYRO vs. GTC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of Heat Transport with Machin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11210" r="0" b="10335"/>
          <a:stretch/>
        </p:blipFill>
        <p:spPr>
          <a:xfrm>
            <a:off x="1052640" y="1752480"/>
            <a:ext cx="7038720" cy="4267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905120" y="3505320"/>
            <a:ext cx="4952880" cy="1828800"/>
            <a:chOff x="1905120" y="3505320"/>
            <a:chExt cx="4952880" cy="1828800"/>
          </a:xfrm>
        </p:grpSpPr>
        <p:sp>
          <p:nvSpPr>
            <p:cNvPr id="107" name=""/>
            <p:cNvSpPr/>
            <p:nvPr/>
          </p:nvSpPr>
          <p:spPr>
            <a:xfrm flipV="1">
              <a:off x="1905120" y="3505320"/>
              <a:ext cx="1904760" cy="182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50532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09880" y="2971800"/>
            <a:ext cx="2971800" cy="533520"/>
            <a:chOff x="3809880" y="2971800"/>
            <a:chExt cx="2971800" cy="533520"/>
          </a:xfrm>
        </p:grpSpPr>
        <p:sp>
          <p:nvSpPr>
            <p:cNvPr id="110" name=""/>
            <p:cNvSpPr/>
            <p:nvPr/>
          </p:nvSpPr>
          <p:spPr>
            <a:xfrm flipV="1">
              <a:off x="3809880" y="2971800"/>
              <a:ext cx="533520" cy="533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2971800"/>
              <a:ext cx="2438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05520" y="2743200"/>
            <a:ext cx="457200" cy="990720"/>
            <a:chOff x="5105520" y="2743200"/>
            <a:chExt cx="457200" cy="990720"/>
          </a:xfrm>
        </p:grpSpPr>
        <p:sp>
          <p:nvSpPr>
            <p:cNvPr id="113" name=""/>
            <p:cNvSpPr/>
            <p:nvPr/>
          </p:nvSpPr>
          <p:spPr>
            <a:xfrm>
              <a:off x="5105520" y="274320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5520" y="32767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EBE-C663-444D-8135-143BABB5A8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YRO &amp; GT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due to long-lived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11A-D879-44A3-A237-640F26A23E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YRO &amp; GT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due to long-lived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26D-2E6F-4C71-BDDD-30C17BE42A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l Transport Conje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flux-tub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the limit 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at each radius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 from a global simulation approach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from a flux-tube simulation with the equilibrium parameters evaluated at that radi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onjecture using micro-turbulence simulat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radial variation 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 at constant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2 simulations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 (Candy, et 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G3EQ simulations also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483000" cy="41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3F7-4F9A-4801-8D6B-9434122D9DA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l Transport Conje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flux-tub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the limit 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at each radius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 from a global simulation approach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from a flux-tube simulation with the equilibrium parameters evaluated at that radi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onjecture using micro-turbulence simulat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radial variation 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 at constant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2 simulations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 (Candy, et 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G3EQ simulations also track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 GY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062080"/>
            <a:ext cx="3483000" cy="41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1BC-99EB-4425-B6C5-B8ED48EE570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48B-E5B4-4E45-8805-ABBF4AD898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474-01D6-44A3-BB64-585F3ED025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gres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Scientific 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partially funded) PMP proposal promi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unified framework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 GK “kernels”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which we have — GS2, GYRO, Summit, and G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mon front end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Morphed to two front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GS2 and GY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G3EQ, UCAN, and GTC united under SUMMIT frame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mon back end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which we have — G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users beyond the code development group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(which we’ve d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etic electrons and (at leas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ll four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ve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in GS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ave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in GY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IC algorithms for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&amp; kinetic electrons demonstrated in GEM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but not yet installed in SUMMIT framework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inetic electrons in G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o LOTS of good science with our cod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which we’ve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42F-257D-4E79-A361-F4BA190421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769-F300-4FDB-8A80-FDA4FC8765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ocal conjecture &amp; flux tube cod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e late-time behavior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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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39880" y="2438280"/>
            <a:ext cx="566100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54680" y="1859040"/>
            <a:ext cx="64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on:  We need to be “humble” about assigning error b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BAB-5171-493C-9EFC-AE9374A359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82960" y="2590920"/>
            <a:ext cx="3218040" cy="3660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long-lived transients, and why do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ce Spreading and the 4-wav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can motivated series of papers on turbulence sprea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n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129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zdar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459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n et al, PR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75004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ca et al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88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plot: ITG “pump”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≈0 couples to “sideband” at fini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produce “zonal flow” and radial propagation of ITG turbul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5105520"/>
                <a:ext cx="143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Z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934520" y="1981080"/>
            <a:ext cx="31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exhibits long time-sc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mittency, fixed-point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8C9-3D04-405C-B022-E42DBFA832A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TG Turbulence the S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similar) in PMP Co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ulence is stoch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ing to reproduce time/space dependence is a fool’s er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realization-independent way to characterize turbu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lat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84080" y="4111560"/>
                <a:ext cx="3461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03240" y="5602320"/>
                <a:ext cx="39927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Dx</m:t>
                        </m:r>
                        <m:r>
                          <m:t xml:space="preserve">dt</m:t>
                        </m:r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r>
                          <m:t xml:space="preserve">⋅</m:t>
                        </m:r>
                        <m: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3" name="Data:Users:nevins1:Desktop:ITG_Turbulence:GTCMovie" descr=""/>
          <p:cNvPicPr/>
          <p:nvPr/>
        </p:nvPicPr>
        <p:blipFill>
          <a:blip r:embed="rId1"/>
          <a:srcRect l="0" t="84023" r="0" b="419258"/>
          <a:stretch/>
        </p:blipFill>
        <p:spPr>
          <a:xfrm>
            <a:off x="6324480" y="83808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44" name="Data:Users:nevins1:Desktop:ITG_Turbulence:GYROMovie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29200" y="2254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57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5B4-A1D5-4E81-814D-835787667F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ndicular Spectral D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vs. Late-tim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1905120"/>
          <a:ext cx="365616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365616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724280" y="1905120"/>
          <a:ext cx="3656160" cy="42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905120"/>
                    <a:ext cx="3656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F47-472C-4F9E-897A-59E1F1684B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al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33720" y="1295280"/>
                <a:ext cx="4876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r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6160" cy="390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361320" y="278928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74000" y="2865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9760" y="2225520"/>
          <a:ext cx="3656160" cy="394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9760" y="2225520"/>
                    <a:ext cx="365616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B6B-45E3-4D7C-A92A-901B639C40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verse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23880" y="1096920"/>
                <a:ext cx="6096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y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d>
                                          <m:dPr>
                                            <m:begChr m:val="|"/>
                                            <m:endChr m:val="|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q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Dy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93800" y="2428920"/>
            <a:ext cx="3473280" cy="3819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56320" y="2446200"/>
            <a:ext cx="3473280" cy="3802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04000" y="297180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3240" y="29718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3E0-2431-496B-B5D1-974C2C8D533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grangian Correlation Fun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1295280"/>
                <a:ext cx="5333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D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416760" y="266688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75520" y="26668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-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057400"/>
          <a:ext cx="365580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36558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9760" y="2057400"/>
          <a:ext cx="3656160" cy="422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2057400"/>
                    <a:ext cx="365616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F81-5791-4856-9DB4-41E9E0E09F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2057400"/>
            <a:ext cx="3810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Turn-over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s Eddy Life-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urbulence saturates du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2135160"/>
            <a:ext cx="4149720" cy="4113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3733920"/>
            <a:ext cx="3810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ing t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could predic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d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d know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838760"/>
            <a:ext cx="3810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knew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’d kno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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4100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kne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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I could estim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dy Turnover Tim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79680" y="1098720"/>
                <a:ext cx="41832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»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f>
                                          <m:num>
                                            <m:r>
                                              <m:t xml:space="preserve">e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f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T</m:t>
                                            </m:r>
                                          </m:den>
                                        </m:f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A8B-16DE-4013-951B-14ABC8B7044A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ingly, this program actually succeeded, yie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everything you wanted to know abou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Cyclone”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can in 7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ssu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urbulence satur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r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ale ~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successfully predi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dy turn-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earing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lation length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t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G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s to predict Dimit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ce saturates before on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34000" y="1981080"/>
            <a:ext cx="3419280" cy="411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419640" cy="411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4C2-BAA0-405A-89D4-EC88B104E1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GK “kernels” 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x2 Matrix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Turbulence Simulation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14600" y="1828800"/>
          <a:ext cx="5943600" cy="14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59436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5800" y="3352680"/>
            <a:ext cx="7848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both Continuum and Particle-in-Cell (PI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-check on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um currently most developed (already has kinetic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 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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nents of PIC-codes believe they will ultimately be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25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can do Global simulations, why bother with Flux Tub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-scale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c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physics (ETG mod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ce on multiple space scal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TG+TEM, TEM+ETG, ITG+TEM+ETG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  <a:tab algn="l" pos="562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parameter s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00B-1FE6-4E6E-B72A-BEB1FB6DA8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 GY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 DIII-D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YRO simulation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tic elect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B sh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sma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oduce magnitude, profile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-dependence of DIII-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J.Candy, Invited Talk at 2002 APS/DPP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-flux GYRO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hance comparisons with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 step toward transport time-scale and F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058840"/>
                <a:tab algn="l" pos="24033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. Waltz, Invited Talk at 2003 APS/DPP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724280" y="2692440"/>
          <a:ext cx="3656160" cy="31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692440"/>
                    <a:ext cx="365616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C83-26D7-463F-9399-D2BEC2DC50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RO Simulation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Dynamo in DIII-D L-Mode 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2057400"/>
          <a:ext cx="3198600" cy="33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31986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9760" y="2184480"/>
          <a:ext cx="3336840" cy="3294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2184480"/>
                    <a:ext cx="333684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08000" y="5761080"/>
            <a:ext cx="718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on, F.L., R.E. Waltz, J. Candy, “Effects of Electromagnetic Turbulence in the Neoclassical Ohm’s Law,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2004) 2433.  An invited talk at 2003 APS/DPP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02F-4ED1-41F8-9251-C43E448DB7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GS2 against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s to EDA H-mode in C-Mod tokam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upshift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(i.e., R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retaining this shift w/kinetic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. Mikkelsen, Invited talk at 2002 IAEA Mtg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s with L-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III-D tokamak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oss and Dorland, Phys. Plasm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5031 (2002)  and “preview” talk at 2004 DDT me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268360"/>
            <a:ext cx="380988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FE5-FA9D-48A6-84C0-2FFE9D6DC6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ing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iable paradig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655800" cy="2589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560" y="2133720"/>
            <a:ext cx="197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X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656160" cy="2560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81400" y="2057400"/>
            <a:ext cx="30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roidal flow-she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uppress trans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5638680"/>
            <a:ext cx="67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G3EQ results presented by A. Dimits at 2001 APS/DPP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D1C-867A-4E1F-9303-501F291A3C2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static ETG and ITG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ly homolog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T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 √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T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 ETG not important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nal flows are near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ent in ETG turbul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 ETG is important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ence of zonal fl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ers”, significa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G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rland et al, PR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5579 (2003)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ers, but no significant ETG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in et al, TTF04 &amp; oral talk at 2004 IAEA Mtg.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sue yet to be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Thermal Transpo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the ‘ETG’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2098800"/>
            <a:ext cx="3809880" cy="3878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84480" y="2546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A85-AB91-4905-9BE0-7069A2D457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C algorithm for kinetic e’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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chmarking GEM against GYRO and G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809880" cy="281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23320" y="251460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Growth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656160" cy="3121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13600" y="20876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ulent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E0E-C19A-4552-B6C3-B687804899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MP Supports User Commun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both GS2 and GYRO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user community trained and working to valid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rokinetic codes against experimental data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rdelle, Bravenec, Budny, Ernst, Hallatschek, Hil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ko, Mikkelsen, Redi, Ross, Yuh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hops to educate user community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 2002, …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sites for code distribution and documen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9999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gs2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ourceforg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net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nd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fusion.gat.com/comp/parallel/gyro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by these Gyrokinetic code users has led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s and talks at major meeting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W. Ross, TTF 20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N. Rogers, Sherwood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Ernst, APS 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 Jenko, IAEA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365760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 Hallatschek, APS 2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Yuh, ICOPS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C09-BC67-4998-BE26-8956DBA83F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0410" t="16164" r="0" b="29336"/>
          <a:stretch/>
        </p:blipFill>
        <p:spPr>
          <a:xfrm>
            <a:off x="45720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P Codes Scale to large numbers of processors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RO is a benchmark code for the ORNL Cray X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C ported to both ORNL Cray X-1and Japanese Earth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26080" y="2432160"/>
            <a:ext cx="3655800" cy="313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29200" y="56386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etails on GYRO performance, see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http://fusion.gat.com/comp/parallel/performa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0240" y="172080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proble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6840" y="1676520"/>
            <a:ext cx="270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iz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6386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etails on GTC performance, see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http://gk.ps.uci.edu/zlin/parallel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B43-F92E-47D6-8BCC-39D63BA900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DAC Computing Resour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d Studies of Plasma Micro-turb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RSC (LBN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1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36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2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63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3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78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unting unit re-normaliz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y a factor of 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4 al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M node-h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d we will certainly use it 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CS (ORN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3 us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M node-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Y ‘04 allocation: 1 M node-h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ut CCS doesn’t seem to mind if you exceed your allocation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9560" y="5105520"/>
            <a:ext cx="75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substantial use of Linux Clusters at PPPL, GA, MIT and U of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MP is largest user of computer time among OFES-funded activ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this counts only usage by our PI’s, not that of our user-communit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A03-9276-4230-9EEC-2033CD9466C5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ed pub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  Candy, R. E.  Waltz, and W. Dorland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, R.E. Waltz, and M.N. Rosenbluth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87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. K.  Decyk and Charles D. Norton, Scientific Programming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R.  Ernst, P. T.  Bonoli, P. J.  Catto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 Ethier and Z. Lin, Computer Physics Communication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 Hahm, P.H.  Diamond, Z.  L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lasma Phys. Controlled Fusion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L. Hinton, R.E. Waltz, and J. Candy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43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Lee, Comput. Phys. Comm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 and T. S. Hahm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-9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E. Parker, Y. Chen, W. Wa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59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 Romanelli, C.  Bourdelle, and W. Dorland, Phys. Plasmas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E. Waltz, Fusion Science and Technolo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X.  Wang, W.M.  Tang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Computational Physics Communication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Bourdelle, W.  Dorland, X.  Garbet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88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 and R.E. Waltz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045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Candy and R.E. Waltz, J. Comp. Phys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54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 and S.E. Parker, Journal of Computational Physic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8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2), 463-47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S.E.  Parker, B.I.  Cohe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-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 Chen, S.E. Parker, B.I.  Cohe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12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Holland, P.H. Diamond, S. Champeaux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8), 76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W. Lee and H. Qin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319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L. V. Lewandowski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32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. L. V. Lewandowski, Plasma Phys. Controlled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L3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 Pedersen, A. H.  Boozer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J. Phys. B: At. Mol. Opt. Phys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029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 V.  Budny, R.  Andr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lasma Phys. Contro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2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Samuel T.  Jones, and Scott E. Parker, EEE Tran. Plasma Sci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7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I.  Cohen, A.M. Dimits, W.M. Nevin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1), 251-26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I. Cohen, Andris M. Dimit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(5), 1915-192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. S. Hahm, Plasma Phys. Controlled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8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 Jenko and W. Dorland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225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, S. Ethier, T. S.  Hahm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Rev. Lett.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950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W.  Ross, R. B.  Bravenec, W.  Dorl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7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W. Ross and W. Dorland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50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J.  Synakowski, M. G.  Bell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Contro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16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. E. Waltz, J. Candy, and M.N. Rosenbluth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938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.M. Dimits, B.I. Cohen, W.M. Nevin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ear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725-173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. H.  Hutchinson, R.  Boivin, P. T.  Bonoli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Nucl. Fusion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39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  Jenko, W.  Dorland, and G. W. Hammett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09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 Lee, J. L. V.  Lewandowski, T. S.  Hahm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443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.  Lin and L. Chen, Phys. Plasmas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144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601-C9DF-45C4-BA3D-E4EDD24C7D37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PMP produced good sci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 for your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ks at major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n Bravenec, “Synthetic Diagnostics,” presented at the 15th Topical Conference on High-Temperature Plasma Diagnost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. K. Decyk, “UCLA Parallel PIC Framework: A Toolkit for new PIC Codes,” presented at the SIAM Conference on Parallel Processing for Scientific Computing, San Francisco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orland, “Resonant Heating in the Alfven Cascade,” presented at the Fields Institu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N. Guzdar, “Pedestal Physics,”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.S. Hahm,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W. Lee, “MFE Simulation Data Management,” presented at the DoE Data Management Workshop, SLAC, Palo Alto, 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. Lin,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N. Rogers, “Non-Curvature Driven Modes in the H-Mode Pedestal,” presented at the Sherwood Conference, Missoula, M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.W. Ross, “Experimental Comparisons with Gyrokinetic Codes (preview talk),” presented at the Transport Task Force Meeting, Salt Lake, U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E. Waltz, “Advances in Comprehensive Gyrokinetic Simulations of Transport in Tokamaks",” to be presented at the 20th IAEA Fusion Energy Conference, Vilamoura, Portu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. Chen, “Electromagnetic gyrokinetic simulations,” presented at the International Sherwood Fusion Theory Mee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Sheared flows and boundary layer physics in tokamak plasma,” presented at the New Themes in Plasma and Fusion Turbulence, Lond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Anomalous heating in a kinetic Alvfen wave cascade,” presented at the 7th Workshop on the Interrelationship between Plasma Experiment in Laboratory and Spa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Dorland, “US Plasma Microturbulence Project,” presented at the Eighth International Symposium  on Simulation Science, Hayama, Japa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R. Ernst, “Role of Trapped Electron Mode Turbulence in Internal Transport Barrier Control in Alcator C-Mod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.L. Hinton, “Electromagnetic turbulence effects in the neoclassical Ohm's law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  Klasky, S.  Ethier, Z.  L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“Grid-Based Parallel Data Streaming implemented for the Gyrokinetic Toroidal Code,” presented at the SC2003,  Phoenix, AZ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W. Lee, “Thermodynamic and numerical properties of a gyrokinetic plasma: implications on transport scale simulation,” presented at the 18th International Conference on Numerical Simulation of Plasmas, Cape Cod, 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 Lin, presented at the 10th European Fusion Theory Conference, Helsinki, Finl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.E. Parker, “Electromagnetic Turbulence Simulations with Kinetic Electrons,” presented at the 45th Annual Meeting of the Division of Plasma Physics, Albuquerque, N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H.   Redi, R.  Bell, P.  Bonoli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, “Gyrokinetic Calculations of Microturbulence and Transport on NSTX and Alcator-CMOD H-modes,” presented at the 30th European Physical Society Conference on Plasma Physics and Controlled Fusion, St. Petersburg, Russ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.M. Nevi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B65-D302-4F19-BEA5-83FF67BFE7A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0:32:12Z</dcterms:created>
  <dc:creator>Bill Nevins</dc:creator>
  <dc:description/>
  <dc:language>en-US</dc:language>
  <cp:lastModifiedBy>G. Rewoldt</cp:lastModifiedBy>
  <cp:lastPrinted>2004-05-31T19:50:49Z</cp:lastPrinted>
  <dcterms:modified xsi:type="dcterms:W3CDTF">2004-06-04T19:39:55Z</dcterms:modified>
  <cp:revision>49</cp:revision>
  <dc:subject/>
  <dc:title>The Plasma  Microturbulence Project</dc:title>
</cp:coreProperties>
</file>