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1.jpeg" ContentType="image/jpeg"/>
  <Override PartName="/ppt/media/image19.pct" ContentType="image/x-pict"/>
  <Override PartName="/ppt/media/image17.pct" ContentType="image/x-pict"/>
  <Override PartName="/ppt/media/image15.pct" ContentType="image/x-pict"/>
  <Override PartName="/ppt/media/image14.png" ContentType="image/png"/>
  <Override PartName="/ppt/media/image24.pct" ContentType="image/x-pict"/>
  <Override PartName="/ppt/media/image1.pct" ContentType="image/x-pict"/>
  <Override PartName="/ppt/media/image31.pct" ContentType="image/x-pict"/>
  <Override PartName="/ppt/media/image28.pct" ContentType="image/x-pict"/>
  <Override PartName="/ppt/media/image2.jpeg" ContentType="image/jpeg"/>
  <Override PartName="/ppt/media/image13.pct" ContentType="image/x-pict"/>
  <Override PartName="/ppt/media/image41.pct" ContentType="image/x-pict"/>
  <Override PartName="/ppt/media/image10.pct" ContentType="image/x-pict"/>
  <Override PartName="/ppt/media/image40.pct" ContentType="image/x-pict"/>
  <Override PartName="/ppt/media/image39.pct" ContentType="image/x-pict"/>
  <Override PartName="/ppt/media/image9.pct" ContentType="image/x-pict"/>
  <Override PartName="/ppt/media/image26.pct" ContentType="image/x-pict"/>
  <Override PartName="/ppt/media/image12.pct" ContentType="image/x-pict"/>
  <Override PartName="/ppt/media/image33.pct" ContentType="image/x-pict"/>
  <Override PartName="/ppt/media/image38.pct" ContentType="image/x-pict"/>
  <Override PartName="/ppt/media/image8.pct" ContentType="image/x-pict"/>
  <Override PartName="/ppt/media/image35.pct" ContentType="image/x-pict"/>
  <Override PartName="/ppt/media/image42.pct" ContentType="image/x-pict"/>
  <Override PartName="/ppt/media/image43.pct" ContentType="image/x-pict"/>
  <Override PartName="/ppt/media/image36.pct" ContentType="image/x-pict"/>
  <Override PartName="/ppt/media/image6.pct" ContentType="image/x-pict"/>
  <Override PartName="/ppt/media/image29.pct" ContentType="image/x-pict"/>
  <Override PartName="/ppt/media/image32.pct" ContentType="image/x-pict"/>
  <Override PartName="/ppt/media/image5.png" ContentType="image/png"/>
  <Override PartName="/ppt/media/image16.pct" ContentType="image/x-pict"/>
  <Override PartName="/ppt/media/image18.pct" ContentType="image/x-pict"/>
  <Override PartName="/ppt/media/image20.pct" ContentType="image/x-pict"/>
  <Override PartName="/ppt/media/image34.pct" ContentType="image/x-pict"/>
  <Override PartName="/ppt/media/image7.png" ContentType="image/png"/>
  <Override PartName="/ppt/media/image37.png" ContentType="image/png"/>
  <Override PartName="/ppt/media/image4.pct" ContentType="image/x-pict"/>
  <Override PartName="/ppt/media/image27.pct" ContentType="image/x-pict"/>
  <Override PartName="/ppt/media/image30.pct" ContentType="image/x-pict"/>
  <Override PartName="/ppt/media/image3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6FBD-3B78-4667-BA5B-320AE2554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F066-29B3-405F-890E-40A412116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2" marL="9144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IV.G.2. 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of the perpendicular spectral density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rom a GTC simulation of the CYCLONE base case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ack curve), from the early non-linear phase(red curve), and the late non-linear phase of the corresponding GYRO simulation.  For reference, the toroidal mode number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 = 209 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(b) The perpendicular spectral density integrated ove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displayed as a  function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r the same simulations and time interv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D4F6-EE7E-4D58-91FB-6F8DE45E2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IV.A.1.  (a) The radial correlation function from GYRO simulations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ack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10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lue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2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red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3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reen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yan)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7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old). (b) The radial correlation function from GYRO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ack), GYRO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red), GTC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ue), PG3EQ (green) and GS2 (cyan).  For global simulations the radial correlation function is averaged over the interval 0.42 &lt; r/a &lt; 0.58 r/a, while it is averaged the entire radial domain in flux-tube simulations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99BA-B0CA-476F-AB30-7DC60AD97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2" marL="9144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IV.E.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The transverse correlation function. (a) The transverse correlation function is plotted vs.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r a sequence of GYRO simulations having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ack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red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ue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reen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cyan)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old). (b) The transverse correlation function is plotted vs.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r simulations of the CYCLONE base case using different codes, including a GYRO flux-tube simulation (black), a GYRO global simulation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red), a GTC global simulation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ue), a GTC simulation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1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reen), a PG3EQ flux-tube simulation (cyan) and a GS2 flux-tube simulation (gol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E25A-B236-4616-9F8B-B775852FD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2" marL="9144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IV.D.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The Lagrangian correlation function vs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The Lagrangian correlation function evaluated at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0 (the outboard mid-plane) and averaged ove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.42 &lt; r/a &lt; 0.5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for global simulations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inite) or over the entire radial domain (for flux-tube simulation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 Data from (a) a sequence of GYRO simulations having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ack), 105 (red), 210 (blue), 375 (green), 500 (cyan) and 700 (yellow ); and (b) various PMP codes, including a GYRO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ack), GYRO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red), GTC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5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lue), PG3EQ (green) and GS2 (cya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D41-D40F-47A4-9B1D-3B909D06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7A0-CD59-48D8-B7BD-8D71E9CA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FF9-2BC9-40BC-8334-E0150CF1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93C-5353-4CE4-92B3-D2FC5262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3D9-D660-4E0F-99B1-F6AD75DF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296-9181-44D9-8540-F36A693A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171-4ED5-4049-BA35-B6469FE5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B06-9CE2-485A-BB74-064C0F04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682D-0605-4A3A-973C-0D2D7858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D3B-DBFA-40DD-9360-06CA3D8A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C67-92EC-41DF-9873-03230874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FA0-52DB-4B64-8209-7863ABBC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F953-4EF1-45E8-AAB3-5FEDF4FE7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ct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7.pct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pct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pct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image" Target="../media/image36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9.pct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image" Target="../media/image42.pct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s2.sourceforge.net/" TargetMode="External"/><Relationship Id="rId2" Type="http://schemas.openxmlformats.org/officeDocument/2006/relationships/hyperlink" Target="http://gs2.sourceforge.net/" TargetMode="External"/><Relationship Id="rId3" Type="http://schemas.openxmlformats.org/officeDocument/2006/relationships/hyperlink" Target="http://gs2.sourceforge.net/" TargetMode="External"/><Relationship Id="rId4" Type="http://schemas.openxmlformats.org/officeDocument/2006/relationships/hyperlink" Target="http://fusion.gat.com/comp/parallel/gyro.html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lasm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turbulenc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64796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.M. Nevins 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sma Microturbulence Project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86400" y="4768920"/>
            <a:ext cx="457200" cy="412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62320" y="2208240"/>
            <a:ext cx="4419360" cy="221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 rot="857400">
            <a:off x="609480" y="4876560"/>
            <a:ext cx="990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2d"/>
                    </a:gs>
                  </a:gsLst>
                  <a:lin ang="5400000"/>
                </a:gradFill>
                <a:latin typeface="Impact"/>
              </a:rPr>
              <a:t>UCL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2d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934320" y="2666880"/>
            <a:ext cx="1676160" cy="65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7620120" y="3886200"/>
            <a:ext cx="533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UCI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09480" y="2529000"/>
            <a:ext cx="114300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7315200" y="4730760"/>
            <a:ext cx="106668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8C3-AF8C-4BE8-A720-81E7215DE7F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the PMP produced good scienc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ge for your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Talks at major meeting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. Candy, “Comprehensive Gyrokinetic Simulations of Turbulent Transport in DIII-D with the GYRO Code,” presented at the 44th Meeting of the Division of Plasma Physic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. Candy, “GYRO Modeling of Anomalous Transport in Tokamaks,” presented at the International Sherwood Fusion Theory Confere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Dorland, “Secondary instabilities in ETG Turbulence,” presented at the VII Easter Plasma Meeting, Tur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Dorland, “Collisionless plasma turbulence,” presented at the 29th Annual IoP Plasma Physics Group Confere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Dorland, “Gyrokinetic Turbulence in Magnetically Confined Plasmas,” presented at the European  Physical Society, Montreux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. Jenko, “Simulations of finite-beta turbulence in tokamaks and stellarators,” presented at the 19th IAEA Fusion Energy Conference, Lyon, Fr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.  Lin, S.  Ethier, T. S.  Hahm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, “Size Scaling of Turbulent Transport in Tokamak Plasmas,” presented at the 19th IAEA Fusion Energy Conference, Lyon, Fr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M. Nevins, “The Experiment/Theory Dialogue in the Age of Simulations,” presented at the 2002 Transport Task Force Meeting, Annapolis, M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259056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.I. Cohen, “ "Kinetic electron closures for electromagnetic simulation of drift and shear-Alfven waves"   [B.I. Cohen, et al., Phys. Plasmas 9, 1915 (2002).],” presented at the 43rd Annual meeting of the Division of Plasma Physics, Long Beach, 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Dorland, “Numerical Simulations and Burning Plasma Concepts in 2004,” presented at the Fourth Symposium on Current Trends in International Fusion Research, Washington, 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. S. Hahm, “Gyrokinetic Simulation of Transport Scalings and Turbulent Structure,” presented at the 43rd Annual Meeting of the Division of Plasma Physics, Long Beach, 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.E. Waltz, “Gyrokinetic Turbulence Simulation of Profile Shear Stabilization and Broken GyroBohm Scaling,” presented at the 43rd Annual Meeting of the Division of Plasma Physics, Long Beach, 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191-9790-4EEE-B439-DCA3CDA693BC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Benchmarking Requi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Bars on our “Measuremen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47720" y="1828800"/>
            <a:ext cx="7634160" cy="380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67800" y="5767560"/>
            <a:ext cx="59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the difference between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urves significa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572-393C-4181-A5A2-54ADB5D6137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ertainty in the Estimate of  the Me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 short detour into statist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880920" y="2819520"/>
                <a:ext cx="2287800" cy="31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º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º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º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»</m:t>
                        </m:r>
                        <m:f>
                          <m:num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c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c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  <m:r>
                          <m:t xml:space="preserve">»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-¥</m:t>
                            </m:r>
                          </m:sub>
                          <m:sup>
                            <m:r>
                              <m:t xml:space="preserve">¥</m:t>
                            </m:r>
                          </m:sup>
                          <m:e>
                            <m:r>
                              <m:t xml:space="preserve">dt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c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13320" y="220968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78840" y="22860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962520" y="2666880"/>
                <a:ext cx="3098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nary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d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876920" y="3378240"/>
                <a:ext cx="2412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952880" y="4038480"/>
                <a:ext cx="1117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" name=""/>
          <p:cNvGrpSpPr/>
          <p:nvPr/>
        </p:nvGrpSpPr>
        <p:grpSpPr>
          <a:xfrm>
            <a:off x="3729600" y="3962520"/>
            <a:ext cx="4758840" cy="2171520"/>
            <a:chOff x="3729600" y="3962520"/>
            <a:chExt cx="4758840" cy="2171520"/>
          </a:xfrm>
        </p:grpSpPr>
        <p:sp>
          <p:nvSpPr>
            <p:cNvPr id="102" name=""/>
            <p:cNvSpPr/>
            <p:nvPr/>
          </p:nvSpPr>
          <p:spPr>
            <a:xfrm>
              <a:off x="3729600" y="4784760"/>
              <a:ext cx="475884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339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eal data has “trends” which must 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339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Removed from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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339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Added back to our error estimate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(and I’m still not completely satisfied …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6095880" y="3962520"/>
                  <a:ext cx="175284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d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eas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quares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733-ED8B-4054-A5AF-220706892AA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Comparisons (GYRO vs. GTC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 of Heat Transport with Machin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11210" r="0" b="10335"/>
          <a:stretch/>
        </p:blipFill>
        <p:spPr>
          <a:xfrm>
            <a:off x="1052640" y="1752480"/>
            <a:ext cx="7038720" cy="42674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905120" y="3505320"/>
            <a:ext cx="4952880" cy="1828800"/>
            <a:chOff x="1905120" y="3505320"/>
            <a:chExt cx="4952880" cy="1828800"/>
          </a:xfrm>
        </p:grpSpPr>
        <p:sp>
          <p:nvSpPr>
            <p:cNvPr id="107" name=""/>
            <p:cNvSpPr/>
            <p:nvPr/>
          </p:nvSpPr>
          <p:spPr>
            <a:xfrm flipV="1">
              <a:off x="1905120" y="3505320"/>
              <a:ext cx="1904760" cy="1828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350532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809880" y="2971800"/>
            <a:ext cx="2971800" cy="533520"/>
            <a:chOff x="3809880" y="2971800"/>
            <a:chExt cx="2971800" cy="533520"/>
          </a:xfrm>
        </p:grpSpPr>
        <p:sp>
          <p:nvSpPr>
            <p:cNvPr id="110" name=""/>
            <p:cNvSpPr/>
            <p:nvPr/>
          </p:nvSpPr>
          <p:spPr>
            <a:xfrm flipV="1">
              <a:off x="3809880" y="2971800"/>
              <a:ext cx="533520" cy="5335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2971800"/>
              <a:ext cx="24382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105520" y="2743200"/>
            <a:ext cx="457200" cy="990720"/>
            <a:chOff x="5105520" y="2743200"/>
            <a:chExt cx="457200" cy="990720"/>
          </a:xfrm>
        </p:grpSpPr>
        <p:sp>
          <p:nvSpPr>
            <p:cNvPr id="113" name=""/>
            <p:cNvSpPr/>
            <p:nvPr/>
          </p:nvSpPr>
          <p:spPr>
            <a:xfrm>
              <a:off x="5105520" y="274320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05520" y="327672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CDE-392B-452B-ACA1-7826F2A40E8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GYRO &amp; GT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 due to long-lived trans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39880" y="2438280"/>
            <a:ext cx="566100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16C-9BCA-4078-A95E-C088C9B959F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GYRO &amp; GT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 due to long-lived trans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39880" y="2438280"/>
            <a:ext cx="566100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803-6942-4B08-A9E5-ECBF33D872E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cal Transport Conject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role of flux-tub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 the limit a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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and at each radius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r) from a global simulation approaches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from a flux-tube simulation with the equilibrium parameters evaluated at that radi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 conjecture using micro-turbulence simulatio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ong radial variation in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ven at constant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/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S2 simulations track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rom GYRO (Candy, et 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G3EQ simulations also track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rom GYR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3483000" cy="411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B7C-7E24-4D3F-9EE0-97924B3B59E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cal Transport Conject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role of flux-tub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 the limit a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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and at each radius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r) from a global simulation approaches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from a flux-tube simulation with the equilibrium parameters evaluated at that radi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 conjecture using micro-turbulence simulatio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ong radial variation in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ven at constant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/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S2 simulations track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rom GYRO (Candy, et 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G3EQ simulations also track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rom GYR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2062080"/>
            <a:ext cx="3483000" cy="411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0A8-BE56-41DE-AD12-FBE01EB9409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local conjecture &amp; flux tube cod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ve late-time behavior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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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39880" y="2438280"/>
            <a:ext cx="566100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3D1-FEA8-458B-8FF4-B03D640D331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local conjecture &amp; flux tube cod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ve late-time behavior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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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39880" y="2438280"/>
            <a:ext cx="566100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446-8EC7-477C-9F25-4EAE98AAFEB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Progress 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ing Scientific Deliver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(partially funded) PMP proposal promis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unified framework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 GK “kernels”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(which we have — GS2, GYRO, Summit, and GT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common front end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Morphed to two front 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GS2 and GY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G3EQ, UCAN, and GTC united under SUMMIT frame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common back end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(which we have — GK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users beyond the code development groups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(which we’ve d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netic electrons and (at least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all four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ave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||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,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&amp; kinetic electrons in GS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ave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&amp; kinetic electrons in GY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IC algorithms for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&amp; kinetic electrons demonstrated in GEM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(but not yet installed in SUMMIT framework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Kinetic electrons in G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do LOTS of good science with our code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which we’ve d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8B9-EDBE-4B12-A194-4834EF057F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local conjecture &amp; flux tube cod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ve late-time behavior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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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39880" y="2438280"/>
            <a:ext cx="566100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F1B-412C-4737-A744-79BD486F436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local conjecture &amp; flux tube cod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ve late-time behavior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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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39880" y="2438280"/>
            <a:ext cx="5661000" cy="3571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354680" y="1859040"/>
            <a:ext cx="64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esson:  We need to be “humble” about assigning error ba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F0A-D3CF-4186-A62D-94D2671BABB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782960" y="2590920"/>
            <a:ext cx="3218040" cy="3660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long-lived transients, and why doe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bulence Spreading and the 4-wav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scan motivated series of papers on turbulence sprea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n et al, Phys. Plasm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3129 (2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zdar et al, Phys. Plasm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459 (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n et al, PR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075004 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ca et al, Phys. Plasm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488 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c plot: ITG “pump” 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≈0 couples to “sideband” at fini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produce “zonal flow” and radial propagation of ITG turbule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66880" y="5105520"/>
                <a:ext cx="1435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Z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4934520" y="1981080"/>
            <a:ext cx="31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 exhibits long time-scal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mittency, fixed-points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211-9204-4F1F-A582-48F8F75BF7B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ITG Turbulence the Sa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r similar) in PMP Cod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bulence is stoch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ying to reproduce time/space dependence is a fool’s er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realization-independent way to characterize turbu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elation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tral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84080" y="4111560"/>
                <a:ext cx="3461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D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03240" y="5602320"/>
                <a:ext cx="39927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Dx</m:t>
                        </m:r>
                        <m:r>
                          <m:t xml:space="preserve">dt</m:t>
                        </m:r>
                      </m:e>
                    </m:nary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  <m:r>
                          <m:t xml:space="preserve">⋅</m:t>
                        </m:r>
                        <m:r>
                          <m:t xml:space="preserve">Dx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43" name="Data:Users:nevins1:Desktop:ITG_Turbulence:GTCMovie" descr=""/>
          <p:cNvPicPr/>
          <p:nvPr/>
        </p:nvPicPr>
        <p:blipFill>
          <a:blip r:embed="rId1"/>
          <a:srcRect l="0" t="84023" r="0" b="419258"/>
          <a:stretch/>
        </p:blipFill>
        <p:spPr>
          <a:xfrm>
            <a:off x="6324480" y="838080"/>
            <a:ext cx="1828800" cy="5486400"/>
          </a:xfrm>
          <a:prstGeom prst="rect">
            <a:avLst/>
          </a:prstGeom>
          <a:ln w="0">
            <a:noFill/>
          </a:ln>
        </p:spPr>
      </p:pic>
      <p:pic>
        <p:nvPicPr>
          <p:cNvPr id="144" name="Data:Users:nevins1:Desktop:ITG_Turbulence:GYROMovie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029200" y="2254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Y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457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9A6D-56DA-4002-812C-D350A333D7C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pendicular Spectral Dens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vs. Late-time Compari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1905120"/>
          <a:ext cx="3656160" cy="422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365616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724280" y="1905120"/>
          <a:ext cx="3656160" cy="4248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905120"/>
                    <a:ext cx="36561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579-C617-4748-993A-896B90BBFC5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dial Correlation Func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33720" y="1295280"/>
                <a:ext cx="48765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r</m:t>
                    </m:r>
                    <m:r>
                      <m:t xml:space="preserve">|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656160" cy="3909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361320" y="2789280"/>
            <a:ext cx="69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74000" y="286560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-s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49760" y="2225520"/>
          <a:ext cx="3656160" cy="394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9760" y="2225520"/>
                    <a:ext cx="365616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B5F4-53BE-454D-AD40-2D43B0D2A0E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verse Correlation Func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523880" y="1096920"/>
                <a:ext cx="60962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y</m:t>
                    </m:r>
                    <m:r>
                      <m:t xml:space="preserve">|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z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d>
                                          <m:dPr>
                                            <m:begChr m:val="|"/>
                                            <m:endChr m:val="|"/>
                                          </m:d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d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q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Dy</m:t>
                                        </m:r>
                                      </m:num>
                                      <m:den>
                                        <m:r>
                                          <m:t xml:space="preserve">R</m:t>
                                        </m:r>
                                      </m:den>
                                    </m:f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z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d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z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z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d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93800" y="2428920"/>
            <a:ext cx="3473280" cy="3819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756320" y="2446200"/>
            <a:ext cx="3473280" cy="3802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204000" y="2971800"/>
            <a:ext cx="69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23240" y="297180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-s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116-A1D2-44AB-9033-2323BF545C4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grangian Correlation Func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05120" y="1295280"/>
                <a:ext cx="53337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D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3416760" y="2666880"/>
            <a:ext cx="69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75520" y="266688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-s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2057400"/>
          <a:ext cx="3655800" cy="42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36558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649760" y="2057400"/>
          <a:ext cx="3656160" cy="422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9760" y="2057400"/>
                    <a:ext cx="365616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FF1-03FE-44DF-B33B-4A8C1FCACA6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2057400"/>
            <a:ext cx="3810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dy Turn-over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s Eddy Life-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G turbulence saturates du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onset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r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0" y="2135160"/>
            <a:ext cx="4149720" cy="4113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09480" y="3733920"/>
            <a:ext cx="3810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ing th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could predic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d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’d know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838760"/>
            <a:ext cx="3810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knew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’d know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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5410080"/>
            <a:ext cx="3810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knew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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be I could estim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dy Turnover Tim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479680" y="1098720"/>
                <a:ext cx="41832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»p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r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y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sSup>
                                      <m:e>
                                        <m:f>
                                          <m:num>
                                            <m:r>
                                              <m:t xml:space="preserve">e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f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T</m:t>
                                            </m:r>
                                          </m:den>
                                        </m:f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E94-3055-477D-B925-049B227A2DDD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zingly, this program actually succeeded, yiel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most) everything you wanted to know abou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Cyclone”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Scan in 7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assu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G turbulence saturat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onset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r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linear r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cale ~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successfully predi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dy life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dy turn-ov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hearing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elation lengths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rbulent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G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ls to predict Dimits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rbulence saturates before onset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r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34000" y="1981080"/>
            <a:ext cx="3419280" cy="4111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3419640" cy="411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E127-DE6C-463D-B634-9B0EBF65E2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GK “kernels” —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x2 Matrix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ma Turbulence Simulation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14600" y="1828800"/>
          <a:ext cx="5943600" cy="142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828800"/>
                    <a:ext cx="594360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85800" y="3352680"/>
            <a:ext cx="78487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both Continuum and Particle-in-Cell (PIC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  <a:tab algn="l" pos="562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oss-check on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  <a:tab algn="l" pos="562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inuum currently most developed (already has kinetic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s 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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  <a:tab algn="l" pos="562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onents of PIC-codes believe they will ultimately be more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125"/>
              </a:spcBef>
              <a:buClr>
                <a:srgbClr val="000000"/>
              </a:buClr>
              <a:buFont typeface="Times"/>
              <a:buChar char="–"/>
              <a:tabLst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  <a:tab algn="l" pos="562284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can do Global simulations, why bother with Flux Tub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  <a:tab algn="l" pos="562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n-scale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c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physics (ETG mode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  <a:tab algn="l" pos="562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rbulence on multiple space scale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TG+TEM, TEM+ETG, ITG+TEM+ETG, 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  <a:tab algn="l" pos="562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 parameter sc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6B0E-B816-4926-B0DB-63F210E5CD0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of  GYR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 DIII-D Experi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YRO simulation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netic electr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B she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i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sma 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oduce magnitude, profile,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-dependence of DIII-D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J.Candy, Invited Talk at 2002 APS/DPP Meeting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-flux GYRO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hance comparisons with Experi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y step toward transport time-scale and F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R. Waltz, Invited Talk at 2003 APS/DPP Meeting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724280" y="2692440"/>
          <a:ext cx="3656160" cy="317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692440"/>
                    <a:ext cx="365616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D2F-2945-4762-B589-53911247D1B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YRO Simulations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bulent Dynamo in DIII-D L-Mode Pla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62120" y="2057400"/>
          <a:ext cx="3198600" cy="33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319860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649760" y="2184480"/>
          <a:ext cx="3336840" cy="3294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9760" y="2184480"/>
                    <a:ext cx="3336840" cy="32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008000" y="5761080"/>
            <a:ext cx="718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on, F.L., R.E. Waltz, J. Candy, “Effects of Electromagnetic Turbulence in the Neoclassical Ohm’s Law,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. Plasm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2004) 2433.  An invited talk at 2003 APS/DPP Mee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289-6DE6-4ABE-8DAD-F89348E17CE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of GS2 against Experi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isons to EDA H-mode in C-Mod tokam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linear upshift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ica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(i.e., R/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c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retaining this shift w/kinetic elec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. Mikkelsen, Invited talk at 2002 IAEA Mtg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isons with L-m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DIII-D tokamak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Ross and Dorland, Phys. Plasm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5031 (2002)  and “preview” talk at 2004 DDT meeting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48320" y="2268360"/>
            <a:ext cx="3809880" cy="354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3B1-2236-49E5-BDEA-AC526D4A6D4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easing wi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EX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iable paradig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3655800" cy="2589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600560" y="2133720"/>
            <a:ext cx="1975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 sc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X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3656160" cy="2560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081400" y="2057400"/>
            <a:ext cx="30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roidal flow-shea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suppress trans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5638680"/>
            <a:ext cx="67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G3EQ results presented by A. Dimits at 2001 APS/DPP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E2FA-E630-4F7C-B4DE-D49ECE18EBA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static ETG and ITG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arly homolog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T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~ √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T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o ETG not important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nal flows are near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ent in ETG turbul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o ETG is important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ence of zonal flo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amers”, significa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G 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rland et al, PR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8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5579 (2003)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amers, but no significant ETG 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Lin et al, TTF04 &amp; oral talk at 2004 IAEA Mtg.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sue yet to be res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 Thermal Transpor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the ‘ETG’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48320" y="2098800"/>
            <a:ext cx="3809880" cy="3878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184480" y="2546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E7E-3DEA-4DCA-8784-E3745FE278D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IC algorithm for kinetic e’s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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chmarking GEM against GYRO and G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3011400"/>
            <a:ext cx="3809880" cy="2818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23320" y="251460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Growth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2743200"/>
            <a:ext cx="3656160" cy="3121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13600" y="2087640"/>
            <a:ext cx="22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bulent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243-B46C-4DDE-97E4-761EDA3EE95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MP Supports User Communit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both GS2 and GYRO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 user community trained and working to valida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yrokinetic codes against experimental data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urdelle, Bravenec, Budny, Ernst, Hallatschek, Hill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nko, Mikkelsen, Redi, Ross, Yuh, 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shops to educate user community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ember 2002, …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sites for code distribution and document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9999"/>
              </a:buClr>
              <a:buFont typeface="Times"/>
              <a:buChar char="•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gs2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ourceforg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.net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and 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fusion.gat.com/comp/parallel/gyro.htm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 by these Gyrokinetic code users has led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ations and talks at major meetings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 W. Ross, TTF 200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N. Rogers, Sherwood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 Ernst, APS 200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. Jenko, IAEA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. Hallatschek, APS 20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. Yuh, ICOPS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03C-4A4F-402A-AFDE-DD1F1D2B88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10410" t="16164" r="0" b="29336"/>
          <a:stretch/>
        </p:blipFill>
        <p:spPr>
          <a:xfrm>
            <a:off x="457200" y="2286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MP Codes Scale to large numbers of processors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YRO is a benchmark code for the ORNL Cray X-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TC ported to both ORNL Cray X-1and Japanese Earth Si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726080" y="2432160"/>
            <a:ext cx="3655800" cy="3130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029200" y="563868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details on GYRO performance, see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http://fusion.gat.com/comp/parallel/performanc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0240" y="1720800"/>
            <a:ext cx="21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Y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 proble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56840" y="1676520"/>
            <a:ext cx="270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T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 siz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roces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563868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details on GTC performance, see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http://gk.ps.uci.edu/zlin/parallel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BF9-4B10-4A9C-8305-1D0E3CFBF7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DAC Computing Resour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d Studies of Plasma Micro-turbu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RSC (LBN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Y ‘01 usag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36M node-h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Y ‘02 usag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63M node-h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Y ‘03 usag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78M node-h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ounting unit re-normaliz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y a factor of 2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Y ‘04 allo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M node-h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nd we will certainly use it a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CS (ORN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Y ‘03 usag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5M node-h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Y ‘04 allocation: 1 M node-h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ut CCS doesn’t seem to mind if you exceed your allocation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9560" y="5105520"/>
            <a:ext cx="752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substantial use of Linux Clusters at PPPL, GA, MIT and U of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MP is largest user of computer time among OFES-funded activi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d this counts only usage by our PI’s, not that of our user-community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BDE-AF68-4FB1-99CC-EB9F17B31E5B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the PMP produced good scienc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ge for your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eed pub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.   Candy, R. E.  Waltz, and W. Dorland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. Candy, R.E. Waltz, and M.N. Rosenbluth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879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. K.  Decyk and Charles D. Norton, Scientific Programming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4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. R.  Ernst, P. T.  Bonoli, P. J.  Catto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Plasmas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. Ethier and Z. Lin, Computer Physics Communications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. S.  Hahm, P.H.  Diamond, Z.  Li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lasma Phys. Controlled Fusion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.L. Hinton, R.E. Waltz, and J. Candy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243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W. Lee, Comput. Phys. Comm.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Z.  Lin and T. S. Hahm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1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-99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.E. Parker, Y. Chen, W. Wa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259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 Romanelli, C.  Bourdelle, and W. Dorland, Phys. Plasmas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.E. Waltz, Fusion Science and Technolo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X.  Wang, W.M.  Tang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Computational Physics Communication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 Bourdelle, W.  Dorland, X.  Garbet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288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. Candy and R.E. Waltz, Phys. Rev. Lett.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9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04500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. Candy and R.E. Waltz, J. Comp. Phys.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86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54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. Chen and S.E. Parker, Journal of Computational Physic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8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(2), 463-47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. Chen, S.E.  Parker, B.I.  Cohe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Nucl.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-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.  Chen, S.E. Parker, B.I.  Cohe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Nuclear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12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Holland, P.H. Diamond, S. Champeaux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Nuclear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(8), 76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W. Lee and H. Qin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3196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. L. V. Lewandowski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320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. L. V. Lewandowski, Plasma Phys. Controlled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L39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. S.  Pedersen, A. H.  Boozer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J. Phys. B: At. Mol. Opt. Phys.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029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. V.  Budny, R.  Andre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lasma Phys. Control.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21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. Chen, Samuel T.  Jones, and Scott E. Parker, EEE Tran. Plasma Sci.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7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I.  Cohen, A.M. Dimits, W.M. Nevins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(1), 251-262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ruce I. Cohen, Andris M. Dimits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(5), 1915-192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. S. Hahm, Plasma Phys. Controlled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A8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. Jenko and W. Dorland, Phys. Rev. Lett.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22500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Z.  Lin, S. Ethier, T. S.  Hahm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Rev. Lett.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8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9500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. W.  Ross, R. B.  Bravenec, W.  Dorland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7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. W. Ross and W. Dorland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503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J.  Synakowski, M. G.  Bell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Control.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A16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. E. Waltz, J. Candy, and M.N. Rosenbluth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938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.M. Dimits, B.I. Cohen, W.M. Nevins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Nuclear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725-1732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. H.  Hutchinson, R.  Boivin, P. T.  Bonoli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Nucl.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39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.  Jenko, W.  Dorland, and G. W. Hammett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4096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W.  Lee, J. L. V.  Lewandowski, T. S.  Hahm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443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Z.  Lin and L. Chen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44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5CBD-D638-4A57-BDE0-D2236AD88196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the PMP produced good scienc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ge for your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ks at major meet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n Bravenec, “Synthetic Diagnostics,” presented at the 15th Topical Conference on High-Temperature Plasma Diagnostic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. K. Decyk, “UCLA Parallel PIC Framework: A Toolkit for new PIC Codes,” presented at the SIAM Conference on Parallel Processing for Scientific Computing, San Francisco, 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Dorland, “Resonant Heating in the Alfven Cascade,” presented at the Fields Institu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N. Guzdar, “Pedestal Physics,” to be presented at the 20th IAEA Fusion Energy Conference, Vilamoura, Portug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.S. Hahm, to be presented at the 20th IAEA Fusion Energy Conference, Vilamoura, Portug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W. Lee, “MFE Simulation Data Management,” presented at the DoE Data Management Workshop, SLAC, Palo Alto, 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. Lin, to be presented at the 20th IAEA Fusion Energy Conference, Vilamoura, Portug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.N. Rogers, “Non-Curvature Driven Modes in the H-Mode Pedestal,” presented at the Sherwood Conference, Missoula, M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.W. Ross, “Experimental Comparisons with Gyrokinetic Codes (preview talk),” presented at the Transport Task Force Meeting, Salt Lake, U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.E. Waltz, “Advances in Comprehensive Gyrokinetic Simulations of Transport in Tokamaks",” to be presented at the 20th IAEA Fusion Energy Conference, Vilamoura, Portug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. Chen, “Electromagnetic gyrokinetic simulations,” presented at the International Sherwood Fusion Theory Meet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Dorland, “Sheared flows and boundary layer physics in tokamak plasma,” presented at the New Themes in Plasma and Fusion Turbulence, Lond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Dorland, “Anomalous heating in a kinetic Alvfen wave cascade,” presented at the 7th Workshop on the Interrelationship between Plasma Experiment in Laboratory and Spa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Dorland, “US Plasma Microturbulence Project,” presented at the Eighth International Symposium  on Simulation Science, Hayama, Japa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.R. Ernst, “Role of Trapped Electron Mode Turbulence in Internal Transport Barrier Control in Alcator C-Mod,” presented at the 45th Annual Meeting of the Division of Plasma Physics, Albuquerque, N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.L. Hinton, “Electromagnetic turbulence effects in the neoclassical Ohm's law,” presented at the 45th Annual meeting of the Division of Plasma Physics, Albuquerque, N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.  Klasky, S.  Ethier, Z.  Li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“Grid-Based Parallel Data Streaming implemented for the Gyrokinetic Toroidal Code,” presented at the SC2003,  Phoenix, AZ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W. Lee, “Thermodynamic and numerical properties of a gyrokinetic plasma: implications on transport scale simulation,” presented at the 18th International Conference on Numerical Simulation of Plasmas, Cape Cod, M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Z Lin, presented at the 10th European Fusion Theory Conference, Helsinki, Finlan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.E. Parker, “Electromagnetic Turbulence Simulations with Kinetic Electrons,” presented at the 45th Annual Meeting of the Division of Plasma Physics, Albuquerque, N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H.   Redi, R.  Bell, P.  Bonoli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“Gyrokinetic Calculations of Microturbulence and Transport on NSTX and Alcator-CMOD H-modes,” presented at the 30th European Physical Society Conference on Plasma Physics and Controlled Fusion, St. Petersburg, Russi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636-8A2A-4E15-8CC8-B7FFBA7F93E8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20:32:12Z</dcterms:created>
  <dc:creator>Bill Nevins</dc:creator>
  <dc:description/>
  <dc:language>en-US</dc:language>
  <cp:lastModifiedBy>G. Rewoldt</cp:lastModifiedBy>
  <cp:lastPrinted>2004-05-31T19:50:49Z</cp:lastPrinted>
  <dcterms:modified xsi:type="dcterms:W3CDTF">2004-06-04T19:39:55Z</dcterms:modified>
  <cp:revision>49</cp:revision>
  <dc:subject/>
  <dc:title>The Plasma  Microturbulence Project</dc:title>
</cp:coreProperties>
</file>