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0AA-656D-4F94-B2AA-DF76AA8F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74F-4C80-4A30-88C4-8FE3F208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2D0-C18F-4A6C-8D63-D48AA19A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26F-46DC-42DE-BCFD-F2C9549C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3BC-5BDD-4299-BFB3-F754E222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282-F3F9-4599-9533-DA5143F5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FE0-A6BD-4435-8873-9D93292E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CEC-32EA-4CAA-B393-C2DB9A8B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334-7696-49E3-A60F-B8CB40FE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4FB-60F8-4FC4-86FF-4E083306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CC4-4319-4B12-8F35-CB9E3B86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3FC-E2B1-4D4C-9933-0A7F5D2C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6A62-7644-4961-8768-057D4FC84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bility Properties of Field-Reversed Configurations (FR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41148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V. Bel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P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6720" y="914400"/>
            <a:ext cx="423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3 International Sherwood Fusion Theory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pus Christi, TX, April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ongation and profil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343400" y="220968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lliptical equilib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special p(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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 pro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For </a:t>
            </a:r>
            <a:r>
              <a:rPr b="0" i="1" lang="en-US" sz="1600" spc="-1" strike="noStrike">
                <a:solidFill>
                  <a:srgbClr val="cc0000"/>
                </a:solidFill>
                <a:latin typeface="Times New Roman"/>
              </a:rPr>
              <a:t>S*/E&gt;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growth rate is function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/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For </a:t>
            </a:r>
            <a:r>
              <a:rPr b="0" i="1" lang="en-US" sz="1600" spc="-1" strike="noStrike">
                <a:solidFill>
                  <a:srgbClr val="cc0000"/>
                </a:solidFill>
                <a:latin typeface="Times New Roman"/>
              </a:rPr>
              <a:t>S*/E&lt;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growth rate depends on both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sonant particles effec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import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648320"/>
            <a:ext cx="365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brid simulations for equilibria with ellip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rix and different elongations: E=4, 6, 1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S*/E&lt;2, resonant ion effects are import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80880" y="2819520"/>
                <a:ext cx="609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/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h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4343400"/>
                <a:ext cx="56844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419720" y="403848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acetrack equilib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various p(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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 pro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 S*/E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aling does not app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2760" y="5638680"/>
            <a:ext cx="75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Times New Roman"/>
              </a:rPr>
              <a:t>S*/E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 scaling agrees with the experimental stability scaling [</a:t>
            </a:r>
            <a:r>
              <a:rPr b="0" i="1" lang="en-US" sz="1800" spc="-1" strike="noStrike">
                <a:solidFill>
                  <a:srgbClr val="a50021"/>
                </a:solidFill>
                <a:latin typeface="Times New Roman"/>
              </a:rPr>
              <a:t>M. Tuszewski,1998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fig2" descr=""/>
          <p:cNvPicPr/>
          <p:nvPr/>
        </p:nvPicPr>
        <p:blipFill>
          <a:blip r:embed="rId2"/>
          <a:srcRect l="12287" t="11906" r="5839" b="11953"/>
          <a:stretch/>
        </p:blipFill>
        <p:spPr>
          <a:xfrm>
            <a:off x="990720" y="1905120"/>
            <a:ext cx="3047760" cy="2438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76720" y="20574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22560" y="2209680"/>
            <a:ext cx="330120" cy="180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22560" y="2743200"/>
            <a:ext cx="3301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22560" y="2463840"/>
            <a:ext cx="33012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7440" y="205740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Times New Roman"/>
              </a:rPr>
              <a:t>E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59092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E=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7440" y="228600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E=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3880" y="18288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tatron resonance cond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Finn’79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04600" y="18288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Ω – ω =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4520" y="198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nant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66680" y="2819520"/>
                <a:ext cx="72313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observe wave-particle resonances,  if  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where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  <m:r>
                          <m:rPr>
                            <m:lit/>
                            <m:nor/>
                          </m:rPr>
                          <m:t xml:space="preserve"> is odd number,</m:t>
                        </m:r>
                      </m:e>
                      <m:e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- is particle toroidal rotation frequency,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axial betatron frequenc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4830840" y="2774880"/>
            <a:ext cx="12952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31240" y="4038480"/>
            <a:ext cx="5853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wth rate depends on: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.  number of resonant part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.  slope of distributio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3.  stochasticity of particle or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nant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omega_1_1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3733560" cy="2224080"/>
          </a:xfrm>
          <a:prstGeom prst="rect">
            <a:avLst/>
          </a:prstGeom>
          <a:ln w="0">
            <a:noFill/>
          </a:ln>
        </p:spPr>
      </p:pic>
      <p:pic>
        <p:nvPicPr>
          <p:cNvPr id="195" name="omega_5_1" descr=""/>
          <p:cNvPicPr/>
          <p:nvPr/>
        </p:nvPicPr>
        <p:blipFill>
          <a:blip r:embed="rId3"/>
          <a:stretch/>
        </p:blipFill>
        <p:spPr>
          <a:xfrm>
            <a:off x="1066680" y="4038480"/>
            <a:ext cx="3657600" cy="2325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795200" y="220968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=6  elliptic separatri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95920" y="160020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icle distribution in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-space for differen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162920" y="1600200"/>
                <a:ext cx="664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85800" y="5029200"/>
                <a:ext cx="306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371600" y="4219560"/>
                <a:ext cx="65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447920" y="1812960"/>
                <a:ext cx="610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09480" y="2498760"/>
                <a:ext cx="306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819520" y="6330960"/>
                <a:ext cx="19368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5029200" y="388620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configuration size reduc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 equilibri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ies grow, and parti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read out alo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xis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f particles at resonance incre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819520" y="1889280"/>
            <a:ext cx="761760" cy="1828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819520" y="2955600"/>
            <a:ext cx="990360" cy="762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9520" y="4067280"/>
            <a:ext cx="761760" cy="2133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19520" y="4752720"/>
            <a:ext cx="1523880" cy="14475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6880" y="2743200"/>
            <a:ext cx="27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correspond to resonan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730840" y="3138480"/>
                <a:ext cx="1719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 and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4948200" y="5562720"/>
            <a:ext cx="34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tochasticity of ion or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  –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expected to reduce growth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6960" y="17272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HD-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6600" y="4165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Ki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19520" y="3886200"/>
                <a:ext cx="19368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hasticity of i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lena1" descr=""/>
          <p:cNvPicPr/>
          <p:nvPr/>
        </p:nvPicPr>
        <p:blipFill>
          <a:blip r:embed="rId1">
            <a:lum contrast="6000"/>
          </a:blip>
          <a:srcRect l="1635" t="0" r="0" b="68058"/>
          <a:stretch/>
        </p:blipFill>
        <p:spPr>
          <a:xfrm>
            <a:off x="533520" y="3429000"/>
            <a:ext cx="4883040" cy="928800"/>
          </a:xfrm>
          <a:prstGeom prst="rect">
            <a:avLst/>
          </a:prstGeom>
          <a:ln w="0">
            <a:noFill/>
          </a:ln>
        </p:spPr>
      </p:pic>
      <p:pic>
        <p:nvPicPr>
          <p:cNvPr id="217" name="lena2" descr=""/>
          <p:cNvPicPr/>
          <p:nvPr/>
        </p:nvPicPr>
        <p:blipFill>
          <a:blip r:embed="rId2">
            <a:lum contrast="6000"/>
          </a:blip>
          <a:srcRect l="0" t="0" r="0" b="70730"/>
          <a:stretch/>
        </p:blipFill>
        <p:spPr>
          <a:xfrm>
            <a:off x="533520" y="4800600"/>
            <a:ext cx="4906800" cy="900000"/>
          </a:xfrm>
          <a:prstGeom prst="rect">
            <a:avLst/>
          </a:prstGeom>
          <a:ln w="0">
            <a:noFill/>
          </a:ln>
        </p:spPr>
      </p:pic>
      <p:pic>
        <p:nvPicPr>
          <p:cNvPr id="218" name="PPPL_Logo" descr=""/>
          <p:cNvPicPr/>
          <p:nvPr/>
        </p:nvPicPr>
        <p:blipFill>
          <a:blip r:embed="rId3"/>
          <a:stretch/>
        </p:blipFill>
        <p:spPr>
          <a:xfrm>
            <a:off x="609480" y="91440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523880" y="121932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29528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5920" y="312408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etatron 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9280" y="44956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ri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r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ena1" descr=""/>
          <p:cNvPicPr/>
          <p:nvPr/>
        </p:nvPicPr>
        <p:blipFill>
          <a:blip r:embed="rId4"/>
          <a:srcRect l="7555" t="41313" r="13853" b="0"/>
          <a:stretch/>
        </p:blipFill>
        <p:spPr>
          <a:xfrm>
            <a:off x="5715000" y="3200400"/>
            <a:ext cx="2743200" cy="1295280"/>
          </a:xfrm>
          <a:prstGeom prst="rect">
            <a:avLst/>
          </a:prstGeom>
          <a:ln w="0">
            <a:noFill/>
          </a:ln>
        </p:spPr>
      </p:pic>
      <p:pic>
        <p:nvPicPr>
          <p:cNvPr id="224" name="lena2" descr=""/>
          <p:cNvPicPr/>
          <p:nvPr/>
        </p:nvPicPr>
        <p:blipFill>
          <a:blip r:embed="rId5"/>
          <a:srcRect l="8902" t="45258" r="15428" b="0"/>
          <a:stretch/>
        </p:blipFill>
        <p:spPr>
          <a:xfrm>
            <a:off x="5638680" y="4800600"/>
            <a:ext cx="2819520" cy="1258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0760" y="1523880"/>
            <a:ext cx="52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majority of ions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conserv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ypical F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longated FRC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&gt;&gt;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943600" y="1600200"/>
                <a:ext cx="11430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809880" y="1981080"/>
                <a:ext cx="4535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   is  a  small parameter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another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diabatic  invariant  exis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09840" y="274320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wo basic types of ion orbits (E&gt;&gt;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080" y="2971800"/>
            <a:ext cx="18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tatron orbit (regul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440" y="4572000"/>
            <a:ext cx="17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ift orbit (stochasti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8840" y="5791320"/>
            <a:ext cx="481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drift orbit                             at the FRC ends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ochasticit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752480" y="5840280"/>
                <a:ext cx="1143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rity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lena4" descr=""/>
          <p:cNvPicPr/>
          <p:nvPr/>
        </p:nvPicPr>
        <p:blipFill>
          <a:blip r:embed="rId1">
            <a:lum contrast="6000"/>
          </a:blip>
          <a:srcRect l="0" t="14114" r="49370" b="0"/>
          <a:stretch/>
        </p:blipFill>
        <p:spPr>
          <a:xfrm>
            <a:off x="6705720" y="1531800"/>
            <a:ext cx="1676160" cy="1460520"/>
          </a:xfrm>
          <a:prstGeom prst="rect">
            <a:avLst/>
          </a:prstGeom>
          <a:ln w="0">
            <a:noFill/>
          </a:ln>
        </p:spPr>
      </p:pic>
      <p:pic>
        <p:nvPicPr>
          <p:cNvPr id="235" name="lena4" descr=""/>
          <p:cNvPicPr/>
          <p:nvPr/>
        </p:nvPicPr>
        <p:blipFill>
          <a:blip r:embed="rId2">
            <a:biLevel thresh="50000"/>
            <a:lum contrast="6000"/>
          </a:blip>
          <a:srcRect l="50642" t="14114" r="0" b="0"/>
          <a:stretch/>
        </p:blipFill>
        <p:spPr>
          <a:xfrm>
            <a:off x="4952880" y="1531800"/>
            <a:ext cx="1633680" cy="14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371600" y="2133720"/>
                <a:ext cx="20574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ψ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7" name="PPPL_Logo" descr=""/>
          <p:cNvPicPr/>
          <p:nvPr/>
        </p:nvPicPr>
        <p:blipFill>
          <a:blip r:embed="rId3"/>
          <a:stretch/>
        </p:blipFill>
        <p:spPr>
          <a:xfrm>
            <a:off x="609480" y="91440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523880" y="121932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129528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6520" y="332892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Regularity cond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lena5" descr=""/>
          <p:cNvPicPr/>
          <p:nvPr/>
        </p:nvPicPr>
        <p:blipFill>
          <a:blip r:embed="rId4"/>
          <a:stretch/>
        </p:blipFill>
        <p:spPr>
          <a:xfrm>
            <a:off x="5334120" y="4114800"/>
            <a:ext cx="2514600" cy="173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800600" y="4724280"/>
                <a:ext cx="482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gular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477120" y="5791320"/>
                <a:ext cx="380880" cy="1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4506480" y="6019920"/>
            <a:ext cx="43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 of regular orbits in three different equilib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5943600"/>
            <a:ext cx="35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versus stochastic portions of  particle ph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fo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*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6. Width of regular region ~ 1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ff_st" descr=""/>
          <p:cNvPicPr/>
          <p:nvPr/>
        </p:nvPicPr>
        <p:blipFill>
          <a:blip r:embed="rId5"/>
          <a:stretch/>
        </p:blipFill>
        <p:spPr>
          <a:xfrm>
            <a:off x="914400" y="4267080"/>
            <a:ext cx="284328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09480" y="472428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86000" y="5791320"/>
                <a:ext cx="208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2746440" y="4572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4320" y="525780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486400" y="3048120"/>
                <a:ext cx="6602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238880" y="3048120"/>
                <a:ext cx="9018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691560" y="1523880"/>
            <a:ext cx="418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ularity condition can be obtained consi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icle motion in the 2D effective potenti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000" y="2743200"/>
            <a:ext cx="368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pe of the effective potential depend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 of toroidal angular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809880" y="3048120"/>
                <a:ext cx="2556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5185440" y="320040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etatron orb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8840" y="3200400"/>
            <a:ext cx="22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etatron or drift, depending o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38080" y="3733920"/>
                <a:ext cx="3048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ε</m:t>
                        </m:r>
                      </m:e>
                    </m:rad>
                    <m:r>
                      <m:t xml:space="preserve">&gt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ε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248520" y="160020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24680" y="16002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200" y="371016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umber of regular orbits ~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/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29400" y="4800600"/>
            <a:ext cx="102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liptic,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6,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7880" y="4343400"/>
            <a:ext cx="96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cetrack,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nant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11960" y="1828800"/>
            <a:ext cx="650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imulations evolve no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, but                    , where                                  =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tion particles has weights                   , which satisf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486400" y="1905120"/>
                <a:ext cx="168264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962520" y="1905120"/>
                <a:ext cx="9144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733920" y="2133720"/>
                <a:ext cx="9144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971800" y="2514600"/>
                <a:ext cx="2941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δE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0" y="3581280"/>
                <a:ext cx="44118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acc>
                    <m:f>
                      <m:num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δE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δE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523880" y="4632480"/>
                <a:ext cx="14335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1000800" y="3200400"/>
            <a:ext cx="451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can be shown that growth rate can be calculated 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09080" y="4648320"/>
            <a:ext cx="54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                               - plays role of perturbed particle ener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04680" y="5234040"/>
            <a:ext cx="755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imulations with small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*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show that small fraction of resonant ions (&lt;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tributes more than ½ into calculated growth rate – which proves the reso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ature of inst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nant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PPL_Logo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523880" y="12952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omegaw_1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733840" cy="1452600"/>
          </a:xfrm>
          <a:prstGeom prst="rect">
            <a:avLst/>
          </a:prstGeom>
          <a:ln w="0">
            <a:noFill/>
          </a:ln>
        </p:spPr>
      </p:pic>
      <p:pic>
        <p:nvPicPr>
          <p:cNvPr id="283" name="omegaw_5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2666880" cy="138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06560" y="2125800"/>
                <a:ext cx="812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868480" y="3497400"/>
                <a:ext cx="863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516680" y="1500120"/>
            <a:ext cx="65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Hybrid simulations with different values of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*=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0-75 (E=6, ellipti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2209680"/>
                <a:ext cx="23652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;   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057400" y="4952880"/>
                <a:ext cx="79200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760680" y="2565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3920" y="3962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35640" y="5410080"/>
            <a:ext cx="740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Larger elongation, </a:t>
            </a:r>
            <a:r>
              <a:rPr b="0" i="1" lang="en-US" sz="16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=12, case is similar, but resonant effects become important at lar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S* </a:t>
            </a:r>
            <a:r>
              <a:rPr b="0" lang="en-US" sz="1600" spc="-1" strike="noStrike">
                <a:solidFill>
                  <a:srgbClr val="00cc99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 smaller number of regular orbits, and smaller growth 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95880" y="4724280"/>
            <a:ext cx="21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1     0     1     2     3     4     5    6     7     8   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70600" y="2171880"/>
            <a:ext cx="42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 plot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; resonant particles have large weigh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60440" y="281952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 – ω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ω   ,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1, 3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7680" y="2971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581280"/>
            <a:ext cx="426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lliptical FRCs, FLR stabilization is function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/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atio, whereas number of regular orbits, and the resonant drive scale as ~1/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 configurations have advantage for stabi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Linear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4800600"/>
            <a:ext cx="784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igated the effects of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ak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toroidal fiel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MHD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tabiliz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!) for B  ~ 10-30% of 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wth rate increases by ~40%  for B  =0.2 B    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3840" y="38862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43520" y="1828800"/>
            <a:ext cx="363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atter plot of resonant particles in phase-sp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lena3" descr=""/>
          <p:cNvPicPr/>
          <p:nvPr/>
        </p:nvPicPr>
        <p:blipFill>
          <a:blip r:embed="rId2"/>
          <a:srcRect l="0" t="0" r="0" b="4177"/>
          <a:stretch/>
        </p:blipFill>
        <p:spPr>
          <a:xfrm>
            <a:off x="5181480" y="2133720"/>
            <a:ext cx="3124440" cy="1869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79320" y="1728720"/>
            <a:ext cx="40914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ave-particle resona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shown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cur only in the regular region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-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y local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ossibilities for stabil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Maxwellian distribution fun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 number of regular-orbit 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8520" y="563868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31720" y="5638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60199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brid simulations with E=4, s=2,  elliptical separatri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cont_kin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078080" cy="464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09480" y="1371600"/>
                <a:ext cx="533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4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09480" y="2286000"/>
                <a:ext cx="546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2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09480" y="3200400"/>
                <a:ext cx="546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6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09480" y="5029200"/>
                <a:ext cx="533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4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9480" y="4114800"/>
                <a:ext cx="533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0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Non-linear effect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 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PPL_Logo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523880" y="121932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129528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linear evolution of tilt mode in kinetic FRC is different from MH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stabilities saturate nonlinearly when S* is smal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Belova et al.,2000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3276720"/>
            <a:ext cx="4114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onant nature of instability at low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grees with non-linear saturation, found earl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turation mechanis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flattening of distribution function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onant reg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onfiguration appear to evolve into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elliptic separatrix and larg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Non-linear effect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 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linear hybrid simulations for large 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MHD-like regim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200" y="5867280"/>
            <a:ext cx="441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Energy plots for n=0-4 mod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Vector plots of poloidal magnetic field, at t=32 t 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0280" y="2133720"/>
            <a:ext cx="42051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ar growth rate is compa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HD, but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nonlinear evolu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ably slo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reversal (                        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still pres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fter t=30 t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ffects of particle lo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out one-half of the particles are lost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=30 t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le loss from open field li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s in a faster linear growth d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he reduction in separatrix bet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ns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spin 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oroidal (diamagne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ion with V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3v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83280" y="44956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36120" y="33526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57200" y="2895480"/>
                <a:ext cx="4698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809880" y="4038480"/>
                <a:ext cx="30492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/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33" name="loss_bc" descr=""/>
          <p:cNvPicPr/>
          <p:nvPr/>
        </p:nvPicPr>
        <p:blipFill>
          <a:blip r:embed="rId2"/>
          <a:srcRect l="2396" t="0" r="0" b="43189"/>
          <a:stretch/>
        </p:blipFill>
        <p:spPr>
          <a:xfrm>
            <a:off x="914400" y="2209680"/>
            <a:ext cx="310500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172200" y="2971800"/>
                <a:ext cx="1409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6631200" y="5867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loss_bc1" descr=""/>
          <p:cNvPicPr/>
          <p:nvPr/>
        </p:nvPicPr>
        <p:blipFill>
          <a:blip r:embed="rId3"/>
          <a:srcRect l="0" t="1898" r="0" b="67789"/>
          <a:stretch/>
        </p:blipFill>
        <p:spPr>
          <a:xfrm>
            <a:off x="457200" y="4495680"/>
            <a:ext cx="3886200" cy="12193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06360" y="495288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7440" y="563868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057400" y="4343400"/>
                <a:ext cx="609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1211760" y="4038480"/>
            <a:ext cx="25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                    10                   20                  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9560" y="6172200"/>
            <a:ext cx="3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Linear stability (n=1 tilt mode, prolate FR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FLR stabi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Hall term versus FLR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resonant particle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s linearly-stable FRC possibl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Nonlinear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onlinear satur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 tilt mode for smal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onlinear evolution for larg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4280" y="2514600"/>
            <a:ext cx="2588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sual” (racetrack) FRCs v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long, elliptic-separatrix FR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362320"/>
            <a:ext cx="75960" cy="1218960"/>
          </a:xfrm>
          <a:custGeom>
            <a:avLst/>
            <a:gdLst>
              <a:gd name="textAreaLeft" fmla="*/ 0 w 75960"/>
              <a:gd name="textAreaRight" fmla="*/ 53280 w 75960"/>
              <a:gd name="textAreaTop" fmla="*/ 50760 h 1218960"/>
              <a:gd name="textAreaBottom" fmla="*/ 11682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uture directions (FRC st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238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ow-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S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C stability is best underst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arge-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S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Cs be stable, and how large is lar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effects are missing from present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fects of non-Maxwellian ion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The effects of energetic beam 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Electron physics (e.g., the traped electron curvature drif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Oth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l term – defines mode rotation and struc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R effects – reduction in growth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/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aling has been demonstrated for elliptical FRC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/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nant effects – shown to maintain instability at lo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chasticity of ion orbits is not strong enough to prevent instabil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rity condition has been derived; number of regular orbits has been shown to scale lnearly with 1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linear saturation at lo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natural mechanism to evolve into line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le configu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nlinear evolution is different from MH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ch slower; ion spin-up in diamagnetic dir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PPL_Logo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523880" y="99072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106668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v4" descr=""/>
          <p:cNvPicPr/>
          <p:nvPr/>
        </p:nvPicPr>
        <p:blipFill>
          <a:blip r:embed="rId1"/>
          <a:srcRect l="17144" t="17424" r="0" b="23484"/>
          <a:stretch/>
        </p:blipFill>
        <p:spPr>
          <a:xfrm>
            <a:off x="1447920" y="457200"/>
            <a:ext cx="6629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45720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RC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v2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3676680" cy="279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35520" y="1219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560" y="3200400"/>
            <a:ext cx="28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8920" y="2971800"/>
            <a:ext cx="298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520" y="2514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410080" y="1905120"/>
                <a:ext cx="203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5880" y="1066680"/>
                <a:ext cx="216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657600" y="4114800"/>
                <a:ext cx="444348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 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separatrix elongation;</m:t>
                        </m:r>
                      </m:e>
                      <m:e/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- toroidal mode number;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*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- kinetic parameter, equals to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ratio of separatrix radius to Larmor radiu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172200" y="2590920"/>
            <a:ext cx="3049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6240" y="7113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705720" y="2590920"/>
                <a:ext cx="7999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nφ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429000" y="4038480"/>
            <a:ext cx="76320" cy="1600200"/>
          </a:xfrm>
          <a:custGeom>
            <a:avLst/>
            <a:gdLst>
              <a:gd name="textAreaLeft" fmla="*/ 22320 w 76320"/>
              <a:gd name="textAreaRight" fmla="*/ 76320 w 7632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76520" y="1905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C stability code –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HY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Hybrid &amp; MH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D non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different physical mod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sistive MHD &amp; Hall-MH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-larg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Hybri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luid e, particle ions)               -smal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  MHD/partic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luid thermal plasma, energetic particle 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particles: delta-f /full-f scheme;   analy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-Shafranov equilib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erical Studies of FRC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324480" y="4343400"/>
                <a:ext cx="8384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 Linear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6765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0200" y="1752480"/>
            <a:ext cx="72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ntrate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 tilt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ost difficult to stabilize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t least theoretical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35800" y="2262240"/>
            <a:ext cx="3667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kinetic effects to 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F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Resonant particle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8040" y="266688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stabil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1840" y="3124080"/>
            <a:ext cx="33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destabilizing, and obscure the first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276720"/>
            <a:ext cx="6858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09680" y="2895480"/>
            <a:ext cx="1905120" cy="1526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209680" y="2743200"/>
            <a:ext cx="1905120" cy="763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3886200"/>
            <a:ext cx="6705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FRC equilib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Usual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quilibri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lliptical equilib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nalytic p(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ψ)                                        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  special p(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ψ) [Barnes,200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amp;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cetrack-lik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8040" y="5029200"/>
            <a:ext cx="189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-localized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saturates with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61760" y="4876920"/>
            <a:ext cx="192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ways global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scales a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tocha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 Linear stability: Hall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6765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876920"/>
            <a:ext cx="380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wth rate is reduced by a factor of two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*/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43440" y="1600200"/>
            <a:ext cx="55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o isolate Hall effects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ll-MHD simulation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1 tilt m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2209680"/>
            <a:ext cx="36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ll-MHD simulations (elliptic separatrix, E=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hall0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3276720" cy="220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95280" y="2666880"/>
                <a:ext cx="405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/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679920" y="2743200"/>
                <a:ext cx="377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-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514600" y="4648320"/>
            <a:ext cx="509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/S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743200"/>
            <a:ext cx="3352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- Compare with analytic resul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tability at S*/E</a:t>
            </a:r>
            <a:r>
              <a:rPr b="0" lang="en-US" sz="1800" spc="-1" strike="noStrike">
                <a:solidFill>
                  <a:srgbClr val="00cc99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1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[Barnes, 2002]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200400"/>
            <a:ext cx="3047760" cy="6858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58640" y="5486400"/>
            <a:ext cx="640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Hall stabilization: not sufficient to explain stability; FLR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other kinetic effects must be inclu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 Linear stability: Hall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6765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2840" y="5638680"/>
            <a:ext cx="337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in linear mode structure from MH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Hall-MHD simulations with S*=5, E=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7080" y="23623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M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600" y="396252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Hall-M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4920" y="434340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*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" name="hall1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4023000" cy="2052360"/>
          </a:xfrm>
          <a:prstGeom prst="rect">
            <a:avLst/>
          </a:prstGeom>
          <a:ln w="0">
            <a:noFill/>
          </a:ln>
        </p:spPr>
      </p:pic>
      <p:pic>
        <p:nvPicPr>
          <p:cNvPr id="111" name="hall2" descr=""/>
          <p:cNvPicPr/>
          <p:nvPr/>
        </p:nvPicPr>
        <p:blipFill>
          <a:blip r:embed="rId3"/>
          <a:stretch/>
        </p:blipFill>
        <p:spPr>
          <a:xfrm>
            <a:off x="1143000" y="3657600"/>
            <a:ext cx="3886200" cy="193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809880"/>
                <a:ext cx="195480" cy="1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95280" y="1905120"/>
                <a:ext cx="195480" cy="1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00400" y="3809880"/>
                <a:ext cx="45720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V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200400" y="1905120"/>
                <a:ext cx="45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V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114160" y="1752480"/>
            <a:ext cx="3384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Hall-MHD simula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ilt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more localized compared to MH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has a complicated axial structur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4191120"/>
            <a:ext cx="158760" cy="930240"/>
          </a:xfrm>
          <a:custGeom>
            <a:avLst/>
            <a:gdLst>
              <a:gd name="textAreaLeft" fmla="*/ 21240 w 158760"/>
              <a:gd name="textAreaRight" fmla="*/ 137520 w 158760"/>
              <a:gd name="textAreaTop" fmla="*/ 198000 h 930240"/>
              <a:gd name="textAreaBottom" fmla="*/ 679320 h 93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05" stAng="-5400000" swAng="5400000"/>
                <a:lnTo>
                  <a:pt x="21600" y="11169"/>
                </a:lnTo>
                <a:arcTo wR="21600" hR="9205" stAng="0" swAng="3152765"/>
                <a:lnTo>
                  <a:pt x="6703" y="21146"/>
                </a:lnTo>
                <a:lnTo>
                  <a:pt x="0" y="19391"/>
                </a:lnTo>
                <a:lnTo>
                  <a:pt x="6703" y="16728"/>
                </a:lnTo>
                <a:lnTo>
                  <a:pt x="6703" y="17955"/>
                </a:lnTo>
                <a:arcTo wR="21600" hR="9205" stAng="3152765" swAng="-2995687"/>
                <a:lnTo>
                  <a:pt x="21477" y="10187"/>
                </a:lnTo>
                <a:arcTo wR="21600" hR="9205" stAng="-157078" swAng="-5242922"/>
                <a:close/>
              </a:path>
              <a:path fill="darkenLess" w="21600" h="21600">
                <a:moveTo>
                  <a:pt x="0" y="0"/>
                </a:moveTo>
                <a:arcTo wR="21600" hR="9205" stAng="-5400000" swAng="5400000"/>
                <a:lnTo>
                  <a:pt x="21600" y="11169"/>
                </a:lnTo>
                <a:arcTo wR="21600" hR="9205" stAng="0" swAng="-157078"/>
                <a:lnTo>
                  <a:pt x="21477" y="10187"/>
                </a:lnTo>
                <a:arcTo wR="21600" hR="9205" stAng="-157078" swAng="-524292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809880"/>
            <a:ext cx="3429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Hall eff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st reduction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50% at mo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ation (in the electron directio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ificant change in mod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3733920"/>
            <a:ext cx="3429000" cy="1752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 Linear stability: FLR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PPL_Logo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gammah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3353040" cy="243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57400" y="236232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brid simulations with and without Hall term;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4 elliptic separatri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358128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Without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6708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With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85800" y="3276720"/>
                <a:ext cx="4046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/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519560" y="1562040"/>
            <a:ext cx="641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ot isolate FLR effects without making FLR expan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brid simulations with full ion dynamics, bu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urn off Hall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5410080"/>
            <a:ext cx="55623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Growth rate reduction is mostly due to FLR; howev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Hall effects determine linear mode structure and ro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omegah" descr=""/>
          <p:cNvPicPr/>
          <p:nvPr/>
        </p:nvPicPr>
        <p:blipFill>
          <a:blip r:embed="rId3"/>
          <a:stretch/>
        </p:blipFill>
        <p:spPr>
          <a:xfrm>
            <a:off x="4876920" y="2666880"/>
            <a:ext cx="3222360" cy="243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627600" y="312408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Without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426708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With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724280" y="3276720"/>
                <a:ext cx="2700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phi2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1531800" cy="1532160"/>
          </a:xfrm>
          <a:prstGeom prst="rect">
            <a:avLst/>
          </a:prstGeom>
          <a:ln w="0">
            <a:noFill/>
          </a:ln>
        </p:spPr>
      </p:pic>
      <p:pic>
        <p:nvPicPr>
          <p:cNvPr id="136" name="rphi3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1531800" cy="1532160"/>
          </a:xfrm>
          <a:prstGeom prst="rect">
            <a:avLst/>
          </a:prstGeom>
          <a:ln w="0">
            <a:noFill/>
          </a:ln>
        </p:spPr>
      </p:pic>
      <p:pic>
        <p:nvPicPr>
          <p:cNvPr id="137" name="Zcontour2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1514520" cy="1509840"/>
          </a:xfrm>
          <a:prstGeom prst="rect">
            <a:avLst/>
          </a:prstGeom>
          <a:ln w="0">
            <a:noFill/>
          </a:ln>
        </p:spPr>
      </p:pic>
      <p:pic>
        <p:nvPicPr>
          <p:cNvPr id="138" name="Zcontour3" descr=""/>
          <p:cNvPicPr/>
          <p:nvPr/>
        </p:nvPicPr>
        <p:blipFill>
          <a:blip r:embed="rId4"/>
          <a:stretch/>
        </p:blipFill>
        <p:spPr>
          <a:xfrm>
            <a:off x="6477120" y="3809880"/>
            <a:ext cx="1515960" cy="1524240"/>
          </a:xfrm>
          <a:prstGeom prst="rect">
            <a:avLst/>
          </a:prstGeom>
          <a:ln w="0">
            <a:noFill/>
          </a:ln>
        </p:spPr>
      </p:pic>
      <p:pic>
        <p:nvPicPr>
          <p:cNvPr id="139" name="zr2" descr=""/>
          <p:cNvPicPr/>
          <p:nvPr/>
        </p:nvPicPr>
        <p:blipFill>
          <a:blip r:embed="rId5"/>
          <a:stretch/>
        </p:blipFill>
        <p:spPr>
          <a:xfrm>
            <a:off x="914400" y="2514600"/>
            <a:ext cx="3124080" cy="920880"/>
          </a:xfrm>
          <a:prstGeom prst="rect">
            <a:avLst/>
          </a:prstGeom>
          <a:ln w="0">
            <a:noFill/>
          </a:ln>
        </p:spPr>
      </p:pic>
      <p:pic>
        <p:nvPicPr>
          <p:cNvPr id="140" name="zr3" descr=""/>
          <p:cNvPicPr/>
          <p:nvPr/>
        </p:nvPicPr>
        <p:blipFill>
          <a:blip r:embed="rId6"/>
          <a:stretch/>
        </p:blipFill>
        <p:spPr>
          <a:xfrm>
            <a:off x="4876920" y="2514600"/>
            <a:ext cx="3124080" cy="917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7800" y="34290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0120" y="281952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5800" y="33876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819520"/>
            <a:ext cx="26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162920" y="3581280"/>
                <a:ext cx="1904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124080" y="3581280"/>
                <a:ext cx="1908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447920" y="3581280"/>
                <a:ext cx="52056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10080" y="3581280"/>
                <a:ext cx="52092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914400" y="1981080"/>
            <a:ext cx="3095640" cy="307080"/>
          </a:xfrm>
          <a:prstGeom prst="rect">
            <a:avLst/>
          </a:prstGeom>
          <a:solidFill>
            <a:srgbClr val="66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brid simulation without Hall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1981080"/>
            <a:ext cx="29718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brid simulation with Hall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737600">
            <a:off x="4114080" y="419076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59120 h 761760"/>
              <a:gd name="textAreaBottom" fmla="*/ 52632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26" stAng="-5400000" swAng="-5400000"/>
                <a:lnTo>
                  <a:pt x="0" y="10414"/>
                </a:lnTo>
                <a:arcTo wR="21600" hR="9026" stAng="10800000" swAng="-3135912"/>
                <a:lnTo>
                  <a:pt x="14954" y="21162"/>
                </a:lnTo>
                <a:lnTo>
                  <a:pt x="21600" y="18746"/>
                </a:lnTo>
                <a:lnTo>
                  <a:pt x="14954" y="15454"/>
                </a:lnTo>
                <a:lnTo>
                  <a:pt x="14954" y="17614"/>
                </a:lnTo>
                <a:arcTo wR="21600" hR="9026" stAng="7664088" swAng="3025169"/>
                <a:lnTo>
                  <a:pt x="64" y="9720"/>
                </a:lnTo>
                <a:arcTo wR="21600" hR="9026" stAng="-10689257" swAng="5289257"/>
                <a:close/>
              </a:path>
              <a:path fill="darkenLess" w="21600" h="21600">
                <a:moveTo>
                  <a:pt x="21600" y="0"/>
                </a:moveTo>
                <a:arcTo wR="21600" hR="9026" stAng="-5400000" swAng="-5400000"/>
                <a:lnTo>
                  <a:pt x="0" y="9026"/>
                </a:lnTo>
                <a:arcTo wR="21600" hR="9026" stAng="10800000" swAng="-110743"/>
                <a:lnTo>
                  <a:pt x="64" y="9720"/>
                </a:lnTo>
                <a:arcTo wR="21600" hR="9026" stAng="-10689257" swAng="528925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4191120"/>
            <a:ext cx="199800" cy="761760"/>
          </a:xfrm>
          <a:custGeom>
            <a:avLst/>
            <a:gdLst>
              <a:gd name="textAreaLeft" fmla="*/ 26640 w 199800"/>
              <a:gd name="textAreaRight" fmla="*/ 173160 w 199800"/>
              <a:gd name="textAreaTop" fmla="*/ 162720 h 761760"/>
              <a:gd name="textAreaBottom" fmla="*/ 523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5" stAng="-5400000" swAng="5400000"/>
                <a:lnTo>
                  <a:pt x="21600" y="10215"/>
                </a:lnTo>
                <a:arcTo wR="21600" hR="9225" stAng="0" swAng="3156456"/>
                <a:lnTo>
                  <a:pt x="6703" y="21145"/>
                </a:lnTo>
                <a:lnTo>
                  <a:pt x="0" y="18945"/>
                </a:lnTo>
                <a:lnTo>
                  <a:pt x="6703" y="15835"/>
                </a:lnTo>
                <a:lnTo>
                  <a:pt x="6703" y="17995"/>
                </a:lnTo>
                <a:arcTo wR="21600" hR="9225" stAng="3156456" swAng="-3077574"/>
                <a:lnTo>
                  <a:pt x="21569" y="9720"/>
                </a:lnTo>
                <a:arcTo wR="21600" hR="9225" stAng="-78882" swAng="-5321118"/>
                <a:close/>
              </a:path>
              <a:path fill="darkenLess" w="21600" h="21600">
                <a:moveTo>
                  <a:pt x="0" y="0"/>
                </a:moveTo>
                <a:arcTo wR="21600" hR="9225" stAng="-5400000" swAng="5400000"/>
                <a:lnTo>
                  <a:pt x="21600" y="10215"/>
                </a:lnTo>
                <a:arcTo wR="21600" hR="9225" stAng="0" swAng="-78882"/>
                <a:lnTo>
                  <a:pt x="21569" y="9720"/>
                </a:lnTo>
                <a:arcTo wR="21600" hR="9225" stAng="-78882" swAng="-5321118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0160" y="5638680"/>
            <a:ext cx="235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R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ode is MHD-lik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57680" y="5638680"/>
            <a:ext cx="34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R &amp; H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Mode is Hall-MHD-lik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924680" y="5638680"/>
                <a:ext cx="5335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24080" y="5638680"/>
                <a:ext cx="5493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 Linear stability: FLR vs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PPL_Logo" descr=""/>
          <p:cNvPicPr/>
          <p:nvPr/>
        </p:nvPicPr>
        <p:blipFill>
          <a:blip r:embed="rId7"/>
          <a:stretch/>
        </p:blipFill>
        <p:spPr>
          <a:xfrm>
            <a:off x="609480" y="1066680"/>
            <a:ext cx="838440" cy="411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23880" y="137160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447920"/>
            <a:ext cx="6705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04:12:08Z</dcterms:created>
  <dc:creator>ebelova</dc:creator>
  <dc:description/>
  <dc:language>en-US</dc:language>
  <cp:lastModifiedBy>ebelova</cp:lastModifiedBy>
  <dcterms:modified xsi:type="dcterms:W3CDTF">2003-04-27T17:04:39Z</dcterms:modified>
  <cp:revision>77</cp:revision>
  <dc:subject/>
  <dc:title>Numerical Study of Stability Properties of  FRC</dc:title>
</cp:coreProperties>
</file>