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91FB6-C85F-40DD-8980-9B277E484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7821D-AA96-4FAF-9080-EAC6974B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5DEFA-5905-4000-B245-56F8B88A0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31290-A8CB-4AC3-86FA-66FB3BA90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270BE-30F3-4D0C-8398-91F73C039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B11F0-48D5-4341-8F75-FDF5D59B9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6F6F8-6435-4FD7-8B9B-046395DB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D2FF9-74CB-4B5C-9374-9F3ECBA7D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A8D9C-733F-4E01-A128-8B3EA0CD9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C55B1-2C04-48C9-B997-C26E180BB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90E4F-8D82-463C-80A4-B2A2F8E3D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F0CDB-A10E-4A1F-B826-FA2A59E5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8B5F8-CE33-46B6-84AA-C581E888F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10F0B-3307-4DA1-9A84-434B9D348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34D4E-071E-4695-B607-021AE0C84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72AB4-67B1-4552-A1E3-69468F58D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4596F-44EA-4944-85D6-995EFB28E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F13C-DB50-4333-9728-671CB83F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3775-5B3C-455D-A9CD-58DBB6C3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55F6-1851-46EB-A6BD-85198FAC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6C86-C118-4139-8B06-3A1C83BB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BD03-E151-47CB-AFFF-AC84DF79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DA92-9EA3-4CC7-9B03-DC7FADB4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FE82-30EA-43D5-B7CD-7988EF813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AD0C-8453-431D-B49C-B48FF2C23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CDB6-2748-4660-86D6-833979BCA4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3.pppl.gov/~hammett" TargetMode="External"/><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fusion.gat.com/THEORY/images/3/35/D3d.n16.2x_0.6_fly.mp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fusion.gat.com/theory/Gyro" TargetMode="External"/><Relationship Id="rId2" Type="http://schemas.openxmlformats.org/officeDocument/2006/relationships/hyperlink" Target="http://fusion.gat.com/theory/Gyro" TargetMode="External"/><Relationship Id="rId3" Type="http://schemas.openxmlformats.org/officeDocument/2006/relationships/hyperlink" Target="http://gs2.sourceforge.net/" TargetMode="External"/><Relationship Id="rId4" Type="http://schemas.openxmlformats.org/officeDocument/2006/relationships/hyperlink" Target="http://cips.colorado.edu/simulation/gem.htm" TargetMode="External"/><Relationship Id="rId5"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2219400"/>
            <a:ext cx="6953400" cy="4638600"/>
          </a:xfrm>
          <a:prstGeom prst="rect">
            <a:avLst/>
          </a:prstGeom>
          <a:ln w="0">
            <a:noFill/>
          </a:ln>
        </p:spPr>
      </p:pic>
      <p:sp>
        <p:nvSpPr>
          <p:cNvPr id="83" name="PlaceHolder 1"/>
          <p:cNvSpPr>
            <a:spLocks noGrp="1"/>
          </p:cNvSpPr>
          <p:nvPr>
            <p:ph type="title"/>
          </p:nvPr>
        </p:nvSpPr>
        <p:spPr>
          <a:xfrm>
            <a:off x="0" y="158760"/>
            <a:ext cx="9144000" cy="12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Mechanisms Driving Gyrokinetic Turbulence</a:t>
            </a:r>
            <a:endParaRPr b="0" lang="en-US" sz="4400" spc="-1" strike="noStrike">
              <a:solidFill>
                <a:srgbClr val="000000"/>
              </a:solidFill>
              <a:latin typeface="Arial"/>
            </a:endParaRPr>
          </a:p>
        </p:txBody>
      </p:sp>
      <p:sp>
        <p:nvSpPr>
          <p:cNvPr id="84" name=""/>
          <p:cNvSpPr/>
          <p:nvPr/>
        </p:nvSpPr>
        <p:spPr>
          <a:xfrm>
            <a:off x="449280" y="157968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91040" y="1924200"/>
            <a:ext cx="1297080" cy="7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21240" y="1635120"/>
            <a:ext cx="4622760" cy="265140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W. Hammet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eton Plasma Physics Lab (PPP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3.pppl.gov/~hammet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i Institute, Vienn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yrokinetic Worksho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9 Sept. 200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d on APS  t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lando, 11/12/2007)</a:t>
            </a:r>
            <a:endParaRPr b="0" lang="en-US" sz="1200" spc="-1" strike="noStrike">
              <a:solidFill>
                <a:srgbClr val="000000"/>
              </a:solidFill>
              <a:latin typeface="Arial"/>
            </a:endParaRPr>
          </a:p>
        </p:txBody>
      </p:sp>
      <p:sp>
        <p:nvSpPr>
          <p:cNvPr id="87" name=""/>
          <p:cNvSpPr/>
          <p:nvPr/>
        </p:nvSpPr>
        <p:spPr>
          <a:xfrm>
            <a:off x="6754680" y="6583320"/>
            <a:ext cx="2389320" cy="2743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Waltz (General Atomic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herical Torus has improved confinement and pressure limits (but less room in center for coils)</a:t>
            </a:r>
            <a:endParaRPr b="0" lang="en-US" sz="2800" spc="-1" strike="noStrike">
              <a:solidFill>
                <a:srgbClr val="000000"/>
              </a:solidFill>
              <a:latin typeface="Times New Roman"/>
            </a:endParaRPr>
          </a:p>
        </p:txBody>
      </p:sp>
      <p:sp>
        <p:nvSpPr>
          <p:cNvPr id="225" name=""/>
          <p:cNvSpPr/>
          <p:nvPr/>
        </p:nvSpPr>
        <p:spPr>
          <a:xfrm flipV="1">
            <a:off x="263520" y="1160640"/>
            <a:ext cx="8640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460440" y="1200240"/>
            <a:ext cx="8288280" cy="564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1752480"/>
            <a:ext cx="9144000" cy="4465800"/>
          </a:xfrm>
          <a:prstGeom prst="rect">
            <a:avLst/>
          </a:prstGeom>
          <a:ln w="0">
            <a:noFill/>
          </a:ln>
        </p:spPr>
      </p:pic>
      <p:sp>
        <p:nvSpPr>
          <p:cNvPr id="228" name=""/>
          <p:cNvSpPr/>
          <p:nvPr/>
        </p:nvSpPr>
        <p:spPr>
          <a:xfrm>
            <a:off x="-2160" y="0"/>
            <a:ext cx="6694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hysical mechanisms can be se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yrokinetic simulations and movies</a:t>
            </a:r>
            <a:endParaRPr b="0" lang="en-US" sz="2800" spc="-1" strike="noStrike">
              <a:solidFill>
                <a:srgbClr val="000000"/>
              </a:solidFill>
              <a:latin typeface="Arial"/>
            </a:endParaRPr>
          </a:p>
        </p:txBody>
      </p:sp>
      <p:sp>
        <p:nvSpPr>
          <p:cNvPr id="229" name=""/>
          <p:cNvSpPr/>
          <p:nvPr/>
        </p:nvSpPr>
        <p:spPr>
          <a:xfrm>
            <a:off x="8091360" y="1925640"/>
            <a:ext cx="85680" cy="1539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496200" y="865080"/>
            <a:ext cx="2646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table bad-curv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eddies point out, direction of effective gravity</a:t>
            </a:r>
            <a:endParaRPr b="0" lang="en-US" sz="1800" spc="-1" strike="noStrike">
              <a:solidFill>
                <a:srgbClr val="000000"/>
              </a:solidFill>
              <a:latin typeface="Arial"/>
            </a:endParaRPr>
          </a:p>
        </p:txBody>
      </p:sp>
      <p:sp>
        <p:nvSpPr>
          <p:cNvPr id="231" name=""/>
          <p:cNvSpPr/>
          <p:nvPr/>
        </p:nvSpPr>
        <p:spPr>
          <a:xfrm>
            <a:off x="6156360" y="2158920"/>
            <a:ext cx="457200" cy="143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40080" y="5375160"/>
            <a:ext cx="323208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quickly move along field lines, so density perturbations are very extended along fields lines, which twist to connect unstable to stable side</a:t>
            </a:r>
            <a:endParaRPr b="0" lang="en-US" sz="1600" spc="-1" strike="noStrike">
              <a:solidFill>
                <a:srgbClr val="000000"/>
              </a:solidFill>
              <a:latin typeface="Arial"/>
            </a:endParaRPr>
          </a:p>
        </p:txBody>
      </p:sp>
      <p:sp>
        <p:nvSpPr>
          <p:cNvPr id="233" name=""/>
          <p:cNvSpPr/>
          <p:nvPr/>
        </p:nvSpPr>
        <p:spPr>
          <a:xfrm flipH="1" flipV="1">
            <a:off x="4712760" y="4006800"/>
            <a:ext cx="8280" cy="1379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1003320" y="4379760"/>
            <a:ext cx="2349360" cy="149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280120" y="1414440"/>
            <a:ext cx="1011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smaller edd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52360" y="154080"/>
            <a:ext cx="8750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ie </a:t>
            </a:r>
            <a:r>
              <a:rPr b="0" lang="en-US" sz="1200" spc="-1" strike="noStrike" u="sng">
                <a:solidFill>
                  <a:srgbClr val="ff0066"/>
                </a:solidFill>
                <a:uFillTx/>
                <a:latin typeface="Arial"/>
                <a:hlinkClick r:id="rId1"/>
              </a:rPr>
              <a:t>http://fusion.gat.com/THEORY/images/3/35/D3d.n16.2x_0.6_fly.mpg</a:t>
            </a:r>
            <a:r>
              <a:rPr b="0" lang="en-US" sz="1200" spc="-1" strike="noStrike">
                <a:solidFill>
                  <a:srgbClr val="000000"/>
                </a:solidFill>
                <a:latin typeface="Arial"/>
              </a:rPr>
              <a:t> from http://fusion.gat.com/theory/Gyromovies</a:t>
            </a:r>
            <a:r>
              <a:rPr b="0" lang="en-US" sz="1600" spc="-1" strike="noStrike">
                <a:solidFill>
                  <a:srgbClr val="000000"/>
                </a:solidFill>
                <a:latin typeface="Arial"/>
              </a:rPr>
              <a:t> shows contour plots of density fluctuations in a cut-away view of a GYRO simulation (Candy &amp; Waltz, GA).  This movie illustrates the physical mechanisms described in the last few slides.  It also illustrates the important effect of sheared flows in breaking up and limiting the turbulent eddies.   </a:t>
            </a:r>
            <a:r>
              <a:rPr b="0" lang="en-US" sz="1200" spc="-1" strike="noStrike">
                <a:solidFill>
                  <a:srgbClr val="000000"/>
                </a:solidFill>
                <a:latin typeface="Arial"/>
              </a:rPr>
              <a:t>Long-wavelength equilibrium sheared flows in this case are driven primarily by external toroidal beam injection.  (The movie is made in the frame of reference rotating with the plasma in the middle of the simulation.  Barber pole effect makes the dominantly-toroidal rotation appear poloidal..) Short-wavelength, turbulent-driven flows also play important role in nonlinear satu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7" name="" descr=""/>
          <p:cNvPicPr/>
          <p:nvPr/>
        </p:nvPicPr>
        <p:blipFill>
          <a:blip r:embed="rId2"/>
          <a:stretch/>
        </p:blipFill>
        <p:spPr>
          <a:xfrm>
            <a:off x="22320" y="1936800"/>
            <a:ext cx="8659800" cy="4921200"/>
          </a:xfrm>
          <a:prstGeom prst="rect">
            <a:avLst/>
          </a:prstGeom>
          <a:ln w="0">
            <a:noFill/>
          </a:ln>
        </p:spPr>
      </p:pic>
      <p:sp>
        <p:nvSpPr>
          <p:cNvPr id="238" name=""/>
          <p:cNvSpPr/>
          <p:nvPr/>
        </p:nvSpPr>
        <p:spPr>
          <a:xfrm>
            <a:off x="6337440" y="3460680"/>
            <a:ext cx="1422360" cy="19051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159600" y="3105000"/>
            <a:ext cx="1828800" cy="2584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759800" y="4330800"/>
            <a:ext cx="0" cy="20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6337440" y="4247640"/>
            <a:ext cx="612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7981920" y="4330440"/>
            <a:ext cx="0" cy="196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153120" y="4299120"/>
            <a:ext cx="0" cy="20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099280" y="298440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s</a:t>
            </a:r>
            <a:endParaRPr b="0" lang="en-US" sz="1800" spc="-1" strike="noStrike">
              <a:solidFill>
                <a:srgbClr val="000000"/>
              </a:solidFill>
              <a:latin typeface="Arial"/>
            </a:endParaRPr>
          </a:p>
        </p:txBody>
      </p:sp>
      <p:sp>
        <p:nvSpPr>
          <p:cNvPr id="245" name=""/>
          <p:cNvSpPr/>
          <p:nvPr/>
        </p:nvSpPr>
        <p:spPr>
          <a:xfrm flipH="1">
            <a:off x="7813800" y="3529080"/>
            <a:ext cx="496800" cy="717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078400" y="3552840"/>
            <a:ext cx="266760" cy="728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724800" y="396720"/>
            <a:ext cx="1638000" cy="275436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100480" y="395280"/>
            <a:ext cx="1619280" cy="275760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06960" y="1144440"/>
            <a:ext cx="422280" cy="1454400"/>
          </a:xfrm>
          <a:custGeom>
            <a:avLst/>
            <a:gdLst/>
            <a:ahLst/>
            <a:rect l="l" t="t" r="r" b="b"/>
            <a:pathLst>
              <a:path w="1173" h="4040">
                <a:moveTo>
                  <a:pt x="17015" y="3511"/>
                </a:moveTo>
                <a:cubicBezTo>
                  <a:pt x="17000" y="3513"/>
                  <a:pt x="16988" y="3509"/>
                  <a:pt x="16972" y="3512"/>
                </a:cubicBezTo>
                <a:cubicBezTo>
                  <a:pt x="16929" y="3520"/>
                  <a:pt x="16877" y="3547"/>
                  <a:pt x="16833" y="3539"/>
                </a:cubicBezTo>
                <a:cubicBezTo>
                  <a:pt x="16793" y="3532"/>
                  <a:pt x="16768" y="3500"/>
                  <a:pt x="16744" y="3469"/>
                </a:cubicBezTo>
                <a:cubicBezTo>
                  <a:pt x="16723" y="3442"/>
                  <a:pt x="16706" y="3409"/>
                  <a:pt x="16696" y="3376"/>
                </a:cubicBezTo>
                <a:cubicBezTo>
                  <a:pt x="16688" y="3350"/>
                  <a:pt x="16681" y="3316"/>
                  <a:pt x="16694" y="3290"/>
                </a:cubicBezTo>
                <a:cubicBezTo>
                  <a:pt x="16705" y="3267"/>
                  <a:pt x="16740" y="3239"/>
                  <a:pt x="16761" y="3225"/>
                </a:cubicBezTo>
                <a:cubicBezTo>
                  <a:pt x="16786" y="3208"/>
                  <a:pt x="16804" y="3208"/>
                  <a:pt x="16832" y="3199"/>
                </a:cubicBezTo>
                <a:cubicBezTo>
                  <a:pt x="16891" y="3181"/>
                  <a:pt x="16933" y="3184"/>
                  <a:pt x="16993" y="3188"/>
                </a:cubicBezTo>
                <a:cubicBezTo>
                  <a:pt x="17039" y="3191"/>
                  <a:pt x="17070" y="3201"/>
                  <a:pt x="17113" y="3218"/>
                </a:cubicBezTo>
                <a:cubicBezTo>
                  <a:pt x="17174" y="3242"/>
                  <a:pt x="17242" y="3268"/>
                  <a:pt x="17297" y="3303"/>
                </a:cubicBezTo>
                <a:cubicBezTo>
                  <a:pt x="17316" y="3315"/>
                  <a:pt x="17325" y="3315"/>
                  <a:pt x="17341" y="3332"/>
                </a:cubicBezTo>
                <a:cubicBezTo>
                  <a:pt x="17363" y="3355"/>
                  <a:pt x="17387" y="3400"/>
                  <a:pt x="17396" y="3430"/>
                </a:cubicBezTo>
                <a:cubicBezTo>
                  <a:pt x="17406" y="3463"/>
                  <a:pt x="17414" y="3506"/>
                  <a:pt x="17420" y="3541"/>
                </a:cubicBezTo>
                <a:cubicBezTo>
                  <a:pt x="17425" y="3570"/>
                  <a:pt x="17423" y="3598"/>
                  <a:pt x="17424" y="3626"/>
                </a:cubicBezTo>
                <a:cubicBezTo>
                  <a:pt x="17425" y="3667"/>
                  <a:pt x="17426" y="3709"/>
                  <a:pt x="17412" y="3749"/>
                </a:cubicBezTo>
                <a:cubicBezTo>
                  <a:pt x="17393" y="3802"/>
                  <a:pt x="17355" y="3850"/>
                  <a:pt x="17315" y="3887"/>
                </a:cubicBezTo>
                <a:cubicBezTo>
                  <a:pt x="17258" y="3940"/>
                  <a:pt x="17194" y="3970"/>
                  <a:pt x="17117" y="3980"/>
                </a:cubicBezTo>
                <a:cubicBezTo>
                  <a:pt x="17066" y="3987"/>
                  <a:pt x="16971" y="3993"/>
                  <a:pt x="16932" y="3953"/>
                </a:cubicBezTo>
                <a:cubicBezTo>
                  <a:pt x="16900" y="3920"/>
                  <a:pt x="16874" y="3799"/>
                  <a:pt x="16907" y="3765"/>
                </a:cubicBezTo>
                <a:cubicBezTo>
                  <a:pt x="16921" y="3751"/>
                  <a:pt x="16939" y="3757"/>
                  <a:pt x="16954" y="3749"/>
                </a:cubicBezTo>
                <a:cubicBezTo>
                  <a:pt x="16970" y="3740"/>
                  <a:pt x="16998" y="3729"/>
                  <a:pt x="17016" y="3724"/>
                </a:cubicBezTo>
                <a:cubicBezTo>
                  <a:pt x="17031" y="3720"/>
                  <a:pt x="17051" y="3714"/>
                  <a:pt x="17066" y="3712"/>
                </a:cubicBezTo>
                <a:cubicBezTo>
                  <a:pt x="17107" y="3706"/>
                  <a:pt x="17150" y="3713"/>
                  <a:pt x="17191" y="3712"/>
                </a:cubicBezTo>
                <a:cubicBezTo>
                  <a:pt x="17226" y="3711"/>
                  <a:pt x="17260" y="3707"/>
                  <a:pt x="17295" y="3708"/>
                </a:cubicBezTo>
                <a:cubicBezTo>
                  <a:pt x="17329" y="3709"/>
                  <a:pt x="17354" y="3710"/>
                  <a:pt x="17383" y="3728"/>
                </a:cubicBezTo>
                <a:cubicBezTo>
                  <a:pt x="17457" y="3774"/>
                  <a:pt x="17466" y="3853"/>
                  <a:pt x="17478" y="3931"/>
                </a:cubicBezTo>
                <a:cubicBezTo>
                  <a:pt x="17495" y="4043"/>
                  <a:pt x="17508" y="4179"/>
                  <a:pt x="17457" y="4284"/>
                </a:cubicBezTo>
                <a:cubicBezTo>
                  <a:pt x="17415" y="4370"/>
                  <a:pt x="17329" y="4441"/>
                  <a:pt x="17243" y="4481"/>
                </a:cubicBezTo>
                <a:cubicBezTo>
                  <a:pt x="17224" y="4490"/>
                  <a:pt x="17206" y="4496"/>
                  <a:pt x="17186" y="4502"/>
                </a:cubicBezTo>
                <a:cubicBezTo>
                  <a:pt x="17118" y="4521"/>
                  <a:pt x="17065" y="4522"/>
                  <a:pt x="17013" y="4474"/>
                </a:cubicBezTo>
                <a:cubicBezTo>
                  <a:pt x="16999" y="4461"/>
                  <a:pt x="16986" y="4445"/>
                  <a:pt x="16978" y="4428"/>
                </a:cubicBezTo>
                <a:cubicBezTo>
                  <a:pt x="16967" y="4405"/>
                  <a:pt x="16958" y="4360"/>
                  <a:pt x="16965" y="4336"/>
                </a:cubicBezTo>
                <a:cubicBezTo>
                  <a:pt x="16974" y="4305"/>
                  <a:pt x="17003" y="4286"/>
                  <a:pt x="17025" y="4265"/>
                </a:cubicBezTo>
                <a:cubicBezTo>
                  <a:pt x="17079" y="4213"/>
                  <a:pt x="17159" y="4196"/>
                  <a:pt x="17232" y="4196"/>
                </a:cubicBezTo>
                <a:cubicBezTo>
                  <a:pt x="17288" y="4196"/>
                  <a:pt x="17338" y="4210"/>
                  <a:pt x="17378" y="4250"/>
                </a:cubicBezTo>
                <a:cubicBezTo>
                  <a:pt x="17391" y="4263"/>
                  <a:pt x="17398" y="4284"/>
                  <a:pt x="17409" y="4299"/>
                </a:cubicBezTo>
                <a:cubicBezTo>
                  <a:pt x="17440" y="4340"/>
                  <a:pt x="17470" y="4385"/>
                  <a:pt x="17491" y="4431"/>
                </a:cubicBezTo>
                <a:cubicBezTo>
                  <a:pt x="17519" y="4492"/>
                  <a:pt x="17542" y="4564"/>
                  <a:pt x="17551" y="4630"/>
                </a:cubicBezTo>
                <a:cubicBezTo>
                  <a:pt x="17563" y="4718"/>
                  <a:pt x="17558" y="4840"/>
                  <a:pt x="17510" y="4916"/>
                </a:cubicBezTo>
                <a:cubicBezTo>
                  <a:pt x="17499" y="4934"/>
                  <a:pt x="17486" y="4946"/>
                  <a:pt x="17471" y="4960"/>
                </a:cubicBezTo>
                <a:cubicBezTo>
                  <a:pt x="17451" y="4979"/>
                  <a:pt x="17426" y="4995"/>
                  <a:pt x="17402" y="5008"/>
                </a:cubicBezTo>
                <a:cubicBezTo>
                  <a:pt x="17324" y="5050"/>
                  <a:pt x="17247" y="5052"/>
                  <a:pt x="17161" y="5031"/>
                </a:cubicBezTo>
                <a:cubicBezTo>
                  <a:pt x="17133" y="5024"/>
                  <a:pt x="17108" y="5014"/>
                  <a:pt x="17084" y="4998"/>
                </a:cubicBezTo>
                <a:cubicBezTo>
                  <a:pt x="17006" y="4946"/>
                  <a:pt x="16975" y="4859"/>
                  <a:pt x="17018" y="4777"/>
                </a:cubicBezTo>
                <a:cubicBezTo>
                  <a:pt x="17025" y="4763"/>
                  <a:pt x="17030" y="4742"/>
                  <a:pt x="17043" y="4732"/>
                </a:cubicBezTo>
                <a:cubicBezTo>
                  <a:pt x="17080" y="4702"/>
                  <a:pt x="17136" y="4703"/>
                  <a:pt x="17173" y="4715"/>
                </a:cubicBezTo>
                <a:cubicBezTo>
                  <a:pt x="17201" y="4724"/>
                  <a:pt x="17220" y="4744"/>
                  <a:pt x="17249" y="4752"/>
                </a:cubicBezTo>
                <a:cubicBezTo>
                  <a:pt x="17313" y="4769"/>
                  <a:pt x="17310" y="4776"/>
                  <a:pt x="17359" y="4817"/>
                </a:cubicBezTo>
                <a:cubicBezTo>
                  <a:pt x="17387" y="4840"/>
                  <a:pt x="17424" y="4855"/>
                  <a:pt x="17444" y="4885"/>
                </a:cubicBezTo>
                <a:cubicBezTo>
                  <a:pt x="17497" y="4965"/>
                  <a:pt x="17512" y="5094"/>
                  <a:pt x="17519" y="5187"/>
                </a:cubicBezTo>
                <a:cubicBezTo>
                  <a:pt x="17522" y="5232"/>
                  <a:pt x="17528" y="5290"/>
                  <a:pt x="17510" y="5333"/>
                </a:cubicBezTo>
                <a:cubicBezTo>
                  <a:pt x="17482" y="5400"/>
                  <a:pt x="17409" y="5442"/>
                  <a:pt x="17341" y="5461"/>
                </a:cubicBezTo>
                <a:cubicBezTo>
                  <a:pt x="17306" y="5471"/>
                  <a:pt x="17268" y="5475"/>
                  <a:pt x="17232" y="5476"/>
                </a:cubicBezTo>
                <a:cubicBezTo>
                  <a:pt x="17185" y="5477"/>
                  <a:pt x="17133" y="5470"/>
                  <a:pt x="17091" y="5448"/>
                </a:cubicBezTo>
                <a:cubicBezTo>
                  <a:pt x="17037" y="5419"/>
                  <a:pt x="16993" y="5361"/>
                  <a:pt x="16986" y="5300"/>
                </a:cubicBezTo>
                <a:cubicBezTo>
                  <a:pt x="16976" y="5209"/>
                  <a:pt x="17068" y="5143"/>
                  <a:pt x="17145" y="5119"/>
                </a:cubicBezTo>
                <a:cubicBezTo>
                  <a:pt x="17175" y="5110"/>
                  <a:pt x="17210" y="5107"/>
                  <a:pt x="17242" y="5106"/>
                </a:cubicBezTo>
                <a:cubicBezTo>
                  <a:pt x="17263" y="5105"/>
                  <a:pt x="17282" y="5106"/>
                  <a:pt x="17303" y="5109"/>
                </a:cubicBezTo>
                <a:cubicBezTo>
                  <a:pt x="17375" y="5121"/>
                  <a:pt x="17467" y="5147"/>
                  <a:pt x="17522" y="5197"/>
                </a:cubicBezTo>
                <a:cubicBezTo>
                  <a:pt x="17577" y="5246"/>
                  <a:pt x="17608" y="5328"/>
                  <a:pt x="17622" y="5398"/>
                </a:cubicBezTo>
                <a:cubicBezTo>
                  <a:pt x="17634" y="5458"/>
                  <a:pt x="17627" y="5509"/>
                  <a:pt x="17610" y="5566"/>
                </a:cubicBezTo>
                <a:cubicBezTo>
                  <a:pt x="17585" y="5647"/>
                  <a:pt x="17541" y="5722"/>
                  <a:pt x="17490" y="5790"/>
                </a:cubicBezTo>
                <a:cubicBezTo>
                  <a:pt x="17478" y="5806"/>
                  <a:pt x="17468" y="5823"/>
                  <a:pt x="17453" y="5836"/>
                </a:cubicBezTo>
                <a:cubicBezTo>
                  <a:pt x="17416" y="5870"/>
                  <a:pt x="17339" y="5912"/>
                  <a:pt x="17287" y="5899"/>
                </a:cubicBezTo>
                <a:cubicBezTo>
                  <a:pt x="17251" y="5890"/>
                  <a:pt x="17212" y="5867"/>
                  <a:pt x="17176" y="5858"/>
                </a:cubicBezTo>
              </a:path>
              <a:path w="1173" h="4040">
                <a:moveTo>
                  <a:pt x="17293" y="5726"/>
                </a:moveTo>
                <a:cubicBezTo>
                  <a:pt x="17269" y="5724"/>
                  <a:pt x="17264" y="5730"/>
                  <a:pt x="17246" y="5747"/>
                </a:cubicBezTo>
                <a:cubicBezTo>
                  <a:pt x="17229" y="5764"/>
                  <a:pt x="17213" y="5783"/>
                  <a:pt x="17195" y="5799"/>
                </a:cubicBezTo>
                <a:cubicBezTo>
                  <a:pt x="17183" y="5810"/>
                  <a:pt x="17160" y="5826"/>
                  <a:pt x="17158" y="5845"/>
                </a:cubicBezTo>
                <a:cubicBezTo>
                  <a:pt x="17155" y="5868"/>
                  <a:pt x="17173" y="5868"/>
                  <a:pt x="17186" y="5879"/>
                </a:cubicBezTo>
                <a:cubicBezTo>
                  <a:pt x="17201" y="5891"/>
                  <a:pt x="17215" y="5908"/>
                  <a:pt x="17227" y="5924"/>
                </a:cubicBezTo>
                <a:cubicBezTo>
                  <a:pt x="17240" y="5941"/>
                  <a:pt x="17258" y="5951"/>
                  <a:pt x="17277" y="5961"/>
                </a:cubicBezTo>
                <a:cubicBezTo>
                  <a:pt x="17293" y="5969"/>
                  <a:pt x="17309" y="5977"/>
                  <a:pt x="17324" y="5987"/>
                </a:cubicBezTo>
                <a:cubicBezTo>
                  <a:pt x="17340" y="5998"/>
                  <a:pt x="17349" y="6011"/>
                  <a:pt x="17368" y="6016"/>
                </a:cubicBezTo>
                <a:cubicBezTo>
                  <a:pt x="17372" y="6017"/>
                  <a:pt x="17375" y="6017"/>
                  <a:pt x="17379" y="6018"/>
                </a:cubicBezTo>
              </a:path>
              <a:path w="1173" h="4040">
                <a:moveTo>
                  <a:pt x="17290" y="5936"/>
                </a:moveTo>
                <a:cubicBezTo>
                  <a:pt x="17267" y="5939"/>
                  <a:pt x="17248" y="5948"/>
                  <a:pt x="17225" y="5945"/>
                </a:cubicBezTo>
                <a:cubicBezTo>
                  <a:pt x="17174" y="5939"/>
                  <a:pt x="17129" y="5914"/>
                  <a:pt x="17100" y="5872"/>
                </a:cubicBezTo>
                <a:cubicBezTo>
                  <a:pt x="17087" y="5854"/>
                  <a:pt x="17080" y="5830"/>
                  <a:pt x="17071" y="5809"/>
                </a:cubicBezTo>
                <a:cubicBezTo>
                  <a:pt x="17064" y="5793"/>
                  <a:pt x="17057" y="5778"/>
                  <a:pt x="17053" y="5761"/>
                </a:cubicBezTo>
                <a:cubicBezTo>
                  <a:pt x="17049" y="5743"/>
                  <a:pt x="17045" y="5728"/>
                  <a:pt x="17046" y="5710"/>
                </a:cubicBezTo>
                <a:cubicBezTo>
                  <a:pt x="17047" y="5695"/>
                  <a:pt x="17053" y="5680"/>
                  <a:pt x="17059" y="5666"/>
                </a:cubicBezTo>
                <a:cubicBezTo>
                  <a:pt x="17066" y="5648"/>
                  <a:pt x="17074" y="5631"/>
                  <a:pt x="17086" y="5615"/>
                </a:cubicBezTo>
                <a:cubicBezTo>
                  <a:pt x="17108" y="5585"/>
                  <a:pt x="17136" y="5562"/>
                  <a:pt x="17173" y="5553"/>
                </a:cubicBezTo>
                <a:cubicBezTo>
                  <a:pt x="17225" y="5541"/>
                  <a:pt x="17289" y="5560"/>
                  <a:pt x="17342" y="5564"/>
                </a:cubicBezTo>
                <a:cubicBezTo>
                  <a:pt x="17392" y="5567"/>
                  <a:pt x="17444" y="5561"/>
                  <a:pt x="17493" y="5575"/>
                </a:cubicBezTo>
                <a:cubicBezTo>
                  <a:pt x="17519" y="5582"/>
                  <a:pt x="17537" y="5593"/>
                  <a:pt x="17556" y="5612"/>
                </a:cubicBezTo>
                <a:cubicBezTo>
                  <a:pt x="17570" y="5626"/>
                  <a:pt x="17579" y="5642"/>
                  <a:pt x="17589" y="5659"/>
                </a:cubicBezTo>
                <a:cubicBezTo>
                  <a:pt x="17613" y="5699"/>
                  <a:pt x="17630" y="5745"/>
                  <a:pt x="17640" y="5791"/>
                </a:cubicBezTo>
                <a:cubicBezTo>
                  <a:pt x="17651" y="5841"/>
                  <a:pt x="17659" y="5894"/>
                  <a:pt x="17668" y="5944"/>
                </a:cubicBezTo>
                <a:cubicBezTo>
                  <a:pt x="17673" y="5970"/>
                  <a:pt x="17676" y="5993"/>
                  <a:pt x="17674" y="6019"/>
                </a:cubicBezTo>
                <a:cubicBezTo>
                  <a:pt x="17672" y="6042"/>
                  <a:pt x="17665" y="6069"/>
                  <a:pt x="17653" y="6089"/>
                </a:cubicBezTo>
                <a:cubicBezTo>
                  <a:pt x="17641" y="6110"/>
                  <a:pt x="17623" y="6127"/>
                  <a:pt x="17606" y="6144"/>
                </a:cubicBezTo>
                <a:cubicBezTo>
                  <a:pt x="17567" y="6182"/>
                  <a:pt x="17518" y="6213"/>
                  <a:pt x="17470" y="6240"/>
                </a:cubicBezTo>
                <a:cubicBezTo>
                  <a:pt x="17437" y="6258"/>
                  <a:pt x="17403" y="6279"/>
                  <a:pt x="17366" y="6287"/>
                </a:cubicBezTo>
                <a:cubicBezTo>
                  <a:pt x="17312" y="6299"/>
                  <a:pt x="17246" y="6282"/>
                  <a:pt x="17206" y="6242"/>
                </a:cubicBezTo>
                <a:cubicBezTo>
                  <a:pt x="17193" y="6229"/>
                  <a:pt x="17183" y="6210"/>
                  <a:pt x="17175" y="6194"/>
                </a:cubicBezTo>
                <a:cubicBezTo>
                  <a:pt x="17152" y="6147"/>
                  <a:pt x="17122" y="6058"/>
                  <a:pt x="17164" y="6016"/>
                </a:cubicBezTo>
                <a:cubicBezTo>
                  <a:pt x="17181" y="5999"/>
                  <a:pt x="17200" y="5990"/>
                  <a:pt x="17222" y="5981"/>
                </a:cubicBezTo>
                <a:cubicBezTo>
                  <a:pt x="17296" y="5951"/>
                  <a:pt x="17397" y="5956"/>
                  <a:pt x="17471" y="5982"/>
                </a:cubicBezTo>
                <a:cubicBezTo>
                  <a:pt x="17497" y="5991"/>
                  <a:pt x="17521" y="6006"/>
                  <a:pt x="17542" y="6023"/>
                </a:cubicBezTo>
                <a:cubicBezTo>
                  <a:pt x="17597" y="6068"/>
                  <a:pt x="17645" y="6123"/>
                  <a:pt x="17668" y="6188"/>
                </a:cubicBezTo>
                <a:cubicBezTo>
                  <a:pt x="17683" y="6230"/>
                  <a:pt x="17687" y="6273"/>
                  <a:pt x="17687" y="6318"/>
                </a:cubicBezTo>
                <a:cubicBezTo>
                  <a:pt x="17687" y="6422"/>
                  <a:pt x="17638" y="6534"/>
                  <a:pt x="17556" y="6599"/>
                </a:cubicBezTo>
                <a:cubicBezTo>
                  <a:pt x="17485" y="6655"/>
                  <a:pt x="17392" y="6663"/>
                  <a:pt x="17321" y="6602"/>
                </a:cubicBezTo>
                <a:cubicBezTo>
                  <a:pt x="17300" y="6584"/>
                  <a:pt x="17278" y="6558"/>
                  <a:pt x="17264" y="6534"/>
                </a:cubicBezTo>
                <a:cubicBezTo>
                  <a:pt x="17236" y="6486"/>
                  <a:pt x="17226" y="6425"/>
                  <a:pt x="17266" y="6385"/>
                </a:cubicBezTo>
                <a:cubicBezTo>
                  <a:pt x="17286" y="6365"/>
                  <a:pt x="17313" y="6358"/>
                  <a:pt x="17339" y="6351"/>
                </a:cubicBezTo>
                <a:cubicBezTo>
                  <a:pt x="17368" y="6343"/>
                  <a:pt x="17396" y="6340"/>
                  <a:pt x="17426" y="6340"/>
                </a:cubicBezTo>
                <a:cubicBezTo>
                  <a:pt x="17475" y="6339"/>
                  <a:pt x="17527" y="6346"/>
                  <a:pt x="17572" y="6365"/>
                </a:cubicBezTo>
                <a:cubicBezTo>
                  <a:pt x="17591" y="6373"/>
                  <a:pt x="17612" y="6386"/>
                  <a:pt x="17630" y="6396"/>
                </a:cubicBezTo>
                <a:cubicBezTo>
                  <a:pt x="17681" y="6424"/>
                  <a:pt x="17748" y="6444"/>
                  <a:pt x="17789" y="6487"/>
                </a:cubicBezTo>
                <a:cubicBezTo>
                  <a:pt x="17817" y="6516"/>
                  <a:pt x="17829" y="6551"/>
                  <a:pt x="17841" y="6588"/>
                </a:cubicBezTo>
                <a:cubicBezTo>
                  <a:pt x="17859" y="6646"/>
                  <a:pt x="17867" y="6709"/>
                  <a:pt x="17841" y="6765"/>
                </a:cubicBezTo>
                <a:cubicBezTo>
                  <a:pt x="17820" y="6811"/>
                  <a:pt x="17784" y="6847"/>
                  <a:pt x="17745" y="6878"/>
                </a:cubicBezTo>
                <a:cubicBezTo>
                  <a:pt x="17706" y="6909"/>
                  <a:pt x="17656" y="6950"/>
                  <a:pt x="17607" y="6964"/>
                </a:cubicBezTo>
                <a:cubicBezTo>
                  <a:pt x="17576" y="6973"/>
                  <a:pt x="17540" y="6971"/>
                  <a:pt x="17508" y="6973"/>
                </a:cubicBezTo>
                <a:cubicBezTo>
                  <a:pt x="17479" y="6975"/>
                  <a:pt x="17451" y="6978"/>
                  <a:pt x="17422" y="6982"/>
                </a:cubicBezTo>
                <a:cubicBezTo>
                  <a:pt x="17391" y="6987"/>
                  <a:pt x="17356" y="6996"/>
                  <a:pt x="17324" y="6990"/>
                </a:cubicBezTo>
                <a:cubicBezTo>
                  <a:pt x="17328" y="6989"/>
                  <a:pt x="17333" y="6987"/>
                  <a:pt x="17337" y="6986"/>
                </a:cubicBezTo>
              </a:path>
              <a:path w="1173" h="4040">
                <a:moveTo>
                  <a:pt x="17582" y="6791"/>
                </a:moveTo>
                <a:cubicBezTo>
                  <a:pt x="17611" y="6772"/>
                  <a:pt x="17565" y="6813"/>
                  <a:pt x="17559" y="6819"/>
                </a:cubicBezTo>
                <a:cubicBezTo>
                  <a:pt x="17534" y="6845"/>
                  <a:pt x="17510" y="6872"/>
                  <a:pt x="17484" y="6897"/>
                </a:cubicBezTo>
                <a:cubicBezTo>
                  <a:pt x="17451" y="6929"/>
                  <a:pt x="17416" y="6959"/>
                  <a:pt x="17381" y="6988"/>
                </a:cubicBezTo>
                <a:cubicBezTo>
                  <a:pt x="17356" y="7009"/>
                  <a:pt x="17331" y="7029"/>
                  <a:pt x="17305" y="7049"/>
                </a:cubicBezTo>
                <a:cubicBezTo>
                  <a:pt x="17285" y="7064"/>
                  <a:pt x="17279" y="7078"/>
                  <a:pt x="17301" y="7093"/>
                </a:cubicBezTo>
                <a:cubicBezTo>
                  <a:pt x="17345" y="7123"/>
                  <a:pt x="17405" y="7130"/>
                  <a:pt x="17454" y="7149"/>
                </a:cubicBezTo>
                <a:cubicBezTo>
                  <a:pt x="17483" y="7160"/>
                  <a:pt x="17510" y="7174"/>
                  <a:pt x="17538" y="7188"/>
                </a:cubicBezTo>
                <a:cubicBezTo>
                  <a:pt x="17557" y="7197"/>
                  <a:pt x="17575" y="7205"/>
                  <a:pt x="17593" y="721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0720" y="1346040"/>
            <a:ext cx="479520" cy="555840"/>
          </a:xfrm>
          <a:custGeom>
            <a:avLst/>
            <a:gdLst/>
            <a:ahLst/>
            <a:rect l="l" t="t" r="r" b="b"/>
            <a:pathLst>
              <a:path w="1335" h="1545">
                <a:moveTo>
                  <a:pt x="15974" y="3738"/>
                </a:moveTo>
                <a:cubicBezTo>
                  <a:pt x="15978" y="3859"/>
                  <a:pt x="15982" y="3979"/>
                  <a:pt x="15999" y="4099"/>
                </a:cubicBezTo>
                <a:cubicBezTo>
                  <a:pt x="16009" y="4166"/>
                  <a:pt x="16022" y="4233"/>
                  <a:pt x="16035" y="4299"/>
                </a:cubicBezTo>
                <a:cubicBezTo>
                  <a:pt x="16048" y="4368"/>
                  <a:pt x="16059" y="4436"/>
                  <a:pt x="16068" y="4505"/>
                </a:cubicBezTo>
                <a:cubicBezTo>
                  <a:pt x="16084" y="4625"/>
                  <a:pt x="16089" y="4746"/>
                  <a:pt x="16097" y="4867"/>
                </a:cubicBezTo>
                <a:cubicBezTo>
                  <a:pt x="16101" y="4923"/>
                  <a:pt x="16103" y="4979"/>
                  <a:pt x="16111" y="5035"/>
                </a:cubicBezTo>
                <a:cubicBezTo>
                  <a:pt x="16115" y="5063"/>
                  <a:pt x="16131" y="5080"/>
                  <a:pt x="16104" y="5057"/>
                </a:cubicBezTo>
              </a:path>
              <a:path w="1335" h="1545">
                <a:moveTo>
                  <a:pt x="15848" y="4878"/>
                </a:moveTo>
                <a:cubicBezTo>
                  <a:pt x="15860" y="4903"/>
                  <a:pt x="15877" y="4924"/>
                  <a:pt x="15893" y="4947"/>
                </a:cubicBezTo>
                <a:cubicBezTo>
                  <a:pt x="15929" y="4998"/>
                  <a:pt x="15961" y="5050"/>
                  <a:pt x="15995" y="5102"/>
                </a:cubicBezTo>
                <a:cubicBezTo>
                  <a:pt x="16022" y="5143"/>
                  <a:pt x="16048" y="5186"/>
                  <a:pt x="16075" y="5227"/>
                </a:cubicBezTo>
                <a:cubicBezTo>
                  <a:pt x="16085" y="5242"/>
                  <a:pt x="16106" y="5281"/>
                  <a:pt x="16129" y="5282"/>
                </a:cubicBezTo>
                <a:cubicBezTo>
                  <a:pt x="16163" y="5284"/>
                  <a:pt x="16184" y="5257"/>
                  <a:pt x="16202" y="5232"/>
                </a:cubicBezTo>
                <a:cubicBezTo>
                  <a:pt x="16229" y="5194"/>
                  <a:pt x="16244" y="5151"/>
                  <a:pt x="16263" y="5110"/>
                </a:cubicBezTo>
                <a:cubicBezTo>
                  <a:pt x="16282" y="5069"/>
                  <a:pt x="16302" y="5026"/>
                  <a:pt x="16317" y="4984"/>
                </a:cubicBezTo>
                <a:cubicBezTo>
                  <a:pt x="16324" y="4965"/>
                  <a:pt x="16329" y="4945"/>
                  <a:pt x="16334" y="4926"/>
                </a:cubicBezTo>
              </a:path>
              <a:path w="1335" h="1545">
                <a:moveTo>
                  <a:pt x="15146" y="4431"/>
                </a:moveTo>
                <a:cubicBezTo>
                  <a:pt x="15165" y="4462"/>
                  <a:pt x="15183" y="4497"/>
                  <a:pt x="15211" y="4521"/>
                </a:cubicBezTo>
                <a:cubicBezTo>
                  <a:pt x="15230" y="4537"/>
                  <a:pt x="15257" y="4537"/>
                  <a:pt x="15275" y="4519"/>
                </a:cubicBezTo>
                <a:cubicBezTo>
                  <a:pt x="15293" y="4502"/>
                  <a:pt x="15298" y="4475"/>
                  <a:pt x="15305" y="4453"/>
                </a:cubicBezTo>
                <a:cubicBezTo>
                  <a:pt x="15315" y="4421"/>
                  <a:pt x="15319" y="4390"/>
                  <a:pt x="15320" y="4356"/>
                </a:cubicBezTo>
                <a:cubicBezTo>
                  <a:pt x="15321" y="4318"/>
                  <a:pt x="15321" y="4280"/>
                  <a:pt x="15325" y="4243"/>
                </a:cubicBezTo>
                <a:cubicBezTo>
                  <a:pt x="15328" y="4212"/>
                  <a:pt x="15333" y="4181"/>
                  <a:pt x="15339" y="4151"/>
                </a:cubicBezTo>
                <a:cubicBezTo>
                  <a:pt x="15342" y="4135"/>
                  <a:pt x="15347" y="4126"/>
                  <a:pt x="15353" y="4111"/>
                </a:cubicBezTo>
              </a:path>
              <a:path w="1335" h="1545">
                <a:moveTo>
                  <a:pt x="15678" y="4583"/>
                </a:moveTo>
                <a:cubicBezTo>
                  <a:pt x="15662" y="4569"/>
                  <a:pt x="15645" y="4558"/>
                  <a:pt x="15624" y="4556"/>
                </a:cubicBezTo>
                <a:cubicBezTo>
                  <a:pt x="15599" y="4553"/>
                  <a:pt x="15571" y="4572"/>
                  <a:pt x="15556" y="4591"/>
                </a:cubicBezTo>
                <a:cubicBezTo>
                  <a:pt x="15525" y="4629"/>
                  <a:pt x="15514" y="4674"/>
                  <a:pt x="15510" y="4722"/>
                </a:cubicBezTo>
                <a:cubicBezTo>
                  <a:pt x="15507" y="4756"/>
                  <a:pt x="15508" y="4811"/>
                  <a:pt x="15544" y="4831"/>
                </a:cubicBezTo>
                <a:cubicBezTo>
                  <a:pt x="15568" y="4844"/>
                  <a:pt x="15599" y="4824"/>
                  <a:pt x="15617" y="4810"/>
                </a:cubicBezTo>
                <a:cubicBezTo>
                  <a:pt x="15646" y="4788"/>
                  <a:pt x="15664" y="4760"/>
                  <a:pt x="15678" y="4726"/>
                </a:cubicBezTo>
                <a:cubicBezTo>
                  <a:pt x="15699" y="4676"/>
                  <a:pt x="15697" y="4619"/>
                  <a:pt x="15696" y="4566"/>
                </a:cubicBezTo>
                <a:cubicBezTo>
                  <a:pt x="15695" y="4522"/>
                  <a:pt x="15693" y="4477"/>
                  <a:pt x="15692" y="4433"/>
                </a:cubicBezTo>
                <a:cubicBezTo>
                  <a:pt x="15691" y="4403"/>
                  <a:pt x="15691" y="4372"/>
                  <a:pt x="15693" y="4342"/>
                </a:cubicBezTo>
                <a:cubicBezTo>
                  <a:pt x="15695" y="4328"/>
                  <a:pt x="15696" y="4323"/>
                  <a:pt x="15692" y="4343"/>
                </a:cubicBezTo>
                <a:cubicBezTo>
                  <a:pt x="15693" y="4389"/>
                  <a:pt x="15696" y="4434"/>
                  <a:pt x="15703" y="4479"/>
                </a:cubicBezTo>
                <a:cubicBezTo>
                  <a:pt x="15710" y="4530"/>
                  <a:pt x="15717" y="4580"/>
                  <a:pt x="15730" y="4630"/>
                </a:cubicBezTo>
                <a:cubicBezTo>
                  <a:pt x="15738" y="4663"/>
                  <a:pt x="15748" y="4695"/>
                  <a:pt x="15760" y="4726"/>
                </a:cubicBezTo>
              </a:path>
              <a:path w="1335" h="1545">
                <a:moveTo>
                  <a:pt x="15000" y="4109"/>
                </a:moveTo>
                <a:cubicBezTo>
                  <a:pt x="15013" y="4131"/>
                  <a:pt x="15023" y="4155"/>
                  <a:pt x="15035" y="4176"/>
                </a:cubicBezTo>
                <a:cubicBezTo>
                  <a:pt x="15050" y="4203"/>
                  <a:pt x="15064" y="4231"/>
                  <a:pt x="15079" y="4258"/>
                </a:cubicBezTo>
                <a:cubicBezTo>
                  <a:pt x="15105" y="4307"/>
                  <a:pt x="15141" y="4349"/>
                  <a:pt x="15173" y="4394"/>
                </a:cubicBezTo>
                <a:cubicBezTo>
                  <a:pt x="15188" y="4415"/>
                  <a:pt x="15200" y="4439"/>
                  <a:pt x="15215" y="4460"/>
                </a:cubicBezTo>
                <a:cubicBezTo>
                  <a:pt x="15226" y="4475"/>
                  <a:pt x="15238" y="4490"/>
                  <a:pt x="15247" y="4506"/>
                </a:cubicBezTo>
                <a:cubicBezTo>
                  <a:pt x="15257" y="4525"/>
                  <a:pt x="15266" y="4537"/>
                  <a:pt x="15283" y="4550"/>
                </a:cubicBezTo>
                <a:cubicBezTo>
                  <a:pt x="15287" y="4553"/>
                  <a:pt x="15292" y="4556"/>
                  <a:pt x="15296" y="4559"/>
                </a:cubicBezTo>
              </a:path>
              <a:path w="1335" h="1545">
                <a:moveTo>
                  <a:pt x="15401" y="4080"/>
                </a:moveTo>
                <a:cubicBezTo>
                  <a:pt x="15392" y="4069"/>
                  <a:pt x="15389" y="4065"/>
                  <a:pt x="15383" y="4058"/>
                </a:cubicBezTo>
                <a:cubicBezTo>
                  <a:pt x="15382" y="4095"/>
                  <a:pt x="15376" y="4131"/>
                  <a:pt x="15374" y="4168"/>
                </a:cubicBezTo>
                <a:cubicBezTo>
                  <a:pt x="15372" y="4210"/>
                  <a:pt x="15370" y="4253"/>
                  <a:pt x="15366" y="4295"/>
                </a:cubicBezTo>
                <a:cubicBezTo>
                  <a:pt x="15363" y="4330"/>
                  <a:pt x="15359" y="4366"/>
                  <a:pt x="15357" y="4401"/>
                </a:cubicBezTo>
                <a:cubicBezTo>
                  <a:pt x="15355" y="4429"/>
                  <a:pt x="15349" y="4456"/>
                  <a:pt x="15344" y="4484"/>
                </a:cubicBezTo>
                <a:cubicBezTo>
                  <a:pt x="15341" y="4505"/>
                  <a:pt x="15339" y="4525"/>
                  <a:pt x="15336" y="4546"/>
                </a:cubicBezTo>
                <a:cubicBezTo>
                  <a:pt x="15335" y="4549"/>
                  <a:pt x="15335" y="4553"/>
                  <a:pt x="15334" y="455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470720" y="1204920"/>
            <a:ext cx="163440" cy="498600"/>
          </a:xfrm>
          <a:custGeom>
            <a:avLst/>
            <a:gdLst/>
            <a:ahLst/>
            <a:rect l="l" t="t" r="r" b="b"/>
            <a:pathLst>
              <a:path w="456" h="1385">
                <a:moveTo>
                  <a:pt x="20893" y="3486"/>
                </a:moveTo>
                <a:cubicBezTo>
                  <a:pt x="20880" y="3504"/>
                  <a:pt x="20890" y="3509"/>
                  <a:pt x="20864" y="3522"/>
                </a:cubicBezTo>
                <a:cubicBezTo>
                  <a:pt x="20849" y="3530"/>
                  <a:pt x="20831" y="3534"/>
                  <a:pt x="20815" y="3531"/>
                </a:cubicBezTo>
                <a:cubicBezTo>
                  <a:pt x="20793" y="3528"/>
                  <a:pt x="20784" y="3524"/>
                  <a:pt x="20768" y="3504"/>
                </a:cubicBezTo>
                <a:cubicBezTo>
                  <a:pt x="20760" y="3495"/>
                  <a:pt x="20754" y="3469"/>
                  <a:pt x="20752" y="3457"/>
                </a:cubicBezTo>
                <a:cubicBezTo>
                  <a:pt x="20750" y="3442"/>
                  <a:pt x="20753" y="3425"/>
                  <a:pt x="20757" y="3410"/>
                </a:cubicBezTo>
                <a:cubicBezTo>
                  <a:pt x="20762" y="3392"/>
                  <a:pt x="20764" y="3379"/>
                  <a:pt x="20782" y="3368"/>
                </a:cubicBezTo>
                <a:cubicBezTo>
                  <a:pt x="20793" y="3361"/>
                  <a:pt x="20819" y="3355"/>
                  <a:pt x="20832" y="3352"/>
                </a:cubicBezTo>
                <a:cubicBezTo>
                  <a:pt x="20862" y="3346"/>
                  <a:pt x="20875" y="3352"/>
                  <a:pt x="20901" y="3365"/>
                </a:cubicBezTo>
                <a:cubicBezTo>
                  <a:pt x="20926" y="3378"/>
                  <a:pt x="20960" y="3387"/>
                  <a:pt x="20981" y="3405"/>
                </a:cubicBezTo>
                <a:cubicBezTo>
                  <a:pt x="20997" y="3418"/>
                  <a:pt x="21002" y="3435"/>
                  <a:pt x="21013" y="3453"/>
                </a:cubicBezTo>
                <a:cubicBezTo>
                  <a:pt x="21023" y="3470"/>
                  <a:pt x="21034" y="3487"/>
                  <a:pt x="21041" y="3505"/>
                </a:cubicBezTo>
                <a:cubicBezTo>
                  <a:pt x="21050" y="3526"/>
                  <a:pt x="21055" y="3550"/>
                  <a:pt x="21053" y="3573"/>
                </a:cubicBezTo>
                <a:cubicBezTo>
                  <a:pt x="21051" y="3595"/>
                  <a:pt x="21041" y="3606"/>
                  <a:pt x="21024" y="3620"/>
                </a:cubicBezTo>
                <a:cubicBezTo>
                  <a:pt x="21009" y="3633"/>
                  <a:pt x="20993" y="3643"/>
                  <a:pt x="20978" y="3657"/>
                </a:cubicBezTo>
                <a:cubicBezTo>
                  <a:pt x="20960" y="3673"/>
                  <a:pt x="20941" y="3690"/>
                  <a:pt x="20920" y="3702"/>
                </a:cubicBezTo>
                <a:cubicBezTo>
                  <a:pt x="20907" y="3709"/>
                  <a:pt x="20886" y="3722"/>
                  <a:pt x="20870" y="3722"/>
                </a:cubicBezTo>
                <a:cubicBezTo>
                  <a:pt x="20848" y="3721"/>
                  <a:pt x="20834" y="3696"/>
                  <a:pt x="20829" y="3678"/>
                </a:cubicBezTo>
                <a:cubicBezTo>
                  <a:pt x="20824" y="3661"/>
                  <a:pt x="20831" y="3652"/>
                  <a:pt x="20850" y="3643"/>
                </a:cubicBezTo>
                <a:cubicBezTo>
                  <a:pt x="20869" y="3634"/>
                  <a:pt x="20896" y="3629"/>
                  <a:pt x="20917" y="3624"/>
                </a:cubicBezTo>
                <a:cubicBezTo>
                  <a:pt x="20935" y="3620"/>
                  <a:pt x="20950" y="3617"/>
                  <a:pt x="20969" y="3623"/>
                </a:cubicBezTo>
                <a:cubicBezTo>
                  <a:pt x="20990" y="3629"/>
                  <a:pt x="21003" y="3641"/>
                  <a:pt x="21017" y="3657"/>
                </a:cubicBezTo>
                <a:cubicBezTo>
                  <a:pt x="21029" y="3671"/>
                  <a:pt x="21041" y="3687"/>
                  <a:pt x="21047" y="3704"/>
                </a:cubicBezTo>
                <a:cubicBezTo>
                  <a:pt x="21052" y="3719"/>
                  <a:pt x="21055" y="3736"/>
                  <a:pt x="21059" y="3751"/>
                </a:cubicBezTo>
                <a:cubicBezTo>
                  <a:pt x="21063" y="3767"/>
                  <a:pt x="21066" y="3782"/>
                  <a:pt x="21071" y="3797"/>
                </a:cubicBezTo>
                <a:cubicBezTo>
                  <a:pt x="21082" y="3833"/>
                  <a:pt x="21094" y="3878"/>
                  <a:pt x="21078" y="3915"/>
                </a:cubicBezTo>
                <a:cubicBezTo>
                  <a:pt x="21068" y="3940"/>
                  <a:pt x="21037" y="3950"/>
                  <a:pt x="21013" y="3958"/>
                </a:cubicBezTo>
                <a:cubicBezTo>
                  <a:pt x="20983" y="3968"/>
                  <a:pt x="20950" y="3979"/>
                  <a:pt x="20924" y="3958"/>
                </a:cubicBezTo>
                <a:cubicBezTo>
                  <a:pt x="20912" y="3948"/>
                  <a:pt x="20900" y="3925"/>
                  <a:pt x="20894" y="3911"/>
                </a:cubicBezTo>
                <a:cubicBezTo>
                  <a:pt x="20888" y="3896"/>
                  <a:pt x="20884" y="3881"/>
                  <a:pt x="20880" y="3866"/>
                </a:cubicBezTo>
                <a:cubicBezTo>
                  <a:pt x="20876" y="3851"/>
                  <a:pt x="20870" y="3835"/>
                  <a:pt x="20871" y="3819"/>
                </a:cubicBezTo>
                <a:cubicBezTo>
                  <a:pt x="20872" y="3802"/>
                  <a:pt x="20884" y="3785"/>
                  <a:pt x="20900" y="3776"/>
                </a:cubicBezTo>
                <a:cubicBezTo>
                  <a:pt x="20917" y="3766"/>
                  <a:pt x="20940" y="3764"/>
                  <a:pt x="20958" y="3759"/>
                </a:cubicBezTo>
                <a:cubicBezTo>
                  <a:pt x="20974" y="3754"/>
                  <a:pt x="20986" y="3751"/>
                  <a:pt x="21002" y="3754"/>
                </a:cubicBezTo>
                <a:cubicBezTo>
                  <a:pt x="21025" y="3758"/>
                  <a:pt x="21030" y="3771"/>
                  <a:pt x="21046" y="3788"/>
                </a:cubicBezTo>
                <a:cubicBezTo>
                  <a:pt x="21063" y="3807"/>
                  <a:pt x="21076" y="3826"/>
                  <a:pt x="21090" y="3847"/>
                </a:cubicBezTo>
                <a:cubicBezTo>
                  <a:pt x="21104" y="3868"/>
                  <a:pt x="21113" y="3890"/>
                  <a:pt x="21117" y="3915"/>
                </a:cubicBezTo>
                <a:cubicBezTo>
                  <a:pt x="21120" y="3936"/>
                  <a:pt x="21115" y="3963"/>
                  <a:pt x="21111" y="3983"/>
                </a:cubicBezTo>
                <a:cubicBezTo>
                  <a:pt x="21104" y="4017"/>
                  <a:pt x="21093" y="4045"/>
                  <a:pt x="21073" y="4073"/>
                </a:cubicBezTo>
                <a:cubicBezTo>
                  <a:pt x="21049" y="4107"/>
                  <a:pt x="21008" y="4149"/>
                  <a:pt x="20964" y="4149"/>
                </a:cubicBezTo>
                <a:cubicBezTo>
                  <a:pt x="20951" y="4149"/>
                  <a:pt x="20930" y="4139"/>
                  <a:pt x="20918" y="4135"/>
                </a:cubicBezTo>
                <a:cubicBezTo>
                  <a:pt x="20901" y="4129"/>
                  <a:pt x="20882" y="4117"/>
                  <a:pt x="20876" y="4099"/>
                </a:cubicBezTo>
                <a:cubicBezTo>
                  <a:pt x="20869" y="4078"/>
                  <a:pt x="20871" y="4061"/>
                  <a:pt x="20880" y="4041"/>
                </a:cubicBezTo>
                <a:cubicBezTo>
                  <a:pt x="20888" y="4022"/>
                  <a:pt x="20894" y="4010"/>
                  <a:pt x="20914" y="4000"/>
                </a:cubicBezTo>
                <a:cubicBezTo>
                  <a:pt x="20929" y="3992"/>
                  <a:pt x="20943" y="3994"/>
                  <a:pt x="20959" y="3996"/>
                </a:cubicBezTo>
                <a:cubicBezTo>
                  <a:pt x="21012" y="4003"/>
                  <a:pt x="21070" y="4036"/>
                  <a:pt x="21105" y="4074"/>
                </a:cubicBezTo>
                <a:cubicBezTo>
                  <a:pt x="21118" y="4088"/>
                  <a:pt x="21130" y="4102"/>
                  <a:pt x="21135" y="4122"/>
                </a:cubicBezTo>
                <a:cubicBezTo>
                  <a:pt x="21140" y="4138"/>
                  <a:pt x="21138" y="4158"/>
                  <a:pt x="21135" y="4175"/>
                </a:cubicBezTo>
                <a:cubicBezTo>
                  <a:pt x="21129" y="4210"/>
                  <a:pt x="21115" y="4248"/>
                  <a:pt x="21097" y="4278"/>
                </a:cubicBezTo>
                <a:cubicBezTo>
                  <a:pt x="21087" y="4295"/>
                  <a:pt x="21074" y="4312"/>
                  <a:pt x="21059" y="4325"/>
                </a:cubicBezTo>
                <a:cubicBezTo>
                  <a:pt x="21035" y="4345"/>
                  <a:pt x="21003" y="4364"/>
                  <a:pt x="20972" y="4366"/>
                </a:cubicBezTo>
                <a:cubicBezTo>
                  <a:pt x="20957" y="4367"/>
                  <a:pt x="20942" y="4365"/>
                  <a:pt x="20928" y="4360"/>
                </a:cubicBezTo>
                <a:cubicBezTo>
                  <a:pt x="20906" y="4352"/>
                  <a:pt x="20890" y="4335"/>
                  <a:pt x="20878" y="4316"/>
                </a:cubicBezTo>
                <a:cubicBezTo>
                  <a:pt x="20868" y="4301"/>
                  <a:pt x="20863" y="4288"/>
                  <a:pt x="20866" y="4270"/>
                </a:cubicBezTo>
                <a:cubicBezTo>
                  <a:pt x="20869" y="4250"/>
                  <a:pt x="20876" y="4238"/>
                  <a:pt x="20894" y="4228"/>
                </a:cubicBezTo>
                <a:cubicBezTo>
                  <a:pt x="20910" y="4219"/>
                  <a:pt x="20941" y="4217"/>
                  <a:pt x="20959" y="4217"/>
                </a:cubicBezTo>
                <a:cubicBezTo>
                  <a:pt x="20998" y="4216"/>
                  <a:pt x="21040" y="4227"/>
                  <a:pt x="21076" y="4240"/>
                </a:cubicBezTo>
                <a:cubicBezTo>
                  <a:pt x="21096" y="4247"/>
                  <a:pt x="21119" y="4255"/>
                  <a:pt x="21138" y="4265"/>
                </a:cubicBezTo>
                <a:cubicBezTo>
                  <a:pt x="21153" y="4272"/>
                  <a:pt x="21174" y="4281"/>
                  <a:pt x="21185" y="4294"/>
                </a:cubicBezTo>
                <a:cubicBezTo>
                  <a:pt x="21194" y="4304"/>
                  <a:pt x="21202" y="4329"/>
                  <a:pt x="21205" y="4342"/>
                </a:cubicBezTo>
                <a:cubicBezTo>
                  <a:pt x="21212" y="4374"/>
                  <a:pt x="21208" y="4410"/>
                  <a:pt x="21196" y="4440"/>
                </a:cubicBezTo>
                <a:cubicBezTo>
                  <a:pt x="21188" y="4459"/>
                  <a:pt x="21181" y="4472"/>
                  <a:pt x="21168" y="4489"/>
                </a:cubicBezTo>
                <a:cubicBezTo>
                  <a:pt x="21154" y="4508"/>
                  <a:pt x="21139" y="4520"/>
                  <a:pt x="21119" y="4533"/>
                </a:cubicBezTo>
                <a:cubicBezTo>
                  <a:pt x="21104" y="4543"/>
                  <a:pt x="21086" y="4548"/>
                  <a:pt x="21071" y="4557"/>
                </a:cubicBezTo>
                <a:cubicBezTo>
                  <a:pt x="21048" y="4570"/>
                  <a:pt x="21017" y="4587"/>
                  <a:pt x="20988" y="4580"/>
                </a:cubicBezTo>
                <a:cubicBezTo>
                  <a:pt x="20968" y="4575"/>
                  <a:pt x="20966" y="4561"/>
                  <a:pt x="20952" y="4550"/>
                </a:cubicBezTo>
              </a:path>
              <a:path w="456" h="1385">
                <a:moveTo>
                  <a:pt x="21002" y="4457"/>
                </a:moveTo>
                <a:cubicBezTo>
                  <a:pt x="20990" y="4481"/>
                  <a:pt x="20981" y="4481"/>
                  <a:pt x="20962" y="4499"/>
                </a:cubicBezTo>
                <a:cubicBezTo>
                  <a:pt x="20946" y="4514"/>
                  <a:pt x="20929" y="4531"/>
                  <a:pt x="20915" y="4547"/>
                </a:cubicBezTo>
                <a:cubicBezTo>
                  <a:pt x="20898" y="4566"/>
                  <a:pt x="20887" y="4582"/>
                  <a:pt x="20877" y="4606"/>
                </a:cubicBezTo>
                <a:cubicBezTo>
                  <a:pt x="20870" y="4622"/>
                  <a:pt x="20866" y="4645"/>
                  <a:pt x="20874" y="4662"/>
                </a:cubicBezTo>
                <a:cubicBezTo>
                  <a:pt x="20884" y="4684"/>
                  <a:pt x="20896" y="4686"/>
                  <a:pt x="20918" y="4692"/>
                </a:cubicBezTo>
                <a:cubicBezTo>
                  <a:pt x="20939" y="4697"/>
                  <a:pt x="20960" y="4698"/>
                  <a:pt x="20981" y="4702"/>
                </a:cubicBezTo>
                <a:cubicBezTo>
                  <a:pt x="20998" y="4706"/>
                  <a:pt x="21019" y="4713"/>
                  <a:pt x="21033" y="4723"/>
                </a:cubicBezTo>
                <a:cubicBezTo>
                  <a:pt x="21037" y="4726"/>
                  <a:pt x="21040" y="4729"/>
                  <a:pt x="21044" y="47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950160" y="1314360"/>
            <a:ext cx="414360" cy="328680"/>
          </a:xfrm>
          <a:custGeom>
            <a:avLst/>
            <a:gdLst/>
            <a:ahLst/>
            <a:rect l="l" t="t" r="r" b="b"/>
            <a:pathLst>
              <a:path w="1149" h="910">
                <a:moveTo>
                  <a:pt x="20233" y="3653"/>
                </a:moveTo>
                <a:cubicBezTo>
                  <a:pt x="20235" y="3683"/>
                  <a:pt x="20236" y="3712"/>
                  <a:pt x="20239" y="3742"/>
                </a:cubicBezTo>
                <a:cubicBezTo>
                  <a:pt x="20246" y="3812"/>
                  <a:pt x="20248" y="3883"/>
                  <a:pt x="20253" y="3953"/>
                </a:cubicBezTo>
                <a:cubicBezTo>
                  <a:pt x="20256" y="3995"/>
                  <a:pt x="20258" y="4036"/>
                  <a:pt x="20262" y="4078"/>
                </a:cubicBezTo>
                <a:cubicBezTo>
                  <a:pt x="20264" y="4106"/>
                  <a:pt x="20266" y="4135"/>
                  <a:pt x="20270" y="4163"/>
                </a:cubicBezTo>
                <a:cubicBezTo>
                  <a:pt x="20272" y="4181"/>
                  <a:pt x="20276" y="4198"/>
                  <a:pt x="20272" y="4216"/>
                </a:cubicBezTo>
                <a:cubicBezTo>
                  <a:pt x="20267" y="4238"/>
                  <a:pt x="20273" y="4240"/>
                  <a:pt x="20256" y="4224"/>
                </a:cubicBezTo>
              </a:path>
              <a:path w="1149" h="910">
                <a:moveTo>
                  <a:pt x="20133" y="4119"/>
                </a:moveTo>
                <a:cubicBezTo>
                  <a:pt x="20121" y="4143"/>
                  <a:pt x="20125" y="4150"/>
                  <a:pt x="20134" y="4176"/>
                </a:cubicBezTo>
                <a:cubicBezTo>
                  <a:pt x="20145" y="4208"/>
                  <a:pt x="20158" y="4236"/>
                  <a:pt x="20177" y="4264"/>
                </a:cubicBezTo>
                <a:cubicBezTo>
                  <a:pt x="20198" y="4295"/>
                  <a:pt x="20223" y="4326"/>
                  <a:pt x="20249" y="4353"/>
                </a:cubicBezTo>
                <a:cubicBezTo>
                  <a:pt x="20269" y="4374"/>
                  <a:pt x="20292" y="4396"/>
                  <a:pt x="20320" y="4406"/>
                </a:cubicBezTo>
                <a:cubicBezTo>
                  <a:pt x="20344" y="4415"/>
                  <a:pt x="20368" y="4414"/>
                  <a:pt x="20384" y="4393"/>
                </a:cubicBezTo>
                <a:cubicBezTo>
                  <a:pt x="20397" y="4376"/>
                  <a:pt x="20403" y="4358"/>
                  <a:pt x="20411" y="4338"/>
                </a:cubicBezTo>
                <a:cubicBezTo>
                  <a:pt x="20420" y="4316"/>
                  <a:pt x="20425" y="4293"/>
                  <a:pt x="20433" y="4270"/>
                </a:cubicBezTo>
                <a:cubicBezTo>
                  <a:pt x="20441" y="4247"/>
                  <a:pt x="20448" y="4221"/>
                  <a:pt x="20453" y="4197"/>
                </a:cubicBezTo>
                <a:cubicBezTo>
                  <a:pt x="20453" y="4193"/>
                  <a:pt x="20454" y="4189"/>
                  <a:pt x="20454" y="4185"/>
                </a:cubicBezTo>
              </a:path>
              <a:path w="1149" h="910">
                <a:moveTo>
                  <a:pt x="19306" y="3746"/>
                </a:moveTo>
                <a:cubicBezTo>
                  <a:pt x="19310" y="3766"/>
                  <a:pt x="19313" y="3786"/>
                  <a:pt x="19317" y="3806"/>
                </a:cubicBezTo>
                <a:cubicBezTo>
                  <a:pt x="19324" y="3841"/>
                  <a:pt x="19331" y="3878"/>
                  <a:pt x="19343" y="3911"/>
                </a:cubicBezTo>
                <a:cubicBezTo>
                  <a:pt x="19361" y="3961"/>
                  <a:pt x="19384" y="4009"/>
                  <a:pt x="19405" y="4057"/>
                </a:cubicBezTo>
                <a:cubicBezTo>
                  <a:pt x="19426" y="4104"/>
                  <a:pt x="19444" y="4153"/>
                  <a:pt x="19466" y="4200"/>
                </a:cubicBezTo>
                <a:cubicBezTo>
                  <a:pt x="19481" y="4232"/>
                  <a:pt x="19499" y="4264"/>
                  <a:pt x="19516" y="4295"/>
                </a:cubicBezTo>
                <a:cubicBezTo>
                  <a:pt x="19534" y="4266"/>
                  <a:pt x="19542" y="4237"/>
                  <a:pt x="19548" y="4203"/>
                </a:cubicBezTo>
                <a:cubicBezTo>
                  <a:pt x="19557" y="4157"/>
                  <a:pt x="19557" y="4108"/>
                  <a:pt x="19563" y="4061"/>
                </a:cubicBezTo>
                <a:cubicBezTo>
                  <a:pt x="19569" y="4013"/>
                  <a:pt x="19574" y="3966"/>
                  <a:pt x="19585" y="3919"/>
                </a:cubicBezTo>
                <a:cubicBezTo>
                  <a:pt x="19593" y="3883"/>
                  <a:pt x="19608" y="3849"/>
                  <a:pt x="19626" y="3816"/>
                </a:cubicBezTo>
                <a:cubicBezTo>
                  <a:pt x="19635" y="3800"/>
                  <a:pt x="19645" y="3787"/>
                  <a:pt x="19655" y="3772"/>
                </a:cubicBezTo>
              </a:path>
              <a:path w="1149" h="910">
                <a:moveTo>
                  <a:pt x="19815" y="4383"/>
                </a:moveTo>
                <a:cubicBezTo>
                  <a:pt x="19815" y="4361"/>
                  <a:pt x="19814" y="4345"/>
                  <a:pt x="19799" y="4328"/>
                </a:cubicBezTo>
                <a:cubicBezTo>
                  <a:pt x="19785" y="4312"/>
                  <a:pt x="19771" y="4314"/>
                  <a:pt x="19753" y="4326"/>
                </a:cubicBezTo>
                <a:cubicBezTo>
                  <a:pt x="19723" y="4347"/>
                  <a:pt x="19707" y="4391"/>
                  <a:pt x="19699" y="4424"/>
                </a:cubicBezTo>
                <a:cubicBezTo>
                  <a:pt x="19692" y="4454"/>
                  <a:pt x="19689" y="4492"/>
                  <a:pt x="19697" y="4522"/>
                </a:cubicBezTo>
                <a:cubicBezTo>
                  <a:pt x="19703" y="4543"/>
                  <a:pt x="19711" y="4550"/>
                  <a:pt x="19727" y="4562"/>
                </a:cubicBezTo>
                <a:cubicBezTo>
                  <a:pt x="19755" y="4559"/>
                  <a:pt x="19766" y="4545"/>
                  <a:pt x="19785" y="4523"/>
                </a:cubicBezTo>
                <a:cubicBezTo>
                  <a:pt x="19811" y="4492"/>
                  <a:pt x="19826" y="4456"/>
                  <a:pt x="19839" y="4418"/>
                </a:cubicBezTo>
                <a:cubicBezTo>
                  <a:pt x="19853" y="4377"/>
                  <a:pt x="19858" y="4334"/>
                  <a:pt x="19856" y="4291"/>
                </a:cubicBezTo>
                <a:cubicBezTo>
                  <a:pt x="19855" y="4256"/>
                  <a:pt x="19847" y="4220"/>
                  <a:pt x="19838" y="4186"/>
                </a:cubicBezTo>
                <a:cubicBezTo>
                  <a:pt x="19834" y="4170"/>
                  <a:pt x="19825" y="4158"/>
                  <a:pt x="19818" y="4143"/>
                </a:cubicBezTo>
                <a:cubicBezTo>
                  <a:pt x="19815" y="4180"/>
                  <a:pt x="19817" y="4216"/>
                  <a:pt x="19825" y="4253"/>
                </a:cubicBezTo>
                <a:cubicBezTo>
                  <a:pt x="19836" y="4303"/>
                  <a:pt x="19845" y="4354"/>
                  <a:pt x="19860" y="4403"/>
                </a:cubicBezTo>
                <a:cubicBezTo>
                  <a:pt x="19871" y="4441"/>
                  <a:pt x="19883" y="4476"/>
                  <a:pt x="19900" y="451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761080" y="1708200"/>
            <a:ext cx="212760" cy="811080"/>
          </a:xfrm>
          <a:custGeom>
            <a:avLst/>
            <a:gdLst/>
            <a:ahLst/>
            <a:rect l="l" t="t" r="r" b="b"/>
            <a:pathLst>
              <a:path w="590" h="2257">
                <a:moveTo>
                  <a:pt x="16121" y="4743"/>
                </a:moveTo>
                <a:cubicBezTo>
                  <a:pt x="16125" y="4782"/>
                  <a:pt x="16127" y="4822"/>
                  <a:pt x="16131" y="4862"/>
                </a:cubicBezTo>
                <a:cubicBezTo>
                  <a:pt x="16136" y="4915"/>
                  <a:pt x="16148" y="4966"/>
                  <a:pt x="16154" y="5018"/>
                </a:cubicBezTo>
                <a:cubicBezTo>
                  <a:pt x="16158" y="5056"/>
                  <a:pt x="16158" y="5095"/>
                  <a:pt x="16155" y="5134"/>
                </a:cubicBezTo>
                <a:cubicBezTo>
                  <a:pt x="16153" y="5156"/>
                  <a:pt x="16149" y="5179"/>
                  <a:pt x="16148" y="5201"/>
                </a:cubicBezTo>
                <a:cubicBezTo>
                  <a:pt x="16147" y="5248"/>
                  <a:pt x="16158" y="5293"/>
                  <a:pt x="16163" y="5339"/>
                </a:cubicBezTo>
                <a:cubicBezTo>
                  <a:pt x="16168" y="5385"/>
                  <a:pt x="16169" y="5432"/>
                  <a:pt x="16174" y="5478"/>
                </a:cubicBezTo>
                <a:cubicBezTo>
                  <a:pt x="16178" y="5516"/>
                  <a:pt x="16183" y="5553"/>
                  <a:pt x="16187" y="5591"/>
                </a:cubicBezTo>
                <a:cubicBezTo>
                  <a:pt x="16193" y="5648"/>
                  <a:pt x="16198" y="5703"/>
                  <a:pt x="16199" y="5760"/>
                </a:cubicBezTo>
                <a:cubicBezTo>
                  <a:pt x="16200" y="5891"/>
                  <a:pt x="16229" y="6009"/>
                  <a:pt x="16249" y="6138"/>
                </a:cubicBezTo>
                <a:cubicBezTo>
                  <a:pt x="16254" y="6169"/>
                  <a:pt x="16256" y="6201"/>
                  <a:pt x="16259" y="6233"/>
                </a:cubicBezTo>
                <a:cubicBezTo>
                  <a:pt x="16262" y="6264"/>
                  <a:pt x="16265" y="6294"/>
                  <a:pt x="16269" y="6325"/>
                </a:cubicBezTo>
                <a:cubicBezTo>
                  <a:pt x="16275" y="6376"/>
                  <a:pt x="16277" y="6428"/>
                  <a:pt x="16276" y="6480"/>
                </a:cubicBezTo>
                <a:cubicBezTo>
                  <a:pt x="16275" y="6527"/>
                  <a:pt x="16271" y="6575"/>
                  <a:pt x="16269" y="6622"/>
                </a:cubicBezTo>
                <a:cubicBezTo>
                  <a:pt x="16267" y="6658"/>
                  <a:pt x="16269" y="6689"/>
                  <a:pt x="16273" y="6725"/>
                </a:cubicBezTo>
                <a:cubicBezTo>
                  <a:pt x="16278" y="6765"/>
                  <a:pt x="16284" y="6804"/>
                  <a:pt x="16286" y="6844"/>
                </a:cubicBezTo>
                <a:cubicBezTo>
                  <a:pt x="16288" y="6873"/>
                  <a:pt x="16288" y="6903"/>
                  <a:pt x="16289" y="6932"/>
                </a:cubicBezTo>
                <a:cubicBezTo>
                  <a:pt x="16295" y="6912"/>
                  <a:pt x="16301" y="6895"/>
                  <a:pt x="16307" y="6876"/>
                </a:cubicBezTo>
              </a:path>
              <a:path w="590" h="2257">
                <a:moveTo>
                  <a:pt x="16197" y="6725"/>
                </a:moveTo>
                <a:cubicBezTo>
                  <a:pt x="16203" y="6750"/>
                  <a:pt x="16212" y="6767"/>
                  <a:pt x="16224" y="6789"/>
                </a:cubicBezTo>
                <a:cubicBezTo>
                  <a:pt x="16240" y="6819"/>
                  <a:pt x="16256" y="6845"/>
                  <a:pt x="16279" y="6871"/>
                </a:cubicBezTo>
                <a:cubicBezTo>
                  <a:pt x="16301" y="6896"/>
                  <a:pt x="16322" y="6913"/>
                  <a:pt x="16351" y="6928"/>
                </a:cubicBezTo>
                <a:cubicBezTo>
                  <a:pt x="16366" y="6936"/>
                  <a:pt x="16378" y="6941"/>
                  <a:pt x="16395" y="6937"/>
                </a:cubicBezTo>
                <a:cubicBezTo>
                  <a:pt x="16418" y="6931"/>
                  <a:pt x="16436" y="6911"/>
                  <a:pt x="16452" y="6895"/>
                </a:cubicBezTo>
                <a:cubicBezTo>
                  <a:pt x="16487" y="6861"/>
                  <a:pt x="16512" y="6818"/>
                  <a:pt x="16535" y="6775"/>
                </a:cubicBezTo>
                <a:cubicBezTo>
                  <a:pt x="16544" y="6758"/>
                  <a:pt x="16552" y="6743"/>
                  <a:pt x="16558" y="6725"/>
                </a:cubicBezTo>
              </a:path>
              <a:path w="590" h="2257">
                <a:moveTo>
                  <a:pt x="16014" y="6608"/>
                </a:moveTo>
                <a:cubicBezTo>
                  <a:pt x="15977" y="6576"/>
                  <a:pt x="16040" y="6644"/>
                  <a:pt x="16045" y="6650"/>
                </a:cubicBezTo>
                <a:cubicBezTo>
                  <a:pt x="16090" y="6702"/>
                  <a:pt x="16141" y="6747"/>
                  <a:pt x="16188" y="6798"/>
                </a:cubicBezTo>
                <a:cubicBezTo>
                  <a:pt x="16217" y="6830"/>
                  <a:pt x="16248" y="6860"/>
                  <a:pt x="16276" y="6893"/>
                </a:cubicBezTo>
                <a:cubicBezTo>
                  <a:pt x="16301" y="6923"/>
                  <a:pt x="16322" y="6951"/>
                  <a:pt x="16351" y="6976"/>
                </a:cubicBezTo>
                <a:cubicBezTo>
                  <a:pt x="16373" y="6995"/>
                  <a:pt x="16378" y="7006"/>
                  <a:pt x="16405" y="6983"/>
                </a:cubicBezTo>
                <a:cubicBezTo>
                  <a:pt x="16429" y="6963"/>
                  <a:pt x="16443" y="6935"/>
                  <a:pt x="16457" y="6908"/>
                </a:cubicBezTo>
                <a:cubicBezTo>
                  <a:pt x="16476" y="6873"/>
                  <a:pt x="16494" y="6837"/>
                  <a:pt x="16509" y="6800"/>
                </a:cubicBezTo>
                <a:cubicBezTo>
                  <a:pt x="16522" y="6768"/>
                  <a:pt x="16533" y="6736"/>
                  <a:pt x="16545" y="6704"/>
                </a:cubicBezTo>
                <a:cubicBezTo>
                  <a:pt x="16549" y="6693"/>
                  <a:pt x="16556" y="6660"/>
                  <a:pt x="16565" y="6652"/>
                </a:cubicBezTo>
                <a:cubicBezTo>
                  <a:pt x="16581" y="6637"/>
                  <a:pt x="16568" y="6646"/>
                  <a:pt x="16591" y="66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5103720" y="404640"/>
            <a:ext cx="3260520" cy="2754360"/>
            <a:chOff x="5103720" y="404640"/>
            <a:chExt cx="3260520" cy="2754360"/>
          </a:xfrm>
        </p:grpSpPr>
        <p:sp>
          <p:nvSpPr>
            <p:cNvPr id="264"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651640" y="1468440"/>
            <a:ext cx="525240" cy="663480"/>
          </a:xfrm>
          <a:custGeom>
            <a:avLst/>
            <a:gdLst/>
            <a:ahLst/>
            <a:rect l="l" t="t" r="r" b="b"/>
            <a:pathLst>
              <a:path w="1457" h="1841">
                <a:moveTo>
                  <a:pt x="16866" y="4132"/>
                </a:moveTo>
                <a:cubicBezTo>
                  <a:pt x="16855" y="4161"/>
                  <a:pt x="16849" y="4174"/>
                  <a:pt x="16848" y="4206"/>
                </a:cubicBezTo>
                <a:cubicBezTo>
                  <a:pt x="16846" y="4254"/>
                  <a:pt x="16856" y="4299"/>
                  <a:pt x="16861" y="4346"/>
                </a:cubicBezTo>
                <a:cubicBezTo>
                  <a:pt x="16867" y="4395"/>
                  <a:pt x="16873" y="4443"/>
                  <a:pt x="16878" y="4492"/>
                </a:cubicBezTo>
                <a:cubicBezTo>
                  <a:pt x="16884" y="4546"/>
                  <a:pt x="16886" y="4601"/>
                  <a:pt x="16891" y="4655"/>
                </a:cubicBezTo>
                <a:cubicBezTo>
                  <a:pt x="16901" y="4757"/>
                  <a:pt x="16908" y="4859"/>
                  <a:pt x="16923" y="4960"/>
                </a:cubicBezTo>
                <a:cubicBezTo>
                  <a:pt x="16929" y="5001"/>
                  <a:pt x="16933" y="5041"/>
                  <a:pt x="16937" y="5082"/>
                </a:cubicBezTo>
                <a:cubicBezTo>
                  <a:pt x="16942" y="5128"/>
                  <a:pt x="16946" y="5175"/>
                  <a:pt x="16950" y="5221"/>
                </a:cubicBezTo>
                <a:cubicBezTo>
                  <a:pt x="16954" y="5272"/>
                  <a:pt x="16958" y="5324"/>
                  <a:pt x="16959" y="5376"/>
                </a:cubicBezTo>
                <a:cubicBezTo>
                  <a:pt x="16961" y="5468"/>
                  <a:pt x="16965" y="5559"/>
                  <a:pt x="16967" y="5651"/>
                </a:cubicBezTo>
                <a:cubicBezTo>
                  <a:pt x="16968" y="5708"/>
                  <a:pt x="16963" y="5764"/>
                  <a:pt x="16963" y="5821"/>
                </a:cubicBezTo>
                <a:cubicBezTo>
                  <a:pt x="16963" y="5840"/>
                  <a:pt x="16966" y="5854"/>
                  <a:pt x="16970" y="5872"/>
                </a:cubicBezTo>
                <a:cubicBezTo>
                  <a:pt x="16971" y="5875"/>
                  <a:pt x="16973" y="5879"/>
                  <a:pt x="16974" y="5882"/>
                </a:cubicBezTo>
                <a:cubicBezTo>
                  <a:pt x="16986" y="5867"/>
                  <a:pt x="17003" y="5873"/>
                  <a:pt x="17008" y="5845"/>
                </a:cubicBezTo>
                <a:cubicBezTo>
                  <a:pt x="17012" y="5823"/>
                  <a:pt x="16999" y="5806"/>
                  <a:pt x="16993" y="5787"/>
                </a:cubicBezTo>
              </a:path>
              <a:path w="1457" h="1841">
                <a:moveTo>
                  <a:pt x="16715" y="5567"/>
                </a:moveTo>
                <a:cubicBezTo>
                  <a:pt x="16726" y="5595"/>
                  <a:pt x="16738" y="5623"/>
                  <a:pt x="16750" y="5651"/>
                </a:cubicBezTo>
                <a:cubicBezTo>
                  <a:pt x="16766" y="5686"/>
                  <a:pt x="16783" y="5720"/>
                  <a:pt x="16800" y="5754"/>
                </a:cubicBezTo>
                <a:cubicBezTo>
                  <a:pt x="16830" y="5815"/>
                  <a:pt x="16862" y="5869"/>
                  <a:pt x="16908" y="5920"/>
                </a:cubicBezTo>
                <a:cubicBezTo>
                  <a:pt x="16930" y="5944"/>
                  <a:pt x="16958" y="5967"/>
                  <a:pt x="16991" y="5972"/>
                </a:cubicBezTo>
                <a:cubicBezTo>
                  <a:pt x="17019" y="5977"/>
                  <a:pt x="17049" y="5967"/>
                  <a:pt x="17072" y="5953"/>
                </a:cubicBezTo>
                <a:cubicBezTo>
                  <a:pt x="17106" y="5933"/>
                  <a:pt x="17126" y="5904"/>
                  <a:pt x="17144" y="5870"/>
                </a:cubicBezTo>
                <a:cubicBezTo>
                  <a:pt x="17160" y="5839"/>
                  <a:pt x="17171" y="5806"/>
                  <a:pt x="17170" y="5771"/>
                </a:cubicBezTo>
                <a:cubicBezTo>
                  <a:pt x="17173" y="5759"/>
                  <a:pt x="17174" y="5754"/>
                  <a:pt x="17167" y="5746"/>
                </a:cubicBezTo>
              </a:path>
              <a:path w="1457" h="1841">
                <a:moveTo>
                  <a:pt x="15717" y="4777"/>
                </a:moveTo>
                <a:cubicBezTo>
                  <a:pt x="15730" y="4811"/>
                  <a:pt x="15743" y="4844"/>
                  <a:pt x="15755" y="4878"/>
                </a:cubicBezTo>
                <a:cubicBezTo>
                  <a:pt x="15786" y="4968"/>
                  <a:pt x="15815" y="5055"/>
                  <a:pt x="15861" y="5139"/>
                </a:cubicBezTo>
                <a:cubicBezTo>
                  <a:pt x="15877" y="5168"/>
                  <a:pt x="15900" y="5222"/>
                  <a:pt x="15931" y="5238"/>
                </a:cubicBezTo>
                <a:cubicBezTo>
                  <a:pt x="15949" y="5248"/>
                  <a:pt x="15964" y="5246"/>
                  <a:pt x="15976" y="5227"/>
                </a:cubicBezTo>
                <a:cubicBezTo>
                  <a:pt x="15999" y="5190"/>
                  <a:pt x="15999" y="5124"/>
                  <a:pt x="16003" y="5082"/>
                </a:cubicBezTo>
                <a:cubicBezTo>
                  <a:pt x="16010" y="5015"/>
                  <a:pt x="16017" y="4948"/>
                  <a:pt x="16038" y="4884"/>
                </a:cubicBezTo>
                <a:cubicBezTo>
                  <a:pt x="16046" y="4860"/>
                  <a:pt x="16057" y="4833"/>
                  <a:pt x="16070" y="4811"/>
                </a:cubicBezTo>
                <a:cubicBezTo>
                  <a:pt x="16078" y="4799"/>
                  <a:pt x="16080" y="4794"/>
                  <a:pt x="16091" y="4801"/>
                </a:cubicBezTo>
              </a:path>
              <a:path w="1457" h="1841">
                <a:moveTo>
                  <a:pt x="16321" y="5269"/>
                </a:moveTo>
                <a:cubicBezTo>
                  <a:pt x="16296" y="5289"/>
                  <a:pt x="16278" y="5309"/>
                  <a:pt x="16267" y="5340"/>
                </a:cubicBezTo>
                <a:cubicBezTo>
                  <a:pt x="16255" y="5374"/>
                  <a:pt x="16248" y="5413"/>
                  <a:pt x="16254" y="5449"/>
                </a:cubicBezTo>
                <a:cubicBezTo>
                  <a:pt x="16259" y="5476"/>
                  <a:pt x="16272" y="5508"/>
                  <a:pt x="16305" y="5503"/>
                </a:cubicBezTo>
                <a:cubicBezTo>
                  <a:pt x="16345" y="5497"/>
                  <a:pt x="16368" y="5451"/>
                  <a:pt x="16384" y="5419"/>
                </a:cubicBezTo>
                <a:cubicBezTo>
                  <a:pt x="16410" y="5368"/>
                  <a:pt x="16420" y="5313"/>
                  <a:pt x="16420" y="5256"/>
                </a:cubicBezTo>
                <a:cubicBezTo>
                  <a:pt x="16420" y="5184"/>
                  <a:pt x="16399" y="5115"/>
                  <a:pt x="16377" y="5047"/>
                </a:cubicBezTo>
                <a:cubicBezTo>
                  <a:pt x="16368" y="5018"/>
                  <a:pt x="16357" y="4989"/>
                  <a:pt x="16349" y="4960"/>
                </a:cubicBezTo>
                <a:cubicBezTo>
                  <a:pt x="16391" y="5022"/>
                  <a:pt x="16414" y="5089"/>
                  <a:pt x="16440" y="5159"/>
                </a:cubicBezTo>
                <a:cubicBezTo>
                  <a:pt x="16460" y="5213"/>
                  <a:pt x="16478" y="5268"/>
                  <a:pt x="16499" y="5322"/>
                </a:cubicBezTo>
                <a:cubicBezTo>
                  <a:pt x="16511" y="5351"/>
                  <a:pt x="16520" y="5380"/>
                  <a:pt x="16542" y="5402"/>
                </a:cubicBezTo>
                <a:cubicBezTo>
                  <a:pt x="16545" y="5405"/>
                  <a:pt x="16549" y="5409"/>
                  <a:pt x="16552" y="541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99240" y="1511280"/>
            <a:ext cx="254160" cy="593640"/>
          </a:xfrm>
          <a:custGeom>
            <a:avLst/>
            <a:gdLst/>
            <a:ahLst/>
            <a:rect l="l" t="t" r="r" b="b"/>
            <a:pathLst>
              <a:path w="703" h="2020">
                <a:moveTo>
                  <a:pt x="19267" y="4141"/>
                </a:moveTo>
                <a:cubicBezTo>
                  <a:pt x="19252" y="4129"/>
                  <a:pt x="19242" y="4115"/>
                  <a:pt x="19226" y="4104"/>
                </a:cubicBezTo>
                <a:cubicBezTo>
                  <a:pt x="19213" y="4095"/>
                  <a:pt x="19192" y="4078"/>
                  <a:pt x="19176" y="4075"/>
                </a:cubicBezTo>
                <a:cubicBezTo>
                  <a:pt x="19105" y="4062"/>
                  <a:pt x="19030" y="4131"/>
                  <a:pt x="18980" y="4172"/>
                </a:cubicBezTo>
                <a:cubicBezTo>
                  <a:pt x="18944" y="4202"/>
                  <a:pt x="18907" y="4235"/>
                  <a:pt x="18877" y="4271"/>
                </a:cubicBezTo>
                <a:cubicBezTo>
                  <a:pt x="18846" y="4309"/>
                  <a:pt x="18821" y="4349"/>
                  <a:pt x="18806" y="4396"/>
                </a:cubicBezTo>
                <a:cubicBezTo>
                  <a:pt x="18785" y="4461"/>
                  <a:pt x="18787" y="4538"/>
                  <a:pt x="18806" y="4604"/>
                </a:cubicBezTo>
                <a:cubicBezTo>
                  <a:pt x="18829" y="4682"/>
                  <a:pt x="18872" y="4752"/>
                  <a:pt x="18942" y="4796"/>
                </a:cubicBezTo>
                <a:cubicBezTo>
                  <a:pt x="19057" y="4869"/>
                  <a:pt x="19265" y="4889"/>
                  <a:pt x="19365" y="4776"/>
                </a:cubicBezTo>
                <a:cubicBezTo>
                  <a:pt x="19398" y="4739"/>
                  <a:pt x="19402" y="4683"/>
                  <a:pt x="19390" y="4637"/>
                </a:cubicBezTo>
                <a:cubicBezTo>
                  <a:pt x="19384" y="4612"/>
                  <a:pt x="19372" y="4586"/>
                  <a:pt x="19353" y="4567"/>
                </a:cubicBezTo>
                <a:cubicBezTo>
                  <a:pt x="19276" y="4489"/>
                  <a:pt x="19133" y="4517"/>
                  <a:pt x="19043" y="4552"/>
                </a:cubicBezTo>
                <a:cubicBezTo>
                  <a:pt x="18954" y="4586"/>
                  <a:pt x="18894" y="4644"/>
                  <a:pt x="18842" y="4722"/>
                </a:cubicBezTo>
                <a:cubicBezTo>
                  <a:pt x="18777" y="4819"/>
                  <a:pt x="18733" y="4943"/>
                  <a:pt x="18765" y="5058"/>
                </a:cubicBezTo>
                <a:cubicBezTo>
                  <a:pt x="18781" y="5113"/>
                  <a:pt x="18811" y="5156"/>
                  <a:pt x="18853" y="5195"/>
                </a:cubicBezTo>
                <a:cubicBezTo>
                  <a:pt x="18918" y="5255"/>
                  <a:pt x="19005" y="5292"/>
                  <a:pt x="19091" y="5309"/>
                </a:cubicBezTo>
                <a:cubicBezTo>
                  <a:pt x="19163" y="5323"/>
                  <a:pt x="19230" y="5313"/>
                  <a:pt x="19297" y="5285"/>
                </a:cubicBezTo>
                <a:cubicBezTo>
                  <a:pt x="19333" y="5270"/>
                  <a:pt x="19383" y="5247"/>
                  <a:pt x="19395" y="5207"/>
                </a:cubicBezTo>
                <a:cubicBezTo>
                  <a:pt x="19400" y="5189"/>
                  <a:pt x="19397" y="5170"/>
                  <a:pt x="19387" y="5153"/>
                </a:cubicBezTo>
                <a:cubicBezTo>
                  <a:pt x="19375" y="5132"/>
                  <a:pt x="19352" y="5110"/>
                  <a:pt x="19331" y="5098"/>
                </a:cubicBezTo>
                <a:cubicBezTo>
                  <a:pt x="19306" y="5083"/>
                  <a:pt x="19270" y="5071"/>
                  <a:pt x="19241" y="5065"/>
                </a:cubicBezTo>
                <a:cubicBezTo>
                  <a:pt x="19157" y="5049"/>
                  <a:pt x="19072" y="5099"/>
                  <a:pt x="19005" y="5144"/>
                </a:cubicBezTo>
                <a:cubicBezTo>
                  <a:pt x="18948" y="5183"/>
                  <a:pt x="18888" y="5232"/>
                  <a:pt x="18854" y="5293"/>
                </a:cubicBezTo>
                <a:cubicBezTo>
                  <a:pt x="18815" y="5361"/>
                  <a:pt x="18805" y="5445"/>
                  <a:pt x="18805" y="5522"/>
                </a:cubicBezTo>
                <a:cubicBezTo>
                  <a:pt x="18805" y="5603"/>
                  <a:pt x="18825" y="5683"/>
                  <a:pt x="18857" y="5757"/>
                </a:cubicBezTo>
                <a:cubicBezTo>
                  <a:pt x="18890" y="5834"/>
                  <a:pt x="18942" y="5881"/>
                  <a:pt x="19017" y="5916"/>
                </a:cubicBezTo>
                <a:cubicBezTo>
                  <a:pt x="19087" y="5949"/>
                  <a:pt x="19153" y="5957"/>
                  <a:pt x="19229" y="5954"/>
                </a:cubicBezTo>
                <a:cubicBezTo>
                  <a:pt x="19259" y="5953"/>
                  <a:pt x="19288" y="5954"/>
                  <a:pt x="19317" y="5953"/>
                </a:cubicBezTo>
                <a:cubicBezTo>
                  <a:pt x="19345" y="5952"/>
                  <a:pt x="19356" y="5946"/>
                  <a:pt x="19375" y="5936"/>
                </a:cubicBezTo>
                <a:cubicBezTo>
                  <a:pt x="19377" y="5931"/>
                  <a:pt x="19380" y="5926"/>
                  <a:pt x="19382" y="5921"/>
                </a:cubicBezTo>
              </a:path>
              <a:path w="703" h="2020">
                <a:moveTo>
                  <a:pt x="19244" y="5801"/>
                </a:moveTo>
                <a:cubicBezTo>
                  <a:pt x="19264" y="5806"/>
                  <a:pt x="19284" y="5812"/>
                  <a:pt x="19304" y="5818"/>
                </a:cubicBezTo>
                <a:cubicBezTo>
                  <a:pt x="19333" y="5827"/>
                  <a:pt x="19363" y="5834"/>
                  <a:pt x="19392" y="5845"/>
                </a:cubicBezTo>
                <a:cubicBezTo>
                  <a:pt x="19416" y="5854"/>
                  <a:pt x="19435" y="5863"/>
                  <a:pt x="19448" y="5885"/>
                </a:cubicBezTo>
                <a:cubicBezTo>
                  <a:pt x="19461" y="5907"/>
                  <a:pt x="19448" y="5923"/>
                  <a:pt x="19438" y="5943"/>
                </a:cubicBezTo>
                <a:cubicBezTo>
                  <a:pt x="19424" y="5969"/>
                  <a:pt x="19404" y="5992"/>
                  <a:pt x="19386" y="6015"/>
                </a:cubicBezTo>
                <a:cubicBezTo>
                  <a:pt x="19370" y="6036"/>
                  <a:pt x="19355" y="6056"/>
                  <a:pt x="19341" y="6079"/>
                </a:cubicBezTo>
                <a:cubicBezTo>
                  <a:pt x="19338" y="6084"/>
                  <a:pt x="19335" y="6088"/>
                  <a:pt x="19332" y="60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86680" y="1488960"/>
            <a:ext cx="323640" cy="622440"/>
          </a:xfrm>
          <a:custGeom>
            <a:avLst/>
            <a:gdLst/>
            <a:ahLst/>
            <a:rect l="l" t="t" r="r" b="b"/>
            <a:pathLst>
              <a:path w="896" h="2201">
                <a:moveTo>
                  <a:pt x="17543" y="3962"/>
                </a:moveTo>
                <a:cubicBezTo>
                  <a:pt x="17468" y="4055"/>
                  <a:pt x="17425" y="4147"/>
                  <a:pt x="17429" y="4270"/>
                </a:cubicBezTo>
                <a:cubicBezTo>
                  <a:pt x="17431" y="4326"/>
                  <a:pt x="17447" y="4362"/>
                  <a:pt x="17485" y="4401"/>
                </a:cubicBezTo>
                <a:cubicBezTo>
                  <a:pt x="17548" y="4464"/>
                  <a:pt x="17639" y="4491"/>
                  <a:pt x="17723" y="4511"/>
                </a:cubicBezTo>
                <a:cubicBezTo>
                  <a:pt x="17862" y="4544"/>
                  <a:pt x="18040" y="4525"/>
                  <a:pt x="18161" y="4448"/>
                </a:cubicBezTo>
                <a:cubicBezTo>
                  <a:pt x="18210" y="4417"/>
                  <a:pt x="18246" y="4369"/>
                  <a:pt x="18215" y="4312"/>
                </a:cubicBezTo>
                <a:cubicBezTo>
                  <a:pt x="18202" y="4289"/>
                  <a:pt x="18178" y="4271"/>
                  <a:pt x="18158" y="4255"/>
                </a:cubicBezTo>
                <a:cubicBezTo>
                  <a:pt x="18069" y="4185"/>
                  <a:pt x="17928" y="4197"/>
                  <a:pt x="17831" y="4237"/>
                </a:cubicBezTo>
                <a:cubicBezTo>
                  <a:pt x="17726" y="4280"/>
                  <a:pt x="17617" y="4361"/>
                  <a:pt x="17573" y="4468"/>
                </a:cubicBezTo>
                <a:cubicBezTo>
                  <a:pt x="17525" y="4584"/>
                  <a:pt x="17543" y="4733"/>
                  <a:pt x="17573" y="4851"/>
                </a:cubicBezTo>
                <a:cubicBezTo>
                  <a:pt x="17594" y="4933"/>
                  <a:pt x="17637" y="4988"/>
                  <a:pt x="17716" y="5020"/>
                </a:cubicBezTo>
                <a:cubicBezTo>
                  <a:pt x="17873" y="5083"/>
                  <a:pt x="18078" y="5072"/>
                  <a:pt x="18226" y="4991"/>
                </a:cubicBezTo>
                <a:cubicBezTo>
                  <a:pt x="18273" y="4965"/>
                  <a:pt x="18321" y="4925"/>
                  <a:pt x="18324" y="4867"/>
                </a:cubicBezTo>
                <a:cubicBezTo>
                  <a:pt x="18325" y="4844"/>
                  <a:pt x="18317" y="4818"/>
                  <a:pt x="18303" y="4800"/>
                </a:cubicBezTo>
                <a:cubicBezTo>
                  <a:pt x="18233" y="4708"/>
                  <a:pt x="18070" y="4716"/>
                  <a:pt x="17972" y="4737"/>
                </a:cubicBezTo>
                <a:cubicBezTo>
                  <a:pt x="17918" y="4748"/>
                  <a:pt x="17866" y="4771"/>
                  <a:pt x="17818" y="4798"/>
                </a:cubicBezTo>
                <a:cubicBezTo>
                  <a:pt x="17733" y="4846"/>
                  <a:pt x="17649" y="4920"/>
                  <a:pt x="17604" y="5008"/>
                </a:cubicBezTo>
                <a:cubicBezTo>
                  <a:pt x="17583" y="5050"/>
                  <a:pt x="17569" y="5097"/>
                  <a:pt x="17561" y="5143"/>
                </a:cubicBezTo>
                <a:cubicBezTo>
                  <a:pt x="17547" y="5221"/>
                  <a:pt x="17548" y="5306"/>
                  <a:pt x="17561" y="5384"/>
                </a:cubicBezTo>
                <a:cubicBezTo>
                  <a:pt x="17575" y="5466"/>
                  <a:pt x="17604" y="5589"/>
                  <a:pt x="17677" y="5639"/>
                </a:cubicBezTo>
                <a:cubicBezTo>
                  <a:pt x="17761" y="5696"/>
                  <a:pt x="17887" y="5676"/>
                  <a:pt x="17979" y="5653"/>
                </a:cubicBezTo>
                <a:cubicBezTo>
                  <a:pt x="18046" y="5636"/>
                  <a:pt x="18113" y="5608"/>
                  <a:pt x="18171" y="5570"/>
                </a:cubicBezTo>
                <a:cubicBezTo>
                  <a:pt x="18195" y="5554"/>
                  <a:pt x="18220" y="5533"/>
                  <a:pt x="18235" y="5509"/>
                </a:cubicBezTo>
                <a:cubicBezTo>
                  <a:pt x="18263" y="5466"/>
                  <a:pt x="18283" y="5414"/>
                  <a:pt x="18269" y="5363"/>
                </a:cubicBezTo>
                <a:cubicBezTo>
                  <a:pt x="18252" y="5298"/>
                  <a:pt x="18157" y="5273"/>
                  <a:pt x="18100" y="5266"/>
                </a:cubicBezTo>
                <a:cubicBezTo>
                  <a:pt x="17974" y="5251"/>
                  <a:pt x="17813" y="5291"/>
                  <a:pt x="17730" y="5391"/>
                </a:cubicBezTo>
                <a:cubicBezTo>
                  <a:pt x="17679" y="5453"/>
                  <a:pt x="17662" y="5536"/>
                  <a:pt x="17653" y="5614"/>
                </a:cubicBezTo>
                <a:cubicBezTo>
                  <a:pt x="17646" y="5673"/>
                  <a:pt x="17648" y="5733"/>
                  <a:pt x="17663" y="5790"/>
                </a:cubicBezTo>
                <a:cubicBezTo>
                  <a:pt x="17687" y="5881"/>
                  <a:pt x="17773" y="5932"/>
                  <a:pt x="17852" y="5972"/>
                </a:cubicBezTo>
                <a:cubicBezTo>
                  <a:pt x="17952" y="6023"/>
                  <a:pt x="18034" y="6005"/>
                  <a:pt x="18141" y="5991"/>
                </a:cubicBezTo>
                <a:cubicBezTo>
                  <a:pt x="18166" y="5988"/>
                  <a:pt x="18190" y="5985"/>
                  <a:pt x="18215" y="5984"/>
                </a:cubicBezTo>
                <a:cubicBezTo>
                  <a:pt x="18238" y="5983"/>
                  <a:pt x="18260" y="5987"/>
                  <a:pt x="18283" y="5988"/>
                </a:cubicBezTo>
              </a:path>
              <a:path w="896" h="2201">
                <a:moveTo>
                  <a:pt x="18145" y="5832"/>
                </a:moveTo>
                <a:cubicBezTo>
                  <a:pt x="18134" y="5829"/>
                  <a:pt x="18130" y="5828"/>
                  <a:pt x="18123" y="5825"/>
                </a:cubicBezTo>
                <a:cubicBezTo>
                  <a:pt x="18113" y="5846"/>
                  <a:pt x="18113" y="5854"/>
                  <a:pt x="18130" y="5872"/>
                </a:cubicBezTo>
                <a:cubicBezTo>
                  <a:pt x="18146" y="5889"/>
                  <a:pt x="18164" y="5905"/>
                  <a:pt x="18182" y="5919"/>
                </a:cubicBezTo>
                <a:cubicBezTo>
                  <a:pt x="18203" y="5935"/>
                  <a:pt x="18225" y="5949"/>
                  <a:pt x="18245" y="5965"/>
                </a:cubicBezTo>
                <a:cubicBezTo>
                  <a:pt x="18263" y="5979"/>
                  <a:pt x="18276" y="5993"/>
                  <a:pt x="18290" y="6011"/>
                </a:cubicBezTo>
                <a:cubicBezTo>
                  <a:pt x="18304" y="6029"/>
                  <a:pt x="18306" y="6044"/>
                  <a:pt x="18306" y="6067"/>
                </a:cubicBezTo>
                <a:cubicBezTo>
                  <a:pt x="18306" y="6086"/>
                  <a:pt x="18293" y="6097"/>
                  <a:pt x="18279" y="6107"/>
                </a:cubicBezTo>
                <a:cubicBezTo>
                  <a:pt x="18264" y="6118"/>
                  <a:pt x="18248" y="6124"/>
                  <a:pt x="18232" y="6133"/>
                </a:cubicBezTo>
                <a:cubicBezTo>
                  <a:pt x="18213" y="6144"/>
                  <a:pt x="18202" y="6145"/>
                  <a:pt x="18202" y="616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031160" y="2452680"/>
            <a:ext cx="385560" cy="174600"/>
          </a:xfrm>
          <a:custGeom>
            <a:avLst/>
            <a:gdLst/>
            <a:ahLst/>
            <a:rect l="l" t="t" r="r" b="b"/>
            <a:pathLst>
              <a:path w="1075" h="485">
                <a:moveTo>
                  <a:pt x="19993" y="6725"/>
                </a:moveTo>
                <a:cubicBezTo>
                  <a:pt x="19983" y="6750"/>
                  <a:pt x="19979" y="6774"/>
                  <a:pt x="19980" y="6802"/>
                </a:cubicBezTo>
                <a:cubicBezTo>
                  <a:pt x="19982" y="6844"/>
                  <a:pt x="19990" y="6887"/>
                  <a:pt x="19994" y="6929"/>
                </a:cubicBezTo>
                <a:cubicBezTo>
                  <a:pt x="19998" y="6970"/>
                  <a:pt x="20004" y="7012"/>
                  <a:pt x="20010" y="7053"/>
                </a:cubicBezTo>
                <a:cubicBezTo>
                  <a:pt x="20014" y="7082"/>
                  <a:pt x="20020" y="7112"/>
                  <a:pt x="20023" y="7141"/>
                </a:cubicBezTo>
                <a:cubicBezTo>
                  <a:pt x="20028" y="7181"/>
                  <a:pt x="20021" y="7161"/>
                  <a:pt x="20013" y="7135"/>
                </a:cubicBezTo>
              </a:path>
              <a:path w="1075" h="485">
                <a:moveTo>
                  <a:pt x="19882" y="7093"/>
                </a:moveTo>
                <a:cubicBezTo>
                  <a:pt x="19889" y="7112"/>
                  <a:pt x="19897" y="7124"/>
                  <a:pt x="19909" y="7141"/>
                </a:cubicBezTo>
                <a:cubicBezTo>
                  <a:pt x="19925" y="7164"/>
                  <a:pt x="19944" y="7186"/>
                  <a:pt x="19969" y="7200"/>
                </a:cubicBezTo>
                <a:cubicBezTo>
                  <a:pt x="19991" y="7212"/>
                  <a:pt x="19999" y="7207"/>
                  <a:pt x="20016" y="7189"/>
                </a:cubicBezTo>
                <a:cubicBezTo>
                  <a:pt x="20033" y="7170"/>
                  <a:pt x="20043" y="7151"/>
                  <a:pt x="20055" y="7129"/>
                </a:cubicBezTo>
                <a:cubicBezTo>
                  <a:pt x="20065" y="7111"/>
                  <a:pt x="20073" y="7092"/>
                  <a:pt x="20081" y="7073"/>
                </a:cubicBezTo>
                <a:cubicBezTo>
                  <a:pt x="20086" y="7062"/>
                  <a:pt x="20089" y="7058"/>
                  <a:pt x="20094" y="7051"/>
                </a:cubicBezTo>
              </a:path>
              <a:path w="1075" h="485">
                <a:moveTo>
                  <a:pt x="20377" y="6813"/>
                </a:moveTo>
                <a:cubicBezTo>
                  <a:pt x="20383" y="6835"/>
                  <a:pt x="20390" y="6853"/>
                  <a:pt x="20400" y="6874"/>
                </a:cubicBezTo>
                <a:cubicBezTo>
                  <a:pt x="20416" y="6909"/>
                  <a:pt x="20433" y="6942"/>
                  <a:pt x="20457" y="6972"/>
                </a:cubicBezTo>
                <a:cubicBezTo>
                  <a:pt x="20473" y="6992"/>
                  <a:pt x="20496" y="7021"/>
                  <a:pt x="20525" y="7023"/>
                </a:cubicBezTo>
                <a:cubicBezTo>
                  <a:pt x="20559" y="7025"/>
                  <a:pt x="20563" y="6981"/>
                  <a:pt x="20567" y="6958"/>
                </a:cubicBezTo>
                <a:cubicBezTo>
                  <a:pt x="20573" y="6926"/>
                  <a:pt x="20571" y="6895"/>
                  <a:pt x="20567" y="6863"/>
                </a:cubicBezTo>
                <a:cubicBezTo>
                  <a:pt x="20564" y="6840"/>
                  <a:pt x="20562" y="6818"/>
                  <a:pt x="20560" y="6795"/>
                </a:cubicBezTo>
                <a:cubicBezTo>
                  <a:pt x="20560" y="6790"/>
                  <a:pt x="20559" y="6786"/>
                  <a:pt x="20559" y="6781"/>
                </a:cubicBezTo>
              </a:path>
              <a:path w="1075" h="485">
                <a:moveTo>
                  <a:pt x="20851" y="6990"/>
                </a:moveTo>
                <a:cubicBezTo>
                  <a:pt x="20835" y="6969"/>
                  <a:pt x="20828" y="6949"/>
                  <a:pt x="20801" y="6971"/>
                </a:cubicBezTo>
                <a:cubicBezTo>
                  <a:pt x="20781" y="6988"/>
                  <a:pt x="20773" y="7027"/>
                  <a:pt x="20780" y="7051"/>
                </a:cubicBezTo>
                <a:cubicBezTo>
                  <a:pt x="20787" y="7076"/>
                  <a:pt x="20804" y="7084"/>
                  <a:pt x="20827" y="7084"/>
                </a:cubicBezTo>
                <a:cubicBezTo>
                  <a:pt x="20857" y="7084"/>
                  <a:pt x="20878" y="7061"/>
                  <a:pt x="20892" y="7036"/>
                </a:cubicBezTo>
                <a:cubicBezTo>
                  <a:pt x="20922" y="6984"/>
                  <a:pt x="20916" y="6916"/>
                  <a:pt x="20903" y="6860"/>
                </a:cubicBezTo>
                <a:cubicBezTo>
                  <a:pt x="20896" y="6831"/>
                  <a:pt x="20885" y="6800"/>
                  <a:pt x="20873" y="6772"/>
                </a:cubicBezTo>
                <a:cubicBezTo>
                  <a:pt x="20868" y="6762"/>
                  <a:pt x="20866" y="6758"/>
                  <a:pt x="20862" y="6751"/>
                </a:cubicBezTo>
                <a:cubicBezTo>
                  <a:pt x="20870" y="6774"/>
                  <a:pt x="20878" y="6797"/>
                  <a:pt x="20885" y="6820"/>
                </a:cubicBezTo>
                <a:cubicBezTo>
                  <a:pt x="20897" y="6860"/>
                  <a:pt x="20911" y="6899"/>
                  <a:pt x="20922" y="6939"/>
                </a:cubicBezTo>
                <a:cubicBezTo>
                  <a:pt x="20932" y="6974"/>
                  <a:pt x="20938" y="7010"/>
                  <a:pt x="20949" y="7044"/>
                </a:cubicBezTo>
                <a:cubicBezTo>
                  <a:pt x="20951" y="7051"/>
                  <a:pt x="20954" y="7059"/>
                  <a:pt x="20956" y="706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40400" y="2409840"/>
            <a:ext cx="10476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770520" y="2441520"/>
            <a:ext cx="10512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031160" y="903240"/>
            <a:ext cx="385560" cy="174600"/>
          </a:xfrm>
          <a:custGeom>
            <a:avLst/>
            <a:gdLst/>
            <a:ahLst/>
            <a:rect l="l" t="t" r="r" b="b"/>
            <a:pathLst>
              <a:path w="1075" h="485">
                <a:moveTo>
                  <a:pt x="19993" y="6725"/>
                </a:moveTo>
                <a:cubicBezTo>
                  <a:pt x="19983" y="6750"/>
                  <a:pt x="19979" y="6774"/>
                  <a:pt x="19980" y="6802"/>
                </a:cubicBezTo>
                <a:cubicBezTo>
                  <a:pt x="19982" y="6844"/>
                  <a:pt x="19990" y="6887"/>
                  <a:pt x="19994" y="6929"/>
                </a:cubicBezTo>
                <a:cubicBezTo>
                  <a:pt x="19998" y="6970"/>
                  <a:pt x="20004" y="7012"/>
                  <a:pt x="20010" y="7053"/>
                </a:cubicBezTo>
                <a:cubicBezTo>
                  <a:pt x="20014" y="7082"/>
                  <a:pt x="20020" y="7112"/>
                  <a:pt x="20023" y="7141"/>
                </a:cubicBezTo>
                <a:cubicBezTo>
                  <a:pt x="20028" y="7181"/>
                  <a:pt x="20021" y="7161"/>
                  <a:pt x="20013" y="7135"/>
                </a:cubicBezTo>
              </a:path>
              <a:path w="1075" h="485">
                <a:moveTo>
                  <a:pt x="19882" y="7093"/>
                </a:moveTo>
                <a:cubicBezTo>
                  <a:pt x="19889" y="7112"/>
                  <a:pt x="19897" y="7124"/>
                  <a:pt x="19909" y="7141"/>
                </a:cubicBezTo>
                <a:cubicBezTo>
                  <a:pt x="19925" y="7164"/>
                  <a:pt x="19944" y="7186"/>
                  <a:pt x="19969" y="7200"/>
                </a:cubicBezTo>
                <a:cubicBezTo>
                  <a:pt x="19991" y="7212"/>
                  <a:pt x="19999" y="7207"/>
                  <a:pt x="20016" y="7189"/>
                </a:cubicBezTo>
                <a:cubicBezTo>
                  <a:pt x="20033" y="7170"/>
                  <a:pt x="20043" y="7151"/>
                  <a:pt x="20055" y="7129"/>
                </a:cubicBezTo>
                <a:cubicBezTo>
                  <a:pt x="20065" y="7111"/>
                  <a:pt x="20073" y="7092"/>
                  <a:pt x="20081" y="7073"/>
                </a:cubicBezTo>
                <a:cubicBezTo>
                  <a:pt x="20086" y="7062"/>
                  <a:pt x="20089" y="7058"/>
                  <a:pt x="20094" y="7051"/>
                </a:cubicBezTo>
              </a:path>
              <a:path w="1075" h="485">
                <a:moveTo>
                  <a:pt x="20377" y="6813"/>
                </a:moveTo>
                <a:cubicBezTo>
                  <a:pt x="20383" y="6835"/>
                  <a:pt x="20390" y="6853"/>
                  <a:pt x="20400" y="6874"/>
                </a:cubicBezTo>
                <a:cubicBezTo>
                  <a:pt x="20416" y="6909"/>
                  <a:pt x="20433" y="6942"/>
                  <a:pt x="20457" y="6972"/>
                </a:cubicBezTo>
                <a:cubicBezTo>
                  <a:pt x="20473" y="6992"/>
                  <a:pt x="20496" y="7021"/>
                  <a:pt x="20525" y="7023"/>
                </a:cubicBezTo>
                <a:cubicBezTo>
                  <a:pt x="20559" y="7025"/>
                  <a:pt x="20563" y="6981"/>
                  <a:pt x="20567" y="6958"/>
                </a:cubicBezTo>
                <a:cubicBezTo>
                  <a:pt x="20573" y="6926"/>
                  <a:pt x="20571" y="6895"/>
                  <a:pt x="20567" y="6863"/>
                </a:cubicBezTo>
                <a:cubicBezTo>
                  <a:pt x="20564" y="6840"/>
                  <a:pt x="20562" y="6818"/>
                  <a:pt x="20560" y="6795"/>
                </a:cubicBezTo>
                <a:cubicBezTo>
                  <a:pt x="20560" y="6790"/>
                  <a:pt x="20559" y="6786"/>
                  <a:pt x="20559" y="6781"/>
                </a:cubicBezTo>
              </a:path>
              <a:path w="1075" h="485">
                <a:moveTo>
                  <a:pt x="20851" y="6990"/>
                </a:moveTo>
                <a:cubicBezTo>
                  <a:pt x="20835" y="6969"/>
                  <a:pt x="20828" y="6949"/>
                  <a:pt x="20801" y="6971"/>
                </a:cubicBezTo>
                <a:cubicBezTo>
                  <a:pt x="20781" y="6988"/>
                  <a:pt x="20773" y="7027"/>
                  <a:pt x="20780" y="7051"/>
                </a:cubicBezTo>
                <a:cubicBezTo>
                  <a:pt x="20787" y="7076"/>
                  <a:pt x="20804" y="7084"/>
                  <a:pt x="20827" y="7084"/>
                </a:cubicBezTo>
                <a:cubicBezTo>
                  <a:pt x="20857" y="7084"/>
                  <a:pt x="20878" y="7061"/>
                  <a:pt x="20892" y="7036"/>
                </a:cubicBezTo>
                <a:cubicBezTo>
                  <a:pt x="20922" y="6984"/>
                  <a:pt x="20916" y="6916"/>
                  <a:pt x="20903" y="6860"/>
                </a:cubicBezTo>
                <a:cubicBezTo>
                  <a:pt x="20896" y="6831"/>
                  <a:pt x="20885" y="6800"/>
                  <a:pt x="20873" y="6772"/>
                </a:cubicBezTo>
                <a:cubicBezTo>
                  <a:pt x="20868" y="6762"/>
                  <a:pt x="20866" y="6758"/>
                  <a:pt x="20862" y="6751"/>
                </a:cubicBezTo>
                <a:cubicBezTo>
                  <a:pt x="20870" y="6774"/>
                  <a:pt x="20878" y="6797"/>
                  <a:pt x="20885" y="6820"/>
                </a:cubicBezTo>
                <a:cubicBezTo>
                  <a:pt x="20897" y="6860"/>
                  <a:pt x="20911" y="6899"/>
                  <a:pt x="20922" y="6939"/>
                </a:cubicBezTo>
                <a:cubicBezTo>
                  <a:pt x="20932" y="6974"/>
                  <a:pt x="20938" y="7010"/>
                  <a:pt x="20949" y="7044"/>
                </a:cubicBezTo>
                <a:cubicBezTo>
                  <a:pt x="20951" y="7051"/>
                  <a:pt x="20954" y="7059"/>
                  <a:pt x="20956" y="706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40400" y="860400"/>
            <a:ext cx="10476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770520" y="892080"/>
            <a:ext cx="10512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5"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6"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4"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5"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7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8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8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8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9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9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9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9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9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8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8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8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5103720" y="404640"/>
            <a:ext cx="3260520" cy="2754360"/>
            <a:chOff x="5103720" y="404640"/>
            <a:chExt cx="3260520" cy="2754360"/>
          </a:xfrm>
        </p:grpSpPr>
        <p:sp>
          <p:nvSpPr>
            <p:cNvPr id="297"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0"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1"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0" name=""/>
          <p:cNvSpPr/>
          <p:nvPr/>
        </p:nvSpPr>
        <p:spPr>
          <a:xfrm>
            <a:off x="5983200" y="1674720"/>
            <a:ext cx="196920" cy="400320"/>
          </a:xfrm>
          <a:custGeom>
            <a:avLst/>
            <a:gdLst/>
            <a:ahLst/>
            <a:rect l="l" t="t" r="r" b="b"/>
            <a:pathLst>
              <a:path w="549" h="1108">
                <a:moveTo>
                  <a:pt x="16642" y="4544"/>
                </a:moveTo>
                <a:cubicBezTo>
                  <a:pt x="16636" y="4587"/>
                  <a:pt x="16629" y="4630"/>
                  <a:pt x="16624" y="4673"/>
                </a:cubicBezTo>
                <a:cubicBezTo>
                  <a:pt x="16619" y="4719"/>
                  <a:pt x="16615" y="4767"/>
                  <a:pt x="16615" y="4814"/>
                </a:cubicBezTo>
                <a:cubicBezTo>
                  <a:pt x="16615" y="4850"/>
                  <a:pt x="16619" y="4887"/>
                  <a:pt x="16634" y="4920"/>
                </a:cubicBezTo>
                <a:cubicBezTo>
                  <a:pt x="16646" y="4947"/>
                  <a:pt x="16660" y="4960"/>
                  <a:pt x="16689" y="4961"/>
                </a:cubicBezTo>
                <a:cubicBezTo>
                  <a:pt x="16733" y="4962"/>
                  <a:pt x="16778" y="4937"/>
                  <a:pt x="16818" y="4922"/>
                </a:cubicBezTo>
                <a:cubicBezTo>
                  <a:pt x="16863" y="4905"/>
                  <a:pt x="16908" y="4890"/>
                  <a:pt x="16956" y="4880"/>
                </a:cubicBezTo>
                <a:cubicBezTo>
                  <a:pt x="16989" y="4873"/>
                  <a:pt x="17031" y="4862"/>
                  <a:pt x="17065" y="4862"/>
                </a:cubicBezTo>
                <a:cubicBezTo>
                  <a:pt x="17082" y="4865"/>
                  <a:pt x="17087" y="4866"/>
                  <a:pt x="17098" y="4865"/>
                </a:cubicBezTo>
              </a:path>
              <a:path w="549" h="1108">
                <a:moveTo>
                  <a:pt x="16698" y="4727"/>
                </a:moveTo>
                <a:cubicBezTo>
                  <a:pt x="16719" y="4717"/>
                  <a:pt x="16739" y="4707"/>
                  <a:pt x="16760" y="4698"/>
                </a:cubicBezTo>
                <a:cubicBezTo>
                  <a:pt x="16803" y="4679"/>
                  <a:pt x="16846" y="4661"/>
                  <a:pt x="16889" y="4642"/>
                </a:cubicBezTo>
                <a:cubicBezTo>
                  <a:pt x="16942" y="4619"/>
                  <a:pt x="16994" y="4596"/>
                  <a:pt x="17048" y="4577"/>
                </a:cubicBezTo>
                <a:cubicBezTo>
                  <a:pt x="17083" y="4565"/>
                  <a:pt x="17113" y="4558"/>
                  <a:pt x="17149" y="4556"/>
                </a:cubicBezTo>
              </a:path>
              <a:path w="549" h="1108">
                <a:moveTo>
                  <a:pt x="16635" y="4451"/>
                </a:moveTo>
                <a:cubicBezTo>
                  <a:pt x="16659" y="4440"/>
                  <a:pt x="16684" y="4430"/>
                  <a:pt x="16709" y="4420"/>
                </a:cubicBezTo>
                <a:cubicBezTo>
                  <a:pt x="16761" y="4399"/>
                  <a:pt x="16813" y="4376"/>
                  <a:pt x="16866" y="4357"/>
                </a:cubicBezTo>
                <a:cubicBezTo>
                  <a:pt x="16924" y="4337"/>
                  <a:pt x="16983" y="4322"/>
                  <a:pt x="17041" y="4301"/>
                </a:cubicBezTo>
                <a:cubicBezTo>
                  <a:pt x="17067" y="4292"/>
                  <a:pt x="17086" y="4287"/>
                  <a:pt x="17113" y="4284"/>
                </a:cubicBezTo>
              </a:path>
              <a:path w="549" h="1108">
                <a:moveTo>
                  <a:pt x="16601" y="5323"/>
                </a:moveTo>
                <a:cubicBezTo>
                  <a:pt x="16614" y="5338"/>
                  <a:pt x="16624" y="5356"/>
                  <a:pt x="16638" y="5370"/>
                </a:cubicBezTo>
                <a:cubicBezTo>
                  <a:pt x="16662" y="5394"/>
                  <a:pt x="16688" y="5394"/>
                  <a:pt x="16716" y="5382"/>
                </a:cubicBezTo>
                <a:cubicBezTo>
                  <a:pt x="16745" y="5370"/>
                  <a:pt x="16762" y="5348"/>
                  <a:pt x="16786" y="5329"/>
                </a:cubicBezTo>
                <a:cubicBezTo>
                  <a:pt x="16807" y="5312"/>
                  <a:pt x="16828" y="5300"/>
                  <a:pt x="16856" y="5303"/>
                </a:cubicBezTo>
                <a:cubicBezTo>
                  <a:pt x="16882" y="5306"/>
                  <a:pt x="16910" y="5323"/>
                  <a:pt x="16934" y="5334"/>
                </a:cubicBezTo>
                <a:cubicBezTo>
                  <a:pt x="16960" y="5346"/>
                  <a:pt x="16979" y="5354"/>
                  <a:pt x="17008" y="5350"/>
                </a:cubicBezTo>
                <a:cubicBezTo>
                  <a:pt x="17029" y="5347"/>
                  <a:pt x="17032" y="5345"/>
                  <a:pt x="17046" y="5331"/>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337440" y="1523880"/>
            <a:ext cx="214200" cy="604800"/>
          </a:xfrm>
          <a:custGeom>
            <a:avLst/>
            <a:gdLst/>
            <a:ahLst/>
            <a:rect l="l" t="t" r="r" b="b"/>
            <a:pathLst>
              <a:path w="596" h="1683">
                <a:moveTo>
                  <a:pt x="17873" y="5544"/>
                </a:moveTo>
                <a:cubicBezTo>
                  <a:pt x="17872" y="5500"/>
                  <a:pt x="17870" y="5456"/>
                  <a:pt x="17869" y="5411"/>
                </a:cubicBezTo>
                <a:cubicBezTo>
                  <a:pt x="17868" y="5368"/>
                  <a:pt x="17867" y="5326"/>
                  <a:pt x="17866" y="5283"/>
                </a:cubicBezTo>
                <a:cubicBezTo>
                  <a:pt x="17864" y="5204"/>
                  <a:pt x="17854" y="5124"/>
                  <a:pt x="17849" y="5045"/>
                </a:cubicBezTo>
                <a:cubicBezTo>
                  <a:pt x="17829" y="4762"/>
                  <a:pt x="17836" y="4480"/>
                  <a:pt x="17839" y="4197"/>
                </a:cubicBezTo>
                <a:cubicBezTo>
                  <a:pt x="17840" y="4140"/>
                  <a:pt x="17836" y="4083"/>
                  <a:pt x="17835" y="4026"/>
                </a:cubicBezTo>
                <a:cubicBezTo>
                  <a:pt x="17834" y="3978"/>
                  <a:pt x="17836" y="3930"/>
                  <a:pt x="17836" y="3882"/>
                </a:cubicBezTo>
                <a:cubicBezTo>
                  <a:pt x="17818" y="3895"/>
                  <a:pt x="17814" y="3889"/>
                  <a:pt x="17798" y="3909"/>
                </a:cubicBezTo>
                <a:cubicBezTo>
                  <a:pt x="17779" y="3932"/>
                  <a:pt x="17764" y="3961"/>
                  <a:pt x="17748" y="3987"/>
                </a:cubicBezTo>
                <a:cubicBezTo>
                  <a:pt x="17728" y="4019"/>
                  <a:pt x="17710" y="4052"/>
                  <a:pt x="17693" y="4085"/>
                </a:cubicBezTo>
                <a:cubicBezTo>
                  <a:pt x="17659" y="4150"/>
                  <a:pt x="17626" y="4214"/>
                  <a:pt x="17587" y="4275"/>
                </a:cubicBezTo>
                <a:cubicBezTo>
                  <a:pt x="17590" y="4232"/>
                  <a:pt x="17593" y="4199"/>
                  <a:pt x="17607" y="4156"/>
                </a:cubicBezTo>
                <a:cubicBezTo>
                  <a:pt x="17628" y="4090"/>
                  <a:pt x="17658" y="4027"/>
                  <a:pt x="17694" y="3967"/>
                </a:cubicBezTo>
                <a:cubicBezTo>
                  <a:pt x="17714" y="3933"/>
                  <a:pt x="17741" y="3879"/>
                  <a:pt x="17781" y="3865"/>
                </a:cubicBezTo>
                <a:cubicBezTo>
                  <a:pt x="17827" y="3849"/>
                  <a:pt x="17870" y="3896"/>
                  <a:pt x="17901" y="3923"/>
                </a:cubicBezTo>
                <a:cubicBezTo>
                  <a:pt x="17959" y="3972"/>
                  <a:pt x="18019" y="4022"/>
                  <a:pt x="18070" y="4079"/>
                </a:cubicBezTo>
                <a:cubicBezTo>
                  <a:pt x="18108" y="4120"/>
                  <a:pt x="18140" y="4166"/>
                  <a:pt x="18179" y="4206"/>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913440" y="1558800"/>
            <a:ext cx="193680" cy="516240"/>
          </a:xfrm>
          <a:custGeom>
            <a:avLst/>
            <a:gdLst/>
            <a:ahLst/>
            <a:rect l="l" t="t" r="r" b="b"/>
            <a:pathLst>
              <a:path w="538" h="1734">
                <a:moveTo>
                  <a:pt x="19373" y="5517"/>
                </a:moveTo>
                <a:cubicBezTo>
                  <a:pt x="19367" y="5469"/>
                  <a:pt x="19368" y="5422"/>
                  <a:pt x="19368" y="5374"/>
                </a:cubicBezTo>
                <a:cubicBezTo>
                  <a:pt x="19368" y="5262"/>
                  <a:pt x="19367" y="5150"/>
                  <a:pt x="19368" y="5038"/>
                </a:cubicBezTo>
                <a:cubicBezTo>
                  <a:pt x="19369" y="4864"/>
                  <a:pt x="19376" y="4691"/>
                  <a:pt x="19393" y="4518"/>
                </a:cubicBezTo>
                <a:cubicBezTo>
                  <a:pt x="19401" y="4442"/>
                  <a:pt x="19408" y="4367"/>
                  <a:pt x="19416" y="4291"/>
                </a:cubicBezTo>
                <a:cubicBezTo>
                  <a:pt x="19423" y="4219"/>
                  <a:pt x="19430" y="4147"/>
                  <a:pt x="19431" y="4075"/>
                </a:cubicBezTo>
                <a:cubicBezTo>
                  <a:pt x="19431" y="4051"/>
                  <a:pt x="19435" y="4013"/>
                  <a:pt x="19427" y="3989"/>
                </a:cubicBezTo>
                <a:cubicBezTo>
                  <a:pt x="19422" y="3976"/>
                  <a:pt x="19420" y="3957"/>
                  <a:pt x="19399" y="3962"/>
                </a:cubicBezTo>
                <a:cubicBezTo>
                  <a:pt x="19397" y="3969"/>
                  <a:pt x="19395" y="3975"/>
                  <a:pt x="19393" y="3982"/>
                </a:cubicBezTo>
              </a:path>
              <a:path w="538" h="1734">
                <a:moveTo>
                  <a:pt x="19189" y="4315"/>
                </a:moveTo>
                <a:cubicBezTo>
                  <a:pt x="19187" y="4294"/>
                  <a:pt x="19184" y="4273"/>
                  <a:pt x="19186" y="4251"/>
                </a:cubicBezTo>
                <a:cubicBezTo>
                  <a:pt x="19188" y="4226"/>
                  <a:pt x="19191" y="4201"/>
                  <a:pt x="19196" y="4176"/>
                </a:cubicBezTo>
                <a:cubicBezTo>
                  <a:pt x="19201" y="4153"/>
                  <a:pt x="19211" y="4132"/>
                  <a:pt x="19222" y="4112"/>
                </a:cubicBezTo>
                <a:cubicBezTo>
                  <a:pt x="19234" y="4089"/>
                  <a:pt x="19248" y="4065"/>
                  <a:pt x="19264" y="4045"/>
                </a:cubicBezTo>
                <a:cubicBezTo>
                  <a:pt x="19291" y="4011"/>
                  <a:pt x="19317" y="3976"/>
                  <a:pt x="19345" y="3942"/>
                </a:cubicBezTo>
                <a:cubicBezTo>
                  <a:pt x="19365" y="3917"/>
                  <a:pt x="19386" y="3892"/>
                  <a:pt x="19407" y="3868"/>
                </a:cubicBezTo>
                <a:cubicBezTo>
                  <a:pt x="19424" y="3849"/>
                  <a:pt x="19439" y="3829"/>
                  <a:pt x="19454" y="3809"/>
                </a:cubicBezTo>
                <a:cubicBezTo>
                  <a:pt x="19466" y="3794"/>
                  <a:pt x="19474" y="3793"/>
                  <a:pt x="19490" y="3784"/>
                </a:cubicBezTo>
                <a:cubicBezTo>
                  <a:pt x="19498" y="3802"/>
                  <a:pt x="19505" y="3820"/>
                  <a:pt x="19512" y="3838"/>
                </a:cubicBezTo>
                <a:cubicBezTo>
                  <a:pt x="19522" y="3862"/>
                  <a:pt x="19533" y="3887"/>
                  <a:pt x="19545" y="3911"/>
                </a:cubicBezTo>
                <a:cubicBezTo>
                  <a:pt x="19592" y="4005"/>
                  <a:pt x="19640" y="4098"/>
                  <a:pt x="19689" y="4190"/>
                </a:cubicBezTo>
                <a:cubicBezTo>
                  <a:pt x="19698" y="4208"/>
                  <a:pt x="19711" y="4224"/>
                  <a:pt x="19722" y="4240"/>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945480" y="2374920"/>
            <a:ext cx="171360" cy="457200"/>
          </a:xfrm>
          <a:custGeom>
            <a:avLst/>
            <a:gdLst/>
            <a:ahLst/>
            <a:rect l="l" t="t" r="r" b="b"/>
            <a:pathLst>
              <a:path w="479" h="1271">
                <a:moveTo>
                  <a:pt x="19210" y="6545"/>
                </a:moveTo>
                <a:cubicBezTo>
                  <a:pt x="19211" y="6570"/>
                  <a:pt x="19209" y="6591"/>
                  <a:pt x="19207" y="6616"/>
                </a:cubicBezTo>
                <a:cubicBezTo>
                  <a:pt x="19199" y="6745"/>
                  <a:pt x="19222" y="6880"/>
                  <a:pt x="19244" y="7007"/>
                </a:cubicBezTo>
                <a:cubicBezTo>
                  <a:pt x="19258" y="7090"/>
                  <a:pt x="19278" y="7172"/>
                  <a:pt x="19297" y="7254"/>
                </a:cubicBezTo>
                <a:cubicBezTo>
                  <a:pt x="19316" y="7334"/>
                  <a:pt x="19346" y="7410"/>
                  <a:pt x="19365" y="7489"/>
                </a:cubicBezTo>
                <a:cubicBezTo>
                  <a:pt x="19375" y="7531"/>
                  <a:pt x="19363" y="7501"/>
                  <a:pt x="19349" y="7479"/>
                </a:cubicBezTo>
              </a:path>
              <a:path w="479" h="1271">
                <a:moveTo>
                  <a:pt x="19100" y="7331"/>
                </a:moveTo>
                <a:cubicBezTo>
                  <a:pt x="19096" y="7362"/>
                  <a:pt x="19100" y="7390"/>
                  <a:pt x="19108" y="7421"/>
                </a:cubicBezTo>
                <a:cubicBezTo>
                  <a:pt x="19120" y="7466"/>
                  <a:pt x="19136" y="7512"/>
                  <a:pt x="19158" y="7553"/>
                </a:cubicBezTo>
                <a:cubicBezTo>
                  <a:pt x="19182" y="7598"/>
                  <a:pt x="19212" y="7641"/>
                  <a:pt x="19243" y="7681"/>
                </a:cubicBezTo>
                <a:cubicBezTo>
                  <a:pt x="19273" y="7720"/>
                  <a:pt x="19304" y="7773"/>
                  <a:pt x="19343" y="7804"/>
                </a:cubicBezTo>
                <a:cubicBezTo>
                  <a:pt x="19365" y="7821"/>
                  <a:pt x="19379" y="7814"/>
                  <a:pt x="19395" y="7796"/>
                </a:cubicBezTo>
                <a:cubicBezTo>
                  <a:pt x="19421" y="7766"/>
                  <a:pt x="19432" y="7717"/>
                  <a:pt x="19447" y="7681"/>
                </a:cubicBezTo>
                <a:cubicBezTo>
                  <a:pt x="19467" y="7634"/>
                  <a:pt x="19482" y="7586"/>
                  <a:pt x="19502" y="7539"/>
                </a:cubicBezTo>
                <a:cubicBezTo>
                  <a:pt x="19517" y="7504"/>
                  <a:pt x="19530" y="7469"/>
                  <a:pt x="19545" y="7435"/>
                </a:cubicBezTo>
                <a:cubicBezTo>
                  <a:pt x="19553" y="7417"/>
                  <a:pt x="19562" y="7402"/>
                  <a:pt x="19570" y="7384"/>
                </a:cubicBezTo>
                <a:cubicBezTo>
                  <a:pt x="19572" y="7380"/>
                  <a:pt x="19573" y="7377"/>
                  <a:pt x="19575" y="7373"/>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392880" y="2435400"/>
            <a:ext cx="193680" cy="338040"/>
          </a:xfrm>
          <a:custGeom>
            <a:avLst/>
            <a:gdLst/>
            <a:ahLst/>
            <a:rect l="l" t="t" r="r" b="b"/>
            <a:pathLst>
              <a:path w="538" h="1184">
                <a:moveTo>
                  <a:pt x="18033" y="6537"/>
                </a:moveTo>
                <a:cubicBezTo>
                  <a:pt x="18006" y="6609"/>
                  <a:pt x="18014" y="6687"/>
                  <a:pt x="18019" y="6763"/>
                </a:cubicBezTo>
                <a:cubicBezTo>
                  <a:pt x="18024" y="6842"/>
                  <a:pt x="18031" y="6921"/>
                  <a:pt x="18036" y="7000"/>
                </a:cubicBezTo>
                <a:cubicBezTo>
                  <a:pt x="18041" y="7084"/>
                  <a:pt x="18043" y="7169"/>
                  <a:pt x="18043" y="7253"/>
                </a:cubicBezTo>
                <a:cubicBezTo>
                  <a:pt x="18043" y="7315"/>
                  <a:pt x="18038" y="7378"/>
                  <a:pt x="18040" y="7440"/>
                </a:cubicBezTo>
                <a:cubicBezTo>
                  <a:pt x="18041" y="7472"/>
                  <a:pt x="18042" y="7504"/>
                  <a:pt x="18046" y="7536"/>
                </a:cubicBezTo>
                <a:cubicBezTo>
                  <a:pt x="18048" y="7551"/>
                  <a:pt x="18055" y="7569"/>
                  <a:pt x="18053" y="7584"/>
                </a:cubicBezTo>
                <a:cubicBezTo>
                  <a:pt x="18056" y="7595"/>
                  <a:pt x="18057" y="7597"/>
                  <a:pt x="18048" y="7583"/>
                </a:cubicBezTo>
              </a:path>
              <a:path w="538" h="1184">
                <a:moveTo>
                  <a:pt x="17775" y="7396"/>
                </a:moveTo>
                <a:cubicBezTo>
                  <a:pt x="17775" y="7427"/>
                  <a:pt x="17781" y="7451"/>
                  <a:pt x="17797" y="7478"/>
                </a:cubicBezTo>
                <a:cubicBezTo>
                  <a:pt x="17821" y="7519"/>
                  <a:pt x="17849" y="7557"/>
                  <a:pt x="17880" y="7593"/>
                </a:cubicBezTo>
                <a:cubicBezTo>
                  <a:pt x="17913" y="7630"/>
                  <a:pt x="17950" y="7664"/>
                  <a:pt x="17992" y="7691"/>
                </a:cubicBezTo>
                <a:cubicBezTo>
                  <a:pt x="18020" y="7709"/>
                  <a:pt x="18049" y="7725"/>
                  <a:pt x="18083" y="7718"/>
                </a:cubicBezTo>
                <a:cubicBezTo>
                  <a:pt x="18110" y="7713"/>
                  <a:pt x="18130" y="7691"/>
                  <a:pt x="18145" y="7669"/>
                </a:cubicBezTo>
                <a:cubicBezTo>
                  <a:pt x="18166" y="7639"/>
                  <a:pt x="18182" y="7605"/>
                  <a:pt x="18201" y="7573"/>
                </a:cubicBezTo>
                <a:cubicBezTo>
                  <a:pt x="18224" y="7535"/>
                  <a:pt x="18244" y="7494"/>
                  <a:pt x="18264" y="7454"/>
                </a:cubicBezTo>
                <a:cubicBezTo>
                  <a:pt x="18275" y="7431"/>
                  <a:pt x="18288" y="7409"/>
                  <a:pt x="18298" y="7386"/>
                </a:cubicBezTo>
                <a:cubicBezTo>
                  <a:pt x="18304" y="7373"/>
                  <a:pt x="18307" y="7361"/>
                  <a:pt x="18311" y="734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327720" y="898560"/>
            <a:ext cx="168480" cy="318960"/>
          </a:xfrm>
          <a:custGeom>
            <a:avLst/>
            <a:gdLst/>
            <a:ahLst/>
            <a:rect l="l" t="t" r="r" b="b"/>
            <a:pathLst>
              <a:path w="466" h="884">
                <a:moveTo>
                  <a:pt x="17734" y="2126"/>
                </a:moveTo>
                <a:cubicBezTo>
                  <a:pt x="17725" y="2213"/>
                  <a:pt x="17726" y="2301"/>
                  <a:pt x="17728" y="2388"/>
                </a:cubicBezTo>
                <a:cubicBezTo>
                  <a:pt x="17731" y="2480"/>
                  <a:pt x="17734" y="2573"/>
                  <a:pt x="17744" y="2664"/>
                </a:cubicBezTo>
                <a:cubicBezTo>
                  <a:pt x="17748" y="2696"/>
                  <a:pt x="17753" y="2729"/>
                  <a:pt x="17757" y="2761"/>
                </a:cubicBezTo>
                <a:cubicBezTo>
                  <a:pt x="17759" y="2780"/>
                  <a:pt x="17763" y="2796"/>
                  <a:pt x="17770" y="2813"/>
                </a:cubicBezTo>
              </a:path>
              <a:path w="466" h="884">
                <a:moveTo>
                  <a:pt x="17560" y="2688"/>
                </a:moveTo>
                <a:cubicBezTo>
                  <a:pt x="17571" y="2732"/>
                  <a:pt x="17583" y="2775"/>
                  <a:pt x="17602" y="2816"/>
                </a:cubicBezTo>
                <a:cubicBezTo>
                  <a:pt x="17623" y="2861"/>
                  <a:pt x="17651" y="2906"/>
                  <a:pt x="17683" y="2944"/>
                </a:cubicBezTo>
                <a:cubicBezTo>
                  <a:pt x="17707" y="2973"/>
                  <a:pt x="17748" y="3014"/>
                  <a:pt x="17789" y="3008"/>
                </a:cubicBezTo>
                <a:cubicBezTo>
                  <a:pt x="17820" y="3004"/>
                  <a:pt x="17841" y="2976"/>
                  <a:pt x="17856" y="2952"/>
                </a:cubicBezTo>
                <a:cubicBezTo>
                  <a:pt x="17878" y="2917"/>
                  <a:pt x="17893" y="2875"/>
                  <a:pt x="17910" y="2837"/>
                </a:cubicBezTo>
                <a:cubicBezTo>
                  <a:pt x="17929" y="2796"/>
                  <a:pt x="17947" y="2754"/>
                  <a:pt x="17968" y="2714"/>
                </a:cubicBezTo>
                <a:cubicBezTo>
                  <a:pt x="17987" y="2679"/>
                  <a:pt x="18005" y="2646"/>
                  <a:pt x="18025" y="2612"/>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808680" y="809640"/>
            <a:ext cx="171720" cy="412560"/>
          </a:xfrm>
          <a:custGeom>
            <a:avLst/>
            <a:gdLst/>
            <a:ahLst/>
            <a:rect l="l" t="t" r="r" b="b"/>
            <a:pathLst>
              <a:path w="477" h="1147">
                <a:moveTo>
                  <a:pt x="19034" y="1880"/>
                </a:moveTo>
                <a:cubicBezTo>
                  <a:pt x="19021" y="1943"/>
                  <a:pt x="19021" y="1998"/>
                  <a:pt x="19027" y="2063"/>
                </a:cubicBezTo>
                <a:cubicBezTo>
                  <a:pt x="19036" y="2153"/>
                  <a:pt x="19050" y="2241"/>
                  <a:pt x="19064" y="2330"/>
                </a:cubicBezTo>
                <a:cubicBezTo>
                  <a:pt x="19081" y="2437"/>
                  <a:pt x="19108" y="2542"/>
                  <a:pt x="19136" y="2647"/>
                </a:cubicBezTo>
                <a:cubicBezTo>
                  <a:pt x="19148" y="2692"/>
                  <a:pt x="19163" y="2737"/>
                  <a:pt x="19179" y="2781"/>
                </a:cubicBezTo>
                <a:cubicBezTo>
                  <a:pt x="19183" y="2796"/>
                  <a:pt x="19184" y="2801"/>
                  <a:pt x="19190" y="2810"/>
                </a:cubicBezTo>
              </a:path>
              <a:path w="477" h="1147">
                <a:moveTo>
                  <a:pt x="18897" y="2633"/>
                </a:moveTo>
                <a:cubicBezTo>
                  <a:pt x="18902" y="2670"/>
                  <a:pt x="18913" y="2703"/>
                  <a:pt x="18929" y="2737"/>
                </a:cubicBezTo>
                <a:cubicBezTo>
                  <a:pt x="18965" y="2816"/>
                  <a:pt x="19011" y="2887"/>
                  <a:pt x="19070" y="2951"/>
                </a:cubicBezTo>
                <a:cubicBezTo>
                  <a:pt x="19095" y="2978"/>
                  <a:pt x="19139" y="3032"/>
                  <a:pt x="19182" y="3026"/>
                </a:cubicBezTo>
                <a:cubicBezTo>
                  <a:pt x="19215" y="3021"/>
                  <a:pt x="19231" y="2974"/>
                  <a:pt x="19240" y="2948"/>
                </a:cubicBezTo>
                <a:cubicBezTo>
                  <a:pt x="19257" y="2901"/>
                  <a:pt x="19270" y="2853"/>
                  <a:pt x="19284" y="2805"/>
                </a:cubicBezTo>
                <a:cubicBezTo>
                  <a:pt x="19297" y="2762"/>
                  <a:pt x="19307" y="2719"/>
                  <a:pt x="19324" y="2677"/>
                </a:cubicBezTo>
                <a:cubicBezTo>
                  <a:pt x="19337" y="2645"/>
                  <a:pt x="19355" y="2616"/>
                  <a:pt x="19373" y="258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102440" y="1511280"/>
            <a:ext cx="1857240" cy="466920"/>
          </a:xfrm>
          <a:custGeom>
            <a:avLst/>
            <a:gdLst/>
            <a:ahLst/>
            <a:rect l="l" t="t" r="r" b="b"/>
            <a:pathLst>
              <a:path w="5159" h="1298">
                <a:moveTo>
                  <a:pt x="19653" y="4892"/>
                </a:moveTo>
                <a:cubicBezTo>
                  <a:pt x="19670" y="4876"/>
                  <a:pt x="19648" y="4872"/>
                  <a:pt x="19685" y="4861"/>
                </a:cubicBezTo>
                <a:cubicBezTo>
                  <a:pt x="19706" y="4855"/>
                  <a:pt x="19733" y="4853"/>
                  <a:pt x="19755" y="4851"/>
                </a:cubicBezTo>
                <a:cubicBezTo>
                  <a:pt x="19791" y="4847"/>
                  <a:pt x="19828" y="4847"/>
                  <a:pt x="19865" y="4844"/>
                </a:cubicBezTo>
                <a:cubicBezTo>
                  <a:pt x="20071" y="4827"/>
                  <a:pt x="20273" y="4824"/>
                  <a:pt x="20479" y="4824"/>
                </a:cubicBezTo>
                <a:cubicBezTo>
                  <a:pt x="20807" y="4824"/>
                  <a:pt x="21134" y="4797"/>
                  <a:pt x="21463" y="4800"/>
                </a:cubicBezTo>
                <a:cubicBezTo>
                  <a:pt x="21602" y="4801"/>
                  <a:pt x="21740" y="4802"/>
                  <a:pt x="21879" y="4794"/>
                </a:cubicBezTo>
                <a:cubicBezTo>
                  <a:pt x="21948" y="4790"/>
                  <a:pt x="22016" y="4786"/>
                  <a:pt x="22084" y="4789"/>
                </a:cubicBezTo>
              </a:path>
              <a:path w="5159" h="1298">
                <a:moveTo>
                  <a:pt x="21808" y="4462"/>
                </a:moveTo>
                <a:cubicBezTo>
                  <a:pt x="21794" y="4456"/>
                  <a:pt x="21788" y="4454"/>
                  <a:pt x="21779" y="4448"/>
                </a:cubicBezTo>
                <a:cubicBezTo>
                  <a:pt x="21810" y="4461"/>
                  <a:pt x="21842" y="4474"/>
                  <a:pt x="21874" y="4487"/>
                </a:cubicBezTo>
                <a:cubicBezTo>
                  <a:pt x="21926" y="4509"/>
                  <a:pt x="21977" y="4531"/>
                  <a:pt x="22028" y="4555"/>
                </a:cubicBezTo>
                <a:cubicBezTo>
                  <a:pt x="22076" y="4577"/>
                  <a:pt x="22124" y="4600"/>
                  <a:pt x="22162" y="4638"/>
                </a:cubicBezTo>
                <a:cubicBezTo>
                  <a:pt x="22190" y="4666"/>
                  <a:pt x="22196" y="4702"/>
                  <a:pt x="22188" y="4740"/>
                </a:cubicBezTo>
                <a:cubicBezTo>
                  <a:pt x="22178" y="4785"/>
                  <a:pt x="22149" y="4820"/>
                  <a:pt x="22120" y="4854"/>
                </a:cubicBezTo>
                <a:cubicBezTo>
                  <a:pt x="22088" y="4892"/>
                  <a:pt x="22049" y="4921"/>
                  <a:pt x="22012" y="4954"/>
                </a:cubicBezTo>
                <a:cubicBezTo>
                  <a:pt x="21984" y="4979"/>
                  <a:pt x="21954" y="5003"/>
                  <a:pt x="21930" y="5031"/>
                </a:cubicBezTo>
                <a:cubicBezTo>
                  <a:pt x="21917" y="5045"/>
                  <a:pt x="21899" y="5069"/>
                  <a:pt x="21896" y="5089"/>
                </a:cubicBezTo>
                <a:cubicBezTo>
                  <a:pt x="21894" y="5107"/>
                  <a:pt x="21898" y="5107"/>
                  <a:pt x="21904" y="5125"/>
                </a:cubicBezTo>
              </a:path>
              <a:path w="5159" h="1298">
                <a:moveTo>
                  <a:pt x="23175" y="4322"/>
                </a:moveTo>
                <a:cubicBezTo>
                  <a:pt x="23175" y="4365"/>
                  <a:pt x="23164" y="4404"/>
                  <a:pt x="23156" y="4447"/>
                </a:cubicBezTo>
                <a:cubicBezTo>
                  <a:pt x="23144" y="4512"/>
                  <a:pt x="23132" y="4578"/>
                  <a:pt x="23131" y="4644"/>
                </a:cubicBezTo>
                <a:cubicBezTo>
                  <a:pt x="23130" y="4714"/>
                  <a:pt x="23137" y="4777"/>
                  <a:pt x="23179" y="4835"/>
                </a:cubicBezTo>
                <a:cubicBezTo>
                  <a:pt x="23211" y="4879"/>
                  <a:pt x="23253" y="4889"/>
                  <a:pt x="23305" y="4892"/>
                </a:cubicBezTo>
                <a:cubicBezTo>
                  <a:pt x="23359" y="4895"/>
                  <a:pt x="23411" y="4880"/>
                  <a:pt x="23462" y="4865"/>
                </a:cubicBezTo>
                <a:cubicBezTo>
                  <a:pt x="23498" y="4854"/>
                  <a:pt x="23565" y="4833"/>
                  <a:pt x="23590" y="4801"/>
                </a:cubicBezTo>
                <a:cubicBezTo>
                  <a:pt x="23604" y="4783"/>
                  <a:pt x="23604" y="4774"/>
                  <a:pt x="23606" y="4753"/>
                </a:cubicBezTo>
              </a:path>
              <a:path w="5159" h="1298">
                <a:moveTo>
                  <a:pt x="23182" y="4661"/>
                </a:moveTo>
                <a:cubicBezTo>
                  <a:pt x="23169" y="4655"/>
                  <a:pt x="23165" y="4654"/>
                  <a:pt x="23156" y="4650"/>
                </a:cubicBezTo>
                <a:cubicBezTo>
                  <a:pt x="23184" y="4628"/>
                  <a:pt x="23210" y="4610"/>
                  <a:pt x="23243" y="4596"/>
                </a:cubicBezTo>
                <a:cubicBezTo>
                  <a:pt x="23294" y="4574"/>
                  <a:pt x="23346" y="4554"/>
                  <a:pt x="23397" y="4532"/>
                </a:cubicBezTo>
                <a:cubicBezTo>
                  <a:pt x="23433" y="4517"/>
                  <a:pt x="23472" y="4505"/>
                  <a:pt x="23505" y="4484"/>
                </a:cubicBezTo>
                <a:cubicBezTo>
                  <a:pt x="23510" y="4481"/>
                  <a:pt x="23514" y="4477"/>
                  <a:pt x="23519" y="4474"/>
                </a:cubicBezTo>
              </a:path>
              <a:path w="5159" h="1298">
                <a:moveTo>
                  <a:pt x="23047" y="4295"/>
                </a:moveTo>
                <a:cubicBezTo>
                  <a:pt x="23063" y="4272"/>
                  <a:pt x="23080" y="4252"/>
                  <a:pt x="23104" y="4236"/>
                </a:cubicBezTo>
                <a:cubicBezTo>
                  <a:pt x="23140" y="4211"/>
                  <a:pt x="23186" y="4189"/>
                  <a:pt x="23228" y="4177"/>
                </a:cubicBezTo>
                <a:cubicBezTo>
                  <a:pt x="23276" y="4163"/>
                  <a:pt x="23328" y="4157"/>
                  <a:pt x="23377" y="4159"/>
                </a:cubicBezTo>
                <a:cubicBezTo>
                  <a:pt x="23422" y="4161"/>
                  <a:pt x="23467" y="4163"/>
                  <a:pt x="23512" y="4163"/>
                </a:cubicBezTo>
              </a:path>
              <a:path w="5159" h="1298">
                <a:moveTo>
                  <a:pt x="23779" y="4363"/>
                </a:moveTo>
                <a:cubicBezTo>
                  <a:pt x="23795" y="4353"/>
                  <a:pt x="23810" y="4342"/>
                  <a:pt x="23831" y="4349"/>
                </a:cubicBezTo>
                <a:cubicBezTo>
                  <a:pt x="23864" y="4359"/>
                  <a:pt x="23891" y="4394"/>
                  <a:pt x="23913" y="4417"/>
                </a:cubicBezTo>
                <a:cubicBezTo>
                  <a:pt x="23952" y="4458"/>
                  <a:pt x="23984" y="4506"/>
                  <a:pt x="24015" y="4552"/>
                </a:cubicBezTo>
                <a:cubicBezTo>
                  <a:pt x="24027" y="4570"/>
                  <a:pt x="24076" y="4664"/>
                  <a:pt x="24098" y="4669"/>
                </a:cubicBezTo>
                <a:cubicBezTo>
                  <a:pt x="24100" y="4665"/>
                  <a:pt x="24103" y="4662"/>
                  <a:pt x="24105" y="4658"/>
                </a:cubicBezTo>
              </a:path>
              <a:path w="5159" h="1298">
                <a:moveTo>
                  <a:pt x="24058" y="4238"/>
                </a:moveTo>
                <a:cubicBezTo>
                  <a:pt x="24047" y="4236"/>
                  <a:pt x="24043" y="4235"/>
                  <a:pt x="24035" y="4234"/>
                </a:cubicBezTo>
                <a:cubicBezTo>
                  <a:pt x="24018" y="4279"/>
                  <a:pt x="24002" y="4323"/>
                  <a:pt x="23987" y="4369"/>
                </a:cubicBezTo>
                <a:cubicBezTo>
                  <a:pt x="23962" y="4446"/>
                  <a:pt x="23943" y="4524"/>
                  <a:pt x="23925" y="4603"/>
                </a:cubicBezTo>
                <a:cubicBezTo>
                  <a:pt x="23908" y="4679"/>
                  <a:pt x="23896" y="4757"/>
                  <a:pt x="23901" y="4835"/>
                </a:cubicBezTo>
                <a:cubicBezTo>
                  <a:pt x="23902" y="4853"/>
                  <a:pt x="23901" y="4886"/>
                  <a:pt x="23922" y="4881"/>
                </a:cubicBezTo>
                <a:cubicBezTo>
                  <a:pt x="23927" y="4879"/>
                  <a:pt x="23932" y="4877"/>
                  <a:pt x="23937" y="4875"/>
                </a:cubicBezTo>
              </a:path>
              <a:path w="5159" h="1298">
                <a:moveTo>
                  <a:pt x="24435" y="4396"/>
                </a:moveTo>
                <a:cubicBezTo>
                  <a:pt x="24430" y="4445"/>
                  <a:pt x="24427" y="4497"/>
                  <a:pt x="24417" y="4545"/>
                </a:cubicBezTo>
                <a:cubicBezTo>
                  <a:pt x="24414" y="4560"/>
                  <a:pt x="24412" y="4571"/>
                  <a:pt x="24410" y="4586"/>
                </a:cubicBezTo>
                <a:cubicBezTo>
                  <a:pt x="24410" y="4547"/>
                  <a:pt x="24412" y="4507"/>
                  <a:pt x="24414" y="4468"/>
                </a:cubicBezTo>
                <a:cubicBezTo>
                  <a:pt x="24418" y="4397"/>
                  <a:pt x="24418" y="4325"/>
                  <a:pt x="24427" y="4254"/>
                </a:cubicBezTo>
                <a:cubicBezTo>
                  <a:pt x="24435" y="4189"/>
                  <a:pt x="24446" y="4120"/>
                  <a:pt x="24485" y="4065"/>
                </a:cubicBezTo>
                <a:cubicBezTo>
                  <a:pt x="24508" y="4032"/>
                  <a:pt x="24549" y="4003"/>
                  <a:pt x="24591" y="4002"/>
                </a:cubicBezTo>
                <a:cubicBezTo>
                  <a:pt x="24630" y="4001"/>
                  <a:pt x="24653" y="4028"/>
                  <a:pt x="24658" y="4065"/>
                </a:cubicBezTo>
                <a:cubicBezTo>
                  <a:pt x="24664" y="4116"/>
                  <a:pt x="24635" y="4163"/>
                  <a:pt x="24607" y="4202"/>
                </a:cubicBezTo>
                <a:cubicBezTo>
                  <a:pt x="24583" y="4235"/>
                  <a:pt x="24548" y="4270"/>
                  <a:pt x="24509" y="4285"/>
                </a:cubicBezTo>
                <a:cubicBezTo>
                  <a:pt x="24496" y="4290"/>
                  <a:pt x="24484" y="4287"/>
                  <a:pt x="24471" y="4287"/>
                </a:cubicBezTo>
                <a:cubicBezTo>
                  <a:pt x="24516" y="4265"/>
                  <a:pt x="24553" y="4270"/>
                  <a:pt x="24601" y="4281"/>
                </a:cubicBezTo>
                <a:cubicBezTo>
                  <a:pt x="24653" y="4292"/>
                  <a:pt x="24691" y="4311"/>
                  <a:pt x="24733" y="4342"/>
                </a:cubicBezTo>
                <a:cubicBezTo>
                  <a:pt x="24768" y="4368"/>
                  <a:pt x="24793" y="4398"/>
                  <a:pt x="24805" y="4440"/>
                </a:cubicBezTo>
                <a:cubicBezTo>
                  <a:pt x="24818" y="4483"/>
                  <a:pt x="24806" y="4525"/>
                  <a:pt x="24778" y="4559"/>
                </a:cubicBezTo>
                <a:cubicBezTo>
                  <a:pt x="24757" y="4585"/>
                  <a:pt x="24724" y="4603"/>
                  <a:pt x="24690" y="4607"/>
                </a:cubicBezTo>
                <a:cubicBezTo>
                  <a:pt x="24659" y="4611"/>
                  <a:pt x="24617" y="4607"/>
                  <a:pt x="24587" y="4597"/>
                </a:cubicBezTo>
                <a:cubicBezTo>
                  <a:pt x="24558" y="4587"/>
                  <a:pt x="24531" y="4572"/>
                  <a:pt x="24503" y="4562"/>
                </a:cubicBezTo>
                <a:cubicBezTo>
                  <a:pt x="24493" y="4560"/>
                  <a:pt x="24489" y="4559"/>
                  <a:pt x="24482" y="4557"/>
                </a:cubicBezTo>
              </a:path>
              <a:path w="5159" h="1298">
                <a:moveTo>
                  <a:pt x="24305" y="5034"/>
                </a:moveTo>
                <a:cubicBezTo>
                  <a:pt x="24323" y="5038"/>
                  <a:pt x="24342" y="5045"/>
                  <a:pt x="24360" y="5045"/>
                </a:cubicBezTo>
                <a:cubicBezTo>
                  <a:pt x="24394" y="5046"/>
                  <a:pt x="24420" y="5032"/>
                  <a:pt x="24449" y="5017"/>
                </a:cubicBezTo>
                <a:cubicBezTo>
                  <a:pt x="24481" y="5001"/>
                  <a:pt x="24509" y="4980"/>
                  <a:pt x="24544" y="4970"/>
                </a:cubicBezTo>
                <a:cubicBezTo>
                  <a:pt x="24569" y="4963"/>
                  <a:pt x="24583" y="4967"/>
                  <a:pt x="24600" y="4987"/>
                </a:cubicBezTo>
                <a:cubicBezTo>
                  <a:pt x="24616" y="5006"/>
                  <a:pt x="24623" y="5020"/>
                  <a:pt x="24651" y="5022"/>
                </a:cubicBezTo>
                <a:cubicBezTo>
                  <a:pt x="24679" y="5024"/>
                  <a:pt x="24699" y="5007"/>
                  <a:pt x="24722" y="4996"/>
                </a:cubicBezTo>
                <a:cubicBezTo>
                  <a:pt x="24743" y="4986"/>
                  <a:pt x="24768" y="4979"/>
                  <a:pt x="24791" y="4977"/>
                </a:cubicBezTo>
                <a:cubicBezTo>
                  <a:pt x="24794" y="4977"/>
                  <a:pt x="24798" y="4976"/>
                  <a:pt x="24801" y="4976"/>
                </a:cubicBezTo>
              </a:path>
              <a:path w="5159" h="1298">
                <a:moveTo>
                  <a:pt x="23168" y="5224"/>
                </a:moveTo>
                <a:cubicBezTo>
                  <a:pt x="23182" y="5250"/>
                  <a:pt x="23189" y="5258"/>
                  <a:pt x="23219" y="5264"/>
                </a:cubicBezTo>
                <a:cubicBezTo>
                  <a:pt x="23254" y="5272"/>
                  <a:pt x="23287" y="5264"/>
                  <a:pt x="23321" y="5254"/>
                </a:cubicBezTo>
                <a:cubicBezTo>
                  <a:pt x="23350" y="5245"/>
                  <a:pt x="23378" y="5234"/>
                  <a:pt x="23406" y="5225"/>
                </a:cubicBezTo>
                <a:cubicBezTo>
                  <a:pt x="23433" y="5216"/>
                  <a:pt x="23432" y="5233"/>
                  <a:pt x="23443" y="5254"/>
                </a:cubicBezTo>
                <a:cubicBezTo>
                  <a:pt x="23453" y="5274"/>
                  <a:pt x="23461" y="5290"/>
                  <a:pt x="23481" y="5296"/>
                </a:cubicBezTo>
                <a:cubicBezTo>
                  <a:pt x="23493" y="5299"/>
                  <a:pt x="23497" y="5300"/>
                  <a:pt x="23504" y="5295"/>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516640" y="2432160"/>
            <a:ext cx="793800" cy="247680"/>
          </a:xfrm>
          <a:custGeom>
            <a:avLst/>
            <a:gdLst/>
            <a:ahLst/>
            <a:rect l="l" t="t" r="r" b="b"/>
            <a:pathLst>
              <a:path w="2204" h="687">
                <a:moveTo>
                  <a:pt x="17629" y="7073"/>
                </a:moveTo>
                <a:cubicBezTo>
                  <a:pt x="17603" y="7066"/>
                  <a:pt x="17587" y="7061"/>
                  <a:pt x="17558" y="7061"/>
                </a:cubicBezTo>
                <a:cubicBezTo>
                  <a:pt x="17471" y="7062"/>
                  <a:pt x="17383" y="7060"/>
                  <a:pt x="17296" y="7061"/>
                </a:cubicBezTo>
                <a:cubicBezTo>
                  <a:pt x="17188" y="7062"/>
                  <a:pt x="17081" y="7064"/>
                  <a:pt x="16973" y="7068"/>
                </a:cubicBezTo>
                <a:cubicBezTo>
                  <a:pt x="16878" y="7071"/>
                  <a:pt x="16784" y="7080"/>
                  <a:pt x="16689" y="7083"/>
                </a:cubicBezTo>
                <a:cubicBezTo>
                  <a:pt x="16604" y="7086"/>
                  <a:pt x="16519" y="7086"/>
                  <a:pt x="16434" y="7088"/>
                </a:cubicBezTo>
                <a:cubicBezTo>
                  <a:pt x="16337" y="7090"/>
                  <a:pt x="16240" y="7091"/>
                  <a:pt x="16143" y="7095"/>
                </a:cubicBezTo>
                <a:cubicBezTo>
                  <a:pt x="16084" y="7098"/>
                  <a:pt x="16025" y="7101"/>
                  <a:pt x="15966" y="7107"/>
                </a:cubicBezTo>
                <a:cubicBezTo>
                  <a:pt x="15923" y="7111"/>
                  <a:pt x="15891" y="7108"/>
                  <a:pt x="15887" y="7118"/>
                </a:cubicBezTo>
                <a:cubicBezTo>
                  <a:pt x="15890" y="7120"/>
                  <a:pt x="15894" y="7123"/>
                  <a:pt x="15897" y="7125"/>
                </a:cubicBezTo>
              </a:path>
              <a:path w="2204" h="687">
                <a:moveTo>
                  <a:pt x="15990" y="6809"/>
                </a:moveTo>
                <a:cubicBezTo>
                  <a:pt x="16001" y="6792"/>
                  <a:pt x="16010" y="6775"/>
                  <a:pt x="16019" y="6757"/>
                </a:cubicBezTo>
                <a:cubicBezTo>
                  <a:pt x="15922" y="6821"/>
                  <a:pt x="15829" y="6889"/>
                  <a:pt x="15732" y="6952"/>
                </a:cubicBezTo>
                <a:cubicBezTo>
                  <a:pt x="15677" y="6988"/>
                  <a:pt x="15619" y="7020"/>
                  <a:pt x="15563" y="7054"/>
                </a:cubicBezTo>
                <a:cubicBezTo>
                  <a:pt x="15527" y="7076"/>
                  <a:pt x="15487" y="7098"/>
                  <a:pt x="15457" y="7129"/>
                </a:cubicBezTo>
                <a:cubicBezTo>
                  <a:pt x="15446" y="7140"/>
                  <a:pt x="15436" y="7155"/>
                  <a:pt x="15426" y="7168"/>
                </a:cubicBezTo>
                <a:cubicBezTo>
                  <a:pt x="15453" y="7183"/>
                  <a:pt x="15478" y="7193"/>
                  <a:pt x="15508" y="7203"/>
                </a:cubicBezTo>
                <a:cubicBezTo>
                  <a:pt x="15559" y="7220"/>
                  <a:pt x="15608" y="7243"/>
                  <a:pt x="15656" y="7267"/>
                </a:cubicBezTo>
                <a:cubicBezTo>
                  <a:pt x="15706" y="7292"/>
                  <a:pt x="15755" y="7320"/>
                  <a:pt x="15803" y="7349"/>
                </a:cubicBezTo>
                <a:cubicBezTo>
                  <a:pt x="15840" y="7372"/>
                  <a:pt x="15886" y="7387"/>
                  <a:pt x="15921" y="7412"/>
                </a:cubicBezTo>
                <a:cubicBezTo>
                  <a:pt x="15936" y="7422"/>
                  <a:pt x="15935" y="7428"/>
                  <a:pt x="15946" y="7443"/>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00080" y="4335480"/>
            <a:ext cx="804960" cy="484200"/>
          </a:xfrm>
          <a:custGeom>
            <a:avLst/>
            <a:gdLst/>
            <a:ahLst/>
            <a:rect l="l" t="t" r="r" b="b"/>
            <a:pathLst>
              <a:path w="2238" h="1346">
                <a:moveTo>
                  <a:pt x="2785" y="12193"/>
                </a:moveTo>
                <a:cubicBezTo>
                  <a:pt x="2781" y="12183"/>
                  <a:pt x="2780" y="12180"/>
                  <a:pt x="2778" y="12173"/>
                </a:cubicBezTo>
                <a:cubicBezTo>
                  <a:pt x="2777" y="12208"/>
                  <a:pt x="2780" y="12241"/>
                  <a:pt x="2783" y="12276"/>
                </a:cubicBezTo>
                <a:cubicBezTo>
                  <a:pt x="2789" y="12338"/>
                  <a:pt x="2794" y="12400"/>
                  <a:pt x="2795" y="12462"/>
                </a:cubicBezTo>
                <a:cubicBezTo>
                  <a:pt x="2796" y="12530"/>
                  <a:pt x="2799" y="12597"/>
                  <a:pt x="2797" y="12665"/>
                </a:cubicBezTo>
                <a:cubicBezTo>
                  <a:pt x="2796" y="12707"/>
                  <a:pt x="2794" y="12749"/>
                  <a:pt x="2794" y="12791"/>
                </a:cubicBezTo>
                <a:cubicBezTo>
                  <a:pt x="2794" y="12802"/>
                  <a:pt x="2794" y="12805"/>
                  <a:pt x="2794" y="12812"/>
                </a:cubicBezTo>
                <a:cubicBezTo>
                  <a:pt x="2802" y="12802"/>
                  <a:pt x="2819" y="12784"/>
                  <a:pt x="2819" y="12770"/>
                </a:cubicBezTo>
                <a:cubicBezTo>
                  <a:pt x="2815" y="12756"/>
                  <a:pt x="2814" y="12752"/>
                  <a:pt x="2814" y="12743"/>
                </a:cubicBezTo>
              </a:path>
              <a:path w="2238" h="1346">
                <a:moveTo>
                  <a:pt x="3097" y="12041"/>
                </a:moveTo>
                <a:cubicBezTo>
                  <a:pt x="3122" y="12063"/>
                  <a:pt x="3130" y="12085"/>
                  <a:pt x="3133" y="12120"/>
                </a:cubicBezTo>
                <a:cubicBezTo>
                  <a:pt x="3139" y="12186"/>
                  <a:pt x="3145" y="12253"/>
                  <a:pt x="3150" y="12320"/>
                </a:cubicBezTo>
                <a:cubicBezTo>
                  <a:pt x="3156" y="12413"/>
                  <a:pt x="3163" y="12506"/>
                  <a:pt x="3171" y="12599"/>
                </a:cubicBezTo>
                <a:cubicBezTo>
                  <a:pt x="3178" y="12678"/>
                  <a:pt x="3188" y="12757"/>
                  <a:pt x="3197" y="12836"/>
                </a:cubicBezTo>
                <a:cubicBezTo>
                  <a:pt x="3201" y="12871"/>
                  <a:pt x="3224" y="12972"/>
                  <a:pt x="3209" y="12940"/>
                </a:cubicBezTo>
                <a:cubicBezTo>
                  <a:pt x="3199" y="12919"/>
                  <a:pt x="3196" y="12896"/>
                  <a:pt x="3185" y="12875"/>
                </a:cubicBezTo>
              </a:path>
              <a:path w="2238" h="1346">
                <a:moveTo>
                  <a:pt x="2848" y="12601"/>
                </a:moveTo>
                <a:cubicBezTo>
                  <a:pt x="2843" y="12600"/>
                  <a:pt x="2837" y="12599"/>
                  <a:pt x="2832" y="12598"/>
                </a:cubicBezTo>
                <a:cubicBezTo>
                  <a:pt x="2862" y="12588"/>
                  <a:pt x="2891" y="12576"/>
                  <a:pt x="2921" y="12567"/>
                </a:cubicBezTo>
                <a:cubicBezTo>
                  <a:pt x="2981" y="12548"/>
                  <a:pt x="3047" y="12536"/>
                  <a:pt x="3110" y="12527"/>
                </a:cubicBezTo>
                <a:cubicBezTo>
                  <a:pt x="3170" y="12518"/>
                  <a:pt x="3235" y="12511"/>
                  <a:pt x="3296" y="12521"/>
                </a:cubicBezTo>
                <a:cubicBezTo>
                  <a:pt x="3344" y="12529"/>
                  <a:pt x="3380" y="12547"/>
                  <a:pt x="3413" y="12581"/>
                </a:cubicBezTo>
                <a:cubicBezTo>
                  <a:pt x="3446" y="12616"/>
                  <a:pt x="3461" y="12664"/>
                  <a:pt x="3472" y="12710"/>
                </a:cubicBezTo>
                <a:cubicBezTo>
                  <a:pt x="3481" y="12749"/>
                  <a:pt x="3487" y="12790"/>
                  <a:pt x="3494" y="12829"/>
                </a:cubicBezTo>
                <a:cubicBezTo>
                  <a:pt x="3499" y="12808"/>
                  <a:pt x="3501" y="12801"/>
                  <a:pt x="3503" y="12787"/>
                </a:cubicBezTo>
              </a:path>
              <a:path w="2238" h="1346">
                <a:moveTo>
                  <a:pt x="3854" y="12550"/>
                </a:moveTo>
                <a:cubicBezTo>
                  <a:pt x="3834" y="12556"/>
                  <a:pt x="3812" y="12562"/>
                  <a:pt x="3793" y="12570"/>
                </a:cubicBezTo>
                <a:cubicBezTo>
                  <a:pt x="3768" y="12580"/>
                  <a:pt x="3744" y="12598"/>
                  <a:pt x="3727" y="12619"/>
                </a:cubicBezTo>
                <a:cubicBezTo>
                  <a:pt x="3708" y="12643"/>
                  <a:pt x="3716" y="12655"/>
                  <a:pt x="3720" y="12679"/>
                </a:cubicBezTo>
                <a:cubicBezTo>
                  <a:pt x="3749" y="12689"/>
                  <a:pt x="3769" y="12685"/>
                  <a:pt x="3798" y="12672"/>
                </a:cubicBezTo>
                <a:cubicBezTo>
                  <a:pt x="3827" y="12659"/>
                  <a:pt x="3850" y="12637"/>
                  <a:pt x="3874" y="12616"/>
                </a:cubicBezTo>
                <a:cubicBezTo>
                  <a:pt x="3879" y="12612"/>
                  <a:pt x="3883" y="12608"/>
                  <a:pt x="3888" y="12604"/>
                </a:cubicBezTo>
                <a:cubicBezTo>
                  <a:pt x="3890" y="12644"/>
                  <a:pt x="3888" y="12685"/>
                  <a:pt x="3887" y="12726"/>
                </a:cubicBezTo>
                <a:cubicBezTo>
                  <a:pt x="3885" y="12861"/>
                  <a:pt x="3889" y="12996"/>
                  <a:pt x="3880" y="13131"/>
                </a:cubicBezTo>
                <a:cubicBezTo>
                  <a:pt x="3875" y="13205"/>
                  <a:pt x="3868" y="13304"/>
                  <a:pt x="3823" y="13368"/>
                </a:cubicBezTo>
                <a:cubicBezTo>
                  <a:pt x="3802" y="13398"/>
                  <a:pt x="3774" y="13382"/>
                  <a:pt x="3757" y="13357"/>
                </a:cubicBezTo>
                <a:cubicBezTo>
                  <a:pt x="3721" y="13303"/>
                  <a:pt x="3718" y="13233"/>
                  <a:pt x="3708" y="13172"/>
                </a:cubicBezTo>
              </a:path>
              <a:path w="2238" h="1346">
                <a:moveTo>
                  <a:pt x="4002" y="12280"/>
                </a:moveTo>
                <a:cubicBezTo>
                  <a:pt x="4021" y="12333"/>
                  <a:pt x="4033" y="12385"/>
                  <a:pt x="4043" y="12441"/>
                </a:cubicBezTo>
                <a:cubicBezTo>
                  <a:pt x="4055" y="12507"/>
                  <a:pt x="4056" y="12583"/>
                  <a:pt x="4077" y="12646"/>
                </a:cubicBezTo>
                <a:cubicBezTo>
                  <a:pt x="4086" y="12660"/>
                  <a:pt x="4089" y="12665"/>
                  <a:pt x="4093" y="12675"/>
                </a:cubicBezTo>
                <a:cubicBezTo>
                  <a:pt x="4113" y="12655"/>
                  <a:pt x="4127" y="12631"/>
                  <a:pt x="4145" y="12609"/>
                </a:cubicBezTo>
                <a:cubicBezTo>
                  <a:pt x="4162" y="12587"/>
                  <a:pt x="4178" y="12574"/>
                  <a:pt x="4202" y="12561"/>
                </a:cubicBezTo>
                <a:cubicBezTo>
                  <a:pt x="4217" y="12593"/>
                  <a:pt x="4226" y="12625"/>
                  <a:pt x="4233" y="12660"/>
                </a:cubicBezTo>
                <a:cubicBezTo>
                  <a:pt x="4241" y="12696"/>
                  <a:pt x="4251" y="12745"/>
                  <a:pt x="4280" y="12771"/>
                </a:cubicBezTo>
                <a:cubicBezTo>
                  <a:pt x="4298" y="12781"/>
                  <a:pt x="4304" y="12784"/>
                  <a:pt x="4318" y="12784"/>
                </a:cubicBezTo>
              </a:path>
              <a:path w="2238" h="1346">
                <a:moveTo>
                  <a:pt x="4463" y="12628"/>
                </a:moveTo>
                <a:cubicBezTo>
                  <a:pt x="4485" y="12621"/>
                  <a:pt x="4505" y="12607"/>
                  <a:pt x="4524" y="12592"/>
                </a:cubicBezTo>
                <a:cubicBezTo>
                  <a:pt x="4556" y="12567"/>
                  <a:pt x="4586" y="12537"/>
                  <a:pt x="4609" y="12503"/>
                </a:cubicBezTo>
                <a:cubicBezTo>
                  <a:pt x="4625" y="12479"/>
                  <a:pt x="4636" y="12455"/>
                  <a:pt x="4631" y="12428"/>
                </a:cubicBezTo>
                <a:cubicBezTo>
                  <a:pt x="4598" y="12422"/>
                  <a:pt x="4576" y="12443"/>
                  <a:pt x="4555" y="12468"/>
                </a:cubicBezTo>
                <a:cubicBezTo>
                  <a:pt x="4509" y="12522"/>
                  <a:pt x="4476" y="12604"/>
                  <a:pt x="4475" y="12675"/>
                </a:cubicBezTo>
                <a:cubicBezTo>
                  <a:pt x="4475" y="12719"/>
                  <a:pt x="4497" y="12763"/>
                  <a:pt x="4546" y="12764"/>
                </a:cubicBezTo>
                <a:cubicBezTo>
                  <a:pt x="4594" y="12765"/>
                  <a:pt x="4644" y="12730"/>
                  <a:pt x="4682" y="12706"/>
                </a:cubicBezTo>
              </a:path>
              <a:path w="2238" h="1346">
                <a:moveTo>
                  <a:pt x="4833" y="12738"/>
                </a:moveTo>
                <a:cubicBezTo>
                  <a:pt x="4834" y="12743"/>
                  <a:pt x="4836" y="12748"/>
                  <a:pt x="4837" y="12753"/>
                </a:cubicBezTo>
                <a:cubicBezTo>
                  <a:pt x="4845" y="12724"/>
                  <a:pt x="4851" y="12694"/>
                  <a:pt x="4858" y="12665"/>
                </a:cubicBezTo>
                <a:cubicBezTo>
                  <a:pt x="4869" y="12621"/>
                  <a:pt x="4875" y="12577"/>
                  <a:pt x="4891" y="12534"/>
                </a:cubicBezTo>
                <a:cubicBezTo>
                  <a:pt x="4901" y="12508"/>
                  <a:pt x="4920" y="12471"/>
                  <a:pt x="4945" y="12456"/>
                </a:cubicBezTo>
                <a:cubicBezTo>
                  <a:pt x="4964" y="12444"/>
                  <a:pt x="4993" y="12442"/>
                  <a:pt x="5014" y="1243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154240" y="4471920"/>
            <a:ext cx="857160" cy="257400"/>
          </a:xfrm>
          <a:custGeom>
            <a:avLst/>
            <a:gdLst/>
            <a:ahLst/>
            <a:rect l="l" t="t" r="r" b="b"/>
            <a:pathLst>
              <a:path w="2378" h="714">
                <a:moveTo>
                  <a:pt x="5986" y="12614"/>
                </a:moveTo>
                <a:cubicBezTo>
                  <a:pt x="6002" y="12604"/>
                  <a:pt x="6015" y="12600"/>
                  <a:pt x="6034" y="12597"/>
                </a:cubicBezTo>
                <a:cubicBezTo>
                  <a:pt x="6056" y="12594"/>
                  <a:pt x="6078" y="12590"/>
                  <a:pt x="6098" y="12580"/>
                </a:cubicBezTo>
                <a:cubicBezTo>
                  <a:pt x="6127" y="12565"/>
                  <a:pt x="6152" y="12540"/>
                  <a:pt x="6171" y="12514"/>
                </a:cubicBezTo>
                <a:cubicBezTo>
                  <a:pt x="6188" y="12491"/>
                  <a:pt x="6196" y="12475"/>
                  <a:pt x="6184" y="12449"/>
                </a:cubicBezTo>
                <a:cubicBezTo>
                  <a:pt x="6146" y="12446"/>
                  <a:pt x="6116" y="12460"/>
                  <a:pt x="6088" y="12487"/>
                </a:cubicBezTo>
                <a:cubicBezTo>
                  <a:pt x="6050" y="12523"/>
                  <a:pt x="6009" y="12584"/>
                  <a:pt x="5998" y="12636"/>
                </a:cubicBezTo>
                <a:cubicBezTo>
                  <a:pt x="5988" y="12682"/>
                  <a:pt x="6004" y="12724"/>
                  <a:pt x="6051" y="12738"/>
                </a:cubicBezTo>
                <a:cubicBezTo>
                  <a:pt x="6104" y="12754"/>
                  <a:pt x="6165" y="12731"/>
                  <a:pt x="6212" y="12707"/>
                </a:cubicBezTo>
                <a:cubicBezTo>
                  <a:pt x="6259" y="12683"/>
                  <a:pt x="6304" y="12649"/>
                  <a:pt x="6339" y="12609"/>
                </a:cubicBezTo>
                <a:cubicBezTo>
                  <a:pt x="6345" y="12602"/>
                  <a:pt x="6350" y="12595"/>
                  <a:pt x="6356" y="12588"/>
                </a:cubicBezTo>
              </a:path>
              <a:path w="2378" h="714">
                <a:moveTo>
                  <a:pt x="6378" y="12554"/>
                </a:moveTo>
                <a:cubicBezTo>
                  <a:pt x="6382" y="12583"/>
                  <a:pt x="6384" y="12616"/>
                  <a:pt x="6401" y="12641"/>
                </a:cubicBezTo>
                <a:cubicBezTo>
                  <a:pt x="6425" y="12677"/>
                  <a:pt x="6465" y="12655"/>
                  <a:pt x="6493" y="12636"/>
                </a:cubicBezTo>
                <a:cubicBezTo>
                  <a:pt x="6530" y="12611"/>
                  <a:pt x="6563" y="12578"/>
                  <a:pt x="6598" y="12550"/>
                </a:cubicBezTo>
                <a:cubicBezTo>
                  <a:pt x="6612" y="12539"/>
                  <a:pt x="6647" y="12504"/>
                  <a:pt x="6670" y="12517"/>
                </a:cubicBezTo>
                <a:cubicBezTo>
                  <a:pt x="6692" y="12529"/>
                  <a:pt x="6698" y="12578"/>
                  <a:pt x="6702" y="12599"/>
                </a:cubicBezTo>
                <a:cubicBezTo>
                  <a:pt x="6710" y="12640"/>
                  <a:pt x="6714" y="12675"/>
                  <a:pt x="6741" y="12709"/>
                </a:cubicBezTo>
                <a:cubicBezTo>
                  <a:pt x="6757" y="12729"/>
                  <a:pt x="6772" y="12733"/>
                  <a:pt x="6794" y="12738"/>
                </a:cubicBezTo>
              </a:path>
              <a:path w="2378" h="714">
                <a:moveTo>
                  <a:pt x="6943" y="12618"/>
                </a:moveTo>
                <a:cubicBezTo>
                  <a:pt x="6966" y="12619"/>
                  <a:pt x="6986" y="12616"/>
                  <a:pt x="7008" y="12608"/>
                </a:cubicBezTo>
                <a:cubicBezTo>
                  <a:pt x="7044" y="12594"/>
                  <a:pt x="7075" y="12577"/>
                  <a:pt x="7106" y="12555"/>
                </a:cubicBezTo>
                <a:cubicBezTo>
                  <a:pt x="7136" y="12534"/>
                  <a:pt x="7170" y="12508"/>
                  <a:pt x="7186" y="12473"/>
                </a:cubicBezTo>
                <a:cubicBezTo>
                  <a:pt x="7194" y="12456"/>
                  <a:pt x="7191" y="12440"/>
                  <a:pt x="7189" y="12422"/>
                </a:cubicBezTo>
                <a:cubicBezTo>
                  <a:pt x="7151" y="12424"/>
                  <a:pt x="7127" y="12432"/>
                  <a:pt x="7094" y="12453"/>
                </a:cubicBezTo>
                <a:cubicBezTo>
                  <a:pt x="7038" y="12489"/>
                  <a:pt x="6997" y="12549"/>
                  <a:pt x="6984" y="12615"/>
                </a:cubicBezTo>
                <a:cubicBezTo>
                  <a:pt x="6974" y="12669"/>
                  <a:pt x="6996" y="12726"/>
                  <a:pt x="7052" y="12743"/>
                </a:cubicBezTo>
                <a:cubicBezTo>
                  <a:pt x="7092" y="12755"/>
                  <a:pt x="7149" y="12744"/>
                  <a:pt x="7186" y="12726"/>
                </a:cubicBezTo>
                <a:cubicBezTo>
                  <a:pt x="7222" y="12708"/>
                  <a:pt x="7251" y="12682"/>
                  <a:pt x="7280" y="12655"/>
                </a:cubicBezTo>
              </a:path>
              <a:path w="2378" h="714">
                <a:moveTo>
                  <a:pt x="7328" y="12611"/>
                </a:moveTo>
                <a:cubicBezTo>
                  <a:pt x="7339" y="12645"/>
                  <a:pt x="7348" y="12679"/>
                  <a:pt x="7359" y="12713"/>
                </a:cubicBezTo>
                <a:cubicBezTo>
                  <a:pt x="7364" y="12729"/>
                  <a:pt x="7370" y="12743"/>
                  <a:pt x="7378" y="12758"/>
                </a:cubicBezTo>
                <a:cubicBezTo>
                  <a:pt x="7385" y="12708"/>
                  <a:pt x="7380" y="12657"/>
                  <a:pt x="7375" y="12607"/>
                </a:cubicBezTo>
                <a:cubicBezTo>
                  <a:pt x="7372" y="12571"/>
                  <a:pt x="7365" y="12531"/>
                  <a:pt x="7394" y="12504"/>
                </a:cubicBezTo>
                <a:cubicBezTo>
                  <a:pt x="7415" y="12484"/>
                  <a:pt x="7450" y="12494"/>
                  <a:pt x="7476" y="12497"/>
                </a:cubicBezTo>
                <a:cubicBezTo>
                  <a:pt x="7507" y="12502"/>
                  <a:pt x="7516" y="12504"/>
                  <a:pt x="7537" y="12500"/>
                </a:cubicBezTo>
              </a:path>
              <a:path w="2378" h="714">
                <a:moveTo>
                  <a:pt x="7802" y="12468"/>
                </a:moveTo>
                <a:cubicBezTo>
                  <a:pt x="7780" y="12481"/>
                  <a:pt x="7766" y="12493"/>
                  <a:pt x="7748" y="12510"/>
                </a:cubicBezTo>
                <a:cubicBezTo>
                  <a:pt x="7726" y="12531"/>
                  <a:pt x="7703" y="12556"/>
                  <a:pt x="7696" y="12587"/>
                </a:cubicBezTo>
                <a:cubicBezTo>
                  <a:pt x="7696" y="12601"/>
                  <a:pt x="7696" y="12606"/>
                  <a:pt x="7693" y="12615"/>
                </a:cubicBezTo>
                <a:cubicBezTo>
                  <a:pt x="7737" y="12611"/>
                  <a:pt x="7769" y="12590"/>
                  <a:pt x="7805" y="12564"/>
                </a:cubicBezTo>
                <a:cubicBezTo>
                  <a:pt x="7829" y="12547"/>
                  <a:pt x="7848" y="12526"/>
                  <a:pt x="7866" y="12503"/>
                </a:cubicBezTo>
                <a:cubicBezTo>
                  <a:pt x="7855" y="12540"/>
                  <a:pt x="7850" y="12575"/>
                  <a:pt x="7849" y="12614"/>
                </a:cubicBezTo>
                <a:cubicBezTo>
                  <a:pt x="7846" y="12712"/>
                  <a:pt x="7854" y="12811"/>
                  <a:pt x="7854" y="12909"/>
                </a:cubicBezTo>
                <a:cubicBezTo>
                  <a:pt x="7854" y="12968"/>
                  <a:pt x="7853" y="13032"/>
                  <a:pt x="7830" y="13087"/>
                </a:cubicBezTo>
                <a:cubicBezTo>
                  <a:pt x="7812" y="13129"/>
                  <a:pt x="7774" y="13123"/>
                  <a:pt x="7742" y="13101"/>
                </a:cubicBezTo>
                <a:cubicBezTo>
                  <a:pt x="7703" y="13075"/>
                  <a:pt x="7668" y="13027"/>
                  <a:pt x="7657" y="12982"/>
                </a:cubicBezTo>
                <a:cubicBezTo>
                  <a:pt x="7655" y="12970"/>
                  <a:pt x="7654" y="12957"/>
                  <a:pt x="7652" y="12945"/>
                </a:cubicBezTo>
              </a:path>
              <a:path w="2378" h="714">
                <a:moveTo>
                  <a:pt x="8071" y="12538"/>
                </a:moveTo>
                <a:cubicBezTo>
                  <a:pt x="8097" y="12549"/>
                  <a:pt x="8110" y="12561"/>
                  <a:pt x="8129" y="12581"/>
                </a:cubicBezTo>
                <a:cubicBezTo>
                  <a:pt x="8149" y="12602"/>
                  <a:pt x="8171" y="12623"/>
                  <a:pt x="8196" y="12639"/>
                </a:cubicBezTo>
                <a:cubicBezTo>
                  <a:pt x="8214" y="12651"/>
                  <a:pt x="8244" y="12655"/>
                  <a:pt x="8264" y="12641"/>
                </a:cubicBezTo>
                <a:cubicBezTo>
                  <a:pt x="8278" y="12624"/>
                  <a:pt x="8283" y="12618"/>
                  <a:pt x="8294" y="12608"/>
                </a:cubicBezTo>
              </a:path>
              <a:path w="2378" h="714">
                <a:moveTo>
                  <a:pt x="8363" y="12446"/>
                </a:moveTo>
                <a:cubicBezTo>
                  <a:pt x="8352" y="12483"/>
                  <a:pt x="8338" y="12519"/>
                  <a:pt x="8326" y="12555"/>
                </a:cubicBezTo>
                <a:cubicBezTo>
                  <a:pt x="8300" y="12632"/>
                  <a:pt x="8271" y="12708"/>
                  <a:pt x="8243" y="12785"/>
                </a:cubicBezTo>
                <a:cubicBezTo>
                  <a:pt x="8214" y="12863"/>
                  <a:pt x="8184" y="12943"/>
                  <a:pt x="8166" y="13025"/>
                </a:cubicBezTo>
                <a:cubicBezTo>
                  <a:pt x="8158" y="13063"/>
                  <a:pt x="8153" y="13097"/>
                  <a:pt x="8152" y="1313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317760" y="4324320"/>
            <a:ext cx="966960" cy="333360"/>
          </a:xfrm>
          <a:custGeom>
            <a:avLst/>
            <a:gdLst/>
            <a:ahLst/>
            <a:rect l="l" t="t" r="r" b="b"/>
            <a:pathLst>
              <a:path w="2685" h="925">
                <a:moveTo>
                  <a:pt x="9218" y="12442"/>
                </a:moveTo>
                <a:cubicBezTo>
                  <a:pt x="9225" y="12495"/>
                  <a:pt x="9225" y="12551"/>
                  <a:pt x="9225" y="12605"/>
                </a:cubicBezTo>
                <a:cubicBezTo>
                  <a:pt x="9224" y="12683"/>
                  <a:pt x="9222" y="12760"/>
                  <a:pt x="9225" y="12838"/>
                </a:cubicBezTo>
                <a:cubicBezTo>
                  <a:pt x="9227" y="12873"/>
                  <a:pt x="9231" y="12903"/>
                  <a:pt x="9245" y="12935"/>
                </a:cubicBezTo>
                <a:cubicBezTo>
                  <a:pt x="9258" y="12887"/>
                  <a:pt x="9266" y="12838"/>
                  <a:pt x="9271" y="12788"/>
                </a:cubicBezTo>
                <a:cubicBezTo>
                  <a:pt x="9282" y="12670"/>
                  <a:pt x="9274" y="12544"/>
                  <a:pt x="9303" y="12428"/>
                </a:cubicBezTo>
                <a:cubicBezTo>
                  <a:pt x="9312" y="12392"/>
                  <a:pt x="9324" y="12378"/>
                  <a:pt x="9350" y="12354"/>
                </a:cubicBezTo>
                <a:cubicBezTo>
                  <a:pt x="9387" y="12364"/>
                  <a:pt x="9405" y="12382"/>
                  <a:pt x="9417" y="12422"/>
                </a:cubicBezTo>
                <a:cubicBezTo>
                  <a:pt x="9432" y="12474"/>
                  <a:pt x="9421" y="12522"/>
                  <a:pt x="9394" y="12568"/>
                </a:cubicBezTo>
                <a:cubicBezTo>
                  <a:pt x="9372" y="12606"/>
                  <a:pt x="9336" y="12646"/>
                  <a:pt x="9296" y="12667"/>
                </a:cubicBezTo>
                <a:cubicBezTo>
                  <a:pt x="9249" y="12692"/>
                  <a:pt x="9260" y="12669"/>
                  <a:pt x="9289" y="12641"/>
                </a:cubicBezTo>
                <a:cubicBezTo>
                  <a:pt x="9299" y="12632"/>
                  <a:pt x="9308" y="12623"/>
                  <a:pt x="9318" y="12614"/>
                </a:cubicBezTo>
              </a:path>
              <a:path w="2685" h="925">
                <a:moveTo>
                  <a:pt x="9705" y="12428"/>
                </a:moveTo>
                <a:cubicBezTo>
                  <a:pt x="9689" y="12453"/>
                  <a:pt x="9671" y="12476"/>
                  <a:pt x="9655" y="12500"/>
                </a:cubicBezTo>
                <a:cubicBezTo>
                  <a:pt x="9633" y="12533"/>
                  <a:pt x="9616" y="12568"/>
                  <a:pt x="9617" y="12609"/>
                </a:cubicBezTo>
                <a:cubicBezTo>
                  <a:pt x="9617" y="12644"/>
                  <a:pt x="9635" y="12663"/>
                  <a:pt x="9671" y="12665"/>
                </a:cubicBezTo>
                <a:cubicBezTo>
                  <a:pt x="9708" y="12667"/>
                  <a:pt x="9744" y="12645"/>
                  <a:pt x="9770" y="12621"/>
                </a:cubicBezTo>
                <a:cubicBezTo>
                  <a:pt x="9793" y="12599"/>
                  <a:pt x="9810" y="12572"/>
                  <a:pt x="9805" y="12540"/>
                </a:cubicBezTo>
                <a:cubicBezTo>
                  <a:pt x="9802" y="12522"/>
                  <a:pt x="9782" y="12509"/>
                  <a:pt x="9764" y="12514"/>
                </a:cubicBezTo>
                <a:cubicBezTo>
                  <a:pt x="9745" y="12519"/>
                  <a:pt x="9736" y="12538"/>
                  <a:pt x="9730" y="12555"/>
                </a:cubicBezTo>
                <a:cubicBezTo>
                  <a:pt x="9721" y="12580"/>
                  <a:pt x="9759" y="12582"/>
                  <a:pt x="9777" y="12587"/>
                </a:cubicBezTo>
              </a:path>
              <a:path w="2685" h="925">
                <a:moveTo>
                  <a:pt x="9916" y="12527"/>
                </a:moveTo>
                <a:cubicBezTo>
                  <a:pt x="9926" y="12544"/>
                  <a:pt x="9936" y="12561"/>
                  <a:pt x="9947" y="12578"/>
                </a:cubicBezTo>
                <a:cubicBezTo>
                  <a:pt x="9956" y="12591"/>
                  <a:pt x="9959" y="12595"/>
                  <a:pt x="9964" y="12604"/>
                </a:cubicBezTo>
                <a:cubicBezTo>
                  <a:pt x="9983" y="12588"/>
                  <a:pt x="9993" y="12577"/>
                  <a:pt x="9998" y="12551"/>
                </a:cubicBezTo>
                <a:cubicBezTo>
                  <a:pt x="10004" y="12519"/>
                  <a:pt x="10006" y="12485"/>
                  <a:pt x="10011" y="12452"/>
                </a:cubicBezTo>
                <a:cubicBezTo>
                  <a:pt x="10016" y="12420"/>
                  <a:pt x="10020" y="12387"/>
                  <a:pt x="10039" y="12360"/>
                </a:cubicBezTo>
                <a:cubicBezTo>
                  <a:pt x="10060" y="12329"/>
                  <a:pt x="10089" y="12303"/>
                  <a:pt x="10117" y="12279"/>
                </a:cubicBezTo>
                <a:cubicBezTo>
                  <a:pt x="10141" y="12258"/>
                  <a:pt x="10149" y="12251"/>
                  <a:pt x="10165" y="12236"/>
                </a:cubicBezTo>
              </a:path>
              <a:path w="2685" h="925">
                <a:moveTo>
                  <a:pt x="10270" y="12109"/>
                </a:moveTo>
                <a:cubicBezTo>
                  <a:pt x="10283" y="12141"/>
                  <a:pt x="10290" y="12175"/>
                  <a:pt x="10299" y="12208"/>
                </a:cubicBezTo>
                <a:cubicBezTo>
                  <a:pt x="10320" y="12285"/>
                  <a:pt x="10346" y="12360"/>
                  <a:pt x="10374" y="12435"/>
                </a:cubicBezTo>
                <a:cubicBezTo>
                  <a:pt x="10390" y="12477"/>
                  <a:pt x="10406" y="12518"/>
                  <a:pt x="10409" y="12563"/>
                </a:cubicBezTo>
                <a:cubicBezTo>
                  <a:pt x="10411" y="12587"/>
                  <a:pt x="10415" y="12588"/>
                  <a:pt x="10395" y="12581"/>
                </a:cubicBezTo>
              </a:path>
              <a:path w="2685" h="925">
                <a:moveTo>
                  <a:pt x="10228" y="12344"/>
                </a:moveTo>
                <a:cubicBezTo>
                  <a:pt x="10219" y="12334"/>
                  <a:pt x="10216" y="12331"/>
                  <a:pt x="10211" y="12323"/>
                </a:cubicBezTo>
                <a:cubicBezTo>
                  <a:pt x="10243" y="12318"/>
                  <a:pt x="10274" y="12324"/>
                  <a:pt x="10306" y="12331"/>
                </a:cubicBezTo>
                <a:cubicBezTo>
                  <a:pt x="10364" y="12344"/>
                  <a:pt x="10423" y="12362"/>
                  <a:pt x="10479" y="12383"/>
                </a:cubicBezTo>
                <a:cubicBezTo>
                  <a:pt x="10523" y="12400"/>
                  <a:pt x="10566" y="12422"/>
                  <a:pt x="10608" y="12442"/>
                </a:cubicBezTo>
                <a:cubicBezTo>
                  <a:pt x="10624" y="12449"/>
                  <a:pt x="10630" y="12452"/>
                  <a:pt x="10640" y="12459"/>
                </a:cubicBezTo>
                <a:cubicBezTo>
                  <a:pt x="10621" y="12433"/>
                  <a:pt x="10605" y="12405"/>
                  <a:pt x="10594" y="12375"/>
                </a:cubicBezTo>
                <a:cubicBezTo>
                  <a:pt x="10578" y="12331"/>
                  <a:pt x="10562" y="12283"/>
                  <a:pt x="10555" y="12236"/>
                </a:cubicBezTo>
                <a:cubicBezTo>
                  <a:pt x="10551" y="12206"/>
                  <a:pt x="10546" y="12171"/>
                  <a:pt x="10570" y="12150"/>
                </a:cubicBezTo>
                <a:cubicBezTo>
                  <a:pt x="10585" y="12140"/>
                  <a:pt x="10591" y="12137"/>
                  <a:pt x="10604" y="12137"/>
                </a:cubicBezTo>
              </a:path>
              <a:path w="2685" h="925">
                <a:moveTo>
                  <a:pt x="10855" y="12215"/>
                </a:moveTo>
                <a:cubicBezTo>
                  <a:pt x="10853" y="12242"/>
                  <a:pt x="10840" y="12260"/>
                  <a:pt x="10830" y="12285"/>
                </a:cubicBezTo>
                <a:cubicBezTo>
                  <a:pt x="10818" y="12318"/>
                  <a:pt x="10808" y="12356"/>
                  <a:pt x="10819" y="12391"/>
                </a:cubicBezTo>
                <a:cubicBezTo>
                  <a:pt x="10833" y="12434"/>
                  <a:pt x="10865" y="12447"/>
                  <a:pt x="10906" y="12449"/>
                </a:cubicBezTo>
                <a:cubicBezTo>
                  <a:pt x="10966" y="12453"/>
                  <a:pt x="11018" y="12434"/>
                  <a:pt x="11060" y="12391"/>
                </a:cubicBezTo>
                <a:cubicBezTo>
                  <a:pt x="11098" y="12352"/>
                  <a:pt x="11107" y="12313"/>
                  <a:pt x="11118" y="12262"/>
                </a:cubicBezTo>
              </a:path>
              <a:path w="2685" h="925">
                <a:moveTo>
                  <a:pt x="11086" y="12038"/>
                </a:moveTo>
                <a:cubicBezTo>
                  <a:pt x="11074" y="12027"/>
                  <a:pt x="11070" y="12021"/>
                  <a:pt x="11056" y="12011"/>
                </a:cubicBezTo>
                <a:cubicBezTo>
                  <a:pt x="11053" y="12057"/>
                  <a:pt x="11053" y="12097"/>
                  <a:pt x="11062" y="12143"/>
                </a:cubicBezTo>
                <a:cubicBezTo>
                  <a:pt x="11081" y="12238"/>
                  <a:pt x="11115" y="12326"/>
                  <a:pt x="11168" y="12407"/>
                </a:cubicBezTo>
                <a:cubicBezTo>
                  <a:pt x="11186" y="12434"/>
                  <a:pt x="11211" y="12470"/>
                  <a:pt x="11249" y="12462"/>
                </a:cubicBezTo>
                <a:cubicBezTo>
                  <a:pt x="11288" y="12454"/>
                  <a:pt x="11324" y="12410"/>
                  <a:pt x="11347" y="12381"/>
                </a:cubicBezTo>
                <a:cubicBezTo>
                  <a:pt x="11375" y="12346"/>
                  <a:pt x="11401" y="12307"/>
                  <a:pt x="11433" y="12275"/>
                </a:cubicBezTo>
                <a:cubicBezTo>
                  <a:pt x="11451" y="12257"/>
                  <a:pt x="11470" y="12240"/>
                  <a:pt x="11491" y="12225"/>
                </a:cubicBezTo>
                <a:cubicBezTo>
                  <a:pt x="11506" y="12214"/>
                  <a:pt x="11517" y="12209"/>
                  <a:pt x="11518" y="12188"/>
                </a:cubicBezTo>
                <a:cubicBezTo>
                  <a:pt x="11515" y="12177"/>
                  <a:pt x="11514" y="12173"/>
                  <a:pt x="11512" y="12166"/>
                </a:cubicBezTo>
                <a:cubicBezTo>
                  <a:pt x="11483" y="12168"/>
                  <a:pt x="11456" y="12168"/>
                  <a:pt x="11430" y="12188"/>
                </a:cubicBezTo>
                <a:cubicBezTo>
                  <a:pt x="11395" y="12216"/>
                  <a:pt x="11368" y="12269"/>
                  <a:pt x="11366" y="12313"/>
                </a:cubicBezTo>
                <a:cubicBezTo>
                  <a:pt x="11363" y="12361"/>
                  <a:pt x="11398" y="12404"/>
                  <a:pt x="11442" y="12419"/>
                </a:cubicBezTo>
                <a:cubicBezTo>
                  <a:pt x="11499" y="12439"/>
                  <a:pt x="11577" y="12422"/>
                  <a:pt x="11632" y="12405"/>
                </a:cubicBezTo>
                <a:cubicBezTo>
                  <a:pt x="11649" y="12398"/>
                  <a:pt x="11667" y="12392"/>
                  <a:pt x="11684" y="12385"/>
                </a:cubicBezTo>
              </a:path>
              <a:path w="2685" h="925">
                <a:moveTo>
                  <a:pt x="11887" y="12136"/>
                </a:moveTo>
                <a:cubicBezTo>
                  <a:pt x="11852" y="12140"/>
                  <a:pt x="11815" y="12149"/>
                  <a:pt x="11783" y="12167"/>
                </a:cubicBezTo>
                <a:cubicBezTo>
                  <a:pt x="11757" y="12182"/>
                  <a:pt x="11744" y="12204"/>
                  <a:pt x="11755" y="12232"/>
                </a:cubicBezTo>
                <a:cubicBezTo>
                  <a:pt x="11769" y="12270"/>
                  <a:pt x="11807" y="12299"/>
                  <a:pt x="11833" y="12329"/>
                </a:cubicBezTo>
                <a:cubicBezTo>
                  <a:pt x="11861" y="12362"/>
                  <a:pt x="11892" y="12399"/>
                  <a:pt x="11901" y="12443"/>
                </a:cubicBezTo>
                <a:cubicBezTo>
                  <a:pt x="11906" y="12468"/>
                  <a:pt x="11903" y="12500"/>
                  <a:pt x="11878" y="12514"/>
                </a:cubicBezTo>
                <a:cubicBezTo>
                  <a:pt x="11849" y="12530"/>
                  <a:pt x="11816" y="12519"/>
                  <a:pt x="11795" y="12497"/>
                </a:cubicBezTo>
                <a:cubicBezTo>
                  <a:pt x="11790" y="12491"/>
                  <a:pt x="11785" y="12484"/>
                  <a:pt x="11780" y="1247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81440" y="4281480"/>
            <a:ext cx="376200" cy="279360"/>
          </a:xfrm>
          <a:custGeom>
            <a:avLst/>
            <a:gdLst/>
            <a:ahLst/>
            <a:rect l="l" t="t" r="r" b="b"/>
            <a:pathLst>
              <a:path w="1047" h="776">
                <a:moveTo>
                  <a:pt x="13181" y="12082"/>
                </a:moveTo>
                <a:cubicBezTo>
                  <a:pt x="13182" y="12113"/>
                  <a:pt x="13186" y="12135"/>
                  <a:pt x="13196" y="12166"/>
                </a:cubicBezTo>
                <a:cubicBezTo>
                  <a:pt x="13216" y="12229"/>
                  <a:pt x="13247" y="12285"/>
                  <a:pt x="13283" y="12341"/>
                </a:cubicBezTo>
                <a:cubicBezTo>
                  <a:pt x="13301" y="12370"/>
                  <a:pt x="13320" y="12397"/>
                  <a:pt x="13344" y="12421"/>
                </a:cubicBezTo>
                <a:cubicBezTo>
                  <a:pt x="13348" y="12424"/>
                  <a:pt x="13353" y="12428"/>
                  <a:pt x="13357" y="12431"/>
                </a:cubicBezTo>
                <a:cubicBezTo>
                  <a:pt x="13320" y="12384"/>
                  <a:pt x="13276" y="12342"/>
                  <a:pt x="13234" y="12299"/>
                </a:cubicBezTo>
                <a:cubicBezTo>
                  <a:pt x="13181" y="12245"/>
                  <a:pt x="13127" y="12192"/>
                  <a:pt x="13078" y="12134"/>
                </a:cubicBezTo>
                <a:cubicBezTo>
                  <a:pt x="13051" y="12102"/>
                  <a:pt x="12999" y="12049"/>
                  <a:pt x="13004" y="12001"/>
                </a:cubicBezTo>
                <a:cubicBezTo>
                  <a:pt x="13008" y="11961"/>
                  <a:pt x="13100" y="11952"/>
                  <a:pt x="13126" y="11947"/>
                </a:cubicBezTo>
                <a:cubicBezTo>
                  <a:pt x="13244" y="11923"/>
                  <a:pt x="13403" y="11878"/>
                  <a:pt x="13524" y="11892"/>
                </a:cubicBezTo>
                <a:cubicBezTo>
                  <a:pt x="13546" y="11899"/>
                  <a:pt x="13553" y="11900"/>
                  <a:pt x="13561" y="11913"/>
                </a:cubicBezTo>
                <a:cubicBezTo>
                  <a:pt x="13556" y="11991"/>
                  <a:pt x="13519" y="12059"/>
                  <a:pt x="13485" y="12129"/>
                </a:cubicBezTo>
                <a:cubicBezTo>
                  <a:pt x="13446" y="12209"/>
                  <a:pt x="13405" y="12288"/>
                  <a:pt x="13374" y="12371"/>
                </a:cubicBezTo>
                <a:cubicBezTo>
                  <a:pt x="13358" y="12413"/>
                  <a:pt x="13336" y="12460"/>
                  <a:pt x="13351" y="12504"/>
                </a:cubicBezTo>
                <a:cubicBezTo>
                  <a:pt x="13354" y="12511"/>
                  <a:pt x="13357" y="12517"/>
                  <a:pt x="13360" y="12524"/>
                </a:cubicBezTo>
                <a:cubicBezTo>
                  <a:pt x="13399" y="12507"/>
                  <a:pt x="13429" y="12486"/>
                  <a:pt x="13462" y="12459"/>
                </a:cubicBezTo>
              </a:path>
              <a:path w="1047" h="776">
                <a:moveTo>
                  <a:pt x="13777" y="12157"/>
                </a:moveTo>
                <a:cubicBezTo>
                  <a:pt x="13791" y="12209"/>
                  <a:pt x="13780" y="12243"/>
                  <a:pt x="13775" y="12295"/>
                </a:cubicBezTo>
                <a:cubicBezTo>
                  <a:pt x="13768" y="12367"/>
                  <a:pt x="13762" y="12440"/>
                  <a:pt x="13756" y="12512"/>
                </a:cubicBezTo>
                <a:cubicBezTo>
                  <a:pt x="13752" y="12565"/>
                  <a:pt x="13746" y="12615"/>
                  <a:pt x="13736" y="12667"/>
                </a:cubicBezTo>
                <a:cubicBezTo>
                  <a:pt x="13724" y="12576"/>
                  <a:pt x="13737" y="12487"/>
                  <a:pt x="13747" y="12397"/>
                </a:cubicBezTo>
                <a:cubicBezTo>
                  <a:pt x="13757" y="12305"/>
                  <a:pt x="13769" y="12215"/>
                  <a:pt x="13794" y="12126"/>
                </a:cubicBezTo>
                <a:cubicBezTo>
                  <a:pt x="13808" y="12075"/>
                  <a:pt x="13831" y="12011"/>
                  <a:pt x="13878" y="11980"/>
                </a:cubicBezTo>
                <a:cubicBezTo>
                  <a:pt x="13901" y="11972"/>
                  <a:pt x="13907" y="11969"/>
                  <a:pt x="13923" y="11971"/>
                </a:cubicBezTo>
                <a:cubicBezTo>
                  <a:pt x="13956" y="11998"/>
                  <a:pt x="13969" y="12021"/>
                  <a:pt x="13961" y="12066"/>
                </a:cubicBezTo>
                <a:cubicBezTo>
                  <a:pt x="13950" y="12134"/>
                  <a:pt x="13906" y="12193"/>
                  <a:pt x="13870" y="12249"/>
                </a:cubicBezTo>
                <a:cubicBezTo>
                  <a:pt x="13861" y="12264"/>
                  <a:pt x="13858" y="12268"/>
                  <a:pt x="13853" y="12279"/>
                </a:cubicBezTo>
                <a:cubicBezTo>
                  <a:pt x="13883" y="12284"/>
                  <a:pt x="13915" y="12286"/>
                  <a:pt x="13944" y="12295"/>
                </a:cubicBezTo>
                <a:cubicBezTo>
                  <a:pt x="13987" y="12308"/>
                  <a:pt x="14026" y="12337"/>
                  <a:pt x="14042" y="12380"/>
                </a:cubicBezTo>
                <a:cubicBezTo>
                  <a:pt x="14062" y="12434"/>
                  <a:pt x="14045" y="12491"/>
                  <a:pt x="14021" y="12540"/>
                </a:cubicBezTo>
                <a:cubicBezTo>
                  <a:pt x="13994" y="12595"/>
                  <a:pt x="13941" y="12654"/>
                  <a:pt x="13878" y="12666"/>
                </a:cubicBezTo>
                <a:cubicBezTo>
                  <a:pt x="13836" y="12674"/>
                  <a:pt x="13795" y="12658"/>
                  <a:pt x="13764" y="12632"/>
                </a:cubicBezTo>
                <a:cubicBezTo>
                  <a:pt x="13726" y="12600"/>
                  <a:pt x="13722" y="12570"/>
                  <a:pt x="13720" y="12524"/>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00720" y="4208400"/>
            <a:ext cx="666720" cy="297000"/>
          </a:xfrm>
          <a:custGeom>
            <a:avLst/>
            <a:gdLst/>
            <a:ahLst/>
            <a:rect l="l" t="t" r="r" b="b"/>
            <a:pathLst>
              <a:path w="1853" h="823">
                <a:moveTo>
                  <a:pt x="15172" y="12259"/>
                </a:moveTo>
                <a:cubicBezTo>
                  <a:pt x="15174" y="12244"/>
                  <a:pt x="15174" y="12232"/>
                  <a:pt x="15175" y="12217"/>
                </a:cubicBezTo>
                <a:cubicBezTo>
                  <a:pt x="15144" y="12211"/>
                  <a:pt x="15127" y="12220"/>
                  <a:pt x="15100" y="12238"/>
                </a:cubicBezTo>
                <a:cubicBezTo>
                  <a:pt x="15056" y="12267"/>
                  <a:pt x="15031" y="12305"/>
                  <a:pt x="15012" y="12353"/>
                </a:cubicBezTo>
                <a:cubicBezTo>
                  <a:pt x="15000" y="12383"/>
                  <a:pt x="15002" y="12392"/>
                  <a:pt x="15016" y="12418"/>
                </a:cubicBezTo>
                <a:cubicBezTo>
                  <a:pt x="15057" y="12424"/>
                  <a:pt x="15086" y="12408"/>
                  <a:pt x="15117" y="12377"/>
                </a:cubicBezTo>
                <a:cubicBezTo>
                  <a:pt x="15159" y="12335"/>
                  <a:pt x="15186" y="12276"/>
                  <a:pt x="15199" y="12219"/>
                </a:cubicBezTo>
                <a:cubicBezTo>
                  <a:pt x="15217" y="12143"/>
                  <a:pt x="15203" y="12060"/>
                  <a:pt x="15178" y="11987"/>
                </a:cubicBezTo>
                <a:cubicBezTo>
                  <a:pt x="15168" y="11959"/>
                  <a:pt x="15163" y="11946"/>
                  <a:pt x="15142" y="11932"/>
                </a:cubicBezTo>
                <a:cubicBezTo>
                  <a:pt x="15129" y="11978"/>
                  <a:pt x="15127" y="12006"/>
                  <a:pt x="15135" y="12056"/>
                </a:cubicBezTo>
                <a:cubicBezTo>
                  <a:pt x="15147" y="12132"/>
                  <a:pt x="15168" y="12204"/>
                  <a:pt x="15205" y="12272"/>
                </a:cubicBezTo>
                <a:cubicBezTo>
                  <a:pt x="15231" y="12320"/>
                  <a:pt x="15270" y="12373"/>
                  <a:pt x="15322" y="12395"/>
                </a:cubicBezTo>
                <a:cubicBezTo>
                  <a:pt x="15354" y="12408"/>
                  <a:pt x="15365" y="12399"/>
                  <a:pt x="15392" y="12385"/>
                </a:cubicBezTo>
              </a:path>
              <a:path w="1853" h="823">
                <a:moveTo>
                  <a:pt x="15426" y="12305"/>
                </a:moveTo>
                <a:cubicBezTo>
                  <a:pt x="15425" y="12342"/>
                  <a:pt x="15423" y="12373"/>
                  <a:pt x="15437" y="12407"/>
                </a:cubicBezTo>
                <a:cubicBezTo>
                  <a:pt x="15443" y="12418"/>
                  <a:pt x="15445" y="12422"/>
                  <a:pt x="15454" y="12426"/>
                </a:cubicBezTo>
                <a:cubicBezTo>
                  <a:pt x="15476" y="12407"/>
                  <a:pt x="15489" y="12397"/>
                  <a:pt x="15497" y="12365"/>
                </a:cubicBezTo>
                <a:cubicBezTo>
                  <a:pt x="15508" y="12323"/>
                  <a:pt x="15511" y="12277"/>
                  <a:pt x="15515" y="12234"/>
                </a:cubicBezTo>
                <a:cubicBezTo>
                  <a:pt x="15518" y="12207"/>
                  <a:pt x="15514" y="12166"/>
                  <a:pt x="15532" y="12143"/>
                </a:cubicBezTo>
                <a:cubicBezTo>
                  <a:pt x="15548" y="12123"/>
                  <a:pt x="15570" y="12133"/>
                  <a:pt x="15590" y="12140"/>
                </a:cubicBezTo>
                <a:cubicBezTo>
                  <a:pt x="15626" y="12153"/>
                  <a:pt x="15664" y="12170"/>
                  <a:pt x="15694" y="12194"/>
                </a:cubicBezTo>
                <a:cubicBezTo>
                  <a:pt x="15765" y="12251"/>
                  <a:pt x="15782" y="12343"/>
                  <a:pt x="15793" y="12428"/>
                </a:cubicBezTo>
                <a:cubicBezTo>
                  <a:pt x="15797" y="12457"/>
                  <a:pt x="15799" y="12485"/>
                  <a:pt x="15807" y="12514"/>
                </a:cubicBezTo>
                <a:cubicBezTo>
                  <a:pt x="15820" y="12481"/>
                  <a:pt x="15822" y="12453"/>
                  <a:pt x="15823" y="12417"/>
                </a:cubicBezTo>
              </a:path>
              <a:path w="1853" h="823">
                <a:moveTo>
                  <a:pt x="15728" y="12129"/>
                </a:moveTo>
                <a:cubicBezTo>
                  <a:pt x="15765" y="12124"/>
                  <a:pt x="15800" y="12122"/>
                  <a:pt x="15837" y="12116"/>
                </a:cubicBezTo>
              </a:path>
              <a:path w="1853" h="823">
                <a:moveTo>
                  <a:pt x="16339" y="11774"/>
                </a:moveTo>
                <a:cubicBezTo>
                  <a:pt x="16338" y="11746"/>
                  <a:pt x="16342" y="11719"/>
                  <a:pt x="16318" y="11699"/>
                </a:cubicBezTo>
                <a:cubicBezTo>
                  <a:pt x="16293" y="11678"/>
                  <a:pt x="16274" y="11704"/>
                  <a:pt x="16262" y="11725"/>
                </a:cubicBezTo>
                <a:cubicBezTo>
                  <a:pt x="16231" y="11780"/>
                  <a:pt x="16227" y="11848"/>
                  <a:pt x="16224" y="11909"/>
                </a:cubicBezTo>
                <a:cubicBezTo>
                  <a:pt x="16220" y="12004"/>
                  <a:pt x="16220" y="12102"/>
                  <a:pt x="16230" y="12197"/>
                </a:cubicBezTo>
                <a:cubicBezTo>
                  <a:pt x="16238" y="12273"/>
                  <a:pt x="16250" y="12351"/>
                  <a:pt x="16269" y="12426"/>
                </a:cubicBezTo>
                <a:cubicBezTo>
                  <a:pt x="16269" y="12427"/>
                  <a:pt x="16302" y="12511"/>
                  <a:pt x="16306" y="12506"/>
                </a:cubicBezTo>
                <a:cubicBezTo>
                  <a:pt x="16304" y="12497"/>
                  <a:pt x="16301" y="12489"/>
                  <a:pt x="16299" y="12480"/>
                </a:cubicBezTo>
              </a:path>
              <a:path w="1853" h="823">
                <a:moveTo>
                  <a:pt x="16009" y="12219"/>
                </a:moveTo>
                <a:cubicBezTo>
                  <a:pt x="15964" y="12219"/>
                  <a:pt x="16011" y="12218"/>
                  <a:pt x="16031" y="12214"/>
                </a:cubicBezTo>
                <a:cubicBezTo>
                  <a:pt x="16094" y="12200"/>
                  <a:pt x="16155" y="12186"/>
                  <a:pt x="16217" y="12167"/>
                </a:cubicBezTo>
                <a:cubicBezTo>
                  <a:pt x="16289" y="12144"/>
                  <a:pt x="16358" y="12117"/>
                  <a:pt x="16428" y="12088"/>
                </a:cubicBezTo>
              </a:path>
              <a:path w="1853" h="823">
                <a:moveTo>
                  <a:pt x="16581" y="11747"/>
                </a:moveTo>
                <a:cubicBezTo>
                  <a:pt x="16600" y="11776"/>
                  <a:pt x="16612" y="11809"/>
                  <a:pt x="16617" y="11844"/>
                </a:cubicBezTo>
                <a:cubicBezTo>
                  <a:pt x="16627" y="11915"/>
                  <a:pt x="16633" y="11987"/>
                  <a:pt x="16640" y="12058"/>
                </a:cubicBezTo>
                <a:cubicBezTo>
                  <a:pt x="16650" y="12160"/>
                  <a:pt x="16661" y="12262"/>
                  <a:pt x="16678" y="12363"/>
                </a:cubicBezTo>
                <a:cubicBezTo>
                  <a:pt x="16684" y="12401"/>
                  <a:pt x="16737" y="12498"/>
                  <a:pt x="16706" y="12475"/>
                </a:cubicBezTo>
                <a:cubicBezTo>
                  <a:pt x="16703" y="12468"/>
                  <a:pt x="16699" y="12462"/>
                  <a:pt x="16696" y="12455"/>
                </a:cubicBezTo>
              </a:path>
              <a:path w="1853" h="823">
                <a:moveTo>
                  <a:pt x="16444" y="12151"/>
                </a:moveTo>
                <a:cubicBezTo>
                  <a:pt x="16398" y="12133"/>
                  <a:pt x="16451" y="12136"/>
                  <a:pt x="16477" y="12132"/>
                </a:cubicBezTo>
                <a:cubicBezTo>
                  <a:pt x="16545" y="12121"/>
                  <a:pt x="16614" y="12112"/>
                  <a:pt x="16682" y="12100"/>
                </a:cubicBezTo>
                <a:cubicBezTo>
                  <a:pt x="16740" y="12090"/>
                  <a:pt x="16797" y="12079"/>
                  <a:pt x="16855" y="1206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354720" y="4208400"/>
            <a:ext cx="830160" cy="336600"/>
          </a:xfrm>
          <a:custGeom>
            <a:avLst/>
            <a:gdLst/>
            <a:ahLst/>
            <a:rect l="l" t="t" r="r" b="b"/>
            <a:pathLst>
              <a:path w="2309" h="938">
                <a:moveTo>
                  <a:pt x="18111" y="11773"/>
                </a:moveTo>
                <a:cubicBezTo>
                  <a:pt x="18097" y="11742"/>
                  <a:pt x="18084" y="11719"/>
                  <a:pt x="18053" y="11702"/>
                </a:cubicBezTo>
                <a:cubicBezTo>
                  <a:pt x="18019" y="11683"/>
                  <a:pt x="17986" y="11682"/>
                  <a:pt x="17953" y="11701"/>
                </a:cubicBezTo>
                <a:cubicBezTo>
                  <a:pt x="17906" y="11727"/>
                  <a:pt x="17891" y="11783"/>
                  <a:pt x="17880" y="11832"/>
                </a:cubicBezTo>
                <a:cubicBezTo>
                  <a:pt x="17861" y="11916"/>
                  <a:pt x="17866" y="11994"/>
                  <a:pt x="17876" y="12078"/>
                </a:cubicBezTo>
                <a:cubicBezTo>
                  <a:pt x="17885" y="12153"/>
                  <a:pt x="17895" y="12233"/>
                  <a:pt x="17918" y="12305"/>
                </a:cubicBezTo>
                <a:cubicBezTo>
                  <a:pt x="17925" y="12329"/>
                  <a:pt x="17954" y="12381"/>
                  <a:pt x="17951" y="12408"/>
                </a:cubicBezTo>
                <a:cubicBezTo>
                  <a:pt x="17953" y="12423"/>
                  <a:pt x="17953" y="12426"/>
                  <a:pt x="17940" y="12407"/>
                </a:cubicBezTo>
              </a:path>
              <a:path w="2309" h="938">
                <a:moveTo>
                  <a:pt x="17668" y="12171"/>
                </a:moveTo>
                <a:cubicBezTo>
                  <a:pt x="17662" y="12166"/>
                  <a:pt x="17657" y="12162"/>
                  <a:pt x="17651" y="12157"/>
                </a:cubicBezTo>
                <a:cubicBezTo>
                  <a:pt x="17694" y="12163"/>
                  <a:pt x="17737" y="12169"/>
                  <a:pt x="17780" y="12173"/>
                </a:cubicBezTo>
                <a:cubicBezTo>
                  <a:pt x="17857" y="12180"/>
                  <a:pt x="17935" y="12186"/>
                  <a:pt x="18013" y="12185"/>
                </a:cubicBezTo>
                <a:cubicBezTo>
                  <a:pt x="18097" y="12184"/>
                  <a:pt x="18177" y="12171"/>
                  <a:pt x="18257" y="12149"/>
                </a:cubicBezTo>
                <a:cubicBezTo>
                  <a:pt x="18226" y="12170"/>
                  <a:pt x="18194" y="12192"/>
                  <a:pt x="18167" y="12218"/>
                </a:cubicBezTo>
                <a:cubicBezTo>
                  <a:pt x="18135" y="12249"/>
                  <a:pt x="18097" y="12288"/>
                  <a:pt x="18091" y="12334"/>
                </a:cubicBezTo>
                <a:cubicBezTo>
                  <a:pt x="18086" y="12375"/>
                  <a:pt x="18118" y="12391"/>
                  <a:pt x="18154" y="12391"/>
                </a:cubicBezTo>
                <a:cubicBezTo>
                  <a:pt x="18209" y="12391"/>
                  <a:pt x="18260" y="12364"/>
                  <a:pt x="18304" y="12334"/>
                </a:cubicBezTo>
                <a:cubicBezTo>
                  <a:pt x="18331" y="12316"/>
                  <a:pt x="18371" y="12288"/>
                  <a:pt x="18384" y="12256"/>
                </a:cubicBezTo>
                <a:cubicBezTo>
                  <a:pt x="18386" y="12245"/>
                  <a:pt x="18387" y="12241"/>
                  <a:pt x="18389" y="12234"/>
                </a:cubicBezTo>
                <a:cubicBezTo>
                  <a:pt x="18367" y="12250"/>
                  <a:pt x="18355" y="12258"/>
                  <a:pt x="18342" y="12282"/>
                </a:cubicBezTo>
                <a:cubicBezTo>
                  <a:pt x="18330" y="12305"/>
                  <a:pt x="18329" y="12330"/>
                  <a:pt x="18352" y="12347"/>
                </a:cubicBezTo>
                <a:cubicBezTo>
                  <a:pt x="18387" y="12373"/>
                  <a:pt x="18447" y="12349"/>
                  <a:pt x="18483" y="12340"/>
                </a:cubicBezTo>
              </a:path>
              <a:path w="2309" h="938">
                <a:moveTo>
                  <a:pt x="18704" y="12160"/>
                </a:moveTo>
                <a:cubicBezTo>
                  <a:pt x="18695" y="12136"/>
                  <a:pt x="18686" y="12121"/>
                  <a:pt x="18656" y="12124"/>
                </a:cubicBezTo>
                <a:cubicBezTo>
                  <a:pt x="18635" y="12126"/>
                  <a:pt x="18602" y="12141"/>
                  <a:pt x="18592" y="12160"/>
                </a:cubicBezTo>
                <a:cubicBezTo>
                  <a:pt x="18579" y="12185"/>
                  <a:pt x="18603" y="12217"/>
                  <a:pt x="18615" y="12236"/>
                </a:cubicBezTo>
                <a:cubicBezTo>
                  <a:pt x="18639" y="12273"/>
                  <a:pt x="18670" y="12306"/>
                  <a:pt x="18686" y="12347"/>
                </a:cubicBezTo>
                <a:cubicBezTo>
                  <a:pt x="18700" y="12383"/>
                  <a:pt x="18697" y="12424"/>
                  <a:pt x="18677" y="12458"/>
                </a:cubicBezTo>
                <a:cubicBezTo>
                  <a:pt x="18664" y="12480"/>
                  <a:pt x="18636" y="12504"/>
                  <a:pt x="18610" y="12506"/>
                </a:cubicBezTo>
                <a:cubicBezTo>
                  <a:pt x="18598" y="12504"/>
                  <a:pt x="18594" y="12503"/>
                  <a:pt x="18586" y="12503"/>
                </a:cubicBezTo>
                <a:cubicBezTo>
                  <a:pt x="18589" y="12470"/>
                  <a:pt x="18603" y="12437"/>
                  <a:pt x="18618" y="12407"/>
                </a:cubicBezTo>
                <a:cubicBezTo>
                  <a:pt x="18641" y="12365"/>
                  <a:pt x="18650" y="12349"/>
                  <a:pt x="18664" y="12319"/>
                </a:cubicBezTo>
              </a:path>
              <a:path w="2309" h="938">
                <a:moveTo>
                  <a:pt x="18888" y="11874"/>
                </a:moveTo>
                <a:cubicBezTo>
                  <a:pt x="18895" y="11856"/>
                  <a:pt x="18903" y="11839"/>
                  <a:pt x="18911" y="11822"/>
                </a:cubicBezTo>
                <a:cubicBezTo>
                  <a:pt x="18900" y="11859"/>
                  <a:pt x="18899" y="11897"/>
                  <a:pt x="18898" y="11936"/>
                </a:cubicBezTo>
                <a:cubicBezTo>
                  <a:pt x="18896" y="12016"/>
                  <a:pt x="18898" y="12097"/>
                  <a:pt x="18905" y="12177"/>
                </a:cubicBezTo>
                <a:cubicBezTo>
                  <a:pt x="18911" y="12249"/>
                  <a:pt x="18921" y="12320"/>
                  <a:pt x="18928" y="12391"/>
                </a:cubicBezTo>
                <a:cubicBezTo>
                  <a:pt x="18928" y="12392"/>
                  <a:pt x="18943" y="12483"/>
                  <a:pt x="18934" y="12436"/>
                </a:cubicBezTo>
              </a:path>
              <a:path w="2309" h="938">
                <a:moveTo>
                  <a:pt x="18748" y="12158"/>
                </a:moveTo>
                <a:cubicBezTo>
                  <a:pt x="18734" y="12149"/>
                  <a:pt x="18729" y="12145"/>
                  <a:pt x="18720" y="12139"/>
                </a:cubicBezTo>
                <a:cubicBezTo>
                  <a:pt x="18766" y="12141"/>
                  <a:pt x="18810" y="12146"/>
                  <a:pt x="18856" y="12151"/>
                </a:cubicBezTo>
                <a:cubicBezTo>
                  <a:pt x="18960" y="12162"/>
                  <a:pt x="19068" y="12163"/>
                  <a:pt x="19172" y="12158"/>
                </a:cubicBezTo>
                <a:cubicBezTo>
                  <a:pt x="19199" y="12157"/>
                  <a:pt x="19311" y="12161"/>
                  <a:pt x="19331" y="12132"/>
                </a:cubicBezTo>
                <a:cubicBezTo>
                  <a:pt x="19337" y="12123"/>
                  <a:pt x="19331" y="12089"/>
                  <a:pt x="19331" y="12079"/>
                </a:cubicBezTo>
                <a:cubicBezTo>
                  <a:pt x="19330" y="12059"/>
                  <a:pt x="19330" y="12032"/>
                  <a:pt x="19311" y="12018"/>
                </a:cubicBezTo>
                <a:cubicBezTo>
                  <a:pt x="19274" y="11991"/>
                  <a:pt x="19234" y="12008"/>
                  <a:pt x="19197" y="12029"/>
                </a:cubicBezTo>
                <a:cubicBezTo>
                  <a:pt x="19153" y="12054"/>
                  <a:pt x="19122" y="12097"/>
                  <a:pt x="19111" y="12147"/>
                </a:cubicBezTo>
                <a:cubicBezTo>
                  <a:pt x="19095" y="12224"/>
                  <a:pt x="19145" y="12291"/>
                  <a:pt x="19206" y="12331"/>
                </a:cubicBezTo>
                <a:cubicBezTo>
                  <a:pt x="19267" y="12371"/>
                  <a:pt x="19358" y="12389"/>
                  <a:pt x="19427" y="12364"/>
                </a:cubicBezTo>
                <a:cubicBezTo>
                  <a:pt x="19471" y="12348"/>
                  <a:pt x="19490" y="12320"/>
                  <a:pt x="19508" y="12280"/>
                </a:cubicBezTo>
              </a:path>
              <a:path w="2309" h="938">
                <a:moveTo>
                  <a:pt x="19471" y="12158"/>
                </a:moveTo>
                <a:cubicBezTo>
                  <a:pt x="19477" y="12179"/>
                  <a:pt x="19485" y="12187"/>
                  <a:pt x="19499" y="12204"/>
                </a:cubicBezTo>
                <a:cubicBezTo>
                  <a:pt x="19511" y="12218"/>
                  <a:pt x="19523" y="12231"/>
                  <a:pt x="19536" y="12244"/>
                </a:cubicBezTo>
                <a:cubicBezTo>
                  <a:pt x="19553" y="12203"/>
                  <a:pt x="19559" y="12164"/>
                  <a:pt x="19594" y="12132"/>
                </a:cubicBezTo>
                <a:cubicBezTo>
                  <a:pt x="19631" y="12099"/>
                  <a:pt x="19673" y="12085"/>
                  <a:pt x="19719" y="12072"/>
                </a:cubicBezTo>
                <a:cubicBezTo>
                  <a:pt x="19765" y="12059"/>
                  <a:pt x="19809" y="12059"/>
                  <a:pt x="19855" y="12072"/>
                </a:cubicBezTo>
                <a:cubicBezTo>
                  <a:pt x="19879" y="12081"/>
                  <a:pt x="19886" y="12084"/>
                  <a:pt x="19901" y="12092"/>
                </a:cubicBezTo>
              </a:path>
              <a:path w="2309" h="938">
                <a:moveTo>
                  <a:pt x="19959" y="12350"/>
                </a:moveTo>
                <a:cubicBezTo>
                  <a:pt x="19957" y="12397"/>
                  <a:pt x="19951" y="12442"/>
                  <a:pt x="19947" y="12489"/>
                </a:cubicBezTo>
                <a:cubicBezTo>
                  <a:pt x="19944" y="12527"/>
                  <a:pt x="19933" y="12556"/>
                  <a:pt x="19912" y="12588"/>
                </a:cubicBezTo>
                <a:cubicBezTo>
                  <a:pt x="19898" y="12609"/>
                  <a:pt x="19880" y="12621"/>
                  <a:pt x="19857" y="126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82520" y="5041800"/>
            <a:ext cx="890640" cy="206640"/>
          </a:xfrm>
          <a:custGeom>
            <a:avLst/>
            <a:gdLst/>
            <a:ahLst/>
            <a:rect l="l" t="t" r="r" b="b"/>
            <a:pathLst>
              <a:path w="2473" h="572">
                <a:moveTo>
                  <a:pt x="3231" y="14315"/>
                </a:moveTo>
                <a:cubicBezTo>
                  <a:pt x="3234" y="14304"/>
                  <a:pt x="3245" y="14277"/>
                  <a:pt x="3231" y="14267"/>
                </a:cubicBezTo>
                <a:cubicBezTo>
                  <a:pt x="3214" y="14255"/>
                  <a:pt x="3170" y="14250"/>
                  <a:pt x="3151" y="14254"/>
                </a:cubicBezTo>
                <a:cubicBezTo>
                  <a:pt x="3115" y="14261"/>
                  <a:pt x="3076" y="14290"/>
                  <a:pt x="3051" y="14316"/>
                </a:cubicBezTo>
                <a:cubicBezTo>
                  <a:pt x="3022" y="14347"/>
                  <a:pt x="3003" y="14387"/>
                  <a:pt x="3009" y="14431"/>
                </a:cubicBezTo>
                <a:cubicBezTo>
                  <a:pt x="3016" y="14478"/>
                  <a:pt x="3052" y="14508"/>
                  <a:pt x="3094" y="14525"/>
                </a:cubicBezTo>
                <a:cubicBezTo>
                  <a:pt x="3149" y="14547"/>
                  <a:pt x="3205" y="14549"/>
                  <a:pt x="3263" y="14538"/>
                </a:cubicBezTo>
                <a:cubicBezTo>
                  <a:pt x="3308" y="14530"/>
                  <a:pt x="3339" y="14513"/>
                  <a:pt x="3379" y="14492"/>
                </a:cubicBezTo>
              </a:path>
              <a:path w="2473" h="572">
                <a:moveTo>
                  <a:pt x="3452" y="14285"/>
                </a:moveTo>
                <a:cubicBezTo>
                  <a:pt x="3458" y="14322"/>
                  <a:pt x="3471" y="14355"/>
                  <a:pt x="3486" y="14390"/>
                </a:cubicBezTo>
                <a:cubicBezTo>
                  <a:pt x="3514" y="14454"/>
                  <a:pt x="3543" y="14517"/>
                  <a:pt x="3578" y="14577"/>
                </a:cubicBezTo>
                <a:cubicBezTo>
                  <a:pt x="3591" y="14532"/>
                  <a:pt x="3594" y="14486"/>
                  <a:pt x="3605" y="14441"/>
                </a:cubicBezTo>
                <a:cubicBezTo>
                  <a:pt x="3613" y="14405"/>
                  <a:pt x="3626" y="14373"/>
                  <a:pt x="3646" y="14342"/>
                </a:cubicBezTo>
                <a:cubicBezTo>
                  <a:pt x="3656" y="14326"/>
                  <a:pt x="3675" y="14308"/>
                  <a:pt x="3696" y="14312"/>
                </a:cubicBezTo>
                <a:cubicBezTo>
                  <a:pt x="3721" y="14317"/>
                  <a:pt x="3723" y="14334"/>
                  <a:pt x="3740" y="14352"/>
                </a:cubicBezTo>
                <a:cubicBezTo>
                  <a:pt x="3758" y="14371"/>
                  <a:pt x="3778" y="14385"/>
                  <a:pt x="3805" y="14390"/>
                </a:cubicBezTo>
                <a:cubicBezTo>
                  <a:pt x="3846" y="14397"/>
                  <a:pt x="3893" y="14384"/>
                  <a:pt x="3932" y="14372"/>
                </a:cubicBezTo>
                <a:cubicBezTo>
                  <a:pt x="3980" y="14357"/>
                  <a:pt x="4052" y="14331"/>
                  <a:pt x="4080" y="14284"/>
                </a:cubicBezTo>
                <a:cubicBezTo>
                  <a:pt x="4083" y="14274"/>
                  <a:pt x="4084" y="14270"/>
                  <a:pt x="4084" y="14263"/>
                </a:cubicBezTo>
                <a:cubicBezTo>
                  <a:pt x="4051" y="14259"/>
                  <a:pt x="4031" y="14255"/>
                  <a:pt x="3998" y="14270"/>
                </a:cubicBezTo>
                <a:cubicBezTo>
                  <a:pt x="3946" y="14293"/>
                  <a:pt x="3901" y="14346"/>
                  <a:pt x="3890" y="14402"/>
                </a:cubicBezTo>
                <a:cubicBezTo>
                  <a:pt x="3880" y="14451"/>
                  <a:pt x="3902" y="14500"/>
                  <a:pt x="3945" y="14526"/>
                </a:cubicBezTo>
                <a:cubicBezTo>
                  <a:pt x="3998" y="14558"/>
                  <a:pt x="4076" y="14555"/>
                  <a:pt x="4134" y="14545"/>
                </a:cubicBezTo>
                <a:cubicBezTo>
                  <a:pt x="4189" y="14532"/>
                  <a:pt x="4208" y="14528"/>
                  <a:pt x="4242" y="14511"/>
                </a:cubicBezTo>
              </a:path>
              <a:path w="2473" h="572">
                <a:moveTo>
                  <a:pt x="4415" y="14362"/>
                </a:moveTo>
                <a:cubicBezTo>
                  <a:pt x="4384" y="14350"/>
                  <a:pt x="4359" y="14353"/>
                  <a:pt x="4327" y="14367"/>
                </a:cubicBezTo>
                <a:cubicBezTo>
                  <a:pt x="4284" y="14385"/>
                  <a:pt x="4259" y="14422"/>
                  <a:pt x="4243" y="14464"/>
                </a:cubicBezTo>
                <a:cubicBezTo>
                  <a:pt x="4231" y="14497"/>
                  <a:pt x="4238" y="14531"/>
                  <a:pt x="4273" y="14546"/>
                </a:cubicBezTo>
                <a:cubicBezTo>
                  <a:pt x="4312" y="14562"/>
                  <a:pt x="4359" y="14530"/>
                  <a:pt x="4389" y="14509"/>
                </a:cubicBezTo>
                <a:cubicBezTo>
                  <a:pt x="4423" y="14486"/>
                  <a:pt x="4455" y="14458"/>
                  <a:pt x="4477" y="14423"/>
                </a:cubicBezTo>
                <a:cubicBezTo>
                  <a:pt x="4487" y="14407"/>
                  <a:pt x="4490" y="14392"/>
                  <a:pt x="4495" y="14375"/>
                </a:cubicBezTo>
                <a:cubicBezTo>
                  <a:pt x="4491" y="14397"/>
                  <a:pt x="4489" y="14415"/>
                  <a:pt x="4493" y="14438"/>
                </a:cubicBezTo>
                <a:cubicBezTo>
                  <a:pt x="4498" y="14471"/>
                  <a:pt x="4506" y="14505"/>
                  <a:pt x="4524" y="14533"/>
                </a:cubicBezTo>
                <a:cubicBezTo>
                  <a:pt x="4536" y="14553"/>
                  <a:pt x="4558" y="14569"/>
                  <a:pt x="4579" y="14550"/>
                </a:cubicBezTo>
                <a:cubicBezTo>
                  <a:pt x="4611" y="14521"/>
                  <a:pt x="4624" y="14472"/>
                  <a:pt x="4640" y="14434"/>
                </a:cubicBezTo>
              </a:path>
              <a:path w="2473" h="572">
                <a:moveTo>
                  <a:pt x="4675" y="14027"/>
                </a:moveTo>
                <a:cubicBezTo>
                  <a:pt x="4667" y="14017"/>
                  <a:pt x="4664" y="14013"/>
                  <a:pt x="4658" y="14006"/>
                </a:cubicBezTo>
                <a:cubicBezTo>
                  <a:pt x="4650" y="14044"/>
                  <a:pt x="4651" y="14079"/>
                  <a:pt x="4658" y="14117"/>
                </a:cubicBezTo>
                <a:cubicBezTo>
                  <a:pt x="4670" y="14186"/>
                  <a:pt x="4687" y="14256"/>
                  <a:pt x="4704" y="14324"/>
                </a:cubicBezTo>
                <a:cubicBezTo>
                  <a:pt x="4719" y="14382"/>
                  <a:pt x="4743" y="14441"/>
                  <a:pt x="4751" y="14501"/>
                </a:cubicBezTo>
                <a:cubicBezTo>
                  <a:pt x="4757" y="14549"/>
                  <a:pt x="4743" y="14481"/>
                  <a:pt x="4742" y="14477"/>
                </a:cubicBezTo>
              </a:path>
              <a:path w="2473" h="572">
                <a:moveTo>
                  <a:pt x="4538" y="14257"/>
                </a:moveTo>
                <a:cubicBezTo>
                  <a:pt x="4517" y="14256"/>
                  <a:pt x="4503" y="14256"/>
                  <a:pt x="4483" y="14258"/>
                </a:cubicBezTo>
                <a:cubicBezTo>
                  <a:pt x="4526" y="14263"/>
                  <a:pt x="4567" y="14260"/>
                  <a:pt x="4610" y="14257"/>
                </a:cubicBezTo>
                <a:cubicBezTo>
                  <a:pt x="4694" y="14252"/>
                  <a:pt x="4774" y="14234"/>
                  <a:pt x="4855" y="14213"/>
                </a:cubicBezTo>
                <a:cubicBezTo>
                  <a:pt x="4935" y="14192"/>
                  <a:pt x="5013" y="14167"/>
                  <a:pt x="5088" y="14132"/>
                </a:cubicBezTo>
                <a:cubicBezTo>
                  <a:pt x="5109" y="14122"/>
                  <a:pt x="5118" y="14113"/>
                  <a:pt x="5136" y="14100"/>
                </a:cubicBezTo>
                <a:cubicBezTo>
                  <a:pt x="5101" y="14097"/>
                  <a:pt x="5079" y="14096"/>
                  <a:pt x="5045" y="14111"/>
                </a:cubicBezTo>
                <a:cubicBezTo>
                  <a:pt x="4990" y="14135"/>
                  <a:pt x="4938" y="14189"/>
                  <a:pt x="4919" y="14247"/>
                </a:cubicBezTo>
                <a:cubicBezTo>
                  <a:pt x="4904" y="14295"/>
                  <a:pt x="4921" y="14337"/>
                  <a:pt x="4959" y="14367"/>
                </a:cubicBezTo>
                <a:cubicBezTo>
                  <a:pt x="5020" y="14415"/>
                  <a:pt x="5111" y="14406"/>
                  <a:pt x="5182" y="14394"/>
                </a:cubicBezTo>
                <a:cubicBezTo>
                  <a:pt x="5198" y="14390"/>
                  <a:pt x="5215" y="14386"/>
                  <a:pt x="5231" y="14382"/>
                </a:cubicBezTo>
              </a:path>
              <a:path w="2473" h="572">
                <a:moveTo>
                  <a:pt x="5437" y="14125"/>
                </a:moveTo>
                <a:cubicBezTo>
                  <a:pt x="5416" y="14100"/>
                  <a:pt x="5394" y="14093"/>
                  <a:pt x="5363" y="14108"/>
                </a:cubicBezTo>
                <a:cubicBezTo>
                  <a:pt x="5327" y="14125"/>
                  <a:pt x="5289" y="14157"/>
                  <a:pt x="5277" y="14196"/>
                </a:cubicBezTo>
                <a:cubicBezTo>
                  <a:pt x="5266" y="14233"/>
                  <a:pt x="5286" y="14261"/>
                  <a:pt x="5312" y="14285"/>
                </a:cubicBezTo>
                <a:cubicBezTo>
                  <a:pt x="5348" y="14319"/>
                  <a:pt x="5391" y="14345"/>
                  <a:pt x="5424" y="14383"/>
                </a:cubicBezTo>
                <a:cubicBezTo>
                  <a:pt x="5452" y="14416"/>
                  <a:pt x="5478" y="14456"/>
                  <a:pt x="5481" y="14501"/>
                </a:cubicBezTo>
                <a:cubicBezTo>
                  <a:pt x="5483" y="14533"/>
                  <a:pt x="5469" y="14555"/>
                  <a:pt x="5442" y="14569"/>
                </a:cubicBezTo>
                <a:cubicBezTo>
                  <a:pt x="5418" y="14582"/>
                  <a:pt x="5383" y="14574"/>
                  <a:pt x="5360" y="14563"/>
                </a:cubicBezTo>
                <a:cubicBezTo>
                  <a:pt x="5340" y="14550"/>
                  <a:pt x="5333" y="14547"/>
                  <a:pt x="5322" y="1453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06600" y="5014800"/>
            <a:ext cx="852480" cy="320760"/>
          </a:xfrm>
          <a:custGeom>
            <a:avLst/>
            <a:gdLst/>
            <a:ahLst/>
            <a:rect l="l" t="t" r="r" b="b"/>
            <a:pathLst>
              <a:path w="2369" h="891">
                <a:moveTo>
                  <a:pt x="6866" y="14202"/>
                </a:moveTo>
                <a:cubicBezTo>
                  <a:pt x="6871" y="14194"/>
                  <a:pt x="6892" y="14164"/>
                  <a:pt x="6886" y="14153"/>
                </a:cubicBezTo>
                <a:cubicBezTo>
                  <a:pt x="6873" y="14128"/>
                  <a:pt x="6836" y="14132"/>
                  <a:pt x="6816" y="14141"/>
                </a:cubicBezTo>
                <a:cubicBezTo>
                  <a:pt x="6765" y="14164"/>
                  <a:pt x="6721" y="14226"/>
                  <a:pt x="6703" y="14277"/>
                </a:cubicBezTo>
                <a:cubicBezTo>
                  <a:pt x="6686" y="14325"/>
                  <a:pt x="6676" y="14388"/>
                  <a:pt x="6700" y="14436"/>
                </a:cubicBezTo>
                <a:cubicBezTo>
                  <a:pt x="6723" y="14482"/>
                  <a:pt x="6774" y="14496"/>
                  <a:pt x="6822" y="14492"/>
                </a:cubicBezTo>
                <a:cubicBezTo>
                  <a:pt x="6878" y="14488"/>
                  <a:pt x="6924" y="14464"/>
                  <a:pt x="6965" y="14428"/>
                </a:cubicBezTo>
                <a:cubicBezTo>
                  <a:pt x="6995" y="14402"/>
                  <a:pt x="7006" y="14376"/>
                  <a:pt x="7023" y="14341"/>
                </a:cubicBezTo>
              </a:path>
              <a:path w="2369" h="891">
                <a:moveTo>
                  <a:pt x="6994" y="13931"/>
                </a:moveTo>
                <a:cubicBezTo>
                  <a:pt x="7001" y="13973"/>
                  <a:pt x="7010" y="14014"/>
                  <a:pt x="7019" y="14056"/>
                </a:cubicBezTo>
                <a:cubicBezTo>
                  <a:pt x="7034" y="14121"/>
                  <a:pt x="7051" y="14185"/>
                  <a:pt x="7072" y="14248"/>
                </a:cubicBezTo>
                <a:cubicBezTo>
                  <a:pt x="7083" y="14282"/>
                  <a:pt x="7094" y="14342"/>
                  <a:pt x="7133" y="14358"/>
                </a:cubicBezTo>
                <a:cubicBezTo>
                  <a:pt x="7164" y="14371"/>
                  <a:pt x="7194" y="14321"/>
                  <a:pt x="7208" y="14304"/>
                </a:cubicBezTo>
                <a:cubicBezTo>
                  <a:pt x="7233" y="14274"/>
                  <a:pt x="7255" y="14231"/>
                  <a:pt x="7290" y="14210"/>
                </a:cubicBezTo>
                <a:cubicBezTo>
                  <a:pt x="7318" y="14193"/>
                  <a:pt x="7334" y="14217"/>
                  <a:pt x="7344" y="14241"/>
                </a:cubicBezTo>
                <a:cubicBezTo>
                  <a:pt x="7363" y="14288"/>
                  <a:pt x="7366" y="14365"/>
                  <a:pt x="7415" y="14393"/>
                </a:cubicBezTo>
                <a:cubicBezTo>
                  <a:pt x="7448" y="14412"/>
                  <a:pt x="7482" y="14397"/>
                  <a:pt x="7515" y="14387"/>
                </a:cubicBezTo>
              </a:path>
              <a:path w="2369" h="891">
                <a:moveTo>
                  <a:pt x="7678" y="14202"/>
                </a:moveTo>
                <a:cubicBezTo>
                  <a:pt x="7670" y="14182"/>
                  <a:pt x="7639" y="14192"/>
                  <a:pt x="7620" y="14210"/>
                </a:cubicBezTo>
                <a:cubicBezTo>
                  <a:pt x="7595" y="14233"/>
                  <a:pt x="7568" y="14275"/>
                  <a:pt x="7562" y="14309"/>
                </a:cubicBezTo>
                <a:cubicBezTo>
                  <a:pt x="7556" y="14340"/>
                  <a:pt x="7576" y="14367"/>
                  <a:pt x="7608" y="14370"/>
                </a:cubicBezTo>
                <a:cubicBezTo>
                  <a:pt x="7645" y="14373"/>
                  <a:pt x="7685" y="14361"/>
                  <a:pt x="7718" y="14348"/>
                </a:cubicBezTo>
                <a:cubicBezTo>
                  <a:pt x="7746" y="14337"/>
                  <a:pt x="7772" y="14321"/>
                  <a:pt x="7788" y="14294"/>
                </a:cubicBezTo>
                <a:cubicBezTo>
                  <a:pt x="7792" y="14284"/>
                  <a:pt x="7794" y="14280"/>
                  <a:pt x="7795" y="14272"/>
                </a:cubicBezTo>
                <a:cubicBezTo>
                  <a:pt x="7774" y="14291"/>
                  <a:pt x="7766" y="14307"/>
                  <a:pt x="7761" y="14335"/>
                </a:cubicBezTo>
                <a:cubicBezTo>
                  <a:pt x="7756" y="14361"/>
                  <a:pt x="7763" y="14385"/>
                  <a:pt x="7785" y="14399"/>
                </a:cubicBezTo>
                <a:cubicBezTo>
                  <a:pt x="7804" y="14411"/>
                  <a:pt x="7821" y="14405"/>
                  <a:pt x="7842" y="14402"/>
                </a:cubicBezTo>
              </a:path>
              <a:path w="2369" h="891">
                <a:moveTo>
                  <a:pt x="7972" y="14285"/>
                </a:moveTo>
                <a:cubicBezTo>
                  <a:pt x="7975" y="14312"/>
                  <a:pt x="7978" y="14334"/>
                  <a:pt x="7988" y="14358"/>
                </a:cubicBezTo>
                <a:cubicBezTo>
                  <a:pt x="7990" y="14362"/>
                  <a:pt x="7993" y="14366"/>
                  <a:pt x="7995" y="14370"/>
                </a:cubicBezTo>
                <a:cubicBezTo>
                  <a:pt x="8013" y="14329"/>
                  <a:pt x="8016" y="14289"/>
                  <a:pt x="8030" y="14246"/>
                </a:cubicBezTo>
                <a:cubicBezTo>
                  <a:pt x="8041" y="14213"/>
                  <a:pt x="8058" y="14195"/>
                  <a:pt x="8088" y="14179"/>
                </a:cubicBezTo>
                <a:cubicBezTo>
                  <a:pt x="8126" y="14159"/>
                  <a:pt x="8168" y="14153"/>
                  <a:pt x="8209" y="14143"/>
                </a:cubicBezTo>
                <a:cubicBezTo>
                  <a:pt x="8266" y="14130"/>
                  <a:pt x="8327" y="14106"/>
                  <a:pt x="8386" y="14102"/>
                </a:cubicBezTo>
                <a:cubicBezTo>
                  <a:pt x="8398" y="14105"/>
                  <a:pt x="8402" y="14106"/>
                  <a:pt x="8410" y="14105"/>
                </a:cubicBezTo>
                <a:cubicBezTo>
                  <a:pt x="8389" y="14126"/>
                  <a:pt x="8366" y="14147"/>
                  <a:pt x="8346" y="14169"/>
                </a:cubicBezTo>
                <a:cubicBezTo>
                  <a:pt x="8315" y="14204"/>
                  <a:pt x="8294" y="14237"/>
                  <a:pt x="8294" y="14284"/>
                </a:cubicBezTo>
                <a:cubicBezTo>
                  <a:pt x="8326" y="14298"/>
                  <a:pt x="8339" y="14306"/>
                  <a:pt x="8379" y="14295"/>
                </a:cubicBezTo>
                <a:cubicBezTo>
                  <a:pt x="8424" y="14282"/>
                  <a:pt x="8459" y="14255"/>
                  <a:pt x="8492" y="14223"/>
                </a:cubicBezTo>
                <a:cubicBezTo>
                  <a:pt x="8514" y="14202"/>
                  <a:pt x="8533" y="14179"/>
                  <a:pt x="8553" y="14156"/>
                </a:cubicBezTo>
                <a:cubicBezTo>
                  <a:pt x="8567" y="14203"/>
                  <a:pt x="8579" y="14248"/>
                  <a:pt x="8582" y="14297"/>
                </a:cubicBezTo>
                <a:cubicBezTo>
                  <a:pt x="8587" y="14382"/>
                  <a:pt x="8589" y="14470"/>
                  <a:pt x="8586" y="14555"/>
                </a:cubicBezTo>
                <a:cubicBezTo>
                  <a:pt x="8583" y="14628"/>
                  <a:pt x="8574" y="14703"/>
                  <a:pt x="8545" y="14770"/>
                </a:cubicBezTo>
                <a:cubicBezTo>
                  <a:pt x="8531" y="14803"/>
                  <a:pt x="8504" y="14831"/>
                  <a:pt x="8465" y="14818"/>
                </a:cubicBezTo>
                <a:cubicBezTo>
                  <a:pt x="8428" y="14806"/>
                  <a:pt x="8406" y="14752"/>
                  <a:pt x="8396" y="14719"/>
                </a:cubicBezTo>
                <a:cubicBezTo>
                  <a:pt x="8374" y="14646"/>
                  <a:pt x="8391" y="14576"/>
                  <a:pt x="8410" y="14506"/>
                </a:cubicBezTo>
              </a:path>
              <a:path w="2369" h="891">
                <a:moveTo>
                  <a:pt x="8790" y="14219"/>
                </a:moveTo>
                <a:cubicBezTo>
                  <a:pt x="8830" y="14209"/>
                  <a:pt x="8870" y="14205"/>
                  <a:pt x="8908" y="14190"/>
                </a:cubicBezTo>
                <a:cubicBezTo>
                  <a:pt x="8940" y="14178"/>
                  <a:pt x="8973" y="14160"/>
                  <a:pt x="8994" y="14132"/>
                </a:cubicBezTo>
                <a:cubicBezTo>
                  <a:pt x="9009" y="14112"/>
                  <a:pt x="9027" y="14076"/>
                  <a:pt x="9008" y="14053"/>
                </a:cubicBezTo>
                <a:cubicBezTo>
                  <a:pt x="8985" y="14026"/>
                  <a:pt x="8935" y="14045"/>
                  <a:pt x="8912" y="14060"/>
                </a:cubicBezTo>
                <a:cubicBezTo>
                  <a:pt x="8865" y="14090"/>
                  <a:pt x="8830" y="14144"/>
                  <a:pt x="8816" y="14197"/>
                </a:cubicBezTo>
                <a:cubicBezTo>
                  <a:pt x="8802" y="14250"/>
                  <a:pt x="8818" y="14306"/>
                  <a:pt x="8864" y="14339"/>
                </a:cubicBezTo>
                <a:cubicBezTo>
                  <a:pt x="8905" y="14368"/>
                  <a:pt x="8970" y="14368"/>
                  <a:pt x="9017" y="14358"/>
                </a:cubicBezTo>
                <a:cubicBezTo>
                  <a:pt x="9029" y="14354"/>
                  <a:pt x="9042" y="14350"/>
                  <a:pt x="9054" y="1434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562200" y="4853160"/>
            <a:ext cx="1243080" cy="409320"/>
          </a:xfrm>
          <a:custGeom>
            <a:avLst/>
            <a:gdLst/>
            <a:ahLst/>
            <a:rect l="l" t="t" r="r" b="b"/>
            <a:pathLst>
              <a:path w="3452" h="1138">
                <a:moveTo>
                  <a:pt x="10262" y="13918"/>
                </a:moveTo>
                <a:cubicBezTo>
                  <a:pt x="10255" y="13895"/>
                  <a:pt x="10258" y="13891"/>
                  <a:pt x="10229" y="13888"/>
                </a:cubicBezTo>
                <a:cubicBezTo>
                  <a:pt x="10199" y="13885"/>
                  <a:pt x="10169" y="13900"/>
                  <a:pt x="10141" y="13908"/>
                </a:cubicBezTo>
                <a:cubicBezTo>
                  <a:pt x="10093" y="13922"/>
                  <a:pt x="10050" y="13941"/>
                  <a:pt x="10005" y="13962"/>
                </a:cubicBezTo>
                <a:cubicBezTo>
                  <a:pt x="10000" y="13964"/>
                  <a:pt x="9996" y="13966"/>
                  <a:pt x="9991" y="13968"/>
                </a:cubicBezTo>
                <a:cubicBezTo>
                  <a:pt x="10034" y="13982"/>
                  <a:pt x="10070" y="14001"/>
                  <a:pt x="10093" y="14043"/>
                </a:cubicBezTo>
                <a:cubicBezTo>
                  <a:pt x="10118" y="14090"/>
                  <a:pt x="10108" y="14148"/>
                  <a:pt x="10072" y="14187"/>
                </a:cubicBezTo>
                <a:cubicBezTo>
                  <a:pt x="10050" y="14210"/>
                  <a:pt x="10019" y="14230"/>
                  <a:pt x="9988" y="14236"/>
                </a:cubicBezTo>
                <a:cubicBezTo>
                  <a:pt x="9964" y="14241"/>
                  <a:pt x="9937" y="14239"/>
                  <a:pt x="9913" y="14234"/>
                </a:cubicBezTo>
                <a:cubicBezTo>
                  <a:pt x="9908" y="14233"/>
                  <a:pt x="9902" y="14231"/>
                  <a:pt x="9897" y="14230"/>
                </a:cubicBezTo>
                <a:cubicBezTo>
                  <a:pt x="9898" y="14200"/>
                  <a:pt x="9909" y="14194"/>
                  <a:pt x="9933" y="14175"/>
                </a:cubicBezTo>
              </a:path>
              <a:path w="3452" h="1138">
                <a:moveTo>
                  <a:pt x="10320" y="14047"/>
                </a:moveTo>
                <a:cubicBezTo>
                  <a:pt x="10349" y="14047"/>
                  <a:pt x="10381" y="14056"/>
                  <a:pt x="10409" y="14046"/>
                </a:cubicBezTo>
                <a:cubicBezTo>
                  <a:pt x="10440" y="14035"/>
                  <a:pt x="10468" y="14019"/>
                  <a:pt x="10494" y="13997"/>
                </a:cubicBezTo>
                <a:cubicBezTo>
                  <a:pt x="10512" y="13981"/>
                  <a:pt x="10542" y="13951"/>
                  <a:pt x="10528" y="13924"/>
                </a:cubicBezTo>
                <a:cubicBezTo>
                  <a:pt x="10513" y="13894"/>
                  <a:pt x="10467" y="13898"/>
                  <a:pt x="10441" y="13905"/>
                </a:cubicBezTo>
                <a:cubicBezTo>
                  <a:pt x="10389" y="13919"/>
                  <a:pt x="10347" y="13956"/>
                  <a:pt x="10320" y="14002"/>
                </a:cubicBezTo>
                <a:cubicBezTo>
                  <a:pt x="10286" y="14059"/>
                  <a:pt x="10280" y="14136"/>
                  <a:pt x="10320" y="14192"/>
                </a:cubicBezTo>
                <a:cubicBezTo>
                  <a:pt x="10364" y="14252"/>
                  <a:pt x="10444" y="14256"/>
                  <a:pt x="10509" y="14237"/>
                </a:cubicBezTo>
                <a:cubicBezTo>
                  <a:pt x="10568" y="14219"/>
                  <a:pt x="10613" y="14187"/>
                  <a:pt x="10659" y="14149"/>
                </a:cubicBezTo>
              </a:path>
              <a:path w="3452" h="1138">
                <a:moveTo>
                  <a:pt x="10744" y="14041"/>
                </a:moveTo>
                <a:cubicBezTo>
                  <a:pt x="10748" y="14091"/>
                  <a:pt x="10753" y="14142"/>
                  <a:pt x="10757" y="14192"/>
                </a:cubicBezTo>
                <a:cubicBezTo>
                  <a:pt x="10764" y="14269"/>
                  <a:pt x="10763" y="14346"/>
                  <a:pt x="10762" y="14424"/>
                </a:cubicBezTo>
                <a:cubicBezTo>
                  <a:pt x="10761" y="14481"/>
                  <a:pt x="10760" y="14537"/>
                  <a:pt x="10747" y="14592"/>
                </a:cubicBezTo>
                <a:cubicBezTo>
                  <a:pt x="10743" y="14606"/>
                  <a:pt x="10742" y="14610"/>
                  <a:pt x="10735" y="14617"/>
                </a:cubicBezTo>
                <a:cubicBezTo>
                  <a:pt x="10715" y="14524"/>
                  <a:pt x="10716" y="14429"/>
                  <a:pt x="10726" y="14335"/>
                </a:cubicBezTo>
                <a:cubicBezTo>
                  <a:pt x="10735" y="14250"/>
                  <a:pt x="10748" y="14161"/>
                  <a:pt x="10785" y="14083"/>
                </a:cubicBezTo>
                <a:cubicBezTo>
                  <a:pt x="10805" y="14041"/>
                  <a:pt x="10838" y="13987"/>
                  <a:pt x="10889" y="13980"/>
                </a:cubicBezTo>
                <a:cubicBezTo>
                  <a:pt x="10928" y="13975"/>
                  <a:pt x="10949" y="14020"/>
                  <a:pt x="10955" y="14051"/>
                </a:cubicBezTo>
                <a:cubicBezTo>
                  <a:pt x="10967" y="14116"/>
                  <a:pt x="10937" y="14183"/>
                  <a:pt x="10904" y="14237"/>
                </a:cubicBezTo>
                <a:cubicBezTo>
                  <a:pt x="10895" y="14253"/>
                  <a:pt x="10866" y="14300"/>
                  <a:pt x="10842" y="14295"/>
                </a:cubicBezTo>
                <a:cubicBezTo>
                  <a:pt x="10816" y="14289"/>
                  <a:pt x="10849" y="14250"/>
                  <a:pt x="10860" y="14231"/>
                </a:cubicBezTo>
              </a:path>
              <a:path w="3452" h="1138">
                <a:moveTo>
                  <a:pt x="11203" y="13972"/>
                </a:moveTo>
                <a:cubicBezTo>
                  <a:pt x="11208" y="13969"/>
                  <a:pt x="11213" y="13966"/>
                  <a:pt x="11218" y="13963"/>
                </a:cubicBezTo>
                <a:cubicBezTo>
                  <a:pt x="11189" y="13972"/>
                  <a:pt x="11169" y="13982"/>
                  <a:pt x="11148" y="14005"/>
                </a:cubicBezTo>
                <a:cubicBezTo>
                  <a:pt x="11119" y="14036"/>
                  <a:pt x="11093" y="14074"/>
                  <a:pt x="11081" y="14115"/>
                </a:cubicBezTo>
                <a:cubicBezTo>
                  <a:pt x="11073" y="14144"/>
                  <a:pt x="11071" y="14180"/>
                  <a:pt x="11103" y="14193"/>
                </a:cubicBezTo>
                <a:cubicBezTo>
                  <a:pt x="11134" y="14206"/>
                  <a:pt x="11173" y="14184"/>
                  <a:pt x="11199" y="14168"/>
                </a:cubicBezTo>
                <a:cubicBezTo>
                  <a:pt x="11227" y="14151"/>
                  <a:pt x="11253" y="14127"/>
                  <a:pt x="11269" y="14097"/>
                </a:cubicBezTo>
                <a:cubicBezTo>
                  <a:pt x="11274" y="14083"/>
                  <a:pt x="11276" y="14078"/>
                  <a:pt x="11280" y="14068"/>
                </a:cubicBezTo>
                <a:cubicBezTo>
                  <a:pt x="11264" y="14098"/>
                  <a:pt x="11251" y="14129"/>
                  <a:pt x="11246" y="14163"/>
                </a:cubicBezTo>
                <a:cubicBezTo>
                  <a:pt x="11242" y="14191"/>
                  <a:pt x="11241" y="14235"/>
                  <a:pt x="11264" y="14257"/>
                </a:cubicBezTo>
                <a:cubicBezTo>
                  <a:pt x="11284" y="14276"/>
                  <a:pt x="11321" y="14262"/>
                  <a:pt x="11339" y="14250"/>
                </a:cubicBezTo>
                <a:cubicBezTo>
                  <a:pt x="11345" y="14245"/>
                  <a:pt x="11352" y="14239"/>
                  <a:pt x="11358" y="14234"/>
                </a:cubicBezTo>
              </a:path>
              <a:path w="3452" h="1138">
                <a:moveTo>
                  <a:pt x="11399" y="14119"/>
                </a:moveTo>
                <a:cubicBezTo>
                  <a:pt x="11398" y="14113"/>
                  <a:pt x="11384" y="14076"/>
                  <a:pt x="11388" y="14071"/>
                </a:cubicBezTo>
                <a:cubicBezTo>
                  <a:pt x="11400" y="14056"/>
                  <a:pt x="11408" y="14074"/>
                  <a:pt x="11416" y="14041"/>
                </a:cubicBezTo>
                <a:cubicBezTo>
                  <a:pt x="11423" y="14011"/>
                  <a:pt x="11427" y="13980"/>
                  <a:pt x="11442" y="13952"/>
                </a:cubicBezTo>
                <a:cubicBezTo>
                  <a:pt x="11460" y="13919"/>
                  <a:pt x="11491" y="13896"/>
                  <a:pt x="11525" y="13883"/>
                </a:cubicBezTo>
                <a:cubicBezTo>
                  <a:pt x="11563" y="13869"/>
                  <a:pt x="11594" y="13875"/>
                  <a:pt x="11632" y="13883"/>
                </a:cubicBezTo>
                <a:cubicBezTo>
                  <a:pt x="11664" y="13889"/>
                  <a:pt x="11692" y="13899"/>
                  <a:pt x="11722" y="13911"/>
                </a:cubicBezTo>
                <a:cubicBezTo>
                  <a:pt x="11741" y="13918"/>
                  <a:pt x="11758" y="13923"/>
                  <a:pt x="11778" y="13928"/>
                </a:cubicBezTo>
                <a:cubicBezTo>
                  <a:pt x="11782" y="13929"/>
                  <a:pt x="11785" y="13930"/>
                  <a:pt x="11789" y="13931"/>
                </a:cubicBezTo>
                <a:cubicBezTo>
                  <a:pt x="11771" y="13953"/>
                  <a:pt x="11753" y="13972"/>
                  <a:pt x="11735" y="13995"/>
                </a:cubicBezTo>
                <a:cubicBezTo>
                  <a:pt x="11716" y="14019"/>
                  <a:pt x="11690" y="14050"/>
                  <a:pt x="11684" y="14081"/>
                </a:cubicBezTo>
                <a:cubicBezTo>
                  <a:pt x="11679" y="14108"/>
                  <a:pt x="11690" y="14121"/>
                  <a:pt x="11715" y="14124"/>
                </a:cubicBezTo>
                <a:cubicBezTo>
                  <a:pt x="11745" y="14127"/>
                  <a:pt x="11781" y="14104"/>
                  <a:pt x="11803" y="14087"/>
                </a:cubicBezTo>
                <a:cubicBezTo>
                  <a:pt x="11828" y="14068"/>
                  <a:pt x="11849" y="14045"/>
                  <a:pt x="11868" y="14020"/>
                </a:cubicBezTo>
                <a:cubicBezTo>
                  <a:pt x="11878" y="14007"/>
                  <a:pt x="11881" y="14003"/>
                  <a:pt x="11885" y="13993"/>
                </a:cubicBezTo>
                <a:cubicBezTo>
                  <a:pt x="11902" y="14013"/>
                  <a:pt x="11912" y="14036"/>
                  <a:pt x="11929" y="14056"/>
                </a:cubicBezTo>
                <a:cubicBezTo>
                  <a:pt x="11948" y="14079"/>
                  <a:pt x="11970" y="14088"/>
                  <a:pt x="12000" y="14085"/>
                </a:cubicBezTo>
                <a:cubicBezTo>
                  <a:pt x="12037" y="14082"/>
                  <a:pt x="12067" y="14058"/>
                  <a:pt x="12090" y="14030"/>
                </a:cubicBezTo>
                <a:cubicBezTo>
                  <a:pt x="12111" y="13999"/>
                  <a:pt x="12118" y="13988"/>
                  <a:pt x="12131" y="13966"/>
                </a:cubicBezTo>
              </a:path>
              <a:path w="3452" h="1138">
                <a:moveTo>
                  <a:pt x="12213" y="13569"/>
                </a:moveTo>
                <a:cubicBezTo>
                  <a:pt x="12209" y="13534"/>
                  <a:pt x="12204" y="13511"/>
                  <a:pt x="12189" y="13480"/>
                </a:cubicBezTo>
                <a:cubicBezTo>
                  <a:pt x="12178" y="13516"/>
                  <a:pt x="12182" y="13551"/>
                  <a:pt x="12190" y="13588"/>
                </a:cubicBezTo>
                <a:cubicBezTo>
                  <a:pt x="12206" y="13661"/>
                  <a:pt x="12229" y="13734"/>
                  <a:pt x="12255" y="13805"/>
                </a:cubicBezTo>
                <a:cubicBezTo>
                  <a:pt x="12278" y="13868"/>
                  <a:pt x="12304" y="13929"/>
                  <a:pt x="12324" y="13993"/>
                </a:cubicBezTo>
                <a:cubicBezTo>
                  <a:pt x="12331" y="14015"/>
                  <a:pt x="12362" y="14068"/>
                  <a:pt x="12328" y="14040"/>
                </a:cubicBezTo>
              </a:path>
              <a:path w="3452" h="1138">
                <a:moveTo>
                  <a:pt x="12143" y="13793"/>
                </a:moveTo>
                <a:cubicBezTo>
                  <a:pt x="12129" y="13762"/>
                  <a:pt x="12121" y="13776"/>
                  <a:pt x="12158" y="13789"/>
                </a:cubicBezTo>
                <a:cubicBezTo>
                  <a:pt x="12241" y="13819"/>
                  <a:pt x="12325" y="13838"/>
                  <a:pt x="12410" y="13863"/>
                </a:cubicBezTo>
                <a:cubicBezTo>
                  <a:pt x="12461" y="13878"/>
                  <a:pt x="12517" y="13897"/>
                  <a:pt x="12560" y="13929"/>
                </a:cubicBezTo>
                <a:cubicBezTo>
                  <a:pt x="12588" y="13950"/>
                  <a:pt x="12605" y="13976"/>
                  <a:pt x="12618" y="14007"/>
                </a:cubicBezTo>
                <a:cubicBezTo>
                  <a:pt x="12623" y="14020"/>
                  <a:pt x="12625" y="14025"/>
                  <a:pt x="12626" y="14034"/>
                </a:cubicBezTo>
                <a:cubicBezTo>
                  <a:pt x="12609" y="14011"/>
                  <a:pt x="12599" y="14001"/>
                  <a:pt x="12590" y="13970"/>
                </a:cubicBezTo>
                <a:cubicBezTo>
                  <a:pt x="12576" y="13921"/>
                  <a:pt x="12570" y="13866"/>
                  <a:pt x="12565" y="13816"/>
                </a:cubicBezTo>
                <a:cubicBezTo>
                  <a:pt x="12560" y="13767"/>
                  <a:pt x="12556" y="13716"/>
                  <a:pt x="12556" y="13667"/>
                </a:cubicBezTo>
                <a:cubicBezTo>
                  <a:pt x="12556" y="13648"/>
                  <a:pt x="12558" y="13633"/>
                  <a:pt x="12559" y="13615"/>
                </a:cubicBezTo>
                <a:cubicBezTo>
                  <a:pt x="12578" y="13632"/>
                  <a:pt x="12598" y="13647"/>
                  <a:pt x="12616" y="13666"/>
                </a:cubicBezTo>
                <a:cubicBezTo>
                  <a:pt x="12641" y="13692"/>
                  <a:pt x="12663" y="13729"/>
                  <a:pt x="12677" y="13762"/>
                </a:cubicBezTo>
                <a:cubicBezTo>
                  <a:pt x="12695" y="13802"/>
                  <a:pt x="12704" y="13843"/>
                  <a:pt x="12718" y="13884"/>
                </a:cubicBezTo>
                <a:cubicBezTo>
                  <a:pt x="12730" y="13920"/>
                  <a:pt x="12736" y="13968"/>
                  <a:pt x="12776" y="13983"/>
                </a:cubicBezTo>
                <a:cubicBezTo>
                  <a:pt x="12848" y="14011"/>
                  <a:pt x="12904" y="13933"/>
                  <a:pt x="12896" y="13868"/>
                </a:cubicBezTo>
                <a:cubicBezTo>
                  <a:pt x="12892" y="13839"/>
                  <a:pt x="12875" y="13797"/>
                  <a:pt x="12848" y="13781"/>
                </a:cubicBezTo>
                <a:cubicBezTo>
                  <a:pt x="12826" y="13768"/>
                  <a:pt x="12825" y="13781"/>
                  <a:pt x="12808" y="13778"/>
                </a:cubicBezTo>
                <a:cubicBezTo>
                  <a:pt x="12804" y="13812"/>
                  <a:pt x="12799" y="13823"/>
                  <a:pt x="12828" y="13853"/>
                </a:cubicBezTo>
                <a:cubicBezTo>
                  <a:pt x="12859" y="13885"/>
                  <a:pt x="12919" y="13907"/>
                  <a:pt x="12960" y="13919"/>
                </a:cubicBezTo>
                <a:cubicBezTo>
                  <a:pt x="12987" y="13927"/>
                  <a:pt x="13014" y="13936"/>
                  <a:pt x="13041" y="13927"/>
                </a:cubicBezTo>
                <a:cubicBezTo>
                  <a:pt x="13069" y="13917"/>
                  <a:pt x="13093" y="13892"/>
                  <a:pt x="13115" y="13874"/>
                </a:cubicBezTo>
                <a:cubicBezTo>
                  <a:pt x="13142" y="13852"/>
                  <a:pt x="13186" y="13810"/>
                  <a:pt x="13224" y="13817"/>
                </a:cubicBezTo>
                <a:cubicBezTo>
                  <a:pt x="13271" y="13825"/>
                  <a:pt x="13290" y="13889"/>
                  <a:pt x="13308" y="13925"/>
                </a:cubicBezTo>
                <a:cubicBezTo>
                  <a:pt x="13320" y="13948"/>
                  <a:pt x="13331" y="13963"/>
                  <a:pt x="13346" y="1397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086440" y="4932360"/>
            <a:ext cx="206280" cy="108000"/>
          </a:xfrm>
          <a:custGeom>
            <a:avLst/>
            <a:gdLst/>
            <a:ahLst/>
            <a:rect l="l" t="t" r="r" b="b"/>
            <a:pathLst>
              <a:path w="575" h="302">
                <a:moveTo>
                  <a:pt x="14452" y="13701"/>
                </a:moveTo>
                <a:cubicBezTo>
                  <a:pt x="14448" y="13739"/>
                  <a:pt x="14436" y="13773"/>
                  <a:pt x="14430" y="13810"/>
                </a:cubicBezTo>
                <a:cubicBezTo>
                  <a:pt x="14423" y="13855"/>
                  <a:pt x="14420" y="13901"/>
                  <a:pt x="14419" y="13946"/>
                </a:cubicBezTo>
                <a:cubicBezTo>
                  <a:pt x="14419" y="13965"/>
                  <a:pt x="14421" y="13983"/>
                  <a:pt x="14422" y="14002"/>
                </a:cubicBezTo>
                <a:cubicBezTo>
                  <a:pt x="14415" y="13973"/>
                  <a:pt x="14405" y="13950"/>
                  <a:pt x="14384" y="13927"/>
                </a:cubicBezTo>
                <a:cubicBezTo>
                  <a:pt x="14351" y="13892"/>
                  <a:pt x="14308" y="13869"/>
                  <a:pt x="14262" y="13857"/>
                </a:cubicBezTo>
                <a:cubicBezTo>
                  <a:pt x="14222" y="13847"/>
                  <a:pt x="14171" y="13845"/>
                  <a:pt x="14138" y="13877"/>
                </a:cubicBezTo>
                <a:cubicBezTo>
                  <a:pt x="14108" y="13906"/>
                  <a:pt x="14137" y="13946"/>
                  <a:pt x="14164" y="13962"/>
                </a:cubicBezTo>
                <a:cubicBezTo>
                  <a:pt x="14221" y="13997"/>
                  <a:pt x="14293" y="13988"/>
                  <a:pt x="14355" y="13978"/>
                </a:cubicBezTo>
                <a:cubicBezTo>
                  <a:pt x="14424" y="13966"/>
                  <a:pt x="14503" y="13939"/>
                  <a:pt x="14565" y="13904"/>
                </a:cubicBezTo>
                <a:cubicBezTo>
                  <a:pt x="14605" y="13881"/>
                  <a:pt x="14643" y="13851"/>
                  <a:pt x="14683" y="13826"/>
                </a:cubicBezTo>
                <a:cubicBezTo>
                  <a:pt x="14689" y="13822"/>
                  <a:pt x="14695" y="13819"/>
                  <a:pt x="14701" y="1381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514840" y="4848120"/>
            <a:ext cx="544680" cy="196920"/>
          </a:xfrm>
          <a:custGeom>
            <a:avLst/>
            <a:gdLst/>
            <a:ahLst/>
            <a:rect l="l" t="t" r="r" b="b"/>
            <a:pathLst>
              <a:path w="1514" h="544">
                <a:moveTo>
                  <a:pt x="15480" y="13493"/>
                </a:moveTo>
                <a:cubicBezTo>
                  <a:pt x="15488" y="13481"/>
                  <a:pt x="15490" y="13477"/>
                  <a:pt x="15495" y="13469"/>
                </a:cubicBezTo>
                <a:cubicBezTo>
                  <a:pt x="15513" y="13508"/>
                  <a:pt x="15516" y="13542"/>
                  <a:pt x="15518" y="13585"/>
                </a:cubicBezTo>
                <a:cubicBezTo>
                  <a:pt x="15522" y="13699"/>
                  <a:pt x="15513" y="13810"/>
                  <a:pt x="15498" y="13922"/>
                </a:cubicBezTo>
                <a:cubicBezTo>
                  <a:pt x="15498" y="13925"/>
                  <a:pt x="15487" y="14018"/>
                  <a:pt x="15466" y="14012"/>
                </a:cubicBezTo>
                <a:cubicBezTo>
                  <a:pt x="15462" y="14007"/>
                  <a:pt x="15458" y="14001"/>
                  <a:pt x="15454" y="13996"/>
                </a:cubicBezTo>
              </a:path>
              <a:path w="1514" h="544">
                <a:moveTo>
                  <a:pt x="15328" y="13666"/>
                </a:moveTo>
                <a:cubicBezTo>
                  <a:pt x="15325" y="13658"/>
                  <a:pt x="15321" y="13651"/>
                  <a:pt x="15318" y="13643"/>
                </a:cubicBezTo>
                <a:cubicBezTo>
                  <a:pt x="15354" y="13646"/>
                  <a:pt x="15387" y="13650"/>
                  <a:pt x="15424" y="13649"/>
                </a:cubicBezTo>
                <a:cubicBezTo>
                  <a:pt x="15500" y="13647"/>
                  <a:pt x="15570" y="13623"/>
                  <a:pt x="15640" y="13595"/>
                </a:cubicBezTo>
                <a:cubicBezTo>
                  <a:pt x="15678" y="13580"/>
                  <a:pt x="15725" y="13548"/>
                  <a:pt x="15768" y="13552"/>
                </a:cubicBezTo>
                <a:cubicBezTo>
                  <a:pt x="15808" y="13556"/>
                  <a:pt x="15812" y="13611"/>
                  <a:pt x="15817" y="13640"/>
                </a:cubicBezTo>
                <a:cubicBezTo>
                  <a:pt x="15826" y="13701"/>
                  <a:pt x="15829" y="13763"/>
                  <a:pt x="15840" y="13823"/>
                </a:cubicBezTo>
                <a:cubicBezTo>
                  <a:pt x="15844" y="13847"/>
                  <a:pt x="15851" y="13914"/>
                  <a:pt x="15882" y="13925"/>
                </a:cubicBezTo>
                <a:cubicBezTo>
                  <a:pt x="15912" y="13936"/>
                  <a:pt x="15940" y="13894"/>
                  <a:pt x="15956" y="13877"/>
                </a:cubicBezTo>
                <a:cubicBezTo>
                  <a:pt x="15983" y="13848"/>
                  <a:pt x="16006" y="13816"/>
                  <a:pt x="16036" y="13790"/>
                </a:cubicBezTo>
                <a:cubicBezTo>
                  <a:pt x="16049" y="13780"/>
                  <a:pt x="16053" y="13777"/>
                  <a:pt x="16061" y="13769"/>
                </a:cubicBezTo>
                <a:cubicBezTo>
                  <a:pt x="16059" y="13800"/>
                  <a:pt x="16056" y="13828"/>
                  <a:pt x="16044" y="13860"/>
                </a:cubicBezTo>
                <a:cubicBezTo>
                  <a:pt x="16032" y="13892"/>
                  <a:pt x="16043" y="13895"/>
                  <a:pt x="16047" y="13907"/>
                </a:cubicBezTo>
              </a:path>
              <a:path w="1514" h="544">
                <a:moveTo>
                  <a:pt x="16244" y="13731"/>
                </a:moveTo>
                <a:cubicBezTo>
                  <a:pt x="16260" y="13705"/>
                  <a:pt x="16255" y="13751"/>
                  <a:pt x="16257" y="13768"/>
                </a:cubicBezTo>
                <a:cubicBezTo>
                  <a:pt x="16261" y="13806"/>
                  <a:pt x="16264" y="13845"/>
                  <a:pt x="16272" y="13883"/>
                </a:cubicBezTo>
                <a:cubicBezTo>
                  <a:pt x="16279" y="13916"/>
                  <a:pt x="16292" y="13967"/>
                  <a:pt x="16333" y="13965"/>
                </a:cubicBezTo>
                <a:cubicBezTo>
                  <a:pt x="16366" y="13964"/>
                  <a:pt x="16392" y="13933"/>
                  <a:pt x="16410" y="13908"/>
                </a:cubicBezTo>
                <a:cubicBezTo>
                  <a:pt x="16434" y="13875"/>
                  <a:pt x="16453" y="13834"/>
                  <a:pt x="16458" y="13793"/>
                </a:cubicBezTo>
                <a:cubicBezTo>
                  <a:pt x="16462" y="13761"/>
                  <a:pt x="16458" y="13735"/>
                  <a:pt x="16445" y="13707"/>
                </a:cubicBezTo>
                <a:cubicBezTo>
                  <a:pt x="16443" y="13702"/>
                  <a:pt x="16440" y="13696"/>
                  <a:pt x="16438" y="13691"/>
                </a:cubicBezTo>
                <a:cubicBezTo>
                  <a:pt x="16425" y="13720"/>
                  <a:pt x="16418" y="13746"/>
                  <a:pt x="16424" y="13778"/>
                </a:cubicBezTo>
                <a:cubicBezTo>
                  <a:pt x="16430" y="13809"/>
                  <a:pt x="16444" y="13837"/>
                  <a:pt x="16469" y="13857"/>
                </a:cubicBezTo>
                <a:cubicBezTo>
                  <a:pt x="16495" y="13878"/>
                  <a:pt x="16524" y="13880"/>
                  <a:pt x="16557" y="13877"/>
                </a:cubicBezTo>
                <a:cubicBezTo>
                  <a:pt x="16582" y="13873"/>
                  <a:pt x="16592" y="13871"/>
                  <a:pt x="16608" y="13864"/>
                </a:cubicBezTo>
              </a:path>
              <a:path w="1514" h="544">
                <a:moveTo>
                  <a:pt x="16807" y="13659"/>
                </a:moveTo>
                <a:cubicBezTo>
                  <a:pt x="16807" y="13647"/>
                  <a:pt x="16807" y="13644"/>
                  <a:pt x="16807" y="13636"/>
                </a:cubicBezTo>
                <a:cubicBezTo>
                  <a:pt x="16783" y="13636"/>
                  <a:pt x="16762" y="13644"/>
                  <a:pt x="16739" y="13654"/>
                </a:cubicBezTo>
                <a:cubicBezTo>
                  <a:pt x="16721" y="13662"/>
                  <a:pt x="16692" y="13671"/>
                  <a:pt x="16688" y="13694"/>
                </a:cubicBezTo>
                <a:cubicBezTo>
                  <a:pt x="16683" y="13721"/>
                  <a:pt x="16710" y="13740"/>
                  <a:pt x="16725" y="13756"/>
                </a:cubicBezTo>
                <a:cubicBezTo>
                  <a:pt x="16752" y="13786"/>
                  <a:pt x="16785" y="13813"/>
                  <a:pt x="16807" y="13846"/>
                </a:cubicBezTo>
                <a:cubicBezTo>
                  <a:pt x="16824" y="13871"/>
                  <a:pt x="16837" y="13905"/>
                  <a:pt x="16827" y="13935"/>
                </a:cubicBezTo>
                <a:cubicBezTo>
                  <a:pt x="16818" y="13961"/>
                  <a:pt x="16797" y="13974"/>
                  <a:pt x="16774" y="13983"/>
                </a:cubicBezTo>
                <a:cubicBezTo>
                  <a:pt x="16758" y="13990"/>
                  <a:pt x="16737" y="13993"/>
                  <a:pt x="16723" y="13978"/>
                </a:cubicBezTo>
                <a:cubicBezTo>
                  <a:pt x="16720" y="13974"/>
                  <a:pt x="16718" y="13969"/>
                  <a:pt x="16715" y="1396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467400" y="4754520"/>
            <a:ext cx="187560" cy="384120"/>
          </a:xfrm>
          <a:custGeom>
            <a:avLst/>
            <a:gdLst/>
            <a:ahLst/>
            <a:rect l="l" t="t" r="r" b="b"/>
            <a:pathLst>
              <a:path w="521" h="1069">
                <a:moveTo>
                  <a:pt x="18128" y="13352"/>
                </a:moveTo>
                <a:cubicBezTo>
                  <a:pt x="18129" y="13346"/>
                  <a:pt x="18129" y="13341"/>
                  <a:pt x="18130" y="13335"/>
                </a:cubicBezTo>
                <a:cubicBezTo>
                  <a:pt x="18134" y="13368"/>
                  <a:pt x="18134" y="13399"/>
                  <a:pt x="18128" y="13436"/>
                </a:cubicBezTo>
                <a:cubicBezTo>
                  <a:pt x="18117" y="13504"/>
                  <a:pt x="18101" y="13570"/>
                  <a:pt x="18096" y="13639"/>
                </a:cubicBezTo>
                <a:cubicBezTo>
                  <a:pt x="18091" y="13702"/>
                  <a:pt x="18094" y="13770"/>
                  <a:pt x="18120" y="13829"/>
                </a:cubicBezTo>
                <a:cubicBezTo>
                  <a:pt x="18142" y="13877"/>
                  <a:pt x="18178" y="13908"/>
                  <a:pt x="18229" y="13922"/>
                </a:cubicBezTo>
                <a:cubicBezTo>
                  <a:pt x="18273" y="13934"/>
                  <a:pt x="18327" y="13927"/>
                  <a:pt x="18368" y="13908"/>
                </a:cubicBezTo>
                <a:cubicBezTo>
                  <a:pt x="18408" y="13890"/>
                  <a:pt x="18438" y="13870"/>
                  <a:pt x="18457" y="13830"/>
                </a:cubicBezTo>
                <a:cubicBezTo>
                  <a:pt x="18470" y="13802"/>
                  <a:pt x="18465" y="13788"/>
                  <a:pt x="18460" y="13759"/>
                </a:cubicBezTo>
              </a:path>
              <a:path w="521" h="1069">
                <a:moveTo>
                  <a:pt x="18164" y="13686"/>
                </a:moveTo>
                <a:cubicBezTo>
                  <a:pt x="18148" y="13684"/>
                  <a:pt x="18143" y="13683"/>
                  <a:pt x="18133" y="13681"/>
                </a:cubicBezTo>
                <a:cubicBezTo>
                  <a:pt x="18164" y="13661"/>
                  <a:pt x="18196" y="13644"/>
                  <a:pt x="18230" y="13630"/>
                </a:cubicBezTo>
                <a:cubicBezTo>
                  <a:pt x="18288" y="13606"/>
                  <a:pt x="18343" y="13583"/>
                  <a:pt x="18399" y="13555"/>
                </a:cubicBezTo>
                <a:cubicBezTo>
                  <a:pt x="18434" y="13537"/>
                  <a:pt x="18455" y="13526"/>
                  <a:pt x="18481" y="13498"/>
                </a:cubicBezTo>
              </a:path>
              <a:path w="521" h="1069">
                <a:moveTo>
                  <a:pt x="18083" y="13391"/>
                </a:moveTo>
                <a:cubicBezTo>
                  <a:pt x="18069" y="13388"/>
                  <a:pt x="18064" y="13387"/>
                  <a:pt x="18055" y="13385"/>
                </a:cubicBezTo>
                <a:cubicBezTo>
                  <a:pt x="18085" y="13355"/>
                  <a:pt x="18116" y="13341"/>
                  <a:pt x="18155" y="13323"/>
                </a:cubicBezTo>
                <a:cubicBezTo>
                  <a:pt x="18229" y="13288"/>
                  <a:pt x="18307" y="13266"/>
                  <a:pt x="18384" y="13240"/>
                </a:cubicBezTo>
                <a:cubicBezTo>
                  <a:pt x="18436" y="13223"/>
                  <a:pt x="18451" y="13218"/>
                  <a:pt x="18484" y="13206"/>
                </a:cubicBezTo>
              </a:path>
              <a:path w="521" h="1069">
                <a:moveTo>
                  <a:pt x="17964" y="14231"/>
                </a:moveTo>
                <a:cubicBezTo>
                  <a:pt x="17970" y="14252"/>
                  <a:pt x="17969" y="14268"/>
                  <a:pt x="17995" y="14270"/>
                </a:cubicBezTo>
                <a:cubicBezTo>
                  <a:pt x="18028" y="14272"/>
                  <a:pt x="18064" y="14257"/>
                  <a:pt x="18094" y="14247"/>
                </a:cubicBezTo>
                <a:cubicBezTo>
                  <a:pt x="18129" y="14236"/>
                  <a:pt x="18165" y="14217"/>
                  <a:pt x="18202" y="14212"/>
                </a:cubicBezTo>
                <a:cubicBezTo>
                  <a:pt x="18230" y="14208"/>
                  <a:pt x="18235" y="14221"/>
                  <a:pt x="18246" y="14243"/>
                </a:cubicBezTo>
                <a:cubicBezTo>
                  <a:pt x="18258" y="14267"/>
                  <a:pt x="18262" y="14277"/>
                  <a:pt x="18294" y="14274"/>
                </a:cubicBezTo>
                <a:cubicBezTo>
                  <a:pt x="18337" y="14269"/>
                  <a:pt x="18377" y="14237"/>
                  <a:pt x="18409" y="14210"/>
                </a:cubicBezTo>
                <a:cubicBezTo>
                  <a:pt x="18435" y="14185"/>
                  <a:pt x="18443" y="14178"/>
                  <a:pt x="18457" y="1415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04080" y="4732200"/>
            <a:ext cx="666720" cy="378000"/>
          </a:xfrm>
          <a:custGeom>
            <a:avLst/>
            <a:gdLst/>
            <a:ahLst/>
            <a:rect l="l" t="t" r="r" b="b"/>
            <a:pathLst>
              <a:path w="1856" h="1051">
                <a:moveTo>
                  <a:pt x="19553" y="13263"/>
                </a:moveTo>
                <a:cubicBezTo>
                  <a:pt x="19530" y="13239"/>
                  <a:pt x="19513" y="13227"/>
                  <a:pt x="19478" y="13230"/>
                </a:cubicBezTo>
                <a:cubicBezTo>
                  <a:pt x="19429" y="13235"/>
                  <a:pt x="19399" y="13267"/>
                  <a:pt x="19372" y="13304"/>
                </a:cubicBezTo>
                <a:cubicBezTo>
                  <a:pt x="19330" y="13362"/>
                  <a:pt x="19313" y="13433"/>
                  <a:pt x="19304" y="13503"/>
                </a:cubicBezTo>
                <a:cubicBezTo>
                  <a:pt x="19294" y="13581"/>
                  <a:pt x="19298" y="13664"/>
                  <a:pt x="19308" y="13742"/>
                </a:cubicBezTo>
                <a:cubicBezTo>
                  <a:pt x="19315" y="13799"/>
                  <a:pt x="19326" y="13858"/>
                  <a:pt x="19342" y="13914"/>
                </a:cubicBezTo>
                <a:cubicBezTo>
                  <a:pt x="19352" y="13951"/>
                  <a:pt x="19352" y="13975"/>
                  <a:pt x="19351" y="13976"/>
                </a:cubicBezTo>
              </a:path>
              <a:path w="1856" h="1051">
                <a:moveTo>
                  <a:pt x="19180" y="13796"/>
                </a:moveTo>
                <a:cubicBezTo>
                  <a:pt x="19177" y="13776"/>
                  <a:pt x="19178" y="13753"/>
                  <a:pt x="19203" y="13744"/>
                </a:cubicBezTo>
                <a:cubicBezTo>
                  <a:pt x="19242" y="13730"/>
                  <a:pt x="19294" y="13731"/>
                  <a:pt x="19335" y="13732"/>
                </a:cubicBezTo>
                <a:cubicBezTo>
                  <a:pt x="19390" y="13733"/>
                  <a:pt x="19441" y="13742"/>
                  <a:pt x="19494" y="13754"/>
                </a:cubicBezTo>
                <a:cubicBezTo>
                  <a:pt x="19535" y="13764"/>
                  <a:pt x="19576" y="13778"/>
                  <a:pt x="19603" y="13813"/>
                </a:cubicBezTo>
                <a:cubicBezTo>
                  <a:pt x="19628" y="13846"/>
                  <a:pt x="19630" y="13888"/>
                  <a:pt x="19627" y="13928"/>
                </a:cubicBezTo>
                <a:cubicBezTo>
                  <a:pt x="19625" y="13958"/>
                  <a:pt x="19615" y="13993"/>
                  <a:pt x="19599" y="14019"/>
                </a:cubicBezTo>
                <a:cubicBezTo>
                  <a:pt x="19596" y="14023"/>
                  <a:pt x="19592" y="14027"/>
                  <a:pt x="19589" y="14031"/>
                </a:cubicBezTo>
                <a:cubicBezTo>
                  <a:pt x="19598" y="13991"/>
                  <a:pt x="19612" y="13952"/>
                  <a:pt x="19619" y="13912"/>
                </a:cubicBezTo>
                <a:cubicBezTo>
                  <a:pt x="19629" y="13855"/>
                  <a:pt x="19625" y="13796"/>
                  <a:pt x="19623" y="13739"/>
                </a:cubicBezTo>
              </a:path>
              <a:path w="1856" h="1051">
                <a:moveTo>
                  <a:pt x="19712" y="13673"/>
                </a:moveTo>
                <a:cubicBezTo>
                  <a:pt x="19727" y="13696"/>
                  <a:pt x="19743" y="13719"/>
                  <a:pt x="19760" y="13742"/>
                </a:cubicBezTo>
                <a:cubicBezTo>
                  <a:pt x="19777" y="13766"/>
                  <a:pt x="19801" y="13786"/>
                  <a:pt x="19831" y="13790"/>
                </a:cubicBezTo>
                <a:cubicBezTo>
                  <a:pt x="19878" y="13796"/>
                  <a:pt x="19929" y="13756"/>
                  <a:pt x="19959" y="13724"/>
                </a:cubicBezTo>
                <a:cubicBezTo>
                  <a:pt x="19987" y="13694"/>
                  <a:pt x="20022" y="13635"/>
                  <a:pt x="20000" y="13593"/>
                </a:cubicBezTo>
                <a:cubicBezTo>
                  <a:pt x="19981" y="13558"/>
                  <a:pt x="19929" y="13577"/>
                  <a:pt x="19905" y="13591"/>
                </a:cubicBezTo>
                <a:cubicBezTo>
                  <a:pt x="19849" y="13623"/>
                  <a:pt x="19810" y="13674"/>
                  <a:pt x="19790" y="13734"/>
                </a:cubicBezTo>
                <a:cubicBezTo>
                  <a:pt x="19772" y="13788"/>
                  <a:pt x="19775" y="13848"/>
                  <a:pt x="19816" y="13890"/>
                </a:cubicBezTo>
                <a:cubicBezTo>
                  <a:pt x="19854" y="13929"/>
                  <a:pt x="19913" y="13927"/>
                  <a:pt x="19962" y="13918"/>
                </a:cubicBezTo>
                <a:cubicBezTo>
                  <a:pt x="20017" y="13908"/>
                  <a:pt x="20067" y="13871"/>
                  <a:pt x="20101" y="13827"/>
                </a:cubicBezTo>
                <a:cubicBezTo>
                  <a:pt x="20124" y="13789"/>
                  <a:pt x="20131" y="13776"/>
                  <a:pt x="20143" y="13748"/>
                </a:cubicBezTo>
              </a:path>
              <a:path w="1856" h="1051">
                <a:moveTo>
                  <a:pt x="20164" y="13240"/>
                </a:moveTo>
                <a:cubicBezTo>
                  <a:pt x="20148" y="13197"/>
                  <a:pt x="20150" y="13245"/>
                  <a:pt x="20147" y="13267"/>
                </a:cubicBezTo>
                <a:cubicBezTo>
                  <a:pt x="20139" y="13330"/>
                  <a:pt x="20140" y="13397"/>
                  <a:pt x="20147" y="13460"/>
                </a:cubicBezTo>
                <a:cubicBezTo>
                  <a:pt x="20155" y="13533"/>
                  <a:pt x="20165" y="13609"/>
                  <a:pt x="20190" y="13678"/>
                </a:cubicBezTo>
                <a:cubicBezTo>
                  <a:pt x="20208" y="13730"/>
                  <a:pt x="20231" y="13758"/>
                  <a:pt x="20276" y="13785"/>
                </a:cubicBezTo>
              </a:path>
              <a:path w="1856" h="1051">
                <a:moveTo>
                  <a:pt x="20479" y="13598"/>
                </a:moveTo>
                <a:cubicBezTo>
                  <a:pt x="20457" y="13572"/>
                  <a:pt x="20444" y="13565"/>
                  <a:pt x="20411" y="13585"/>
                </a:cubicBezTo>
                <a:cubicBezTo>
                  <a:pt x="20376" y="13607"/>
                  <a:pt x="20345" y="13657"/>
                  <a:pt x="20336" y="13698"/>
                </a:cubicBezTo>
                <a:cubicBezTo>
                  <a:pt x="20329" y="13730"/>
                  <a:pt x="20338" y="13744"/>
                  <a:pt x="20354" y="13768"/>
                </a:cubicBezTo>
                <a:cubicBezTo>
                  <a:pt x="20405" y="13780"/>
                  <a:pt x="20444" y="13767"/>
                  <a:pt x="20491" y="13737"/>
                </a:cubicBezTo>
                <a:cubicBezTo>
                  <a:pt x="20573" y="13684"/>
                  <a:pt x="20627" y="13598"/>
                  <a:pt x="20656" y="13507"/>
                </a:cubicBezTo>
                <a:cubicBezTo>
                  <a:pt x="20681" y="13428"/>
                  <a:pt x="20687" y="13339"/>
                  <a:pt x="20672" y="13257"/>
                </a:cubicBezTo>
                <a:cubicBezTo>
                  <a:pt x="20663" y="13206"/>
                  <a:pt x="20648" y="13167"/>
                  <a:pt x="20603" y="13145"/>
                </a:cubicBezTo>
                <a:cubicBezTo>
                  <a:pt x="20562" y="13183"/>
                  <a:pt x="20555" y="13224"/>
                  <a:pt x="20552" y="13281"/>
                </a:cubicBezTo>
                <a:cubicBezTo>
                  <a:pt x="20548" y="13372"/>
                  <a:pt x="20561" y="13466"/>
                  <a:pt x="20584" y="13554"/>
                </a:cubicBezTo>
                <a:cubicBezTo>
                  <a:pt x="20604" y="13632"/>
                  <a:pt x="20636" y="13700"/>
                  <a:pt x="20676" y="13769"/>
                </a:cubicBezTo>
              </a:path>
              <a:path w="1856" h="1051">
                <a:moveTo>
                  <a:pt x="21019" y="13820"/>
                </a:moveTo>
                <a:cubicBezTo>
                  <a:pt x="21031" y="13848"/>
                  <a:pt x="21035" y="13878"/>
                  <a:pt x="21029" y="13910"/>
                </a:cubicBezTo>
                <a:cubicBezTo>
                  <a:pt x="21019" y="13959"/>
                  <a:pt x="21001" y="14008"/>
                  <a:pt x="20978" y="14053"/>
                </a:cubicBezTo>
                <a:cubicBezTo>
                  <a:pt x="20957" y="14094"/>
                  <a:pt x="20932" y="14137"/>
                  <a:pt x="20899" y="14169"/>
                </a:cubicBezTo>
                <a:cubicBezTo>
                  <a:pt x="20882" y="14185"/>
                  <a:pt x="20876" y="14191"/>
                  <a:pt x="20856" y="1419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123920" y="5700600"/>
            <a:ext cx="730440" cy="174600"/>
          </a:xfrm>
          <a:custGeom>
            <a:avLst/>
            <a:gdLst/>
            <a:ahLst/>
            <a:rect l="l" t="t" r="r" b="b"/>
            <a:pathLst>
              <a:path w="2025" h="488">
                <a:moveTo>
                  <a:pt x="3341" y="15944"/>
                </a:moveTo>
                <a:cubicBezTo>
                  <a:pt x="3346" y="15930"/>
                  <a:pt x="3353" y="15912"/>
                  <a:pt x="3347" y="15897"/>
                </a:cubicBezTo>
                <a:cubicBezTo>
                  <a:pt x="3340" y="15880"/>
                  <a:pt x="3326" y="15864"/>
                  <a:pt x="3307" y="15860"/>
                </a:cubicBezTo>
                <a:cubicBezTo>
                  <a:pt x="3277" y="15853"/>
                  <a:pt x="3252" y="15866"/>
                  <a:pt x="3228" y="15882"/>
                </a:cubicBezTo>
                <a:cubicBezTo>
                  <a:pt x="3191" y="15907"/>
                  <a:pt x="3164" y="15943"/>
                  <a:pt x="3146" y="15984"/>
                </a:cubicBezTo>
                <a:cubicBezTo>
                  <a:pt x="3128" y="16024"/>
                  <a:pt x="3117" y="16073"/>
                  <a:pt x="3128" y="16117"/>
                </a:cubicBezTo>
                <a:cubicBezTo>
                  <a:pt x="3138" y="16157"/>
                  <a:pt x="3168" y="16182"/>
                  <a:pt x="3208" y="16188"/>
                </a:cubicBezTo>
                <a:cubicBezTo>
                  <a:pt x="3242" y="16189"/>
                  <a:pt x="3254" y="16189"/>
                  <a:pt x="3276" y="16184"/>
                </a:cubicBezTo>
              </a:path>
              <a:path w="2025" h="488">
                <a:moveTo>
                  <a:pt x="3622" y="15970"/>
                </a:moveTo>
                <a:cubicBezTo>
                  <a:pt x="3597" y="15984"/>
                  <a:pt x="3574" y="15996"/>
                  <a:pt x="3552" y="16015"/>
                </a:cubicBezTo>
                <a:cubicBezTo>
                  <a:pt x="3522" y="16042"/>
                  <a:pt x="3499" y="16076"/>
                  <a:pt x="3486" y="16114"/>
                </a:cubicBezTo>
                <a:cubicBezTo>
                  <a:pt x="3477" y="16139"/>
                  <a:pt x="3467" y="16176"/>
                  <a:pt x="3490" y="16197"/>
                </a:cubicBezTo>
                <a:cubicBezTo>
                  <a:pt x="3508" y="16214"/>
                  <a:pt x="3547" y="16190"/>
                  <a:pt x="3562" y="16180"/>
                </a:cubicBezTo>
                <a:cubicBezTo>
                  <a:pt x="3589" y="16162"/>
                  <a:pt x="3617" y="16140"/>
                  <a:pt x="3632" y="16111"/>
                </a:cubicBezTo>
                <a:cubicBezTo>
                  <a:pt x="3643" y="16090"/>
                  <a:pt x="3640" y="16071"/>
                  <a:pt x="3636" y="16049"/>
                </a:cubicBezTo>
                <a:cubicBezTo>
                  <a:pt x="3608" y="16049"/>
                  <a:pt x="3604" y="16055"/>
                  <a:pt x="3602" y="16086"/>
                </a:cubicBezTo>
                <a:cubicBezTo>
                  <a:pt x="3600" y="16118"/>
                  <a:pt x="3610" y="16153"/>
                  <a:pt x="3625" y="16181"/>
                </a:cubicBezTo>
                <a:cubicBezTo>
                  <a:pt x="3642" y="16212"/>
                  <a:pt x="3668" y="16238"/>
                  <a:pt x="3701" y="16253"/>
                </a:cubicBezTo>
                <a:cubicBezTo>
                  <a:pt x="3733" y="16267"/>
                  <a:pt x="3759" y="16254"/>
                  <a:pt x="3788" y="16240"/>
                </a:cubicBezTo>
              </a:path>
              <a:path w="2025" h="488">
                <a:moveTo>
                  <a:pt x="3867" y="15931"/>
                </a:moveTo>
                <a:cubicBezTo>
                  <a:pt x="3862" y="15960"/>
                  <a:pt x="3861" y="15983"/>
                  <a:pt x="3863" y="16012"/>
                </a:cubicBezTo>
                <a:cubicBezTo>
                  <a:pt x="3866" y="16056"/>
                  <a:pt x="3877" y="16094"/>
                  <a:pt x="3897" y="16133"/>
                </a:cubicBezTo>
                <a:cubicBezTo>
                  <a:pt x="3911" y="16161"/>
                  <a:pt x="3930" y="16193"/>
                  <a:pt x="3965" y="16197"/>
                </a:cubicBezTo>
                <a:cubicBezTo>
                  <a:pt x="3991" y="16200"/>
                  <a:pt x="4014" y="16178"/>
                  <a:pt x="4027" y="16157"/>
                </a:cubicBezTo>
                <a:cubicBezTo>
                  <a:pt x="4044" y="16129"/>
                  <a:pt x="4045" y="16096"/>
                  <a:pt x="4053" y="16066"/>
                </a:cubicBezTo>
                <a:cubicBezTo>
                  <a:pt x="4060" y="16039"/>
                  <a:pt x="4068" y="16009"/>
                  <a:pt x="4081" y="15985"/>
                </a:cubicBezTo>
                <a:cubicBezTo>
                  <a:pt x="4085" y="15978"/>
                  <a:pt x="4090" y="15972"/>
                  <a:pt x="4094" y="15965"/>
                </a:cubicBezTo>
              </a:path>
              <a:path w="2025" h="488">
                <a:moveTo>
                  <a:pt x="4249" y="15889"/>
                </a:moveTo>
                <a:cubicBezTo>
                  <a:pt x="4270" y="15893"/>
                  <a:pt x="4253" y="15916"/>
                  <a:pt x="4244" y="15937"/>
                </a:cubicBezTo>
                <a:cubicBezTo>
                  <a:pt x="4234" y="15961"/>
                  <a:pt x="4210" y="15985"/>
                  <a:pt x="4206" y="16011"/>
                </a:cubicBezTo>
                <a:cubicBezTo>
                  <a:pt x="4202" y="16038"/>
                  <a:pt x="4228" y="16049"/>
                  <a:pt x="4246" y="16060"/>
                </a:cubicBezTo>
                <a:cubicBezTo>
                  <a:pt x="4278" y="16079"/>
                  <a:pt x="4315" y="16091"/>
                  <a:pt x="4345" y="16114"/>
                </a:cubicBezTo>
                <a:cubicBezTo>
                  <a:pt x="4373" y="16135"/>
                  <a:pt x="4392" y="16170"/>
                  <a:pt x="4398" y="16204"/>
                </a:cubicBezTo>
                <a:cubicBezTo>
                  <a:pt x="4403" y="16234"/>
                  <a:pt x="4400" y="16261"/>
                  <a:pt x="4385" y="16287"/>
                </a:cubicBezTo>
                <a:cubicBezTo>
                  <a:pt x="4374" y="16307"/>
                  <a:pt x="4352" y="16324"/>
                  <a:pt x="4327" y="16321"/>
                </a:cubicBezTo>
                <a:cubicBezTo>
                  <a:pt x="4305" y="16318"/>
                  <a:pt x="4271" y="16303"/>
                  <a:pt x="4256" y="16286"/>
                </a:cubicBezTo>
                <a:cubicBezTo>
                  <a:pt x="4234" y="16261"/>
                  <a:pt x="4227" y="16229"/>
                  <a:pt x="4222" y="16197"/>
                </a:cubicBezTo>
              </a:path>
              <a:path w="2025" h="488">
                <a:moveTo>
                  <a:pt x="4529" y="15997"/>
                </a:moveTo>
                <a:cubicBezTo>
                  <a:pt x="4555" y="16002"/>
                  <a:pt x="4581" y="16013"/>
                  <a:pt x="4607" y="16011"/>
                </a:cubicBezTo>
                <a:cubicBezTo>
                  <a:pt x="4634" y="16009"/>
                  <a:pt x="4654" y="15990"/>
                  <a:pt x="4667" y="15968"/>
                </a:cubicBezTo>
                <a:cubicBezTo>
                  <a:pt x="4679" y="15949"/>
                  <a:pt x="4686" y="15926"/>
                  <a:pt x="4681" y="15904"/>
                </a:cubicBezTo>
                <a:cubicBezTo>
                  <a:pt x="4680" y="15900"/>
                  <a:pt x="4678" y="15896"/>
                  <a:pt x="4677" y="15892"/>
                </a:cubicBezTo>
                <a:cubicBezTo>
                  <a:pt x="4641" y="15903"/>
                  <a:pt x="4618" y="15926"/>
                  <a:pt x="4603" y="15961"/>
                </a:cubicBezTo>
                <a:cubicBezTo>
                  <a:pt x="4587" y="15998"/>
                  <a:pt x="4577" y="16046"/>
                  <a:pt x="4593" y="16085"/>
                </a:cubicBezTo>
                <a:cubicBezTo>
                  <a:pt x="4609" y="16124"/>
                  <a:pt x="4645" y="16151"/>
                  <a:pt x="4684" y="16161"/>
                </a:cubicBezTo>
                <a:cubicBezTo>
                  <a:pt x="4716" y="16167"/>
                  <a:pt x="4725" y="16169"/>
                  <a:pt x="4746" y="16165"/>
                </a:cubicBezTo>
              </a:path>
              <a:path w="2025" h="488">
                <a:moveTo>
                  <a:pt x="5146" y="15848"/>
                </a:moveTo>
                <a:cubicBezTo>
                  <a:pt x="5142" y="15822"/>
                  <a:pt x="5124" y="15837"/>
                  <a:pt x="5099" y="15846"/>
                </a:cubicBezTo>
                <a:cubicBezTo>
                  <a:pt x="5059" y="15861"/>
                  <a:pt x="5027" y="15885"/>
                  <a:pt x="4993" y="15910"/>
                </a:cubicBezTo>
                <a:cubicBezTo>
                  <a:pt x="4973" y="15925"/>
                  <a:pt x="4935" y="15949"/>
                  <a:pt x="4942" y="15980"/>
                </a:cubicBezTo>
                <a:cubicBezTo>
                  <a:pt x="4949" y="16008"/>
                  <a:pt x="4994" y="16016"/>
                  <a:pt x="5014" y="16026"/>
                </a:cubicBezTo>
                <a:cubicBezTo>
                  <a:pt x="5049" y="16042"/>
                  <a:pt x="5087" y="16061"/>
                  <a:pt x="5109" y="16094"/>
                </a:cubicBezTo>
                <a:cubicBezTo>
                  <a:pt x="5129" y="16125"/>
                  <a:pt x="5132" y="16155"/>
                  <a:pt x="5119" y="16189"/>
                </a:cubicBezTo>
                <a:cubicBezTo>
                  <a:pt x="5113" y="16204"/>
                  <a:pt x="5090" y="16241"/>
                  <a:pt x="5072" y="16245"/>
                </a:cubicBezTo>
                <a:cubicBezTo>
                  <a:pt x="5054" y="16249"/>
                  <a:pt x="5040" y="16234"/>
                  <a:pt x="5028" y="162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78080" y="5508720"/>
            <a:ext cx="596880" cy="280800"/>
          </a:xfrm>
          <a:custGeom>
            <a:avLst/>
            <a:gdLst/>
            <a:ahLst/>
            <a:rect l="l" t="t" r="r" b="b"/>
            <a:pathLst>
              <a:path w="1658" h="781">
                <a:moveTo>
                  <a:pt x="6383" y="15614"/>
                </a:moveTo>
                <a:cubicBezTo>
                  <a:pt x="6372" y="15643"/>
                  <a:pt x="6363" y="15675"/>
                  <a:pt x="6358" y="15706"/>
                </a:cubicBezTo>
                <a:cubicBezTo>
                  <a:pt x="6349" y="15764"/>
                  <a:pt x="6341" y="15824"/>
                  <a:pt x="6341" y="15882"/>
                </a:cubicBezTo>
                <a:cubicBezTo>
                  <a:pt x="6341" y="15935"/>
                  <a:pt x="6341" y="15995"/>
                  <a:pt x="6371" y="16041"/>
                </a:cubicBezTo>
                <a:cubicBezTo>
                  <a:pt x="6398" y="16082"/>
                  <a:pt x="6451" y="16088"/>
                  <a:pt x="6496" y="16082"/>
                </a:cubicBezTo>
                <a:cubicBezTo>
                  <a:pt x="6582" y="16071"/>
                  <a:pt x="6686" y="16034"/>
                  <a:pt x="6755" y="15981"/>
                </a:cubicBezTo>
                <a:cubicBezTo>
                  <a:pt x="6790" y="15954"/>
                  <a:pt x="6788" y="15956"/>
                  <a:pt x="6754" y="15929"/>
                </a:cubicBezTo>
              </a:path>
              <a:path w="1658" h="781">
                <a:moveTo>
                  <a:pt x="6436" y="15859"/>
                </a:moveTo>
                <a:cubicBezTo>
                  <a:pt x="6426" y="15859"/>
                  <a:pt x="6422" y="15859"/>
                  <a:pt x="6415" y="15859"/>
                </a:cubicBezTo>
                <a:cubicBezTo>
                  <a:pt x="6457" y="15851"/>
                  <a:pt x="6499" y="15838"/>
                  <a:pt x="6540" y="15825"/>
                </a:cubicBezTo>
                <a:cubicBezTo>
                  <a:pt x="6583" y="15812"/>
                  <a:pt x="6627" y="15796"/>
                  <a:pt x="6668" y="15777"/>
                </a:cubicBezTo>
                <a:cubicBezTo>
                  <a:pt x="6691" y="15767"/>
                  <a:pt x="6693" y="15762"/>
                  <a:pt x="6700" y="15741"/>
                </a:cubicBezTo>
              </a:path>
              <a:path w="1658" h="781">
                <a:moveTo>
                  <a:pt x="6361" y="15611"/>
                </a:moveTo>
                <a:cubicBezTo>
                  <a:pt x="6338" y="15598"/>
                  <a:pt x="6314" y="15592"/>
                  <a:pt x="6333" y="15561"/>
                </a:cubicBezTo>
                <a:cubicBezTo>
                  <a:pt x="6355" y="15526"/>
                  <a:pt x="6393" y="15511"/>
                  <a:pt x="6427" y="15492"/>
                </a:cubicBezTo>
                <a:cubicBezTo>
                  <a:pt x="6474" y="15465"/>
                  <a:pt x="6527" y="15441"/>
                  <a:pt x="6581" y="15428"/>
                </a:cubicBezTo>
                <a:cubicBezTo>
                  <a:pt x="6619" y="15422"/>
                  <a:pt x="6630" y="15421"/>
                  <a:pt x="6655" y="15417"/>
                </a:cubicBezTo>
              </a:path>
              <a:path w="1658" h="781">
                <a:moveTo>
                  <a:pt x="6988" y="15601"/>
                </a:moveTo>
                <a:cubicBezTo>
                  <a:pt x="7019" y="15635"/>
                  <a:pt x="7048" y="15670"/>
                  <a:pt x="7076" y="15707"/>
                </a:cubicBezTo>
                <a:cubicBezTo>
                  <a:pt x="7107" y="15747"/>
                  <a:pt x="7138" y="15788"/>
                  <a:pt x="7171" y="15826"/>
                </a:cubicBezTo>
                <a:cubicBezTo>
                  <a:pt x="7193" y="15851"/>
                  <a:pt x="7218" y="15884"/>
                  <a:pt x="7252" y="15893"/>
                </a:cubicBezTo>
                <a:cubicBezTo>
                  <a:pt x="7271" y="15898"/>
                  <a:pt x="7269" y="15896"/>
                  <a:pt x="7280" y="15882"/>
                </a:cubicBezTo>
              </a:path>
              <a:path w="1658" h="781">
                <a:moveTo>
                  <a:pt x="7283" y="15558"/>
                </a:moveTo>
                <a:cubicBezTo>
                  <a:pt x="7257" y="15533"/>
                  <a:pt x="7251" y="15560"/>
                  <a:pt x="7228" y="15585"/>
                </a:cubicBezTo>
                <a:cubicBezTo>
                  <a:pt x="7187" y="15629"/>
                  <a:pt x="7156" y="15677"/>
                  <a:pt x="7126" y="15729"/>
                </a:cubicBezTo>
                <a:cubicBezTo>
                  <a:pt x="7093" y="15787"/>
                  <a:pt x="7061" y="15845"/>
                  <a:pt x="7042" y="15909"/>
                </a:cubicBezTo>
                <a:cubicBezTo>
                  <a:pt x="7030" y="15948"/>
                  <a:pt x="7014" y="15998"/>
                  <a:pt x="7042" y="16035"/>
                </a:cubicBezTo>
                <a:cubicBezTo>
                  <a:pt x="7061" y="16060"/>
                  <a:pt x="7087" y="16040"/>
                  <a:pt x="7107" y="16032"/>
                </a:cubicBezTo>
              </a:path>
              <a:path w="1658" h="781">
                <a:moveTo>
                  <a:pt x="7633" y="15476"/>
                </a:moveTo>
                <a:cubicBezTo>
                  <a:pt x="7643" y="15511"/>
                  <a:pt x="7642" y="15551"/>
                  <a:pt x="7642" y="15588"/>
                </a:cubicBezTo>
                <a:cubicBezTo>
                  <a:pt x="7641" y="15645"/>
                  <a:pt x="7643" y="15703"/>
                  <a:pt x="7643" y="15760"/>
                </a:cubicBezTo>
                <a:cubicBezTo>
                  <a:pt x="7643" y="15795"/>
                  <a:pt x="7642" y="15828"/>
                  <a:pt x="7636" y="15862"/>
                </a:cubicBezTo>
                <a:cubicBezTo>
                  <a:pt x="7635" y="15866"/>
                  <a:pt x="7634" y="15871"/>
                  <a:pt x="7633" y="15875"/>
                </a:cubicBezTo>
                <a:cubicBezTo>
                  <a:pt x="7623" y="15831"/>
                  <a:pt x="7624" y="15791"/>
                  <a:pt x="7629" y="15746"/>
                </a:cubicBezTo>
                <a:cubicBezTo>
                  <a:pt x="7638" y="15663"/>
                  <a:pt x="7657" y="15581"/>
                  <a:pt x="7681" y="15502"/>
                </a:cubicBezTo>
                <a:cubicBezTo>
                  <a:pt x="7700" y="15439"/>
                  <a:pt x="7724" y="15371"/>
                  <a:pt x="7771" y="15322"/>
                </a:cubicBezTo>
                <a:cubicBezTo>
                  <a:pt x="7789" y="15307"/>
                  <a:pt x="7793" y="15302"/>
                  <a:pt x="7809" y="15303"/>
                </a:cubicBezTo>
                <a:cubicBezTo>
                  <a:pt x="7829" y="15334"/>
                  <a:pt x="7836" y="15343"/>
                  <a:pt x="7830" y="15388"/>
                </a:cubicBezTo>
                <a:cubicBezTo>
                  <a:pt x="7823" y="15443"/>
                  <a:pt x="7806" y="15496"/>
                  <a:pt x="7792" y="15549"/>
                </a:cubicBezTo>
                <a:cubicBezTo>
                  <a:pt x="7784" y="15579"/>
                  <a:pt x="7764" y="15622"/>
                  <a:pt x="7783" y="15652"/>
                </a:cubicBezTo>
                <a:cubicBezTo>
                  <a:pt x="7799" y="15678"/>
                  <a:pt x="7835" y="15674"/>
                  <a:pt x="7861" y="15678"/>
                </a:cubicBezTo>
                <a:cubicBezTo>
                  <a:pt x="7923" y="15688"/>
                  <a:pt x="7974" y="15720"/>
                  <a:pt x="7982" y="15787"/>
                </a:cubicBezTo>
                <a:cubicBezTo>
                  <a:pt x="7986" y="15823"/>
                  <a:pt x="7979" y="15858"/>
                  <a:pt x="7963" y="15890"/>
                </a:cubicBezTo>
                <a:cubicBezTo>
                  <a:pt x="7947" y="15922"/>
                  <a:pt x="7920" y="15947"/>
                  <a:pt x="7890" y="15964"/>
                </a:cubicBezTo>
                <a:cubicBezTo>
                  <a:pt x="7864" y="15979"/>
                  <a:pt x="7824" y="15990"/>
                  <a:pt x="7793" y="15984"/>
                </a:cubicBezTo>
                <a:cubicBezTo>
                  <a:pt x="7762" y="15978"/>
                  <a:pt x="7735" y="15960"/>
                  <a:pt x="7713" y="15938"/>
                </a:cubicBezTo>
                <a:cubicBezTo>
                  <a:pt x="7697" y="15922"/>
                  <a:pt x="7689" y="15905"/>
                  <a:pt x="7680" y="1588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218040" y="5477040"/>
            <a:ext cx="569880" cy="269640"/>
          </a:xfrm>
          <a:custGeom>
            <a:avLst/>
            <a:gdLst/>
            <a:ahLst/>
            <a:rect l="l" t="t" r="r" b="b"/>
            <a:pathLst>
              <a:path w="1583" h="747">
                <a:moveTo>
                  <a:pt x="9251" y="15360"/>
                </a:moveTo>
                <a:cubicBezTo>
                  <a:pt x="9260" y="15337"/>
                  <a:pt x="9269" y="15318"/>
                  <a:pt x="9268" y="15292"/>
                </a:cubicBezTo>
                <a:cubicBezTo>
                  <a:pt x="9267" y="15274"/>
                  <a:pt x="9255" y="15261"/>
                  <a:pt x="9241" y="15252"/>
                </a:cubicBezTo>
                <a:cubicBezTo>
                  <a:pt x="9218" y="15237"/>
                  <a:pt x="9191" y="15256"/>
                  <a:pt x="9173" y="15268"/>
                </a:cubicBezTo>
                <a:cubicBezTo>
                  <a:pt x="9139" y="15290"/>
                  <a:pt x="9122" y="15320"/>
                  <a:pt x="9112" y="15359"/>
                </a:cubicBezTo>
                <a:cubicBezTo>
                  <a:pt x="9097" y="15414"/>
                  <a:pt x="9103" y="15471"/>
                  <a:pt x="9108" y="15527"/>
                </a:cubicBezTo>
                <a:cubicBezTo>
                  <a:pt x="9114" y="15594"/>
                  <a:pt x="9126" y="15659"/>
                  <a:pt x="9140" y="15724"/>
                </a:cubicBezTo>
                <a:cubicBezTo>
                  <a:pt x="9154" y="15792"/>
                  <a:pt x="9182" y="15868"/>
                  <a:pt x="9180" y="15938"/>
                </a:cubicBezTo>
                <a:cubicBezTo>
                  <a:pt x="9179" y="15950"/>
                  <a:pt x="9179" y="15953"/>
                  <a:pt x="9177" y="15961"/>
                </a:cubicBezTo>
              </a:path>
              <a:path w="1583" h="747">
                <a:moveTo>
                  <a:pt x="8952" y="15703"/>
                </a:moveTo>
                <a:cubicBezTo>
                  <a:pt x="8948" y="15703"/>
                  <a:pt x="8943" y="15703"/>
                  <a:pt x="8939" y="15703"/>
                </a:cubicBezTo>
                <a:cubicBezTo>
                  <a:pt x="8972" y="15697"/>
                  <a:pt x="9005" y="15691"/>
                  <a:pt x="9038" y="15685"/>
                </a:cubicBezTo>
                <a:cubicBezTo>
                  <a:pt x="9107" y="15673"/>
                  <a:pt x="9170" y="15645"/>
                  <a:pt x="9234" y="15617"/>
                </a:cubicBezTo>
                <a:cubicBezTo>
                  <a:pt x="9285" y="15594"/>
                  <a:pt x="9303" y="15586"/>
                  <a:pt x="9335" y="15567"/>
                </a:cubicBezTo>
              </a:path>
              <a:path w="1583" h="747">
                <a:moveTo>
                  <a:pt x="9563" y="15215"/>
                </a:moveTo>
                <a:cubicBezTo>
                  <a:pt x="9551" y="15260"/>
                  <a:pt x="9542" y="15309"/>
                  <a:pt x="9537" y="15356"/>
                </a:cubicBezTo>
                <a:cubicBezTo>
                  <a:pt x="9527" y="15446"/>
                  <a:pt x="9519" y="15535"/>
                  <a:pt x="9515" y="15625"/>
                </a:cubicBezTo>
                <a:cubicBezTo>
                  <a:pt x="9511" y="15705"/>
                  <a:pt x="9506" y="15787"/>
                  <a:pt x="9523" y="15866"/>
                </a:cubicBezTo>
                <a:cubicBezTo>
                  <a:pt x="9533" y="15911"/>
                  <a:pt x="9542" y="15937"/>
                  <a:pt x="9586" y="15943"/>
                </a:cubicBezTo>
              </a:path>
              <a:path w="1583" h="747">
                <a:moveTo>
                  <a:pt x="9722" y="15733"/>
                </a:moveTo>
                <a:cubicBezTo>
                  <a:pt x="9716" y="15761"/>
                  <a:pt x="9704" y="15793"/>
                  <a:pt x="9702" y="15822"/>
                </a:cubicBezTo>
                <a:cubicBezTo>
                  <a:pt x="9700" y="15852"/>
                  <a:pt x="9705" y="15888"/>
                  <a:pt x="9737" y="15900"/>
                </a:cubicBezTo>
                <a:cubicBezTo>
                  <a:pt x="9771" y="15912"/>
                  <a:pt x="9817" y="15888"/>
                  <a:pt x="9844" y="15870"/>
                </a:cubicBezTo>
                <a:cubicBezTo>
                  <a:pt x="9875" y="15849"/>
                  <a:pt x="9898" y="15817"/>
                  <a:pt x="9899" y="15778"/>
                </a:cubicBezTo>
                <a:cubicBezTo>
                  <a:pt x="9900" y="15750"/>
                  <a:pt x="9882" y="15727"/>
                  <a:pt x="9863" y="15709"/>
                </a:cubicBezTo>
                <a:cubicBezTo>
                  <a:pt x="9847" y="15694"/>
                  <a:pt x="9829" y="15682"/>
                  <a:pt x="9811" y="15669"/>
                </a:cubicBezTo>
              </a:path>
              <a:path w="1583" h="747">
                <a:moveTo>
                  <a:pt x="9974" y="15700"/>
                </a:moveTo>
                <a:cubicBezTo>
                  <a:pt x="10002" y="15727"/>
                  <a:pt x="10026" y="15755"/>
                  <a:pt x="10052" y="15784"/>
                </a:cubicBezTo>
                <a:cubicBezTo>
                  <a:pt x="10075" y="15810"/>
                  <a:pt x="10103" y="15834"/>
                  <a:pt x="10140" y="15828"/>
                </a:cubicBezTo>
                <a:cubicBezTo>
                  <a:pt x="10196" y="15819"/>
                  <a:pt x="10239" y="15770"/>
                  <a:pt x="10273" y="15730"/>
                </a:cubicBezTo>
                <a:cubicBezTo>
                  <a:pt x="10285" y="15716"/>
                  <a:pt x="10296" y="15702"/>
                  <a:pt x="10307" y="15688"/>
                </a:cubicBezTo>
                <a:cubicBezTo>
                  <a:pt x="10330" y="15722"/>
                  <a:pt x="10350" y="15751"/>
                  <a:pt x="10395" y="15743"/>
                </a:cubicBezTo>
                <a:cubicBezTo>
                  <a:pt x="10430" y="15737"/>
                  <a:pt x="10463" y="15715"/>
                  <a:pt x="10486" y="15689"/>
                </a:cubicBezTo>
                <a:cubicBezTo>
                  <a:pt x="10511" y="15660"/>
                  <a:pt x="10530" y="15619"/>
                  <a:pt x="10519" y="15580"/>
                </a:cubicBezTo>
                <a:cubicBezTo>
                  <a:pt x="10514" y="15560"/>
                  <a:pt x="10500" y="15538"/>
                  <a:pt x="10487" y="15522"/>
                </a:cubicBezTo>
                <a:cubicBezTo>
                  <a:pt x="10477" y="15513"/>
                  <a:pt x="10474" y="15510"/>
                  <a:pt x="10466" y="1550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129200" y="5452920"/>
            <a:ext cx="512640" cy="196920"/>
          </a:xfrm>
          <a:custGeom>
            <a:avLst/>
            <a:gdLst/>
            <a:ahLst/>
            <a:rect l="l" t="t" r="r" b="b"/>
            <a:pathLst>
              <a:path w="1426" h="545">
                <a:moveTo>
                  <a:pt x="11653" y="15180"/>
                </a:moveTo>
                <a:cubicBezTo>
                  <a:pt x="11650" y="15174"/>
                  <a:pt x="11647" y="15169"/>
                  <a:pt x="11644" y="15163"/>
                </a:cubicBezTo>
                <a:cubicBezTo>
                  <a:pt x="11650" y="15194"/>
                  <a:pt x="11651" y="15224"/>
                  <a:pt x="11656" y="15255"/>
                </a:cubicBezTo>
                <a:cubicBezTo>
                  <a:pt x="11667" y="15324"/>
                  <a:pt x="11677" y="15393"/>
                  <a:pt x="11683" y="15463"/>
                </a:cubicBezTo>
                <a:cubicBezTo>
                  <a:pt x="11689" y="15526"/>
                  <a:pt x="11693" y="15588"/>
                  <a:pt x="11701" y="15651"/>
                </a:cubicBezTo>
                <a:cubicBezTo>
                  <a:pt x="11701" y="15651"/>
                  <a:pt x="11705" y="15712"/>
                  <a:pt x="11705" y="15683"/>
                </a:cubicBezTo>
                <a:cubicBezTo>
                  <a:pt x="11705" y="15679"/>
                  <a:pt x="11705" y="15674"/>
                  <a:pt x="11705" y="15670"/>
                </a:cubicBezTo>
              </a:path>
              <a:path w="1426" h="545">
                <a:moveTo>
                  <a:pt x="11470" y="15492"/>
                </a:moveTo>
                <a:cubicBezTo>
                  <a:pt x="11509" y="15493"/>
                  <a:pt x="11545" y="15490"/>
                  <a:pt x="11583" y="15481"/>
                </a:cubicBezTo>
                <a:cubicBezTo>
                  <a:pt x="11644" y="15466"/>
                  <a:pt x="11701" y="15436"/>
                  <a:pt x="11759" y="15412"/>
                </a:cubicBezTo>
                <a:cubicBezTo>
                  <a:pt x="11793" y="15398"/>
                  <a:pt x="11846" y="15368"/>
                  <a:pt x="11885" y="15383"/>
                </a:cubicBezTo>
                <a:cubicBezTo>
                  <a:pt x="11924" y="15398"/>
                  <a:pt x="11930" y="15448"/>
                  <a:pt x="11939" y="15482"/>
                </a:cubicBezTo>
                <a:cubicBezTo>
                  <a:pt x="11949" y="15518"/>
                  <a:pt x="11954" y="15566"/>
                  <a:pt x="11982" y="15593"/>
                </a:cubicBezTo>
                <a:cubicBezTo>
                  <a:pt x="12006" y="15616"/>
                  <a:pt x="12035" y="15595"/>
                  <a:pt x="12056" y="15578"/>
                </a:cubicBezTo>
                <a:cubicBezTo>
                  <a:pt x="12081" y="15558"/>
                  <a:pt x="12102" y="15532"/>
                  <a:pt x="12126" y="15510"/>
                </a:cubicBezTo>
                <a:cubicBezTo>
                  <a:pt x="12138" y="15500"/>
                  <a:pt x="12141" y="15497"/>
                  <a:pt x="12148" y="15490"/>
                </a:cubicBezTo>
                <a:cubicBezTo>
                  <a:pt x="12153" y="15516"/>
                  <a:pt x="12153" y="15548"/>
                  <a:pt x="12160" y="15573"/>
                </a:cubicBezTo>
                <a:cubicBezTo>
                  <a:pt x="12169" y="15603"/>
                  <a:pt x="12189" y="15618"/>
                  <a:pt x="12220" y="15615"/>
                </a:cubicBezTo>
                <a:cubicBezTo>
                  <a:pt x="12227" y="15613"/>
                  <a:pt x="12234" y="15612"/>
                  <a:pt x="12241" y="15610"/>
                </a:cubicBezTo>
              </a:path>
              <a:path w="1426" h="545">
                <a:moveTo>
                  <a:pt x="12382" y="15459"/>
                </a:moveTo>
                <a:cubicBezTo>
                  <a:pt x="12358" y="15473"/>
                  <a:pt x="12348" y="15485"/>
                  <a:pt x="12336" y="15510"/>
                </a:cubicBezTo>
                <a:cubicBezTo>
                  <a:pt x="12322" y="15540"/>
                  <a:pt x="12314" y="15572"/>
                  <a:pt x="12324" y="15604"/>
                </a:cubicBezTo>
                <a:cubicBezTo>
                  <a:pt x="12333" y="15635"/>
                  <a:pt x="12358" y="15638"/>
                  <a:pt x="12384" y="15627"/>
                </a:cubicBezTo>
                <a:cubicBezTo>
                  <a:pt x="12421" y="15612"/>
                  <a:pt x="12449" y="15587"/>
                  <a:pt x="12477" y="15560"/>
                </a:cubicBezTo>
                <a:cubicBezTo>
                  <a:pt x="12497" y="15540"/>
                  <a:pt x="12510" y="15520"/>
                  <a:pt x="12523" y="15495"/>
                </a:cubicBezTo>
                <a:cubicBezTo>
                  <a:pt x="12518" y="15526"/>
                  <a:pt x="12519" y="15553"/>
                  <a:pt x="12526" y="15584"/>
                </a:cubicBezTo>
                <a:cubicBezTo>
                  <a:pt x="12533" y="15617"/>
                  <a:pt x="12546" y="15654"/>
                  <a:pt x="12574" y="15675"/>
                </a:cubicBezTo>
                <a:cubicBezTo>
                  <a:pt x="12597" y="15693"/>
                  <a:pt x="12625" y="15698"/>
                  <a:pt x="12651" y="15682"/>
                </a:cubicBezTo>
                <a:cubicBezTo>
                  <a:pt x="12657" y="15677"/>
                  <a:pt x="12662" y="15673"/>
                  <a:pt x="12668" y="15668"/>
                </a:cubicBezTo>
              </a:path>
              <a:path w="1426" h="545">
                <a:moveTo>
                  <a:pt x="12726" y="15166"/>
                </a:moveTo>
                <a:cubicBezTo>
                  <a:pt x="12724" y="15160"/>
                  <a:pt x="12723" y="15155"/>
                  <a:pt x="12721" y="15149"/>
                </a:cubicBezTo>
                <a:cubicBezTo>
                  <a:pt x="12718" y="15186"/>
                  <a:pt x="12724" y="15222"/>
                  <a:pt x="12729" y="15259"/>
                </a:cubicBezTo>
                <a:cubicBezTo>
                  <a:pt x="12738" y="15321"/>
                  <a:pt x="12749" y="15383"/>
                  <a:pt x="12759" y="15445"/>
                </a:cubicBezTo>
                <a:cubicBezTo>
                  <a:pt x="12768" y="15500"/>
                  <a:pt x="12778" y="15556"/>
                  <a:pt x="12783" y="15612"/>
                </a:cubicBezTo>
                <a:cubicBezTo>
                  <a:pt x="12785" y="15631"/>
                  <a:pt x="12784" y="15649"/>
                  <a:pt x="12784" y="15668"/>
                </a:cubicBezTo>
              </a:path>
              <a:path w="1426" h="545">
                <a:moveTo>
                  <a:pt x="12596" y="15405"/>
                </a:moveTo>
                <a:cubicBezTo>
                  <a:pt x="12572" y="15384"/>
                  <a:pt x="12620" y="15384"/>
                  <a:pt x="12643" y="15380"/>
                </a:cubicBezTo>
                <a:cubicBezTo>
                  <a:pt x="12698" y="15370"/>
                  <a:pt x="12753" y="15356"/>
                  <a:pt x="12808" y="15351"/>
                </a:cubicBezTo>
                <a:cubicBezTo>
                  <a:pt x="12852" y="15349"/>
                  <a:pt x="12866" y="15348"/>
                  <a:pt x="12895" y="1534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011560" y="5391000"/>
            <a:ext cx="900360" cy="262080"/>
          </a:xfrm>
          <a:custGeom>
            <a:avLst/>
            <a:gdLst/>
            <a:ahLst/>
            <a:rect l="l" t="t" r="r" b="b"/>
            <a:pathLst>
              <a:path w="2501" h="730">
                <a:moveTo>
                  <a:pt x="14318" y="15055"/>
                </a:moveTo>
                <a:cubicBezTo>
                  <a:pt x="14311" y="15030"/>
                  <a:pt x="14306" y="15002"/>
                  <a:pt x="14283" y="14987"/>
                </a:cubicBezTo>
                <a:cubicBezTo>
                  <a:pt x="14260" y="14972"/>
                  <a:pt x="14229" y="14971"/>
                  <a:pt x="14205" y="14983"/>
                </a:cubicBezTo>
                <a:cubicBezTo>
                  <a:pt x="14167" y="15002"/>
                  <a:pt x="14135" y="15047"/>
                  <a:pt x="14121" y="15086"/>
                </a:cubicBezTo>
                <a:cubicBezTo>
                  <a:pt x="14097" y="15151"/>
                  <a:pt x="14094" y="15226"/>
                  <a:pt x="14099" y="15295"/>
                </a:cubicBezTo>
                <a:cubicBezTo>
                  <a:pt x="14106" y="15390"/>
                  <a:pt x="14126" y="15488"/>
                  <a:pt x="14151" y="15580"/>
                </a:cubicBezTo>
                <a:cubicBezTo>
                  <a:pt x="14161" y="15616"/>
                  <a:pt x="14171" y="15654"/>
                  <a:pt x="14182" y="15689"/>
                </a:cubicBezTo>
                <a:cubicBezTo>
                  <a:pt x="14192" y="15722"/>
                  <a:pt x="14169" y="15684"/>
                  <a:pt x="14161" y="15676"/>
                </a:cubicBezTo>
              </a:path>
              <a:path w="2501" h="730">
                <a:moveTo>
                  <a:pt x="13923" y="15458"/>
                </a:moveTo>
                <a:cubicBezTo>
                  <a:pt x="13955" y="15453"/>
                  <a:pt x="13986" y="15448"/>
                  <a:pt x="14019" y="15446"/>
                </a:cubicBezTo>
                <a:cubicBezTo>
                  <a:pt x="14091" y="15442"/>
                  <a:pt x="14167" y="15438"/>
                  <a:pt x="14238" y="15446"/>
                </a:cubicBezTo>
                <a:cubicBezTo>
                  <a:pt x="14284" y="15451"/>
                  <a:pt x="14325" y="15464"/>
                  <a:pt x="14360" y="15496"/>
                </a:cubicBezTo>
                <a:cubicBezTo>
                  <a:pt x="14387" y="15521"/>
                  <a:pt x="14397" y="15549"/>
                  <a:pt x="14413" y="15581"/>
                </a:cubicBezTo>
                <a:cubicBezTo>
                  <a:pt x="14424" y="15602"/>
                  <a:pt x="14435" y="15626"/>
                  <a:pt x="14460" y="15631"/>
                </a:cubicBezTo>
                <a:cubicBezTo>
                  <a:pt x="14493" y="15638"/>
                  <a:pt x="14523" y="15611"/>
                  <a:pt x="14545" y="15590"/>
                </a:cubicBezTo>
                <a:cubicBezTo>
                  <a:pt x="14567" y="15569"/>
                  <a:pt x="14577" y="15545"/>
                  <a:pt x="14582" y="15515"/>
                </a:cubicBezTo>
                <a:cubicBezTo>
                  <a:pt x="14586" y="15490"/>
                  <a:pt x="14582" y="15459"/>
                  <a:pt x="14572" y="15435"/>
                </a:cubicBezTo>
                <a:cubicBezTo>
                  <a:pt x="14569" y="15430"/>
                  <a:pt x="14567" y="15426"/>
                  <a:pt x="14564" y="15421"/>
                </a:cubicBezTo>
              </a:path>
              <a:path w="2501" h="730">
                <a:moveTo>
                  <a:pt x="14689" y="15567"/>
                </a:moveTo>
                <a:cubicBezTo>
                  <a:pt x="14700" y="15581"/>
                  <a:pt x="14707" y="15590"/>
                  <a:pt x="14714" y="15605"/>
                </a:cubicBezTo>
                <a:cubicBezTo>
                  <a:pt x="14713" y="15582"/>
                  <a:pt x="14714" y="15560"/>
                  <a:pt x="14718" y="15537"/>
                </a:cubicBezTo>
                <a:cubicBezTo>
                  <a:pt x="14724" y="15500"/>
                  <a:pt x="14734" y="15468"/>
                  <a:pt x="14755" y="15437"/>
                </a:cubicBezTo>
                <a:cubicBezTo>
                  <a:pt x="14770" y="15414"/>
                  <a:pt x="14787" y="15402"/>
                  <a:pt x="14813" y="15393"/>
                </a:cubicBezTo>
                <a:cubicBezTo>
                  <a:pt x="14836" y="15385"/>
                  <a:pt x="14863" y="15384"/>
                  <a:pt x="14887" y="15381"/>
                </a:cubicBezTo>
              </a:path>
              <a:path w="2501" h="730">
                <a:moveTo>
                  <a:pt x="15147" y="15048"/>
                </a:moveTo>
                <a:cubicBezTo>
                  <a:pt x="15171" y="15088"/>
                  <a:pt x="15174" y="15127"/>
                  <a:pt x="15179" y="15173"/>
                </a:cubicBezTo>
                <a:cubicBezTo>
                  <a:pt x="15185" y="15228"/>
                  <a:pt x="15190" y="15282"/>
                  <a:pt x="15193" y="15337"/>
                </a:cubicBezTo>
                <a:cubicBezTo>
                  <a:pt x="15196" y="15385"/>
                  <a:pt x="15196" y="15432"/>
                  <a:pt x="15195" y="15479"/>
                </a:cubicBezTo>
                <a:cubicBezTo>
                  <a:pt x="15194" y="15499"/>
                  <a:pt x="15206" y="15533"/>
                  <a:pt x="15186" y="15507"/>
                </a:cubicBezTo>
              </a:path>
              <a:path w="2501" h="730">
                <a:moveTo>
                  <a:pt x="15066" y="15254"/>
                </a:moveTo>
                <a:cubicBezTo>
                  <a:pt x="15051" y="15247"/>
                  <a:pt x="15046" y="15244"/>
                  <a:pt x="15036" y="15239"/>
                </a:cubicBezTo>
                <a:cubicBezTo>
                  <a:pt x="15076" y="15232"/>
                  <a:pt x="15111" y="15223"/>
                  <a:pt x="15149" y="15208"/>
                </a:cubicBezTo>
                <a:cubicBezTo>
                  <a:pt x="15236" y="15175"/>
                  <a:pt x="15316" y="15128"/>
                  <a:pt x="15397" y="15084"/>
                </a:cubicBezTo>
                <a:cubicBezTo>
                  <a:pt x="15424" y="15069"/>
                  <a:pt x="15472" y="15035"/>
                  <a:pt x="15497" y="15072"/>
                </a:cubicBezTo>
                <a:cubicBezTo>
                  <a:pt x="15525" y="15113"/>
                  <a:pt x="15517" y="15182"/>
                  <a:pt x="15518" y="15228"/>
                </a:cubicBezTo>
                <a:cubicBezTo>
                  <a:pt x="15519" y="15297"/>
                  <a:pt x="15516" y="15365"/>
                  <a:pt x="15515" y="15434"/>
                </a:cubicBezTo>
                <a:cubicBezTo>
                  <a:pt x="15514" y="15467"/>
                  <a:pt x="15519" y="15495"/>
                  <a:pt x="15525" y="15526"/>
                </a:cubicBezTo>
                <a:cubicBezTo>
                  <a:pt x="15545" y="15496"/>
                  <a:pt x="15562" y="15464"/>
                  <a:pt x="15582" y="15434"/>
                </a:cubicBezTo>
                <a:cubicBezTo>
                  <a:pt x="15592" y="15418"/>
                  <a:pt x="15603" y="15403"/>
                  <a:pt x="15614" y="15387"/>
                </a:cubicBezTo>
                <a:cubicBezTo>
                  <a:pt x="15629" y="15402"/>
                  <a:pt x="15641" y="15417"/>
                  <a:pt x="15660" y="15428"/>
                </a:cubicBezTo>
                <a:cubicBezTo>
                  <a:pt x="15679" y="15439"/>
                  <a:pt x="15698" y="15431"/>
                  <a:pt x="15718" y="15428"/>
                </a:cubicBezTo>
              </a:path>
              <a:path w="2501" h="730">
                <a:moveTo>
                  <a:pt x="15816" y="15333"/>
                </a:moveTo>
                <a:cubicBezTo>
                  <a:pt x="15843" y="15322"/>
                  <a:pt x="15851" y="15320"/>
                  <a:pt x="15882" y="15323"/>
                </a:cubicBezTo>
                <a:cubicBezTo>
                  <a:pt x="15916" y="15327"/>
                  <a:pt x="15951" y="15328"/>
                  <a:pt x="15984" y="15319"/>
                </a:cubicBezTo>
                <a:cubicBezTo>
                  <a:pt x="16011" y="15312"/>
                  <a:pt x="16041" y="15299"/>
                  <a:pt x="16051" y="15271"/>
                </a:cubicBezTo>
                <a:cubicBezTo>
                  <a:pt x="16066" y="15230"/>
                  <a:pt x="16033" y="15216"/>
                  <a:pt x="15999" y="15220"/>
                </a:cubicBezTo>
                <a:cubicBezTo>
                  <a:pt x="15917" y="15229"/>
                  <a:pt x="15827" y="15321"/>
                  <a:pt x="15851" y="15408"/>
                </a:cubicBezTo>
                <a:cubicBezTo>
                  <a:pt x="15865" y="15458"/>
                  <a:pt x="15909" y="15489"/>
                  <a:pt x="15953" y="15509"/>
                </a:cubicBezTo>
                <a:cubicBezTo>
                  <a:pt x="16004" y="15532"/>
                  <a:pt x="16065" y="15540"/>
                  <a:pt x="16119" y="15526"/>
                </a:cubicBezTo>
                <a:cubicBezTo>
                  <a:pt x="16149" y="15518"/>
                  <a:pt x="16149" y="15513"/>
                  <a:pt x="16167" y="15522"/>
                </a:cubicBezTo>
                <a:cubicBezTo>
                  <a:pt x="16178" y="15527"/>
                  <a:pt x="16190" y="15539"/>
                  <a:pt x="16206" y="15544"/>
                </a:cubicBezTo>
                <a:cubicBezTo>
                  <a:pt x="16226" y="15504"/>
                  <a:pt x="16215" y="15475"/>
                  <a:pt x="16211" y="15432"/>
                </a:cubicBezTo>
                <a:cubicBezTo>
                  <a:pt x="16209" y="15413"/>
                  <a:pt x="16215" y="15386"/>
                  <a:pt x="16227" y="15371"/>
                </a:cubicBezTo>
                <a:cubicBezTo>
                  <a:pt x="16242" y="15352"/>
                  <a:pt x="16266" y="15341"/>
                  <a:pt x="16287" y="15332"/>
                </a:cubicBezTo>
                <a:cubicBezTo>
                  <a:pt x="16313" y="15320"/>
                  <a:pt x="16341" y="15317"/>
                  <a:pt x="16370" y="15313"/>
                </a:cubicBezTo>
                <a:cubicBezTo>
                  <a:pt x="16397" y="15310"/>
                  <a:pt x="16405" y="15309"/>
                  <a:pt x="16423" y="1530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261120" y="5338800"/>
            <a:ext cx="1457280" cy="279360"/>
          </a:xfrm>
          <a:custGeom>
            <a:avLst/>
            <a:gdLst/>
            <a:ahLst/>
            <a:rect l="l" t="t" r="r" b="b"/>
            <a:pathLst>
              <a:path w="4051" h="776">
                <a:moveTo>
                  <a:pt x="17500" y="15408"/>
                </a:moveTo>
                <a:cubicBezTo>
                  <a:pt x="17484" y="15393"/>
                  <a:pt x="17469" y="15373"/>
                  <a:pt x="17444" y="15380"/>
                </a:cubicBezTo>
                <a:cubicBezTo>
                  <a:pt x="17412" y="15388"/>
                  <a:pt x="17400" y="15431"/>
                  <a:pt x="17395" y="15458"/>
                </a:cubicBezTo>
                <a:cubicBezTo>
                  <a:pt x="17387" y="15499"/>
                  <a:pt x="17387" y="15547"/>
                  <a:pt x="17412" y="15583"/>
                </a:cubicBezTo>
                <a:cubicBezTo>
                  <a:pt x="17435" y="15616"/>
                  <a:pt x="17473" y="15606"/>
                  <a:pt x="17502" y="15588"/>
                </a:cubicBezTo>
                <a:cubicBezTo>
                  <a:pt x="17538" y="15566"/>
                  <a:pt x="17566" y="15533"/>
                  <a:pt x="17585" y="15496"/>
                </a:cubicBezTo>
                <a:cubicBezTo>
                  <a:pt x="17598" y="15471"/>
                  <a:pt x="17603" y="15451"/>
                  <a:pt x="17599" y="15424"/>
                </a:cubicBezTo>
                <a:cubicBezTo>
                  <a:pt x="17598" y="15420"/>
                  <a:pt x="17598" y="15416"/>
                  <a:pt x="17597" y="15412"/>
                </a:cubicBezTo>
                <a:cubicBezTo>
                  <a:pt x="17586" y="15439"/>
                  <a:pt x="17584" y="15460"/>
                  <a:pt x="17590" y="15489"/>
                </a:cubicBezTo>
                <a:cubicBezTo>
                  <a:pt x="17597" y="15521"/>
                  <a:pt x="17610" y="15559"/>
                  <a:pt x="17642" y="15573"/>
                </a:cubicBezTo>
                <a:cubicBezTo>
                  <a:pt x="17668" y="15580"/>
                  <a:pt x="17677" y="15582"/>
                  <a:pt x="17696" y="15577"/>
                </a:cubicBezTo>
              </a:path>
              <a:path w="4051" h="776">
                <a:moveTo>
                  <a:pt x="18140" y="15292"/>
                </a:moveTo>
                <a:cubicBezTo>
                  <a:pt x="18140" y="15277"/>
                  <a:pt x="18137" y="15255"/>
                  <a:pt x="18116" y="15255"/>
                </a:cubicBezTo>
                <a:cubicBezTo>
                  <a:pt x="18090" y="15255"/>
                  <a:pt x="18057" y="15296"/>
                  <a:pt x="18043" y="15313"/>
                </a:cubicBezTo>
                <a:cubicBezTo>
                  <a:pt x="18014" y="15350"/>
                  <a:pt x="17986" y="15402"/>
                  <a:pt x="17974" y="15448"/>
                </a:cubicBezTo>
                <a:cubicBezTo>
                  <a:pt x="17965" y="15485"/>
                  <a:pt x="17966" y="15524"/>
                  <a:pt x="18001" y="15546"/>
                </a:cubicBezTo>
                <a:cubicBezTo>
                  <a:pt x="18037" y="15569"/>
                  <a:pt x="18091" y="15565"/>
                  <a:pt x="18130" y="15556"/>
                </a:cubicBezTo>
                <a:cubicBezTo>
                  <a:pt x="18173" y="15543"/>
                  <a:pt x="18188" y="15538"/>
                  <a:pt x="18215" y="15523"/>
                </a:cubicBezTo>
              </a:path>
              <a:path w="4051" h="776">
                <a:moveTo>
                  <a:pt x="18520" y="15298"/>
                </a:moveTo>
                <a:cubicBezTo>
                  <a:pt x="18495" y="15302"/>
                  <a:pt x="18476" y="15303"/>
                  <a:pt x="18454" y="15317"/>
                </a:cubicBezTo>
                <a:cubicBezTo>
                  <a:pt x="18421" y="15337"/>
                  <a:pt x="18400" y="15366"/>
                  <a:pt x="18379" y="15397"/>
                </a:cubicBezTo>
                <a:cubicBezTo>
                  <a:pt x="18357" y="15430"/>
                  <a:pt x="18342" y="15468"/>
                  <a:pt x="18342" y="15509"/>
                </a:cubicBezTo>
                <a:cubicBezTo>
                  <a:pt x="18342" y="15546"/>
                  <a:pt x="18372" y="15569"/>
                  <a:pt x="18402" y="15584"/>
                </a:cubicBezTo>
                <a:cubicBezTo>
                  <a:pt x="18444" y="15605"/>
                  <a:pt x="18490" y="15601"/>
                  <a:pt x="18534" y="15590"/>
                </a:cubicBezTo>
                <a:cubicBezTo>
                  <a:pt x="18573" y="15578"/>
                  <a:pt x="18586" y="15573"/>
                  <a:pt x="18610" y="15560"/>
                </a:cubicBezTo>
              </a:path>
              <a:path w="4051" h="776">
                <a:moveTo>
                  <a:pt x="18798" y="15342"/>
                </a:moveTo>
                <a:cubicBezTo>
                  <a:pt x="18811" y="15369"/>
                  <a:pt x="18793" y="15370"/>
                  <a:pt x="18830" y="15366"/>
                </a:cubicBezTo>
                <a:cubicBezTo>
                  <a:pt x="18857" y="15363"/>
                  <a:pt x="18887" y="15352"/>
                  <a:pt x="18911" y="15339"/>
                </a:cubicBezTo>
                <a:cubicBezTo>
                  <a:pt x="18942" y="15322"/>
                  <a:pt x="18974" y="15297"/>
                  <a:pt x="18983" y="15261"/>
                </a:cubicBezTo>
                <a:cubicBezTo>
                  <a:pt x="18989" y="15234"/>
                  <a:pt x="18954" y="15224"/>
                  <a:pt x="18935" y="15228"/>
                </a:cubicBezTo>
                <a:cubicBezTo>
                  <a:pt x="18895" y="15236"/>
                  <a:pt x="18853" y="15268"/>
                  <a:pt x="18827" y="15298"/>
                </a:cubicBezTo>
                <a:cubicBezTo>
                  <a:pt x="18801" y="15329"/>
                  <a:pt x="18778" y="15378"/>
                  <a:pt x="18788" y="15420"/>
                </a:cubicBezTo>
                <a:cubicBezTo>
                  <a:pt x="18797" y="15458"/>
                  <a:pt x="18842" y="15478"/>
                  <a:pt x="18877" y="15478"/>
                </a:cubicBezTo>
                <a:cubicBezTo>
                  <a:pt x="18921" y="15478"/>
                  <a:pt x="18974" y="15460"/>
                  <a:pt x="19010" y="15437"/>
                </a:cubicBezTo>
                <a:cubicBezTo>
                  <a:pt x="19041" y="15417"/>
                  <a:pt x="19072" y="15381"/>
                  <a:pt x="19081" y="15344"/>
                </a:cubicBezTo>
                <a:cubicBezTo>
                  <a:pt x="19083" y="15334"/>
                  <a:pt x="19084" y="15330"/>
                  <a:pt x="19084" y="15323"/>
                </a:cubicBezTo>
                <a:cubicBezTo>
                  <a:pt x="19084" y="15350"/>
                  <a:pt x="19084" y="15379"/>
                  <a:pt x="19094" y="15404"/>
                </a:cubicBezTo>
                <a:cubicBezTo>
                  <a:pt x="19105" y="15432"/>
                  <a:pt x="19125" y="15462"/>
                  <a:pt x="19158" y="15465"/>
                </a:cubicBezTo>
                <a:cubicBezTo>
                  <a:pt x="19193" y="15468"/>
                  <a:pt x="19236" y="15442"/>
                  <a:pt x="19264" y="15424"/>
                </a:cubicBezTo>
                <a:cubicBezTo>
                  <a:pt x="19291" y="15407"/>
                  <a:pt x="19308" y="15399"/>
                  <a:pt x="19338" y="15390"/>
                </a:cubicBezTo>
                <a:cubicBezTo>
                  <a:pt x="19340" y="15419"/>
                  <a:pt x="19342" y="15447"/>
                  <a:pt x="19349" y="15476"/>
                </a:cubicBezTo>
                <a:cubicBezTo>
                  <a:pt x="19356" y="15507"/>
                  <a:pt x="19371" y="15537"/>
                  <a:pt x="19409" y="15534"/>
                </a:cubicBezTo>
                <a:cubicBezTo>
                  <a:pt x="19449" y="15531"/>
                  <a:pt x="19478" y="15501"/>
                  <a:pt x="19502" y="15473"/>
                </a:cubicBezTo>
                <a:cubicBezTo>
                  <a:pt x="19510" y="15463"/>
                  <a:pt x="19518" y="15454"/>
                  <a:pt x="19526" y="15444"/>
                </a:cubicBezTo>
              </a:path>
              <a:path w="4051" h="776">
                <a:moveTo>
                  <a:pt x="19643" y="14901"/>
                </a:moveTo>
                <a:cubicBezTo>
                  <a:pt x="19644" y="14894"/>
                  <a:pt x="19644" y="14886"/>
                  <a:pt x="19645" y="14879"/>
                </a:cubicBezTo>
                <a:cubicBezTo>
                  <a:pt x="19636" y="14920"/>
                  <a:pt x="19627" y="14956"/>
                  <a:pt x="19627" y="14998"/>
                </a:cubicBezTo>
                <a:cubicBezTo>
                  <a:pt x="19626" y="15071"/>
                  <a:pt x="19643" y="15143"/>
                  <a:pt x="19655" y="15215"/>
                </a:cubicBezTo>
                <a:cubicBezTo>
                  <a:pt x="19666" y="15279"/>
                  <a:pt x="19686" y="15340"/>
                  <a:pt x="19695" y="15404"/>
                </a:cubicBezTo>
                <a:cubicBezTo>
                  <a:pt x="19698" y="15423"/>
                  <a:pt x="19698" y="15443"/>
                  <a:pt x="19698" y="15462"/>
                </a:cubicBezTo>
              </a:path>
              <a:path w="4051" h="776">
                <a:moveTo>
                  <a:pt x="19419" y="15169"/>
                </a:moveTo>
                <a:cubicBezTo>
                  <a:pt x="19412" y="15165"/>
                  <a:pt x="19404" y="15161"/>
                  <a:pt x="19397" y="15157"/>
                </a:cubicBezTo>
                <a:cubicBezTo>
                  <a:pt x="19434" y="15158"/>
                  <a:pt x="19470" y="15158"/>
                  <a:pt x="19508" y="15157"/>
                </a:cubicBezTo>
                <a:cubicBezTo>
                  <a:pt x="19571" y="15155"/>
                  <a:pt x="19633" y="15156"/>
                  <a:pt x="19695" y="15164"/>
                </a:cubicBezTo>
                <a:cubicBezTo>
                  <a:pt x="19743" y="15170"/>
                  <a:pt x="19793" y="15182"/>
                  <a:pt x="19831" y="15215"/>
                </a:cubicBezTo>
                <a:cubicBezTo>
                  <a:pt x="19881" y="15258"/>
                  <a:pt x="19896" y="15332"/>
                  <a:pt x="19926" y="15388"/>
                </a:cubicBezTo>
                <a:cubicBezTo>
                  <a:pt x="19940" y="15414"/>
                  <a:pt x="19960" y="15456"/>
                  <a:pt x="19993" y="15463"/>
                </a:cubicBezTo>
                <a:cubicBezTo>
                  <a:pt x="20026" y="15470"/>
                  <a:pt x="20045" y="15430"/>
                  <a:pt x="20057" y="15407"/>
                </a:cubicBezTo>
                <a:cubicBezTo>
                  <a:pt x="20075" y="15371"/>
                  <a:pt x="20087" y="15330"/>
                  <a:pt x="20096" y="15291"/>
                </a:cubicBezTo>
                <a:cubicBezTo>
                  <a:pt x="20101" y="15268"/>
                  <a:pt x="20103" y="15244"/>
                  <a:pt x="20105" y="15220"/>
                </a:cubicBezTo>
              </a:path>
              <a:path w="4051" h="776">
                <a:moveTo>
                  <a:pt x="20349" y="15163"/>
                </a:moveTo>
                <a:cubicBezTo>
                  <a:pt x="20329" y="15191"/>
                  <a:pt x="20311" y="15219"/>
                  <a:pt x="20295" y="15249"/>
                </a:cubicBezTo>
                <a:cubicBezTo>
                  <a:pt x="20280" y="15276"/>
                  <a:pt x="20263" y="15307"/>
                  <a:pt x="20268" y="15340"/>
                </a:cubicBezTo>
                <a:cubicBezTo>
                  <a:pt x="20272" y="15365"/>
                  <a:pt x="20293" y="15376"/>
                  <a:pt x="20316" y="15367"/>
                </a:cubicBezTo>
                <a:cubicBezTo>
                  <a:pt x="20354" y="15352"/>
                  <a:pt x="20375" y="15313"/>
                  <a:pt x="20393" y="15279"/>
                </a:cubicBezTo>
                <a:cubicBezTo>
                  <a:pt x="20401" y="15264"/>
                  <a:pt x="20406" y="15253"/>
                  <a:pt x="20410" y="15237"/>
                </a:cubicBezTo>
                <a:cubicBezTo>
                  <a:pt x="20404" y="15268"/>
                  <a:pt x="20403" y="15295"/>
                  <a:pt x="20410" y="15326"/>
                </a:cubicBezTo>
                <a:cubicBezTo>
                  <a:pt x="20420" y="15368"/>
                  <a:pt x="20435" y="15410"/>
                  <a:pt x="20469" y="15439"/>
                </a:cubicBezTo>
                <a:cubicBezTo>
                  <a:pt x="20493" y="15459"/>
                  <a:pt x="20525" y="15469"/>
                  <a:pt x="20554" y="15454"/>
                </a:cubicBezTo>
                <a:cubicBezTo>
                  <a:pt x="20575" y="15439"/>
                  <a:pt x="20582" y="15435"/>
                  <a:pt x="20588" y="15418"/>
                </a:cubicBezTo>
              </a:path>
              <a:path w="4051" h="776">
                <a:moveTo>
                  <a:pt x="20652" y="14854"/>
                </a:moveTo>
                <a:cubicBezTo>
                  <a:pt x="20650" y="14846"/>
                  <a:pt x="20647" y="14838"/>
                  <a:pt x="20645" y="14830"/>
                </a:cubicBezTo>
                <a:cubicBezTo>
                  <a:pt x="20636" y="14869"/>
                  <a:pt x="20633" y="14903"/>
                  <a:pt x="20635" y="14943"/>
                </a:cubicBezTo>
                <a:cubicBezTo>
                  <a:pt x="20638" y="15018"/>
                  <a:pt x="20653" y="15090"/>
                  <a:pt x="20665" y="15164"/>
                </a:cubicBezTo>
                <a:cubicBezTo>
                  <a:pt x="20675" y="15227"/>
                  <a:pt x="20686" y="15288"/>
                  <a:pt x="20696" y="15351"/>
                </a:cubicBezTo>
                <a:cubicBezTo>
                  <a:pt x="20698" y="15367"/>
                  <a:pt x="20708" y="15403"/>
                  <a:pt x="20688" y="15377"/>
                </a:cubicBezTo>
              </a:path>
              <a:path w="4051" h="776">
                <a:moveTo>
                  <a:pt x="20475" y="15072"/>
                </a:moveTo>
                <a:cubicBezTo>
                  <a:pt x="20470" y="15070"/>
                  <a:pt x="20464" y="15068"/>
                  <a:pt x="20459" y="15066"/>
                </a:cubicBezTo>
                <a:cubicBezTo>
                  <a:pt x="20491" y="15095"/>
                  <a:pt x="20523" y="15100"/>
                  <a:pt x="20567" y="15105"/>
                </a:cubicBezTo>
                <a:cubicBezTo>
                  <a:pt x="20636" y="15113"/>
                  <a:pt x="20708" y="15113"/>
                  <a:pt x="20777" y="15112"/>
                </a:cubicBezTo>
                <a:cubicBezTo>
                  <a:pt x="20826" y="15111"/>
                  <a:pt x="20879" y="15106"/>
                  <a:pt x="20926" y="15093"/>
                </a:cubicBezTo>
                <a:cubicBezTo>
                  <a:pt x="20952" y="15086"/>
                  <a:pt x="20972" y="15073"/>
                  <a:pt x="20985" y="15049"/>
                </a:cubicBezTo>
                <a:cubicBezTo>
                  <a:pt x="20998" y="15024"/>
                  <a:pt x="20997" y="14993"/>
                  <a:pt x="20970" y="14977"/>
                </a:cubicBezTo>
                <a:cubicBezTo>
                  <a:pt x="20947" y="14964"/>
                  <a:pt x="20909" y="14966"/>
                  <a:pt x="20885" y="14976"/>
                </a:cubicBezTo>
                <a:cubicBezTo>
                  <a:pt x="20850" y="14991"/>
                  <a:pt x="20829" y="15023"/>
                  <a:pt x="20812" y="15055"/>
                </a:cubicBezTo>
                <a:cubicBezTo>
                  <a:pt x="20786" y="15105"/>
                  <a:pt x="20793" y="15162"/>
                  <a:pt x="20807" y="15215"/>
                </a:cubicBezTo>
                <a:cubicBezTo>
                  <a:pt x="20824" y="15278"/>
                  <a:pt x="20863" y="15324"/>
                  <a:pt x="20916" y="15361"/>
                </a:cubicBezTo>
                <a:cubicBezTo>
                  <a:pt x="20963" y="15394"/>
                  <a:pt x="21019" y="15412"/>
                  <a:pt x="21076" y="15401"/>
                </a:cubicBezTo>
                <a:cubicBezTo>
                  <a:pt x="21089" y="15397"/>
                  <a:pt x="21101" y="15392"/>
                  <a:pt x="21114" y="15388"/>
                </a:cubicBezTo>
              </a:path>
              <a:path w="4051" h="776">
                <a:moveTo>
                  <a:pt x="21441" y="14962"/>
                </a:moveTo>
                <a:cubicBezTo>
                  <a:pt x="21432" y="14940"/>
                  <a:pt x="21417" y="14939"/>
                  <a:pt x="21391" y="14939"/>
                </a:cubicBezTo>
                <a:cubicBezTo>
                  <a:pt x="21357" y="14939"/>
                  <a:pt x="21330" y="14952"/>
                  <a:pt x="21306" y="14976"/>
                </a:cubicBezTo>
                <a:cubicBezTo>
                  <a:pt x="21281" y="15001"/>
                  <a:pt x="21269" y="15036"/>
                  <a:pt x="21277" y="15071"/>
                </a:cubicBezTo>
                <a:cubicBezTo>
                  <a:pt x="21288" y="15117"/>
                  <a:pt x="21325" y="15159"/>
                  <a:pt x="21350" y="15198"/>
                </a:cubicBezTo>
                <a:cubicBezTo>
                  <a:pt x="21379" y="15243"/>
                  <a:pt x="21413" y="15286"/>
                  <a:pt x="21421" y="15340"/>
                </a:cubicBezTo>
                <a:cubicBezTo>
                  <a:pt x="21427" y="15377"/>
                  <a:pt x="21421" y="15428"/>
                  <a:pt x="21397" y="15458"/>
                </a:cubicBezTo>
                <a:cubicBezTo>
                  <a:pt x="21377" y="15483"/>
                  <a:pt x="21347" y="15494"/>
                  <a:pt x="21316" y="15490"/>
                </a:cubicBezTo>
                <a:cubicBezTo>
                  <a:pt x="21279" y="15486"/>
                  <a:pt x="21271" y="15454"/>
                  <a:pt x="21259" y="154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171440" y="5997600"/>
            <a:ext cx="1903680" cy="390600"/>
          </a:xfrm>
          <a:custGeom>
            <a:avLst/>
            <a:gdLst/>
            <a:ahLst/>
            <a:rect l="l" t="t" r="r" b="b"/>
            <a:pathLst>
              <a:path w="5284" h="1086">
                <a:moveTo>
                  <a:pt x="3284" y="17060"/>
                </a:moveTo>
                <a:cubicBezTo>
                  <a:pt x="3291" y="17116"/>
                  <a:pt x="3294" y="17172"/>
                  <a:pt x="3297" y="17229"/>
                </a:cubicBezTo>
                <a:cubicBezTo>
                  <a:pt x="3302" y="17325"/>
                  <a:pt x="3307" y="17422"/>
                  <a:pt x="3309" y="17518"/>
                </a:cubicBezTo>
                <a:cubicBezTo>
                  <a:pt x="3310" y="17588"/>
                  <a:pt x="3310" y="17659"/>
                  <a:pt x="3311" y="17729"/>
                </a:cubicBezTo>
                <a:cubicBezTo>
                  <a:pt x="3311" y="17734"/>
                  <a:pt x="3311" y="17740"/>
                  <a:pt x="3311" y="17745"/>
                </a:cubicBezTo>
                <a:cubicBezTo>
                  <a:pt x="3314" y="17709"/>
                  <a:pt x="3313" y="17672"/>
                  <a:pt x="3311" y="17636"/>
                </a:cubicBezTo>
                <a:cubicBezTo>
                  <a:pt x="3306" y="17565"/>
                  <a:pt x="3293" y="17495"/>
                  <a:pt x="3282" y="17424"/>
                </a:cubicBezTo>
                <a:cubicBezTo>
                  <a:pt x="3271" y="17354"/>
                  <a:pt x="3257" y="17282"/>
                  <a:pt x="3256" y="17210"/>
                </a:cubicBezTo>
                <a:cubicBezTo>
                  <a:pt x="3256" y="17162"/>
                  <a:pt x="3260" y="17132"/>
                  <a:pt x="3296" y="17103"/>
                </a:cubicBezTo>
                <a:cubicBezTo>
                  <a:pt x="3339" y="17101"/>
                  <a:pt x="3362" y="17115"/>
                  <a:pt x="3385" y="17155"/>
                </a:cubicBezTo>
                <a:cubicBezTo>
                  <a:pt x="3419" y="17215"/>
                  <a:pt x="3422" y="17297"/>
                  <a:pt x="3401" y="17362"/>
                </a:cubicBezTo>
                <a:cubicBezTo>
                  <a:pt x="3391" y="17393"/>
                  <a:pt x="3369" y="17439"/>
                  <a:pt x="3340" y="17456"/>
                </a:cubicBezTo>
                <a:cubicBezTo>
                  <a:pt x="3337" y="17457"/>
                  <a:pt x="3333" y="17457"/>
                  <a:pt x="3330" y="17458"/>
                </a:cubicBezTo>
                <a:cubicBezTo>
                  <a:pt x="3328" y="17447"/>
                  <a:pt x="3326" y="17412"/>
                  <a:pt x="3338" y="17378"/>
                </a:cubicBezTo>
                <a:cubicBezTo>
                  <a:pt x="3342" y="17367"/>
                  <a:pt x="3347" y="17355"/>
                  <a:pt x="3351" y="17344"/>
                </a:cubicBezTo>
              </a:path>
              <a:path w="5284" h="1086">
                <a:moveTo>
                  <a:pt x="3601" y="17256"/>
                </a:moveTo>
                <a:cubicBezTo>
                  <a:pt x="3623" y="17276"/>
                  <a:pt x="3643" y="17294"/>
                  <a:pt x="3676" y="17283"/>
                </a:cubicBezTo>
                <a:cubicBezTo>
                  <a:pt x="3727" y="17266"/>
                  <a:pt x="3772" y="17201"/>
                  <a:pt x="3774" y="17148"/>
                </a:cubicBezTo>
                <a:cubicBezTo>
                  <a:pt x="3775" y="17117"/>
                  <a:pt x="3751" y="17099"/>
                  <a:pt x="3721" y="17104"/>
                </a:cubicBezTo>
                <a:cubicBezTo>
                  <a:pt x="3678" y="17111"/>
                  <a:pt x="3647" y="17153"/>
                  <a:pt x="3629" y="17189"/>
                </a:cubicBezTo>
                <a:cubicBezTo>
                  <a:pt x="3607" y="17232"/>
                  <a:pt x="3602" y="17291"/>
                  <a:pt x="3623" y="17336"/>
                </a:cubicBezTo>
                <a:cubicBezTo>
                  <a:pt x="3645" y="17383"/>
                  <a:pt x="3689" y="17411"/>
                  <a:pt x="3740" y="17413"/>
                </a:cubicBezTo>
                <a:cubicBezTo>
                  <a:pt x="3789" y="17415"/>
                  <a:pt x="3826" y="17396"/>
                  <a:pt x="3867" y="17372"/>
                </a:cubicBezTo>
              </a:path>
              <a:path w="5284" h="1086">
                <a:moveTo>
                  <a:pt x="3921" y="17362"/>
                </a:moveTo>
                <a:cubicBezTo>
                  <a:pt x="3925" y="17376"/>
                  <a:pt x="3929" y="17389"/>
                  <a:pt x="3932" y="17403"/>
                </a:cubicBezTo>
                <a:cubicBezTo>
                  <a:pt x="3951" y="17386"/>
                  <a:pt x="3951" y="17368"/>
                  <a:pt x="3955" y="17342"/>
                </a:cubicBezTo>
                <a:cubicBezTo>
                  <a:pt x="3961" y="17306"/>
                  <a:pt x="3964" y="17273"/>
                  <a:pt x="3979" y="17239"/>
                </a:cubicBezTo>
                <a:cubicBezTo>
                  <a:pt x="3994" y="17205"/>
                  <a:pt x="4010" y="17183"/>
                  <a:pt x="4042" y="17165"/>
                </a:cubicBezTo>
                <a:cubicBezTo>
                  <a:pt x="4066" y="17152"/>
                  <a:pt x="4097" y="17151"/>
                  <a:pt x="4124" y="17148"/>
                </a:cubicBezTo>
                <a:cubicBezTo>
                  <a:pt x="4147" y="17145"/>
                  <a:pt x="4167" y="17141"/>
                  <a:pt x="4190" y="17135"/>
                </a:cubicBezTo>
              </a:path>
              <a:path w="5284" h="1086">
                <a:moveTo>
                  <a:pt x="4416" y="16782"/>
                </a:moveTo>
                <a:cubicBezTo>
                  <a:pt x="4416" y="16776"/>
                  <a:pt x="4416" y="16771"/>
                  <a:pt x="4416" y="16765"/>
                </a:cubicBezTo>
                <a:cubicBezTo>
                  <a:pt x="4423" y="16803"/>
                  <a:pt x="4428" y="16840"/>
                  <a:pt x="4433" y="16878"/>
                </a:cubicBezTo>
                <a:cubicBezTo>
                  <a:pt x="4443" y="16948"/>
                  <a:pt x="4452" y="17021"/>
                  <a:pt x="4468" y="17090"/>
                </a:cubicBezTo>
                <a:cubicBezTo>
                  <a:pt x="4483" y="17154"/>
                  <a:pt x="4497" y="17219"/>
                  <a:pt x="4511" y="17283"/>
                </a:cubicBezTo>
                <a:cubicBezTo>
                  <a:pt x="4511" y="17283"/>
                  <a:pt x="4532" y="17382"/>
                  <a:pt x="4514" y="17338"/>
                </a:cubicBezTo>
                <a:cubicBezTo>
                  <a:pt x="4512" y="17330"/>
                  <a:pt x="4509" y="17323"/>
                  <a:pt x="4507" y="17315"/>
                </a:cubicBezTo>
              </a:path>
              <a:path w="5284" h="1086">
                <a:moveTo>
                  <a:pt x="4264" y="17064"/>
                </a:moveTo>
                <a:cubicBezTo>
                  <a:pt x="4250" y="17061"/>
                  <a:pt x="4245" y="17060"/>
                  <a:pt x="4236" y="17059"/>
                </a:cubicBezTo>
                <a:cubicBezTo>
                  <a:pt x="4270" y="17057"/>
                  <a:pt x="4303" y="17057"/>
                  <a:pt x="4337" y="17053"/>
                </a:cubicBezTo>
                <a:cubicBezTo>
                  <a:pt x="4403" y="17045"/>
                  <a:pt x="4470" y="17037"/>
                  <a:pt x="4536" y="17026"/>
                </a:cubicBezTo>
                <a:cubicBezTo>
                  <a:pt x="4580" y="17019"/>
                  <a:pt x="4619" y="17007"/>
                  <a:pt x="4661" y="16993"/>
                </a:cubicBezTo>
              </a:path>
              <a:path w="5284" h="1086">
                <a:moveTo>
                  <a:pt x="4950" y="17070"/>
                </a:moveTo>
                <a:cubicBezTo>
                  <a:pt x="4942" y="17100"/>
                  <a:pt x="4936" y="17130"/>
                  <a:pt x="4939" y="17162"/>
                </a:cubicBezTo>
                <a:cubicBezTo>
                  <a:pt x="4943" y="17205"/>
                  <a:pt x="4949" y="17260"/>
                  <a:pt x="4973" y="17297"/>
                </a:cubicBezTo>
                <a:cubicBezTo>
                  <a:pt x="4991" y="17326"/>
                  <a:pt x="5025" y="17340"/>
                  <a:pt x="5057" y="17324"/>
                </a:cubicBezTo>
                <a:cubicBezTo>
                  <a:pt x="5088" y="17308"/>
                  <a:pt x="5116" y="17271"/>
                  <a:pt x="5132" y="17241"/>
                </a:cubicBezTo>
                <a:cubicBezTo>
                  <a:pt x="5148" y="17212"/>
                  <a:pt x="5150" y="17186"/>
                  <a:pt x="5149" y="17154"/>
                </a:cubicBezTo>
                <a:cubicBezTo>
                  <a:pt x="5148" y="17138"/>
                  <a:pt x="5146" y="17123"/>
                  <a:pt x="5143" y="17107"/>
                </a:cubicBezTo>
              </a:path>
              <a:path w="5284" h="1086">
                <a:moveTo>
                  <a:pt x="5302" y="17224"/>
                </a:moveTo>
                <a:cubicBezTo>
                  <a:pt x="5326" y="17261"/>
                  <a:pt x="5350" y="17302"/>
                  <a:pt x="5384" y="17331"/>
                </a:cubicBezTo>
                <a:cubicBezTo>
                  <a:pt x="5389" y="17335"/>
                  <a:pt x="5394" y="17338"/>
                  <a:pt x="5399" y="17342"/>
                </a:cubicBezTo>
                <a:cubicBezTo>
                  <a:pt x="5409" y="17315"/>
                  <a:pt x="5412" y="17293"/>
                  <a:pt x="5410" y="17264"/>
                </a:cubicBezTo>
                <a:cubicBezTo>
                  <a:pt x="5407" y="17221"/>
                  <a:pt x="5404" y="17185"/>
                  <a:pt x="5410" y="17142"/>
                </a:cubicBezTo>
                <a:cubicBezTo>
                  <a:pt x="5415" y="17108"/>
                  <a:pt x="5427" y="17079"/>
                  <a:pt x="5458" y="17060"/>
                </a:cubicBezTo>
                <a:cubicBezTo>
                  <a:pt x="5491" y="17040"/>
                  <a:pt x="5533" y="17043"/>
                  <a:pt x="5569" y="17036"/>
                </a:cubicBezTo>
                <a:cubicBezTo>
                  <a:pt x="5577" y="17034"/>
                  <a:pt x="5585" y="17032"/>
                  <a:pt x="5593" y="17030"/>
                </a:cubicBezTo>
              </a:path>
              <a:path w="5284" h="1086">
                <a:moveTo>
                  <a:pt x="5814" y="16715"/>
                </a:moveTo>
                <a:cubicBezTo>
                  <a:pt x="5808" y="16780"/>
                  <a:pt x="5814" y="16843"/>
                  <a:pt x="5828" y="16907"/>
                </a:cubicBezTo>
                <a:cubicBezTo>
                  <a:pt x="5841" y="16965"/>
                  <a:pt x="5854" y="17032"/>
                  <a:pt x="5879" y="17086"/>
                </a:cubicBezTo>
                <a:cubicBezTo>
                  <a:pt x="5893" y="17117"/>
                  <a:pt x="5914" y="17145"/>
                  <a:pt x="5949" y="17132"/>
                </a:cubicBezTo>
                <a:cubicBezTo>
                  <a:pt x="6001" y="17113"/>
                  <a:pt x="6041" y="17060"/>
                  <a:pt x="6090" y="17034"/>
                </a:cubicBezTo>
                <a:cubicBezTo>
                  <a:pt x="6140" y="17007"/>
                  <a:pt x="6198" y="17000"/>
                  <a:pt x="6229" y="17056"/>
                </a:cubicBezTo>
                <a:cubicBezTo>
                  <a:pt x="6252" y="17096"/>
                  <a:pt x="6251" y="17155"/>
                  <a:pt x="6241" y="17199"/>
                </a:cubicBezTo>
                <a:cubicBezTo>
                  <a:pt x="6232" y="17237"/>
                  <a:pt x="6209" y="17279"/>
                  <a:pt x="6173" y="17297"/>
                </a:cubicBezTo>
                <a:cubicBezTo>
                  <a:pt x="6146" y="17310"/>
                  <a:pt x="6110" y="17310"/>
                  <a:pt x="6083" y="17297"/>
                </a:cubicBezTo>
                <a:cubicBezTo>
                  <a:pt x="6053" y="17283"/>
                  <a:pt x="6044" y="17255"/>
                  <a:pt x="6041" y="17224"/>
                </a:cubicBezTo>
                <a:cubicBezTo>
                  <a:pt x="6042" y="17198"/>
                  <a:pt x="6043" y="17189"/>
                  <a:pt x="6047" y="17172"/>
                </a:cubicBezTo>
              </a:path>
              <a:path w="5284" h="1086">
                <a:moveTo>
                  <a:pt x="6587" y="17020"/>
                </a:moveTo>
                <a:cubicBezTo>
                  <a:pt x="6573" y="17041"/>
                  <a:pt x="6559" y="17051"/>
                  <a:pt x="6541" y="17068"/>
                </a:cubicBezTo>
                <a:cubicBezTo>
                  <a:pt x="6520" y="17088"/>
                  <a:pt x="6499" y="17110"/>
                  <a:pt x="6486" y="17137"/>
                </a:cubicBezTo>
                <a:cubicBezTo>
                  <a:pt x="6474" y="17161"/>
                  <a:pt x="6473" y="17197"/>
                  <a:pt x="6506" y="17203"/>
                </a:cubicBezTo>
                <a:cubicBezTo>
                  <a:pt x="6533" y="17208"/>
                  <a:pt x="6559" y="17197"/>
                  <a:pt x="6581" y="17182"/>
                </a:cubicBezTo>
                <a:cubicBezTo>
                  <a:pt x="6601" y="17168"/>
                  <a:pt x="6618" y="17150"/>
                  <a:pt x="6634" y="17131"/>
                </a:cubicBezTo>
                <a:cubicBezTo>
                  <a:pt x="6649" y="17157"/>
                  <a:pt x="6658" y="17187"/>
                  <a:pt x="6675" y="17212"/>
                </a:cubicBezTo>
                <a:cubicBezTo>
                  <a:pt x="6692" y="17237"/>
                  <a:pt x="6718" y="17265"/>
                  <a:pt x="6751" y="17263"/>
                </a:cubicBezTo>
                <a:cubicBezTo>
                  <a:pt x="6780" y="17256"/>
                  <a:pt x="6789" y="17254"/>
                  <a:pt x="6802" y="17237"/>
                </a:cubicBezTo>
              </a:path>
              <a:path w="5284" h="1086">
                <a:moveTo>
                  <a:pt x="6941" y="16673"/>
                </a:moveTo>
                <a:cubicBezTo>
                  <a:pt x="6939" y="16669"/>
                  <a:pt x="6938" y="16664"/>
                  <a:pt x="6936" y="16660"/>
                </a:cubicBezTo>
                <a:cubicBezTo>
                  <a:pt x="6936" y="16693"/>
                  <a:pt x="6942" y="16720"/>
                  <a:pt x="6951" y="16752"/>
                </a:cubicBezTo>
                <a:cubicBezTo>
                  <a:pt x="6970" y="16817"/>
                  <a:pt x="6994" y="16879"/>
                  <a:pt x="7019" y="16941"/>
                </a:cubicBezTo>
                <a:cubicBezTo>
                  <a:pt x="7042" y="16999"/>
                  <a:pt x="7072" y="17058"/>
                  <a:pt x="7083" y="17120"/>
                </a:cubicBezTo>
                <a:cubicBezTo>
                  <a:pt x="7084" y="17132"/>
                  <a:pt x="7085" y="17136"/>
                  <a:pt x="7086" y="17144"/>
                </a:cubicBezTo>
              </a:path>
              <a:path w="5284" h="1086">
                <a:moveTo>
                  <a:pt x="6799" y="16861"/>
                </a:moveTo>
                <a:cubicBezTo>
                  <a:pt x="6836" y="16867"/>
                  <a:pt x="6873" y="16871"/>
                  <a:pt x="6911" y="16878"/>
                </a:cubicBezTo>
                <a:cubicBezTo>
                  <a:pt x="6972" y="16889"/>
                  <a:pt x="7033" y="16900"/>
                  <a:pt x="7093" y="16917"/>
                </a:cubicBezTo>
                <a:cubicBezTo>
                  <a:pt x="7153" y="16934"/>
                  <a:pt x="7211" y="16957"/>
                  <a:pt x="7264" y="16991"/>
                </a:cubicBezTo>
                <a:cubicBezTo>
                  <a:pt x="7307" y="17019"/>
                  <a:pt x="7346" y="17055"/>
                  <a:pt x="7374" y="17098"/>
                </a:cubicBezTo>
                <a:cubicBezTo>
                  <a:pt x="7393" y="17127"/>
                  <a:pt x="7410" y="17160"/>
                  <a:pt x="7412" y="17195"/>
                </a:cubicBezTo>
                <a:cubicBezTo>
                  <a:pt x="7412" y="17209"/>
                  <a:pt x="7412" y="17214"/>
                  <a:pt x="7411" y="17223"/>
                </a:cubicBezTo>
                <a:cubicBezTo>
                  <a:pt x="7395" y="17195"/>
                  <a:pt x="7390" y="17171"/>
                  <a:pt x="7385" y="17139"/>
                </a:cubicBezTo>
                <a:cubicBezTo>
                  <a:pt x="7379" y="17100"/>
                  <a:pt x="7377" y="17086"/>
                  <a:pt x="7374" y="17060"/>
                </a:cubicBezTo>
              </a:path>
              <a:path w="5284" h="1086">
                <a:moveTo>
                  <a:pt x="7374" y="16717"/>
                </a:moveTo>
                <a:cubicBezTo>
                  <a:pt x="7392" y="16728"/>
                  <a:pt x="7405" y="16740"/>
                  <a:pt x="7420" y="16755"/>
                </a:cubicBezTo>
                <a:cubicBezTo>
                  <a:pt x="7442" y="16776"/>
                  <a:pt x="7464" y="16794"/>
                  <a:pt x="7487" y="16813"/>
                </a:cubicBezTo>
                <a:cubicBezTo>
                  <a:pt x="7509" y="16831"/>
                  <a:pt x="7528" y="16850"/>
                  <a:pt x="7547" y="16870"/>
                </a:cubicBezTo>
              </a:path>
              <a:path w="5284" h="1086">
                <a:moveTo>
                  <a:pt x="7585" y="16910"/>
                </a:moveTo>
                <a:cubicBezTo>
                  <a:pt x="7616" y="16951"/>
                  <a:pt x="7637" y="16990"/>
                  <a:pt x="7659" y="17036"/>
                </a:cubicBezTo>
                <a:cubicBezTo>
                  <a:pt x="7674" y="17067"/>
                  <a:pt x="7688" y="17098"/>
                  <a:pt x="7714" y="17122"/>
                </a:cubicBezTo>
                <a:cubicBezTo>
                  <a:pt x="7742" y="17147"/>
                  <a:pt x="7776" y="17138"/>
                  <a:pt x="7803" y="17115"/>
                </a:cubicBezTo>
                <a:cubicBezTo>
                  <a:pt x="7824" y="17097"/>
                  <a:pt x="7833" y="17071"/>
                  <a:pt x="7832" y="17044"/>
                </a:cubicBezTo>
                <a:cubicBezTo>
                  <a:pt x="7830" y="17012"/>
                  <a:pt x="7804" y="16980"/>
                  <a:pt x="7781" y="16959"/>
                </a:cubicBezTo>
                <a:cubicBezTo>
                  <a:pt x="7760" y="16940"/>
                  <a:pt x="7730" y="16919"/>
                  <a:pt x="7704" y="16907"/>
                </a:cubicBezTo>
                <a:cubicBezTo>
                  <a:pt x="7668" y="16890"/>
                  <a:pt x="7685" y="16897"/>
                  <a:pt x="7714" y="16907"/>
                </a:cubicBezTo>
                <a:cubicBezTo>
                  <a:pt x="7757" y="16922"/>
                  <a:pt x="7798" y="16941"/>
                  <a:pt x="7836" y="16965"/>
                </a:cubicBezTo>
                <a:cubicBezTo>
                  <a:pt x="7878" y="16991"/>
                  <a:pt x="7918" y="17022"/>
                  <a:pt x="7959" y="17050"/>
                </a:cubicBezTo>
                <a:cubicBezTo>
                  <a:pt x="7987" y="17069"/>
                  <a:pt x="8013" y="17087"/>
                  <a:pt x="8047" y="17078"/>
                </a:cubicBezTo>
                <a:cubicBezTo>
                  <a:pt x="8082" y="17069"/>
                  <a:pt x="8107" y="17034"/>
                  <a:pt x="8131" y="17009"/>
                </a:cubicBezTo>
                <a:cubicBezTo>
                  <a:pt x="8152" y="16987"/>
                  <a:pt x="8172" y="16955"/>
                  <a:pt x="8205" y="16952"/>
                </a:cubicBezTo>
                <a:cubicBezTo>
                  <a:pt x="8234" y="16949"/>
                  <a:pt x="8243" y="16993"/>
                  <a:pt x="8248" y="17015"/>
                </a:cubicBezTo>
                <a:cubicBezTo>
                  <a:pt x="8256" y="17047"/>
                  <a:pt x="8257" y="17082"/>
                  <a:pt x="8274" y="17111"/>
                </a:cubicBezTo>
                <a:cubicBezTo>
                  <a:pt x="8278" y="17116"/>
                  <a:pt x="8281" y="17120"/>
                  <a:pt x="8285" y="17125"/>
                </a:cubicBezTo>
              </a:path>
              <a:path w="5284" h="1086">
                <a:moveTo>
                  <a:pt x="8495" y="17071"/>
                </a:moveTo>
                <a:cubicBezTo>
                  <a:pt x="8508" y="17066"/>
                  <a:pt x="8517" y="17061"/>
                  <a:pt x="8528" y="17054"/>
                </a:cubicBezTo>
              </a:path>
              <a:path w="5284" h="1086">
                <a:moveTo>
                  <a:pt x="8502" y="17074"/>
                </a:moveTo>
                <a:cubicBezTo>
                  <a:pt x="8526" y="17078"/>
                  <a:pt x="8527" y="17082"/>
                  <a:pt x="8539" y="17104"/>
                </a:cubicBezTo>
                <a:cubicBezTo>
                  <a:pt x="8536" y="17087"/>
                  <a:pt x="8531" y="17071"/>
                  <a:pt x="8525" y="17054"/>
                </a:cubicBezTo>
                <a:cubicBezTo>
                  <a:pt x="8524" y="17050"/>
                  <a:pt x="8522" y="17047"/>
                  <a:pt x="8521" y="17043"/>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660840" y="5946840"/>
            <a:ext cx="1176120" cy="322200"/>
          </a:xfrm>
          <a:custGeom>
            <a:avLst/>
            <a:gdLst/>
            <a:ahLst/>
            <a:rect l="l" t="t" r="r" b="b"/>
            <a:pathLst>
              <a:path w="3265" h="896">
                <a:moveTo>
                  <a:pt x="10171" y="16758"/>
                </a:moveTo>
                <a:cubicBezTo>
                  <a:pt x="10180" y="16801"/>
                  <a:pt x="10183" y="16846"/>
                  <a:pt x="10187" y="16890"/>
                </a:cubicBezTo>
                <a:cubicBezTo>
                  <a:pt x="10194" y="16964"/>
                  <a:pt x="10206" y="17037"/>
                  <a:pt x="10218" y="17110"/>
                </a:cubicBezTo>
                <a:cubicBezTo>
                  <a:pt x="10225" y="17151"/>
                  <a:pt x="10230" y="17193"/>
                  <a:pt x="10238" y="17234"/>
                </a:cubicBezTo>
                <a:cubicBezTo>
                  <a:pt x="10239" y="17238"/>
                  <a:pt x="10240" y="17243"/>
                  <a:pt x="10241" y="17247"/>
                </a:cubicBezTo>
                <a:cubicBezTo>
                  <a:pt x="10240" y="17197"/>
                  <a:pt x="10235" y="17147"/>
                  <a:pt x="10228" y="17097"/>
                </a:cubicBezTo>
                <a:cubicBezTo>
                  <a:pt x="10213" y="16989"/>
                  <a:pt x="10192" y="16882"/>
                  <a:pt x="10190" y="16772"/>
                </a:cubicBezTo>
                <a:cubicBezTo>
                  <a:pt x="10189" y="16702"/>
                  <a:pt x="10190" y="16622"/>
                  <a:pt x="10224" y="16559"/>
                </a:cubicBezTo>
                <a:cubicBezTo>
                  <a:pt x="10245" y="16520"/>
                  <a:pt x="10282" y="16504"/>
                  <a:pt x="10320" y="16530"/>
                </a:cubicBezTo>
                <a:cubicBezTo>
                  <a:pt x="10374" y="16567"/>
                  <a:pt x="10389" y="16647"/>
                  <a:pt x="10390" y="16707"/>
                </a:cubicBezTo>
                <a:cubicBezTo>
                  <a:pt x="10391" y="16751"/>
                  <a:pt x="10384" y="16804"/>
                  <a:pt x="10363" y="16843"/>
                </a:cubicBezTo>
                <a:cubicBezTo>
                  <a:pt x="10357" y="16854"/>
                  <a:pt x="10333" y="16883"/>
                  <a:pt x="10316" y="16869"/>
                </a:cubicBezTo>
                <a:cubicBezTo>
                  <a:pt x="10305" y="16860"/>
                  <a:pt x="10309" y="16825"/>
                  <a:pt x="10309" y="16813"/>
                </a:cubicBezTo>
              </a:path>
              <a:path w="3265" h="896">
                <a:moveTo>
                  <a:pt x="10720" y="16948"/>
                </a:moveTo>
                <a:cubicBezTo>
                  <a:pt x="10723" y="16985"/>
                  <a:pt x="10714" y="16989"/>
                  <a:pt x="10689" y="17015"/>
                </a:cubicBezTo>
                <a:cubicBezTo>
                  <a:pt x="10662" y="17043"/>
                  <a:pt x="10633" y="17072"/>
                  <a:pt x="10614" y="17107"/>
                </a:cubicBezTo>
                <a:cubicBezTo>
                  <a:pt x="10597" y="17139"/>
                  <a:pt x="10578" y="17180"/>
                  <a:pt x="10589" y="17217"/>
                </a:cubicBezTo>
                <a:cubicBezTo>
                  <a:pt x="10601" y="17256"/>
                  <a:pt x="10635" y="17262"/>
                  <a:pt x="10670" y="17251"/>
                </a:cubicBezTo>
                <a:cubicBezTo>
                  <a:pt x="10733" y="17231"/>
                  <a:pt x="10801" y="17173"/>
                  <a:pt x="10819" y="17107"/>
                </a:cubicBezTo>
                <a:cubicBezTo>
                  <a:pt x="10828" y="17072"/>
                  <a:pt x="10808" y="17044"/>
                  <a:pt x="10779" y="17027"/>
                </a:cubicBezTo>
                <a:cubicBezTo>
                  <a:pt x="10748" y="17009"/>
                  <a:pt x="10708" y="17000"/>
                  <a:pt x="10674" y="16989"/>
                </a:cubicBezTo>
                <a:cubicBezTo>
                  <a:pt x="10658" y="16985"/>
                  <a:pt x="10653" y="16983"/>
                  <a:pt x="10643" y="16979"/>
                </a:cubicBezTo>
              </a:path>
              <a:path w="3265" h="896">
                <a:moveTo>
                  <a:pt x="11193" y="16968"/>
                </a:moveTo>
                <a:cubicBezTo>
                  <a:pt x="11198" y="16969"/>
                  <a:pt x="11204" y="16971"/>
                  <a:pt x="11209" y="16972"/>
                </a:cubicBezTo>
                <a:cubicBezTo>
                  <a:pt x="11186" y="16988"/>
                  <a:pt x="11161" y="16994"/>
                  <a:pt x="11134" y="17002"/>
                </a:cubicBezTo>
                <a:cubicBezTo>
                  <a:pt x="11101" y="17012"/>
                  <a:pt x="11071" y="17021"/>
                  <a:pt x="11042" y="17040"/>
                </a:cubicBezTo>
                <a:cubicBezTo>
                  <a:pt x="11026" y="17051"/>
                  <a:pt x="11021" y="17054"/>
                  <a:pt x="11011" y="17061"/>
                </a:cubicBezTo>
                <a:cubicBezTo>
                  <a:pt x="11041" y="17089"/>
                  <a:pt x="11079" y="17107"/>
                  <a:pt x="11110" y="17134"/>
                </a:cubicBezTo>
                <a:cubicBezTo>
                  <a:pt x="11147" y="17166"/>
                  <a:pt x="11171" y="17205"/>
                  <a:pt x="11179" y="17253"/>
                </a:cubicBezTo>
                <a:cubicBezTo>
                  <a:pt x="11186" y="17293"/>
                  <a:pt x="11179" y="17336"/>
                  <a:pt x="11159" y="17372"/>
                </a:cubicBezTo>
                <a:cubicBezTo>
                  <a:pt x="11147" y="17394"/>
                  <a:pt x="11128" y="17402"/>
                  <a:pt x="11107" y="17412"/>
                </a:cubicBezTo>
                <a:cubicBezTo>
                  <a:pt x="11103" y="17391"/>
                  <a:pt x="11103" y="17374"/>
                  <a:pt x="11104" y="17352"/>
                </a:cubicBezTo>
              </a:path>
              <a:path w="3265" h="896">
                <a:moveTo>
                  <a:pt x="11385" y="17073"/>
                </a:moveTo>
                <a:cubicBezTo>
                  <a:pt x="11411" y="17109"/>
                  <a:pt x="11421" y="17145"/>
                  <a:pt x="11425" y="17190"/>
                </a:cubicBezTo>
                <a:cubicBezTo>
                  <a:pt x="11429" y="17233"/>
                  <a:pt x="11421" y="17278"/>
                  <a:pt x="11430" y="17321"/>
                </a:cubicBezTo>
                <a:cubicBezTo>
                  <a:pt x="11436" y="17339"/>
                  <a:pt x="11439" y="17345"/>
                  <a:pt x="11442" y="17358"/>
                </a:cubicBezTo>
                <a:cubicBezTo>
                  <a:pt x="11452" y="17333"/>
                  <a:pt x="11457" y="17312"/>
                  <a:pt x="11459" y="17285"/>
                </a:cubicBezTo>
              </a:path>
              <a:path w="3265" h="896">
                <a:moveTo>
                  <a:pt x="11739" y="16551"/>
                </a:moveTo>
                <a:cubicBezTo>
                  <a:pt x="11767" y="16523"/>
                  <a:pt x="11756" y="16533"/>
                  <a:pt x="11761" y="16574"/>
                </a:cubicBezTo>
                <a:cubicBezTo>
                  <a:pt x="11776" y="16690"/>
                  <a:pt x="11797" y="16804"/>
                  <a:pt x="11822" y="16918"/>
                </a:cubicBezTo>
                <a:cubicBezTo>
                  <a:pt x="11851" y="17051"/>
                  <a:pt x="11892" y="17186"/>
                  <a:pt x="11907" y="17322"/>
                </a:cubicBezTo>
                <a:cubicBezTo>
                  <a:pt x="11908" y="17328"/>
                  <a:pt x="11918" y="17421"/>
                  <a:pt x="11900" y="17383"/>
                </a:cubicBezTo>
                <a:cubicBezTo>
                  <a:pt x="11897" y="17376"/>
                  <a:pt x="11895" y="17369"/>
                  <a:pt x="11892" y="17362"/>
                </a:cubicBezTo>
              </a:path>
              <a:path w="3265" h="896">
                <a:moveTo>
                  <a:pt x="11674" y="16975"/>
                </a:moveTo>
                <a:cubicBezTo>
                  <a:pt x="11693" y="16998"/>
                  <a:pt x="11702" y="16998"/>
                  <a:pt x="11731" y="17006"/>
                </a:cubicBezTo>
                <a:cubicBezTo>
                  <a:pt x="11812" y="17030"/>
                  <a:pt x="11892" y="17046"/>
                  <a:pt x="11975" y="17060"/>
                </a:cubicBezTo>
                <a:cubicBezTo>
                  <a:pt x="12040" y="17071"/>
                  <a:pt x="12104" y="17075"/>
                  <a:pt x="12169" y="17084"/>
                </a:cubicBezTo>
                <a:cubicBezTo>
                  <a:pt x="12205" y="17089"/>
                  <a:pt x="12247" y="17090"/>
                  <a:pt x="12268" y="17125"/>
                </a:cubicBezTo>
                <a:cubicBezTo>
                  <a:pt x="12287" y="17158"/>
                  <a:pt x="12284" y="17211"/>
                  <a:pt x="12280" y="17247"/>
                </a:cubicBezTo>
                <a:cubicBezTo>
                  <a:pt x="12276" y="17282"/>
                  <a:pt x="12269" y="17317"/>
                  <a:pt x="12264" y="17352"/>
                </a:cubicBezTo>
                <a:cubicBezTo>
                  <a:pt x="12263" y="17358"/>
                  <a:pt x="12262" y="17363"/>
                  <a:pt x="12261" y="17369"/>
                </a:cubicBezTo>
                <a:cubicBezTo>
                  <a:pt x="12260" y="17335"/>
                  <a:pt x="12259" y="17302"/>
                  <a:pt x="12254" y="17268"/>
                </a:cubicBezTo>
              </a:path>
              <a:path w="3265" h="896">
                <a:moveTo>
                  <a:pt x="12124" y="16768"/>
                </a:moveTo>
                <a:cubicBezTo>
                  <a:pt x="12154" y="16767"/>
                  <a:pt x="12170" y="16767"/>
                  <a:pt x="12194" y="16785"/>
                </a:cubicBezTo>
                <a:cubicBezTo>
                  <a:pt x="12200" y="16790"/>
                  <a:pt x="12205" y="16794"/>
                  <a:pt x="12211" y="16799"/>
                </a:cubicBezTo>
              </a:path>
              <a:path w="3265" h="896">
                <a:moveTo>
                  <a:pt x="12521" y="17145"/>
                </a:moveTo>
                <a:cubicBezTo>
                  <a:pt x="12563" y="17190"/>
                  <a:pt x="12603" y="17236"/>
                  <a:pt x="12641" y="17285"/>
                </a:cubicBezTo>
                <a:cubicBezTo>
                  <a:pt x="12661" y="17311"/>
                  <a:pt x="12679" y="17350"/>
                  <a:pt x="12706" y="17370"/>
                </a:cubicBezTo>
                <a:cubicBezTo>
                  <a:pt x="12727" y="17386"/>
                  <a:pt x="12743" y="17363"/>
                  <a:pt x="12755" y="17348"/>
                </a:cubicBezTo>
                <a:cubicBezTo>
                  <a:pt x="12779" y="17317"/>
                  <a:pt x="12788" y="17270"/>
                  <a:pt x="12794" y="17232"/>
                </a:cubicBezTo>
                <a:cubicBezTo>
                  <a:pt x="12802" y="17182"/>
                  <a:pt x="12803" y="17131"/>
                  <a:pt x="12807" y="17081"/>
                </a:cubicBezTo>
                <a:cubicBezTo>
                  <a:pt x="12811" y="17040"/>
                  <a:pt x="12815" y="17000"/>
                  <a:pt x="12823" y="16959"/>
                </a:cubicBezTo>
              </a:path>
              <a:path w="3265" h="896">
                <a:moveTo>
                  <a:pt x="13224" y="17071"/>
                </a:moveTo>
                <a:cubicBezTo>
                  <a:pt x="13245" y="17071"/>
                  <a:pt x="13271" y="17066"/>
                  <a:pt x="13288" y="17050"/>
                </a:cubicBezTo>
                <a:cubicBezTo>
                  <a:pt x="13307" y="17032"/>
                  <a:pt x="13324" y="16998"/>
                  <a:pt x="13327" y="16973"/>
                </a:cubicBezTo>
                <a:cubicBezTo>
                  <a:pt x="13331" y="16945"/>
                  <a:pt x="13321" y="16920"/>
                  <a:pt x="13293" y="16910"/>
                </a:cubicBezTo>
                <a:cubicBezTo>
                  <a:pt x="13262" y="16899"/>
                  <a:pt x="13220" y="16924"/>
                  <a:pt x="13198" y="16944"/>
                </a:cubicBezTo>
                <a:cubicBezTo>
                  <a:pt x="13151" y="16986"/>
                  <a:pt x="13141" y="17059"/>
                  <a:pt x="13157" y="17117"/>
                </a:cubicBezTo>
                <a:cubicBezTo>
                  <a:pt x="13172" y="17171"/>
                  <a:pt x="13208" y="17216"/>
                  <a:pt x="13252" y="17250"/>
                </a:cubicBezTo>
                <a:cubicBezTo>
                  <a:pt x="13289" y="17278"/>
                  <a:pt x="13337" y="17297"/>
                  <a:pt x="13384" y="17288"/>
                </a:cubicBezTo>
                <a:cubicBezTo>
                  <a:pt x="13411" y="17278"/>
                  <a:pt x="13420" y="17275"/>
                  <a:pt x="13435" y="17263"/>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138640" y="5894280"/>
            <a:ext cx="649440" cy="322200"/>
          </a:xfrm>
          <a:custGeom>
            <a:avLst/>
            <a:gdLst/>
            <a:ahLst/>
            <a:rect l="l" t="t" r="r" b="b"/>
            <a:pathLst>
              <a:path w="1803" h="895">
                <a:moveTo>
                  <a:pt x="14629" y="16402"/>
                </a:moveTo>
                <a:cubicBezTo>
                  <a:pt x="14605" y="16383"/>
                  <a:pt x="14577" y="16362"/>
                  <a:pt x="14543" y="16377"/>
                </a:cubicBezTo>
                <a:cubicBezTo>
                  <a:pt x="14498" y="16396"/>
                  <a:pt x="14467" y="16451"/>
                  <a:pt x="14452" y="16494"/>
                </a:cubicBezTo>
                <a:cubicBezTo>
                  <a:pt x="14424" y="16572"/>
                  <a:pt x="14425" y="16657"/>
                  <a:pt x="14428" y="16738"/>
                </a:cubicBezTo>
                <a:cubicBezTo>
                  <a:pt x="14432" y="16855"/>
                  <a:pt x="14453" y="16972"/>
                  <a:pt x="14470" y="17088"/>
                </a:cubicBezTo>
                <a:cubicBezTo>
                  <a:pt x="14476" y="17131"/>
                  <a:pt x="14494" y="17202"/>
                  <a:pt x="14477" y="17246"/>
                </a:cubicBezTo>
                <a:cubicBezTo>
                  <a:pt x="14470" y="17257"/>
                  <a:pt x="14467" y="17261"/>
                  <a:pt x="14462" y="17268"/>
                </a:cubicBezTo>
              </a:path>
              <a:path w="1803" h="895">
                <a:moveTo>
                  <a:pt x="14280" y="16956"/>
                </a:moveTo>
                <a:cubicBezTo>
                  <a:pt x="14283" y="16928"/>
                  <a:pt x="14307" y="16933"/>
                  <a:pt x="14338" y="16944"/>
                </a:cubicBezTo>
                <a:cubicBezTo>
                  <a:pt x="14374" y="16957"/>
                  <a:pt x="14406" y="16979"/>
                  <a:pt x="14442" y="16991"/>
                </a:cubicBezTo>
                <a:cubicBezTo>
                  <a:pt x="14504" y="17011"/>
                  <a:pt x="14569" y="17012"/>
                  <a:pt x="14632" y="16999"/>
                </a:cubicBezTo>
                <a:cubicBezTo>
                  <a:pt x="14689" y="16987"/>
                  <a:pt x="14744" y="16963"/>
                  <a:pt x="14791" y="16928"/>
                </a:cubicBezTo>
                <a:cubicBezTo>
                  <a:pt x="14825" y="16903"/>
                  <a:pt x="14861" y="16872"/>
                  <a:pt x="14867" y="16827"/>
                </a:cubicBezTo>
                <a:cubicBezTo>
                  <a:pt x="14872" y="16791"/>
                  <a:pt x="14849" y="16766"/>
                  <a:pt x="14813" y="16764"/>
                </a:cubicBezTo>
                <a:cubicBezTo>
                  <a:pt x="14746" y="16761"/>
                  <a:pt x="14690" y="16830"/>
                  <a:pt x="14662" y="16881"/>
                </a:cubicBezTo>
                <a:cubicBezTo>
                  <a:pt x="14634" y="16931"/>
                  <a:pt x="14612" y="17002"/>
                  <a:pt x="14640" y="17057"/>
                </a:cubicBezTo>
                <a:cubicBezTo>
                  <a:pt x="14666" y="17108"/>
                  <a:pt x="14734" y="17121"/>
                  <a:pt x="14784" y="17117"/>
                </a:cubicBezTo>
                <a:cubicBezTo>
                  <a:pt x="14834" y="17108"/>
                  <a:pt x="14850" y="17106"/>
                  <a:pt x="14881" y="17093"/>
                </a:cubicBezTo>
              </a:path>
              <a:path w="1803" h="895">
                <a:moveTo>
                  <a:pt x="15237" y="16962"/>
                </a:moveTo>
                <a:cubicBezTo>
                  <a:pt x="15259" y="16978"/>
                  <a:pt x="15271" y="16987"/>
                  <a:pt x="15298" y="16986"/>
                </a:cubicBezTo>
                <a:cubicBezTo>
                  <a:pt x="15334" y="16985"/>
                  <a:pt x="15360" y="16971"/>
                  <a:pt x="15386" y="16947"/>
                </a:cubicBezTo>
                <a:cubicBezTo>
                  <a:pt x="15408" y="16926"/>
                  <a:pt x="15450" y="16882"/>
                  <a:pt x="15432" y="16847"/>
                </a:cubicBezTo>
                <a:cubicBezTo>
                  <a:pt x="15413" y="16810"/>
                  <a:pt x="15360" y="16837"/>
                  <a:pt x="15335" y="16847"/>
                </a:cubicBezTo>
                <a:cubicBezTo>
                  <a:pt x="15280" y="16869"/>
                  <a:pt x="15226" y="16908"/>
                  <a:pt x="15190" y="16955"/>
                </a:cubicBezTo>
                <a:cubicBezTo>
                  <a:pt x="15159" y="16995"/>
                  <a:pt x="15144" y="17047"/>
                  <a:pt x="15175" y="17091"/>
                </a:cubicBezTo>
                <a:cubicBezTo>
                  <a:pt x="15209" y="17139"/>
                  <a:pt x="15274" y="17153"/>
                  <a:pt x="15328" y="17158"/>
                </a:cubicBezTo>
                <a:cubicBezTo>
                  <a:pt x="15394" y="17164"/>
                  <a:pt x="15451" y="17153"/>
                  <a:pt x="15514" y="17137"/>
                </a:cubicBezTo>
              </a:path>
              <a:path w="1803" h="895">
                <a:moveTo>
                  <a:pt x="15999" y="16958"/>
                </a:moveTo>
                <a:cubicBezTo>
                  <a:pt x="15993" y="16928"/>
                  <a:pt x="15987" y="16900"/>
                  <a:pt x="15967" y="16876"/>
                </a:cubicBezTo>
                <a:cubicBezTo>
                  <a:pt x="15950" y="16856"/>
                  <a:pt x="15925" y="16850"/>
                  <a:pt x="15901" y="16861"/>
                </a:cubicBezTo>
                <a:cubicBezTo>
                  <a:pt x="15863" y="16878"/>
                  <a:pt x="15828" y="16915"/>
                  <a:pt x="15807" y="16951"/>
                </a:cubicBezTo>
                <a:cubicBezTo>
                  <a:pt x="15778" y="17001"/>
                  <a:pt x="15762" y="17055"/>
                  <a:pt x="15777" y="17110"/>
                </a:cubicBezTo>
                <a:cubicBezTo>
                  <a:pt x="15817" y="17131"/>
                  <a:pt x="15846" y="17122"/>
                  <a:pt x="15884" y="17094"/>
                </a:cubicBezTo>
                <a:cubicBezTo>
                  <a:pt x="15966" y="17034"/>
                  <a:pt x="16031" y="16928"/>
                  <a:pt x="16051" y="16829"/>
                </a:cubicBezTo>
                <a:cubicBezTo>
                  <a:pt x="16062" y="16774"/>
                  <a:pt x="16059" y="16708"/>
                  <a:pt x="16040" y="16654"/>
                </a:cubicBezTo>
                <a:cubicBezTo>
                  <a:pt x="16030" y="16624"/>
                  <a:pt x="16017" y="16616"/>
                  <a:pt x="15992" y="16601"/>
                </a:cubicBezTo>
                <a:cubicBezTo>
                  <a:pt x="15953" y="16618"/>
                  <a:pt x="15952" y="16649"/>
                  <a:pt x="15948" y="16691"/>
                </a:cubicBezTo>
                <a:cubicBezTo>
                  <a:pt x="15939" y="16800"/>
                  <a:pt x="15961" y="16925"/>
                  <a:pt x="16004" y="17026"/>
                </a:cubicBezTo>
                <a:cubicBezTo>
                  <a:pt x="16023" y="17071"/>
                  <a:pt x="16043" y="17090"/>
                  <a:pt x="16078" y="17120"/>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24520" y="5856120"/>
            <a:ext cx="635040" cy="344520"/>
          </a:xfrm>
          <a:custGeom>
            <a:avLst/>
            <a:gdLst/>
            <a:ahLst/>
            <a:rect l="l" t="t" r="r" b="b"/>
            <a:pathLst>
              <a:path w="1762" h="954">
                <a:moveTo>
                  <a:pt x="16458" y="16269"/>
                </a:moveTo>
                <a:cubicBezTo>
                  <a:pt x="16470" y="16388"/>
                  <a:pt x="16472" y="16507"/>
                  <a:pt x="16474" y="16626"/>
                </a:cubicBezTo>
                <a:cubicBezTo>
                  <a:pt x="16476" y="16721"/>
                  <a:pt x="16469" y="16818"/>
                  <a:pt x="16479" y="16913"/>
                </a:cubicBezTo>
                <a:cubicBezTo>
                  <a:pt x="16484" y="16942"/>
                  <a:pt x="16483" y="16949"/>
                  <a:pt x="16494" y="16964"/>
                </a:cubicBezTo>
                <a:cubicBezTo>
                  <a:pt x="16522" y="16943"/>
                  <a:pt x="16540" y="16920"/>
                  <a:pt x="16562" y="16881"/>
                </a:cubicBezTo>
                <a:cubicBezTo>
                  <a:pt x="16593" y="16828"/>
                  <a:pt x="16618" y="16771"/>
                  <a:pt x="16654" y="16721"/>
                </a:cubicBezTo>
                <a:cubicBezTo>
                  <a:pt x="16670" y="16702"/>
                  <a:pt x="16673" y="16695"/>
                  <a:pt x="16691" y="16696"/>
                </a:cubicBezTo>
                <a:cubicBezTo>
                  <a:pt x="16716" y="16733"/>
                  <a:pt x="16727" y="16757"/>
                  <a:pt x="16732" y="16808"/>
                </a:cubicBezTo>
                <a:cubicBezTo>
                  <a:pt x="16739" y="16876"/>
                  <a:pt x="16732" y="16944"/>
                  <a:pt x="16713" y="17010"/>
                </a:cubicBezTo>
                <a:cubicBezTo>
                  <a:pt x="16701" y="17051"/>
                  <a:pt x="16681" y="17104"/>
                  <a:pt x="16640" y="17125"/>
                </a:cubicBezTo>
                <a:cubicBezTo>
                  <a:pt x="16610" y="17140"/>
                  <a:pt x="16571" y="17137"/>
                  <a:pt x="16546" y="17115"/>
                </a:cubicBezTo>
                <a:cubicBezTo>
                  <a:pt x="16516" y="17089"/>
                  <a:pt x="16526" y="17049"/>
                  <a:pt x="16529" y="17016"/>
                </a:cubicBezTo>
              </a:path>
              <a:path w="1762" h="954">
                <a:moveTo>
                  <a:pt x="17098" y="16782"/>
                </a:moveTo>
                <a:cubicBezTo>
                  <a:pt x="17105" y="16783"/>
                  <a:pt x="17112" y="16785"/>
                  <a:pt x="17119" y="16786"/>
                </a:cubicBezTo>
                <a:cubicBezTo>
                  <a:pt x="17088" y="16803"/>
                  <a:pt x="17064" y="16819"/>
                  <a:pt x="17038" y="16843"/>
                </a:cubicBezTo>
                <a:cubicBezTo>
                  <a:pt x="16997" y="16881"/>
                  <a:pt x="16962" y="16925"/>
                  <a:pt x="16936" y="16975"/>
                </a:cubicBezTo>
                <a:cubicBezTo>
                  <a:pt x="16925" y="16997"/>
                  <a:pt x="16894" y="17053"/>
                  <a:pt x="16927" y="17073"/>
                </a:cubicBezTo>
                <a:cubicBezTo>
                  <a:pt x="16957" y="17091"/>
                  <a:pt x="17014" y="17056"/>
                  <a:pt x="17038" y="17042"/>
                </a:cubicBezTo>
                <a:cubicBezTo>
                  <a:pt x="17080" y="17018"/>
                  <a:pt x="17123" y="16985"/>
                  <a:pt x="17157" y="16951"/>
                </a:cubicBezTo>
                <a:cubicBezTo>
                  <a:pt x="17161" y="16946"/>
                  <a:pt x="17166" y="16942"/>
                  <a:pt x="17170" y="16937"/>
                </a:cubicBezTo>
                <a:cubicBezTo>
                  <a:pt x="17164" y="16981"/>
                  <a:pt x="17159" y="17028"/>
                  <a:pt x="17174" y="17071"/>
                </a:cubicBezTo>
                <a:cubicBezTo>
                  <a:pt x="17188" y="17109"/>
                  <a:pt x="17214" y="17140"/>
                  <a:pt x="17256" y="17146"/>
                </a:cubicBezTo>
                <a:cubicBezTo>
                  <a:pt x="17267" y="17146"/>
                  <a:pt x="17278" y="17146"/>
                  <a:pt x="17289" y="17146"/>
                </a:cubicBezTo>
              </a:path>
              <a:path w="1762" h="954">
                <a:moveTo>
                  <a:pt x="17497" y="16937"/>
                </a:moveTo>
                <a:cubicBezTo>
                  <a:pt x="17462" y="16932"/>
                  <a:pt x="17439" y="16937"/>
                  <a:pt x="17411" y="16962"/>
                </a:cubicBezTo>
                <a:cubicBezTo>
                  <a:pt x="17380" y="16990"/>
                  <a:pt x="17369" y="17032"/>
                  <a:pt x="17375" y="17073"/>
                </a:cubicBezTo>
                <a:cubicBezTo>
                  <a:pt x="17381" y="17117"/>
                  <a:pt x="17410" y="17148"/>
                  <a:pt x="17448" y="17166"/>
                </a:cubicBezTo>
                <a:cubicBezTo>
                  <a:pt x="17485" y="17184"/>
                  <a:pt x="17524" y="17176"/>
                  <a:pt x="17561" y="17163"/>
                </a:cubicBezTo>
                <a:cubicBezTo>
                  <a:pt x="17605" y="17147"/>
                  <a:pt x="17628" y="17119"/>
                  <a:pt x="17649" y="17078"/>
                </a:cubicBezTo>
                <a:cubicBezTo>
                  <a:pt x="17655" y="17065"/>
                  <a:pt x="17660" y="17052"/>
                  <a:pt x="17666" y="17039"/>
                </a:cubicBezTo>
              </a:path>
              <a:path w="1762" h="954">
                <a:moveTo>
                  <a:pt x="17721" y="16496"/>
                </a:moveTo>
                <a:cubicBezTo>
                  <a:pt x="17696" y="16468"/>
                  <a:pt x="17701" y="16491"/>
                  <a:pt x="17696" y="16533"/>
                </a:cubicBezTo>
                <a:cubicBezTo>
                  <a:pt x="17687" y="16610"/>
                  <a:pt x="17681" y="16687"/>
                  <a:pt x="17680" y="16765"/>
                </a:cubicBezTo>
                <a:cubicBezTo>
                  <a:pt x="17678" y="16880"/>
                  <a:pt x="17675" y="17009"/>
                  <a:pt x="17702" y="17122"/>
                </a:cubicBezTo>
                <a:cubicBezTo>
                  <a:pt x="17704" y="17135"/>
                  <a:pt x="17705" y="17140"/>
                  <a:pt x="17710" y="17148"/>
                </a:cubicBezTo>
                <a:cubicBezTo>
                  <a:pt x="17718" y="17123"/>
                  <a:pt x="17724" y="17098"/>
                  <a:pt x="17730" y="17073"/>
                </a:cubicBezTo>
                <a:cubicBezTo>
                  <a:pt x="17738" y="17040"/>
                  <a:pt x="17740" y="17005"/>
                  <a:pt x="17753" y="16973"/>
                </a:cubicBezTo>
                <a:cubicBezTo>
                  <a:pt x="17761" y="16953"/>
                  <a:pt x="17764" y="16942"/>
                  <a:pt x="17782" y="16935"/>
                </a:cubicBezTo>
                <a:cubicBezTo>
                  <a:pt x="17812" y="16923"/>
                  <a:pt x="17848" y="16920"/>
                  <a:pt x="17879" y="16907"/>
                </a:cubicBezTo>
                <a:cubicBezTo>
                  <a:pt x="17965" y="16872"/>
                  <a:pt x="18045" y="16823"/>
                  <a:pt x="18123" y="16775"/>
                </a:cubicBezTo>
                <a:cubicBezTo>
                  <a:pt x="18147" y="16760"/>
                  <a:pt x="18216" y="16714"/>
                  <a:pt x="18192" y="16728"/>
                </a:cubicBezTo>
                <a:cubicBezTo>
                  <a:pt x="18179" y="16736"/>
                  <a:pt x="18174" y="16740"/>
                  <a:pt x="18165" y="16747"/>
                </a:cubicBezTo>
              </a:path>
              <a:path w="1762" h="954">
                <a:moveTo>
                  <a:pt x="17961" y="16952"/>
                </a:moveTo>
                <a:cubicBezTo>
                  <a:pt x="17973" y="16987"/>
                  <a:pt x="17990" y="17016"/>
                  <a:pt x="18012" y="17046"/>
                </a:cubicBezTo>
                <a:cubicBezTo>
                  <a:pt x="18041" y="17085"/>
                  <a:pt x="18074" y="17124"/>
                  <a:pt x="18108" y="17158"/>
                </a:cubicBezTo>
                <a:cubicBezTo>
                  <a:pt x="18132" y="17182"/>
                  <a:pt x="18160" y="17208"/>
                  <a:pt x="18194" y="17217"/>
                </a:cubicBezTo>
                <a:cubicBezTo>
                  <a:pt x="18207" y="17219"/>
                  <a:pt x="18211" y="17219"/>
                  <a:pt x="18219" y="17222"/>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767640" y="5834160"/>
            <a:ext cx="322200" cy="314280"/>
          </a:xfrm>
          <a:custGeom>
            <a:avLst/>
            <a:gdLst/>
            <a:ahLst/>
            <a:rect l="l" t="t" r="r" b="b"/>
            <a:pathLst>
              <a:path w="892" h="872">
                <a:moveTo>
                  <a:pt x="18856" y="16772"/>
                </a:moveTo>
                <a:cubicBezTo>
                  <a:pt x="18852" y="16754"/>
                  <a:pt x="18847" y="16735"/>
                  <a:pt x="18840" y="16718"/>
                </a:cubicBezTo>
                <a:cubicBezTo>
                  <a:pt x="18832" y="16704"/>
                  <a:pt x="18829" y="16699"/>
                  <a:pt x="18822" y="16690"/>
                </a:cubicBezTo>
                <a:cubicBezTo>
                  <a:pt x="18958" y="16655"/>
                  <a:pt x="19094" y="16615"/>
                  <a:pt x="19233" y="16595"/>
                </a:cubicBezTo>
                <a:cubicBezTo>
                  <a:pt x="19289" y="16587"/>
                  <a:pt x="19361" y="16571"/>
                  <a:pt x="19417" y="16586"/>
                </a:cubicBezTo>
                <a:cubicBezTo>
                  <a:pt x="19459" y="16598"/>
                  <a:pt x="19414" y="16611"/>
                  <a:pt x="19396" y="16619"/>
                </a:cubicBezTo>
              </a:path>
              <a:path w="892" h="872">
                <a:moveTo>
                  <a:pt x="18850" y="16894"/>
                </a:moveTo>
                <a:cubicBezTo>
                  <a:pt x="18833" y="16908"/>
                  <a:pt x="18817" y="16922"/>
                  <a:pt x="18800" y="16935"/>
                </a:cubicBezTo>
                <a:cubicBezTo>
                  <a:pt x="18843" y="16919"/>
                  <a:pt x="18885" y="16904"/>
                  <a:pt x="18929" y="16890"/>
                </a:cubicBezTo>
                <a:cubicBezTo>
                  <a:pt x="19008" y="16866"/>
                  <a:pt x="19089" y="16847"/>
                  <a:pt x="19170" y="16832"/>
                </a:cubicBezTo>
                <a:cubicBezTo>
                  <a:pt x="19233" y="16820"/>
                  <a:pt x="19295" y="16813"/>
                  <a:pt x="19359" y="16812"/>
                </a:cubicBezTo>
                <a:cubicBezTo>
                  <a:pt x="19387" y="16812"/>
                  <a:pt x="19408" y="16817"/>
                  <a:pt x="19433" y="16827"/>
                </a:cubicBezTo>
              </a:path>
              <a:path w="892" h="872">
                <a:moveTo>
                  <a:pt x="19205" y="16259"/>
                </a:moveTo>
                <a:cubicBezTo>
                  <a:pt x="19184" y="16239"/>
                  <a:pt x="19164" y="16222"/>
                  <a:pt x="19141" y="16205"/>
                </a:cubicBezTo>
                <a:cubicBezTo>
                  <a:pt x="19171" y="16225"/>
                  <a:pt x="19200" y="16243"/>
                  <a:pt x="19236" y="16256"/>
                </a:cubicBezTo>
                <a:cubicBezTo>
                  <a:pt x="19309" y="16283"/>
                  <a:pt x="19381" y="16309"/>
                  <a:pt x="19450" y="16344"/>
                </a:cubicBezTo>
                <a:cubicBezTo>
                  <a:pt x="19543" y="16391"/>
                  <a:pt x="19663" y="16461"/>
                  <a:pt x="19688" y="16572"/>
                </a:cubicBezTo>
                <a:cubicBezTo>
                  <a:pt x="19707" y="16658"/>
                  <a:pt x="19659" y="16735"/>
                  <a:pt x="19611" y="16801"/>
                </a:cubicBezTo>
                <a:cubicBezTo>
                  <a:pt x="19549" y="16887"/>
                  <a:pt x="19467" y="16957"/>
                  <a:pt x="19417" y="17050"/>
                </a:cubicBezTo>
                <a:cubicBezTo>
                  <a:pt x="19397" y="17086"/>
                  <a:pt x="19405" y="17070"/>
                  <a:pt x="19427" y="17047"/>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302600" y="5676840"/>
            <a:ext cx="1577880" cy="515880"/>
          </a:xfrm>
          <a:custGeom>
            <a:avLst/>
            <a:gdLst/>
            <a:ahLst/>
            <a:rect l="l" t="t" r="r" b="b"/>
            <a:pathLst>
              <a:path w="4385" h="1434">
                <a:moveTo>
                  <a:pt x="20284" y="16411"/>
                </a:moveTo>
                <a:cubicBezTo>
                  <a:pt x="20308" y="16421"/>
                  <a:pt x="20312" y="16442"/>
                  <a:pt x="20319" y="16469"/>
                </a:cubicBezTo>
                <a:cubicBezTo>
                  <a:pt x="20332" y="16519"/>
                  <a:pt x="20338" y="16569"/>
                  <a:pt x="20346" y="16619"/>
                </a:cubicBezTo>
                <a:cubicBezTo>
                  <a:pt x="20352" y="16660"/>
                  <a:pt x="20352" y="16704"/>
                  <a:pt x="20363" y="16744"/>
                </a:cubicBezTo>
                <a:cubicBezTo>
                  <a:pt x="20372" y="16776"/>
                  <a:pt x="20375" y="16782"/>
                  <a:pt x="20380" y="16744"/>
                </a:cubicBezTo>
              </a:path>
              <a:path w="4385" h="1434">
                <a:moveTo>
                  <a:pt x="20449" y="16467"/>
                </a:moveTo>
                <a:cubicBezTo>
                  <a:pt x="20471" y="16508"/>
                  <a:pt x="20491" y="16550"/>
                  <a:pt x="20503" y="16595"/>
                </a:cubicBezTo>
                <a:cubicBezTo>
                  <a:pt x="20511" y="16624"/>
                  <a:pt x="20516" y="16655"/>
                  <a:pt x="20533" y="16681"/>
                </a:cubicBezTo>
                <a:cubicBezTo>
                  <a:pt x="20536" y="16685"/>
                  <a:pt x="20540" y="16689"/>
                  <a:pt x="20543" y="16693"/>
                </a:cubicBezTo>
                <a:cubicBezTo>
                  <a:pt x="20574" y="16672"/>
                  <a:pt x="20594" y="16646"/>
                  <a:pt x="20620" y="16619"/>
                </a:cubicBezTo>
                <a:cubicBezTo>
                  <a:pt x="20650" y="16587"/>
                  <a:pt x="20682" y="16539"/>
                  <a:pt x="20723" y="16520"/>
                </a:cubicBezTo>
                <a:cubicBezTo>
                  <a:pt x="20757" y="16504"/>
                  <a:pt x="20779" y="16532"/>
                  <a:pt x="20794" y="16558"/>
                </a:cubicBezTo>
                <a:cubicBezTo>
                  <a:pt x="20817" y="16600"/>
                  <a:pt x="20826" y="16646"/>
                  <a:pt x="20852" y="16687"/>
                </a:cubicBezTo>
                <a:cubicBezTo>
                  <a:pt x="20879" y="16729"/>
                  <a:pt x="20900" y="16737"/>
                  <a:pt x="20947" y="16742"/>
                </a:cubicBezTo>
              </a:path>
              <a:path w="4385" h="1434">
                <a:moveTo>
                  <a:pt x="21283" y="16452"/>
                </a:moveTo>
                <a:cubicBezTo>
                  <a:pt x="21287" y="16443"/>
                  <a:pt x="21305" y="16403"/>
                  <a:pt x="21283" y="16395"/>
                </a:cubicBezTo>
                <a:cubicBezTo>
                  <a:pt x="21259" y="16386"/>
                  <a:pt x="21217" y="16411"/>
                  <a:pt x="21197" y="16422"/>
                </a:cubicBezTo>
                <a:cubicBezTo>
                  <a:pt x="21170" y="16437"/>
                  <a:pt x="21134" y="16458"/>
                  <a:pt x="21116" y="16484"/>
                </a:cubicBezTo>
                <a:cubicBezTo>
                  <a:pt x="21102" y="16504"/>
                  <a:pt x="21104" y="16523"/>
                  <a:pt x="21123" y="16533"/>
                </a:cubicBezTo>
                <a:cubicBezTo>
                  <a:pt x="21153" y="16549"/>
                  <a:pt x="21185" y="16559"/>
                  <a:pt x="21212" y="16581"/>
                </a:cubicBezTo>
                <a:cubicBezTo>
                  <a:pt x="21243" y="16606"/>
                  <a:pt x="21270" y="16640"/>
                  <a:pt x="21279" y="16680"/>
                </a:cubicBezTo>
                <a:cubicBezTo>
                  <a:pt x="21286" y="16712"/>
                  <a:pt x="21286" y="16756"/>
                  <a:pt x="21272" y="16786"/>
                </a:cubicBezTo>
                <a:cubicBezTo>
                  <a:pt x="21264" y="16803"/>
                  <a:pt x="21248" y="16836"/>
                  <a:pt x="21226" y="16835"/>
                </a:cubicBezTo>
                <a:cubicBezTo>
                  <a:pt x="21206" y="16834"/>
                  <a:pt x="21194" y="16827"/>
                  <a:pt x="21190" y="16809"/>
                </a:cubicBezTo>
                <a:cubicBezTo>
                  <a:pt x="21185" y="16783"/>
                  <a:pt x="21189" y="16756"/>
                  <a:pt x="21190" y="16730"/>
                </a:cubicBezTo>
              </a:path>
              <a:path w="4385" h="1434">
                <a:moveTo>
                  <a:pt x="21581" y="16079"/>
                </a:moveTo>
                <a:cubicBezTo>
                  <a:pt x="21584" y="16075"/>
                  <a:pt x="21586" y="16071"/>
                  <a:pt x="21589" y="16067"/>
                </a:cubicBezTo>
                <a:cubicBezTo>
                  <a:pt x="21581" y="16090"/>
                  <a:pt x="21577" y="16102"/>
                  <a:pt x="21577" y="16126"/>
                </a:cubicBezTo>
                <a:cubicBezTo>
                  <a:pt x="21577" y="16169"/>
                  <a:pt x="21590" y="16211"/>
                  <a:pt x="21602" y="16252"/>
                </a:cubicBezTo>
                <a:cubicBezTo>
                  <a:pt x="21621" y="16315"/>
                  <a:pt x="21633" y="16378"/>
                  <a:pt x="21643" y="16443"/>
                </a:cubicBezTo>
                <a:cubicBezTo>
                  <a:pt x="21651" y="16496"/>
                  <a:pt x="21651" y="16539"/>
                  <a:pt x="21638" y="16589"/>
                </a:cubicBezTo>
                <a:cubicBezTo>
                  <a:pt x="21628" y="16628"/>
                  <a:pt x="21628" y="16642"/>
                  <a:pt x="21598" y="16615"/>
                </a:cubicBezTo>
              </a:path>
              <a:path w="4385" h="1434">
                <a:moveTo>
                  <a:pt x="21436" y="16364"/>
                </a:moveTo>
                <a:cubicBezTo>
                  <a:pt x="21412" y="16375"/>
                  <a:pt x="21413" y="16381"/>
                  <a:pt x="21449" y="16385"/>
                </a:cubicBezTo>
                <a:cubicBezTo>
                  <a:pt x="21528" y="16394"/>
                  <a:pt x="21614" y="16367"/>
                  <a:pt x="21690" y="16352"/>
                </a:cubicBezTo>
                <a:cubicBezTo>
                  <a:pt x="21766" y="16337"/>
                  <a:pt x="21841" y="16315"/>
                  <a:pt x="21918" y="16304"/>
                </a:cubicBezTo>
                <a:cubicBezTo>
                  <a:pt x="21949" y="16299"/>
                  <a:pt x="21981" y="16297"/>
                  <a:pt x="22012" y="16294"/>
                </a:cubicBezTo>
                <a:cubicBezTo>
                  <a:pt x="21986" y="16311"/>
                  <a:pt x="21959" y="16324"/>
                  <a:pt x="21934" y="16343"/>
                </a:cubicBezTo>
                <a:cubicBezTo>
                  <a:pt x="21904" y="16366"/>
                  <a:pt x="21877" y="16387"/>
                  <a:pt x="21864" y="16425"/>
                </a:cubicBezTo>
                <a:cubicBezTo>
                  <a:pt x="21854" y="16455"/>
                  <a:pt x="21851" y="16496"/>
                  <a:pt x="21866" y="16525"/>
                </a:cubicBezTo>
                <a:cubicBezTo>
                  <a:pt x="21878" y="16547"/>
                  <a:pt x="21906" y="16559"/>
                  <a:pt x="21930" y="16548"/>
                </a:cubicBezTo>
                <a:cubicBezTo>
                  <a:pt x="21961" y="16534"/>
                  <a:pt x="21980" y="16494"/>
                  <a:pt x="21995" y="16466"/>
                </a:cubicBezTo>
                <a:cubicBezTo>
                  <a:pt x="22003" y="16455"/>
                  <a:pt x="22005" y="16452"/>
                  <a:pt x="22008" y="16443"/>
                </a:cubicBezTo>
                <a:cubicBezTo>
                  <a:pt x="22009" y="16512"/>
                  <a:pt x="22012" y="16581"/>
                  <a:pt x="22019" y="16649"/>
                </a:cubicBezTo>
                <a:cubicBezTo>
                  <a:pt x="22022" y="16678"/>
                  <a:pt x="22030" y="16728"/>
                  <a:pt x="22056" y="16748"/>
                </a:cubicBezTo>
                <a:cubicBezTo>
                  <a:pt x="22059" y="16748"/>
                  <a:pt x="22063" y="16748"/>
                  <a:pt x="22066" y="16748"/>
                </a:cubicBezTo>
              </a:path>
              <a:path w="4385" h="1434">
                <a:moveTo>
                  <a:pt x="22249" y="15828"/>
                </a:moveTo>
                <a:cubicBezTo>
                  <a:pt x="22238" y="15817"/>
                  <a:pt x="22227" y="15808"/>
                  <a:pt x="22215" y="15798"/>
                </a:cubicBezTo>
                <a:cubicBezTo>
                  <a:pt x="22205" y="15832"/>
                  <a:pt x="22201" y="15858"/>
                  <a:pt x="22202" y="15897"/>
                </a:cubicBezTo>
                <a:cubicBezTo>
                  <a:pt x="22204" y="15996"/>
                  <a:pt x="22223" y="16105"/>
                  <a:pt x="22257" y="16198"/>
                </a:cubicBezTo>
                <a:cubicBezTo>
                  <a:pt x="22271" y="16237"/>
                  <a:pt x="22287" y="16269"/>
                  <a:pt x="22328" y="16280"/>
                </a:cubicBezTo>
                <a:cubicBezTo>
                  <a:pt x="22354" y="16287"/>
                  <a:pt x="22392" y="16252"/>
                  <a:pt x="22417" y="16248"/>
                </a:cubicBezTo>
                <a:cubicBezTo>
                  <a:pt x="22466" y="16240"/>
                  <a:pt x="22491" y="16283"/>
                  <a:pt x="22504" y="16323"/>
                </a:cubicBezTo>
                <a:cubicBezTo>
                  <a:pt x="22533" y="16410"/>
                  <a:pt x="22528" y="16514"/>
                  <a:pt x="22504" y="16602"/>
                </a:cubicBezTo>
                <a:cubicBezTo>
                  <a:pt x="22490" y="16655"/>
                  <a:pt x="22464" y="16727"/>
                  <a:pt x="22403" y="16741"/>
                </a:cubicBezTo>
                <a:cubicBezTo>
                  <a:pt x="22370" y="16748"/>
                  <a:pt x="22339" y="16731"/>
                  <a:pt x="22318" y="16707"/>
                </a:cubicBezTo>
                <a:cubicBezTo>
                  <a:pt x="22288" y="16674"/>
                  <a:pt x="22264" y="16630"/>
                  <a:pt x="22280" y="16585"/>
                </a:cubicBezTo>
                <a:cubicBezTo>
                  <a:pt x="22284" y="16576"/>
                  <a:pt x="22289" y="16568"/>
                  <a:pt x="22293" y="16559"/>
                </a:cubicBezTo>
              </a:path>
              <a:path w="4385" h="1434">
                <a:moveTo>
                  <a:pt x="22732" y="16406"/>
                </a:moveTo>
                <a:cubicBezTo>
                  <a:pt x="22756" y="16439"/>
                  <a:pt x="22752" y="16455"/>
                  <a:pt x="22753" y="16496"/>
                </a:cubicBezTo>
                <a:cubicBezTo>
                  <a:pt x="22754" y="16547"/>
                  <a:pt x="22753" y="16598"/>
                  <a:pt x="22755" y="16649"/>
                </a:cubicBezTo>
                <a:cubicBezTo>
                  <a:pt x="22757" y="16680"/>
                  <a:pt x="22763" y="16708"/>
                  <a:pt x="22771" y="16738"/>
                </a:cubicBezTo>
                <a:cubicBezTo>
                  <a:pt x="22779" y="16769"/>
                  <a:pt x="22789" y="16710"/>
                  <a:pt x="22790" y="16703"/>
                </a:cubicBezTo>
              </a:path>
              <a:path w="4385" h="1434">
                <a:moveTo>
                  <a:pt x="22739" y="16164"/>
                </a:moveTo>
                <a:cubicBezTo>
                  <a:pt x="22731" y="16144"/>
                  <a:pt x="22729" y="16133"/>
                  <a:pt x="22729" y="16111"/>
                </a:cubicBezTo>
              </a:path>
              <a:path w="4385" h="1434">
                <a:moveTo>
                  <a:pt x="23057" y="15831"/>
                </a:moveTo>
                <a:cubicBezTo>
                  <a:pt x="23051" y="15814"/>
                  <a:pt x="23045" y="15797"/>
                  <a:pt x="23038" y="15780"/>
                </a:cubicBezTo>
                <a:cubicBezTo>
                  <a:pt x="23029" y="15822"/>
                  <a:pt x="23022" y="15863"/>
                  <a:pt x="23021" y="15907"/>
                </a:cubicBezTo>
                <a:cubicBezTo>
                  <a:pt x="23018" y="16007"/>
                  <a:pt x="23018" y="16109"/>
                  <a:pt x="23023" y="16209"/>
                </a:cubicBezTo>
                <a:cubicBezTo>
                  <a:pt x="23029" y="16326"/>
                  <a:pt x="23041" y="16442"/>
                  <a:pt x="23056" y="16558"/>
                </a:cubicBezTo>
                <a:cubicBezTo>
                  <a:pt x="23065" y="16627"/>
                  <a:pt x="23072" y="16706"/>
                  <a:pt x="23114" y="16764"/>
                </a:cubicBezTo>
                <a:cubicBezTo>
                  <a:pt x="23142" y="16804"/>
                  <a:pt x="23178" y="16780"/>
                  <a:pt x="23200" y="16752"/>
                </a:cubicBezTo>
                <a:cubicBezTo>
                  <a:pt x="23228" y="16711"/>
                  <a:pt x="23238" y="16696"/>
                  <a:pt x="23251" y="16664"/>
                </a:cubicBezTo>
              </a:path>
              <a:path w="4385" h="1434">
                <a:moveTo>
                  <a:pt x="23373" y="16354"/>
                </a:moveTo>
                <a:cubicBezTo>
                  <a:pt x="23379" y="16338"/>
                  <a:pt x="23361" y="16425"/>
                  <a:pt x="23360" y="16446"/>
                </a:cubicBezTo>
                <a:cubicBezTo>
                  <a:pt x="23358" y="16503"/>
                  <a:pt x="23361" y="16563"/>
                  <a:pt x="23380" y="16618"/>
                </a:cubicBezTo>
                <a:cubicBezTo>
                  <a:pt x="23392" y="16651"/>
                  <a:pt x="23412" y="16688"/>
                  <a:pt x="23443" y="16708"/>
                </a:cubicBezTo>
                <a:cubicBezTo>
                  <a:pt x="23455" y="16713"/>
                  <a:pt x="23458" y="16715"/>
                  <a:pt x="23467" y="16715"/>
                </a:cubicBezTo>
                <a:cubicBezTo>
                  <a:pt x="23467" y="16676"/>
                  <a:pt x="23465" y="16637"/>
                  <a:pt x="23464" y="16598"/>
                </a:cubicBezTo>
              </a:path>
              <a:path w="4385" h="1434">
                <a:moveTo>
                  <a:pt x="23608" y="15817"/>
                </a:moveTo>
                <a:cubicBezTo>
                  <a:pt x="23618" y="15800"/>
                  <a:pt x="23623" y="15788"/>
                  <a:pt x="23630" y="15770"/>
                </a:cubicBezTo>
                <a:cubicBezTo>
                  <a:pt x="23631" y="15800"/>
                  <a:pt x="23632" y="15829"/>
                  <a:pt x="23635" y="15859"/>
                </a:cubicBezTo>
                <a:cubicBezTo>
                  <a:pt x="23644" y="15948"/>
                  <a:pt x="23652" y="16037"/>
                  <a:pt x="23664" y="16126"/>
                </a:cubicBezTo>
                <a:cubicBezTo>
                  <a:pt x="23679" y="16236"/>
                  <a:pt x="23690" y="16347"/>
                  <a:pt x="23703" y="16457"/>
                </a:cubicBezTo>
                <a:cubicBezTo>
                  <a:pt x="23711" y="16520"/>
                  <a:pt x="23716" y="16582"/>
                  <a:pt x="23719" y="16646"/>
                </a:cubicBezTo>
                <a:cubicBezTo>
                  <a:pt x="23719" y="16654"/>
                  <a:pt x="23720" y="16663"/>
                  <a:pt x="23720" y="16671"/>
                </a:cubicBezTo>
                <a:cubicBezTo>
                  <a:pt x="23710" y="16632"/>
                  <a:pt x="23700" y="16594"/>
                  <a:pt x="23692" y="16554"/>
                </a:cubicBezTo>
              </a:path>
              <a:path w="4385" h="1434">
                <a:moveTo>
                  <a:pt x="23499" y="16182"/>
                </a:moveTo>
                <a:cubicBezTo>
                  <a:pt x="23458" y="16174"/>
                  <a:pt x="23460" y="16173"/>
                  <a:pt x="23436" y="16194"/>
                </a:cubicBezTo>
                <a:cubicBezTo>
                  <a:pt x="23469" y="16220"/>
                  <a:pt x="23493" y="16232"/>
                  <a:pt x="23536" y="16245"/>
                </a:cubicBezTo>
                <a:cubicBezTo>
                  <a:pt x="23623" y="16272"/>
                  <a:pt x="23714" y="16286"/>
                  <a:pt x="23804" y="16293"/>
                </a:cubicBezTo>
                <a:cubicBezTo>
                  <a:pt x="23857" y="16297"/>
                  <a:pt x="23911" y="16298"/>
                  <a:pt x="23964" y="16293"/>
                </a:cubicBezTo>
                <a:cubicBezTo>
                  <a:pt x="23994" y="16290"/>
                  <a:pt x="24012" y="16282"/>
                  <a:pt x="24037" y="16301"/>
                </a:cubicBezTo>
                <a:cubicBezTo>
                  <a:pt x="24064" y="16321"/>
                  <a:pt x="24065" y="16383"/>
                  <a:pt x="24071" y="16411"/>
                </a:cubicBezTo>
                <a:cubicBezTo>
                  <a:pt x="24083" y="16463"/>
                  <a:pt x="24092" y="16517"/>
                  <a:pt x="24110" y="16567"/>
                </a:cubicBezTo>
                <a:cubicBezTo>
                  <a:pt x="24121" y="16599"/>
                  <a:pt x="24138" y="16615"/>
                  <a:pt x="24156" y="16632"/>
                </a:cubicBezTo>
                <a:cubicBezTo>
                  <a:pt x="24174" y="16602"/>
                  <a:pt x="24187" y="16574"/>
                  <a:pt x="24200" y="16541"/>
                </a:cubicBezTo>
              </a:path>
              <a:path w="4385" h="1434">
                <a:moveTo>
                  <a:pt x="24370" y="16236"/>
                </a:moveTo>
                <a:cubicBezTo>
                  <a:pt x="24373" y="16231"/>
                  <a:pt x="24377" y="16226"/>
                  <a:pt x="24380" y="16221"/>
                </a:cubicBezTo>
                <a:cubicBezTo>
                  <a:pt x="24364" y="16260"/>
                  <a:pt x="24345" y="16292"/>
                  <a:pt x="24325" y="16330"/>
                </a:cubicBezTo>
                <a:cubicBezTo>
                  <a:pt x="24270" y="16436"/>
                  <a:pt x="24223" y="16547"/>
                  <a:pt x="24169" y="16654"/>
                </a:cubicBezTo>
                <a:cubicBezTo>
                  <a:pt x="24094" y="16804"/>
                  <a:pt x="24025" y="16957"/>
                  <a:pt x="23962" y="17112"/>
                </a:cubicBezTo>
                <a:cubicBezTo>
                  <a:pt x="23946" y="17151"/>
                  <a:pt x="23948" y="17168"/>
                  <a:pt x="23945" y="17203"/>
                </a:cubicBezTo>
              </a:path>
              <a:path w="4385" h="1434">
                <a:moveTo>
                  <a:pt x="24614" y="16771"/>
                </a:moveTo>
                <a:cubicBezTo>
                  <a:pt x="24633" y="16772"/>
                  <a:pt x="24649" y="16773"/>
                  <a:pt x="24668" y="16776"/>
                </a:cubicBezTo>
                <a:cubicBezTo>
                  <a:pt x="24660" y="16793"/>
                  <a:pt x="24657" y="16804"/>
                  <a:pt x="24638" y="16812"/>
                </a:cubicBezTo>
                <a:cubicBezTo>
                  <a:pt x="24634" y="16813"/>
                  <a:pt x="24629" y="16815"/>
                  <a:pt x="24625" y="1681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1440" y="6491160"/>
            <a:ext cx="31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nbluth-Longmir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2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2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2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3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3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3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3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3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3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3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3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3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4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4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4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4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4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4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4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47"/>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51"/>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52"/>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5103720" y="404640"/>
            <a:ext cx="3260520" cy="2754360"/>
            <a:chOff x="5103720" y="404640"/>
            <a:chExt cx="3260520" cy="2754360"/>
          </a:xfrm>
        </p:grpSpPr>
        <p:sp>
          <p:nvSpPr>
            <p:cNvPr id="356"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8"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9"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0"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7"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8"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9" name=""/>
          <p:cNvSpPr/>
          <p:nvPr/>
        </p:nvSpPr>
        <p:spPr>
          <a:xfrm>
            <a:off x="5983200" y="1674720"/>
            <a:ext cx="196920" cy="400320"/>
          </a:xfrm>
          <a:custGeom>
            <a:avLst/>
            <a:gdLst/>
            <a:ahLst/>
            <a:rect l="l" t="t" r="r" b="b"/>
            <a:pathLst>
              <a:path w="549" h="1108">
                <a:moveTo>
                  <a:pt x="16642" y="4544"/>
                </a:moveTo>
                <a:cubicBezTo>
                  <a:pt x="16636" y="4587"/>
                  <a:pt x="16629" y="4630"/>
                  <a:pt x="16624" y="4673"/>
                </a:cubicBezTo>
                <a:cubicBezTo>
                  <a:pt x="16619" y="4719"/>
                  <a:pt x="16615" y="4767"/>
                  <a:pt x="16615" y="4814"/>
                </a:cubicBezTo>
                <a:cubicBezTo>
                  <a:pt x="16615" y="4850"/>
                  <a:pt x="16619" y="4887"/>
                  <a:pt x="16634" y="4920"/>
                </a:cubicBezTo>
                <a:cubicBezTo>
                  <a:pt x="16646" y="4947"/>
                  <a:pt x="16660" y="4960"/>
                  <a:pt x="16689" y="4961"/>
                </a:cubicBezTo>
                <a:cubicBezTo>
                  <a:pt x="16733" y="4962"/>
                  <a:pt x="16778" y="4937"/>
                  <a:pt x="16818" y="4922"/>
                </a:cubicBezTo>
                <a:cubicBezTo>
                  <a:pt x="16863" y="4905"/>
                  <a:pt x="16908" y="4890"/>
                  <a:pt x="16956" y="4880"/>
                </a:cubicBezTo>
                <a:cubicBezTo>
                  <a:pt x="16989" y="4873"/>
                  <a:pt x="17031" y="4862"/>
                  <a:pt x="17065" y="4862"/>
                </a:cubicBezTo>
                <a:cubicBezTo>
                  <a:pt x="17082" y="4865"/>
                  <a:pt x="17087" y="4866"/>
                  <a:pt x="17098" y="4865"/>
                </a:cubicBezTo>
              </a:path>
              <a:path w="549" h="1108">
                <a:moveTo>
                  <a:pt x="16698" y="4727"/>
                </a:moveTo>
                <a:cubicBezTo>
                  <a:pt x="16719" y="4717"/>
                  <a:pt x="16739" y="4707"/>
                  <a:pt x="16760" y="4698"/>
                </a:cubicBezTo>
                <a:cubicBezTo>
                  <a:pt x="16803" y="4679"/>
                  <a:pt x="16846" y="4661"/>
                  <a:pt x="16889" y="4642"/>
                </a:cubicBezTo>
                <a:cubicBezTo>
                  <a:pt x="16942" y="4619"/>
                  <a:pt x="16994" y="4596"/>
                  <a:pt x="17048" y="4577"/>
                </a:cubicBezTo>
                <a:cubicBezTo>
                  <a:pt x="17083" y="4565"/>
                  <a:pt x="17113" y="4558"/>
                  <a:pt x="17149" y="4556"/>
                </a:cubicBezTo>
              </a:path>
              <a:path w="549" h="1108">
                <a:moveTo>
                  <a:pt x="16635" y="4451"/>
                </a:moveTo>
                <a:cubicBezTo>
                  <a:pt x="16659" y="4440"/>
                  <a:pt x="16684" y="4430"/>
                  <a:pt x="16709" y="4420"/>
                </a:cubicBezTo>
                <a:cubicBezTo>
                  <a:pt x="16761" y="4399"/>
                  <a:pt x="16813" y="4376"/>
                  <a:pt x="16866" y="4357"/>
                </a:cubicBezTo>
                <a:cubicBezTo>
                  <a:pt x="16924" y="4337"/>
                  <a:pt x="16983" y="4322"/>
                  <a:pt x="17041" y="4301"/>
                </a:cubicBezTo>
                <a:cubicBezTo>
                  <a:pt x="17067" y="4292"/>
                  <a:pt x="17086" y="4287"/>
                  <a:pt x="17113" y="4284"/>
                </a:cubicBezTo>
              </a:path>
              <a:path w="549" h="1108">
                <a:moveTo>
                  <a:pt x="16601" y="5323"/>
                </a:moveTo>
                <a:cubicBezTo>
                  <a:pt x="16614" y="5338"/>
                  <a:pt x="16624" y="5356"/>
                  <a:pt x="16638" y="5370"/>
                </a:cubicBezTo>
                <a:cubicBezTo>
                  <a:pt x="16662" y="5394"/>
                  <a:pt x="16688" y="5394"/>
                  <a:pt x="16716" y="5382"/>
                </a:cubicBezTo>
                <a:cubicBezTo>
                  <a:pt x="16745" y="5370"/>
                  <a:pt x="16762" y="5348"/>
                  <a:pt x="16786" y="5329"/>
                </a:cubicBezTo>
                <a:cubicBezTo>
                  <a:pt x="16807" y="5312"/>
                  <a:pt x="16828" y="5300"/>
                  <a:pt x="16856" y="5303"/>
                </a:cubicBezTo>
                <a:cubicBezTo>
                  <a:pt x="16882" y="5306"/>
                  <a:pt x="16910" y="5323"/>
                  <a:pt x="16934" y="5334"/>
                </a:cubicBezTo>
                <a:cubicBezTo>
                  <a:pt x="16960" y="5346"/>
                  <a:pt x="16979" y="5354"/>
                  <a:pt x="17008" y="5350"/>
                </a:cubicBezTo>
                <a:cubicBezTo>
                  <a:pt x="17029" y="5347"/>
                  <a:pt x="17032" y="5345"/>
                  <a:pt x="17046" y="5331"/>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337440" y="1523880"/>
            <a:ext cx="214200" cy="604800"/>
          </a:xfrm>
          <a:custGeom>
            <a:avLst/>
            <a:gdLst/>
            <a:ahLst/>
            <a:rect l="l" t="t" r="r" b="b"/>
            <a:pathLst>
              <a:path w="596" h="1683">
                <a:moveTo>
                  <a:pt x="17873" y="5544"/>
                </a:moveTo>
                <a:cubicBezTo>
                  <a:pt x="17872" y="5500"/>
                  <a:pt x="17870" y="5456"/>
                  <a:pt x="17869" y="5411"/>
                </a:cubicBezTo>
                <a:cubicBezTo>
                  <a:pt x="17868" y="5368"/>
                  <a:pt x="17867" y="5326"/>
                  <a:pt x="17866" y="5283"/>
                </a:cubicBezTo>
                <a:cubicBezTo>
                  <a:pt x="17864" y="5204"/>
                  <a:pt x="17854" y="5124"/>
                  <a:pt x="17849" y="5045"/>
                </a:cubicBezTo>
                <a:cubicBezTo>
                  <a:pt x="17829" y="4762"/>
                  <a:pt x="17836" y="4480"/>
                  <a:pt x="17839" y="4197"/>
                </a:cubicBezTo>
                <a:cubicBezTo>
                  <a:pt x="17840" y="4140"/>
                  <a:pt x="17836" y="4083"/>
                  <a:pt x="17835" y="4026"/>
                </a:cubicBezTo>
                <a:cubicBezTo>
                  <a:pt x="17834" y="3978"/>
                  <a:pt x="17836" y="3930"/>
                  <a:pt x="17836" y="3882"/>
                </a:cubicBezTo>
                <a:cubicBezTo>
                  <a:pt x="17818" y="3895"/>
                  <a:pt x="17814" y="3889"/>
                  <a:pt x="17798" y="3909"/>
                </a:cubicBezTo>
                <a:cubicBezTo>
                  <a:pt x="17779" y="3932"/>
                  <a:pt x="17764" y="3961"/>
                  <a:pt x="17748" y="3987"/>
                </a:cubicBezTo>
                <a:cubicBezTo>
                  <a:pt x="17728" y="4019"/>
                  <a:pt x="17710" y="4052"/>
                  <a:pt x="17693" y="4085"/>
                </a:cubicBezTo>
                <a:cubicBezTo>
                  <a:pt x="17659" y="4150"/>
                  <a:pt x="17626" y="4214"/>
                  <a:pt x="17587" y="4275"/>
                </a:cubicBezTo>
                <a:cubicBezTo>
                  <a:pt x="17590" y="4232"/>
                  <a:pt x="17593" y="4199"/>
                  <a:pt x="17607" y="4156"/>
                </a:cubicBezTo>
                <a:cubicBezTo>
                  <a:pt x="17628" y="4090"/>
                  <a:pt x="17658" y="4027"/>
                  <a:pt x="17694" y="3967"/>
                </a:cubicBezTo>
                <a:cubicBezTo>
                  <a:pt x="17714" y="3933"/>
                  <a:pt x="17741" y="3879"/>
                  <a:pt x="17781" y="3865"/>
                </a:cubicBezTo>
                <a:cubicBezTo>
                  <a:pt x="17827" y="3849"/>
                  <a:pt x="17870" y="3896"/>
                  <a:pt x="17901" y="3923"/>
                </a:cubicBezTo>
                <a:cubicBezTo>
                  <a:pt x="17959" y="3972"/>
                  <a:pt x="18019" y="4022"/>
                  <a:pt x="18070" y="4079"/>
                </a:cubicBezTo>
                <a:cubicBezTo>
                  <a:pt x="18108" y="4120"/>
                  <a:pt x="18140" y="4166"/>
                  <a:pt x="18179" y="4206"/>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13440" y="1558800"/>
            <a:ext cx="193680" cy="516240"/>
          </a:xfrm>
          <a:custGeom>
            <a:avLst/>
            <a:gdLst/>
            <a:ahLst/>
            <a:rect l="l" t="t" r="r" b="b"/>
            <a:pathLst>
              <a:path w="538" h="1734">
                <a:moveTo>
                  <a:pt x="19373" y="5517"/>
                </a:moveTo>
                <a:cubicBezTo>
                  <a:pt x="19367" y="5469"/>
                  <a:pt x="19368" y="5422"/>
                  <a:pt x="19368" y="5374"/>
                </a:cubicBezTo>
                <a:cubicBezTo>
                  <a:pt x="19368" y="5262"/>
                  <a:pt x="19367" y="5150"/>
                  <a:pt x="19368" y="5038"/>
                </a:cubicBezTo>
                <a:cubicBezTo>
                  <a:pt x="19369" y="4864"/>
                  <a:pt x="19376" y="4691"/>
                  <a:pt x="19393" y="4518"/>
                </a:cubicBezTo>
                <a:cubicBezTo>
                  <a:pt x="19401" y="4442"/>
                  <a:pt x="19408" y="4367"/>
                  <a:pt x="19416" y="4291"/>
                </a:cubicBezTo>
                <a:cubicBezTo>
                  <a:pt x="19423" y="4219"/>
                  <a:pt x="19430" y="4147"/>
                  <a:pt x="19431" y="4075"/>
                </a:cubicBezTo>
                <a:cubicBezTo>
                  <a:pt x="19431" y="4051"/>
                  <a:pt x="19435" y="4013"/>
                  <a:pt x="19427" y="3989"/>
                </a:cubicBezTo>
                <a:cubicBezTo>
                  <a:pt x="19422" y="3976"/>
                  <a:pt x="19420" y="3957"/>
                  <a:pt x="19399" y="3962"/>
                </a:cubicBezTo>
                <a:cubicBezTo>
                  <a:pt x="19397" y="3969"/>
                  <a:pt x="19395" y="3975"/>
                  <a:pt x="19393" y="3982"/>
                </a:cubicBezTo>
              </a:path>
              <a:path w="538" h="1734">
                <a:moveTo>
                  <a:pt x="19189" y="4315"/>
                </a:moveTo>
                <a:cubicBezTo>
                  <a:pt x="19187" y="4294"/>
                  <a:pt x="19184" y="4273"/>
                  <a:pt x="19186" y="4251"/>
                </a:cubicBezTo>
                <a:cubicBezTo>
                  <a:pt x="19188" y="4226"/>
                  <a:pt x="19191" y="4201"/>
                  <a:pt x="19196" y="4176"/>
                </a:cubicBezTo>
                <a:cubicBezTo>
                  <a:pt x="19201" y="4153"/>
                  <a:pt x="19211" y="4132"/>
                  <a:pt x="19222" y="4112"/>
                </a:cubicBezTo>
                <a:cubicBezTo>
                  <a:pt x="19234" y="4089"/>
                  <a:pt x="19248" y="4065"/>
                  <a:pt x="19264" y="4045"/>
                </a:cubicBezTo>
                <a:cubicBezTo>
                  <a:pt x="19291" y="4011"/>
                  <a:pt x="19317" y="3976"/>
                  <a:pt x="19345" y="3942"/>
                </a:cubicBezTo>
                <a:cubicBezTo>
                  <a:pt x="19365" y="3917"/>
                  <a:pt x="19386" y="3892"/>
                  <a:pt x="19407" y="3868"/>
                </a:cubicBezTo>
                <a:cubicBezTo>
                  <a:pt x="19424" y="3849"/>
                  <a:pt x="19439" y="3829"/>
                  <a:pt x="19454" y="3809"/>
                </a:cubicBezTo>
                <a:cubicBezTo>
                  <a:pt x="19466" y="3794"/>
                  <a:pt x="19474" y="3793"/>
                  <a:pt x="19490" y="3784"/>
                </a:cubicBezTo>
                <a:cubicBezTo>
                  <a:pt x="19498" y="3802"/>
                  <a:pt x="19505" y="3820"/>
                  <a:pt x="19512" y="3838"/>
                </a:cubicBezTo>
                <a:cubicBezTo>
                  <a:pt x="19522" y="3862"/>
                  <a:pt x="19533" y="3887"/>
                  <a:pt x="19545" y="3911"/>
                </a:cubicBezTo>
                <a:cubicBezTo>
                  <a:pt x="19592" y="4005"/>
                  <a:pt x="19640" y="4098"/>
                  <a:pt x="19689" y="4190"/>
                </a:cubicBezTo>
                <a:cubicBezTo>
                  <a:pt x="19698" y="4208"/>
                  <a:pt x="19711" y="4224"/>
                  <a:pt x="19722" y="4240"/>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945480" y="2374920"/>
            <a:ext cx="171360" cy="457200"/>
          </a:xfrm>
          <a:custGeom>
            <a:avLst/>
            <a:gdLst/>
            <a:ahLst/>
            <a:rect l="l" t="t" r="r" b="b"/>
            <a:pathLst>
              <a:path w="479" h="1271">
                <a:moveTo>
                  <a:pt x="19210" y="6545"/>
                </a:moveTo>
                <a:cubicBezTo>
                  <a:pt x="19211" y="6570"/>
                  <a:pt x="19209" y="6591"/>
                  <a:pt x="19207" y="6616"/>
                </a:cubicBezTo>
                <a:cubicBezTo>
                  <a:pt x="19199" y="6745"/>
                  <a:pt x="19222" y="6880"/>
                  <a:pt x="19244" y="7007"/>
                </a:cubicBezTo>
                <a:cubicBezTo>
                  <a:pt x="19258" y="7090"/>
                  <a:pt x="19278" y="7172"/>
                  <a:pt x="19297" y="7254"/>
                </a:cubicBezTo>
                <a:cubicBezTo>
                  <a:pt x="19316" y="7334"/>
                  <a:pt x="19346" y="7410"/>
                  <a:pt x="19365" y="7489"/>
                </a:cubicBezTo>
                <a:cubicBezTo>
                  <a:pt x="19375" y="7531"/>
                  <a:pt x="19363" y="7501"/>
                  <a:pt x="19349" y="7479"/>
                </a:cubicBezTo>
              </a:path>
              <a:path w="479" h="1271">
                <a:moveTo>
                  <a:pt x="19100" y="7331"/>
                </a:moveTo>
                <a:cubicBezTo>
                  <a:pt x="19096" y="7362"/>
                  <a:pt x="19100" y="7390"/>
                  <a:pt x="19108" y="7421"/>
                </a:cubicBezTo>
                <a:cubicBezTo>
                  <a:pt x="19120" y="7466"/>
                  <a:pt x="19136" y="7512"/>
                  <a:pt x="19158" y="7553"/>
                </a:cubicBezTo>
                <a:cubicBezTo>
                  <a:pt x="19182" y="7598"/>
                  <a:pt x="19212" y="7641"/>
                  <a:pt x="19243" y="7681"/>
                </a:cubicBezTo>
                <a:cubicBezTo>
                  <a:pt x="19273" y="7720"/>
                  <a:pt x="19304" y="7773"/>
                  <a:pt x="19343" y="7804"/>
                </a:cubicBezTo>
                <a:cubicBezTo>
                  <a:pt x="19365" y="7821"/>
                  <a:pt x="19379" y="7814"/>
                  <a:pt x="19395" y="7796"/>
                </a:cubicBezTo>
                <a:cubicBezTo>
                  <a:pt x="19421" y="7766"/>
                  <a:pt x="19432" y="7717"/>
                  <a:pt x="19447" y="7681"/>
                </a:cubicBezTo>
                <a:cubicBezTo>
                  <a:pt x="19467" y="7634"/>
                  <a:pt x="19482" y="7586"/>
                  <a:pt x="19502" y="7539"/>
                </a:cubicBezTo>
                <a:cubicBezTo>
                  <a:pt x="19517" y="7504"/>
                  <a:pt x="19530" y="7469"/>
                  <a:pt x="19545" y="7435"/>
                </a:cubicBezTo>
                <a:cubicBezTo>
                  <a:pt x="19553" y="7417"/>
                  <a:pt x="19562" y="7402"/>
                  <a:pt x="19570" y="7384"/>
                </a:cubicBezTo>
                <a:cubicBezTo>
                  <a:pt x="19572" y="7380"/>
                  <a:pt x="19573" y="7377"/>
                  <a:pt x="19575" y="7373"/>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92880" y="2435400"/>
            <a:ext cx="193680" cy="338040"/>
          </a:xfrm>
          <a:custGeom>
            <a:avLst/>
            <a:gdLst/>
            <a:ahLst/>
            <a:rect l="l" t="t" r="r" b="b"/>
            <a:pathLst>
              <a:path w="538" h="1184">
                <a:moveTo>
                  <a:pt x="18033" y="6537"/>
                </a:moveTo>
                <a:cubicBezTo>
                  <a:pt x="18006" y="6609"/>
                  <a:pt x="18014" y="6687"/>
                  <a:pt x="18019" y="6763"/>
                </a:cubicBezTo>
                <a:cubicBezTo>
                  <a:pt x="18024" y="6842"/>
                  <a:pt x="18031" y="6921"/>
                  <a:pt x="18036" y="7000"/>
                </a:cubicBezTo>
                <a:cubicBezTo>
                  <a:pt x="18041" y="7084"/>
                  <a:pt x="18043" y="7169"/>
                  <a:pt x="18043" y="7253"/>
                </a:cubicBezTo>
                <a:cubicBezTo>
                  <a:pt x="18043" y="7315"/>
                  <a:pt x="18038" y="7378"/>
                  <a:pt x="18040" y="7440"/>
                </a:cubicBezTo>
                <a:cubicBezTo>
                  <a:pt x="18041" y="7472"/>
                  <a:pt x="18042" y="7504"/>
                  <a:pt x="18046" y="7536"/>
                </a:cubicBezTo>
                <a:cubicBezTo>
                  <a:pt x="18048" y="7551"/>
                  <a:pt x="18055" y="7569"/>
                  <a:pt x="18053" y="7584"/>
                </a:cubicBezTo>
                <a:cubicBezTo>
                  <a:pt x="18056" y="7595"/>
                  <a:pt x="18057" y="7597"/>
                  <a:pt x="18048" y="7583"/>
                </a:cubicBezTo>
              </a:path>
              <a:path w="538" h="1184">
                <a:moveTo>
                  <a:pt x="17775" y="7396"/>
                </a:moveTo>
                <a:cubicBezTo>
                  <a:pt x="17775" y="7427"/>
                  <a:pt x="17781" y="7451"/>
                  <a:pt x="17797" y="7478"/>
                </a:cubicBezTo>
                <a:cubicBezTo>
                  <a:pt x="17821" y="7519"/>
                  <a:pt x="17849" y="7557"/>
                  <a:pt x="17880" y="7593"/>
                </a:cubicBezTo>
                <a:cubicBezTo>
                  <a:pt x="17913" y="7630"/>
                  <a:pt x="17950" y="7664"/>
                  <a:pt x="17992" y="7691"/>
                </a:cubicBezTo>
                <a:cubicBezTo>
                  <a:pt x="18020" y="7709"/>
                  <a:pt x="18049" y="7725"/>
                  <a:pt x="18083" y="7718"/>
                </a:cubicBezTo>
                <a:cubicBezTo>
                  <a:pt x="18110" y="7713"/>
                  <a:pt x="18130" y="7691"/>
                  <a:pt x="18145" y="7669"/>
                </a:cubicBezTo>
                <a:cubicBezTo>
                  <a:pt x="18166" y="7639"/>
                  <a:pt x="18182" y="7605"/>
                  <a:pt x="18201" y="7573"/>
                </a:cubicBezTo>
                <a:cubicBezTo>
                  <a:pt x="18224" y="7535"/>
                  <a:pt x="18244" y="7494"/>
                  <a:pt x="18264" y="7454"/>
                </a:cubicBezTo>
                <a:cubicBezTo>
                  <a:pt x="18275" y="7431"/>
                  <a:pt x="18288" y="7409"/>
                  <a:pt x="18298" y="7386"/>
                </a:cubicBezTo>
                <a:cubicBezTo>
                  <a:pt x="18304" y="7373"/>
                  <a:pt x="18307" y="7361"/>
                  <a:pt x="18311" y="734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327720" y="898560"/>
            <a:ext cx="168480" cy="318960"/>
          </a:xfrm>
          <a:custGeom>
            <a:avLst/>
            <a:gdLst/>
            <a:ahLst/>
            <a:rect l="l" t="t" r="r" b="b"/>
            <a:pathLst>
              <a:path w="466" h="884">
                <a:moveTo>
                  <a:pt x="17734" y="2126"/>
                </a:moveTo>
                <a:cubicBezTo>
                  <a:pt x="17725" y="2213"/>
                  <a:pt x="17726" y="2301"/>
                  <a:pt x="17728" y="2388"/>
                </a:cubicBezTo>
                <a:cubicBezTo>
                  <a:pt x="17731" y="2480"/>
                  <a:pt x="17734" y="2573"/>
                  <a:pt x="17744" y="2664"/>
                </a:cubicBezTo>
                <a:cubicBezTo>
                  <a:pt x="17748" y="2696"/>
                  <a:pt x="17753" y="2729"/>
                  <a:pt x="17757" y="2761"/>
                </a:cubicBezTo>
                <a:cubicBezTo>
                  <a:pt x="17759" y="2780"/>
                  <a:pt x="17763" y="2796"/>
                  <a:pt x="17770" y="2813"/>
                </a:cubicBezTo>
              </a:path>
              <a:path w="466" h="884">
                <a:moveTo>
                  <a:pt x="17560" y="2688"/>
                </a:moveTo>
                <a:cubicBezTo>
                  <a:pt x="17571" y="2732"/>
                  <a:pt x="17583" y="2775"/>
                  <a:pt x="17602" y="2816"/>
                </a:cubicBezTo>
                <a:cubicBezTo>
                  <a:pt x="17623" y="2861"/>
                  <a:pt x="17651" y="2906"/>
                  <a:pt x="17683" y="2944"/>
                </a:cubicBezTo>
                <a:cubicBezTo>
                  <a:pt x="17707" y="2973"/>
                  <a:pt x="17748" y="3014"/>
                  <a:pt x="17789" y="3008"/>
                </a:cubicBezTo>
                <a:cubicBezTo>
                  <a:pt x="17820" y="3004"/>
                  <a:pt x="17841" y="2976"/>
                  <a:pt x="17856" y="2952"/>
                </a:cubicBezTo>
                <a:cubicBezTo>
                  <a:pt x="17878" y="2917"/>
                  <a:pt x="17893" y="2875"/>
                  <a:pt x="17910" y="2837"/>
                </a:cubicBezTo>
                <a:cubicBezTo>
                  <a:pt x="17929" y="2796"/>
                  <a:pt x="17947" y="2754"/>
                  <a:pt x="17968" y="2714"/>
                </a:cubicBezTo>
                <a:cubicBezTo>
                  <a:pt x="17987" y="2679"/>
                  <a:pt x="18005" y="2646"/>
                  <a:pt x="18025" y="2612"/>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808680" y="809640"/>
            <a:ext cx="171720" cy="412560"/>
          </a:xfrm>
          <a:custGeom>
            <a:avLst/>
            <a:gdLst/>
            <a:ahLst/>
            <a:rect l="l" t="t" r="r" b="b"/>
            <a:pathLst>
              <a:path w="477" h="1147">
                <a:moveTo>
                  <a:pt x="19034" y="1880"/>
                </a:moveTo>
                <a:cubicBezTo>
                  <a:pt x="19021" y="1943"/>
                  <a:pt x="19021" y="1998"/>
                  <a:pt x="19027" y="2063"/>
                </a:cubicBezTo>
                <a:cubicBezTo>
                  <a:pt x="19036" y="2153"/>
                  <a:pt x="19050" y="2241"/>
                  <a:pt x="19064" y="2330"/>
                </a:cubicBezTo>
                <a:cubicBezTo>
                  <a:pt x="19081" y="2437"/>
                  <a:pt x="19108" y="2542"/>
                  <a:pt x="19136" y="2647"/>
                </a:cubicBezTo>
                <a:cubicBezTo>
                  <a:pt x="19148" y="2692"/>
                  <a:pt x="19163" y="2737"/>
                  <a:pt x="19179" y="2781"/>
                </a:cubicBezTo>
                <a:cubicBezTo>
                  <a:pt x="19183" y="2796"/>
                  <a:pt x="19184" y="2801"/>
                  <a:pt x="19190" y="2810"/>
                </a:cubicBezTo>
              </a:path>
              <a:path w="477" h="1147">
                <a:moveTo>
                  <a:pt x="18897" y="2633"/>
                </a:moveTo>
                <a:cubicBezTo>
                  <a:pt x="18902" y="2670"/>
                  <a:pt x="18913" y="2703"/>
                  <a:pt x="18929" y="2737"/>
                </a:cubicBezTo>
                <a:cubicBezTo>
                  <a:pt x="18965" y="2816"/>
                  <a:pt x="19011" y="2887"/>
                  <a:pt x="19070" y="2951"/>
                </a:cubicBezTo>
                <a:cubicBezTo>
                  <a:pt x="19095" y="2978"/>
                  <a:pt x="19139" y="3032"/>
                  <a:pt x="19182" y="3026"/>
                </a:cubicBezTo>
                <a:cubicBezTo>
                  <a:pt x="19215" y="3021"/>
                  <a:pt x="19231" y="2974"/>
                  <a:pt x="19240" y="2948"/>
                </a:cubicBezTo>
                <a:cubicBezTo>
                  <a:pt x="19257" y="2901"/>
                  <a:pt x="19270" y="2853"/>
                  <a:pt x="19284" y="2805"/>
                </a:cubicBezTo>
                <a:cubicBezTo>
                  <a:pt x="19297" y="2762"/>
                  <a:pt x="19307" y="2719"/>
                  <a:pt x="19324" y="2677"/>
                </a:cubicBezTo>
                <a:cubicBezTo>
                  <a:pt x="19337" y="2645"/>
                  <a:pt x="19355" y="2616"/>
                  <a:pt x="19373" y="258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102440" y="1511280"/>
            <a:ext cx="1857240" cy="466920"/>
          </a:xfrm>
          <a:custGeom>
            <a:avLst/>
            <a:gdLst/>
            <a:ahLst/>
            <a:rect l="l" t="t" r="r" b="b"/>
            <a:pathLst>
              <a:path w="5159" h="1298">
                <a:moveTo>
                  <a:pt x="19653" y="4892"/>
                </a:moveTo>
                <a:cubicBezTo>
                  <a:pt x="19670" y="4876"/>
                  <a:pt x="19648" y="4872"/>
                  <a:pt x="19685" y="4861"/>
                </a:cubicBezTo>
                <a:cubicBezTo>
                  <a:pt x="19706" y="4855"/>
                  <a:pt x="19733" y="4853"/>
                  <a:pt x="19755" y="4851"/>
                </a:cubicBezTo>
                <a:cubicBezTo>
                  <a:pt x="19791" y="4847"/>
                  <a:pt x="19828" y="4847"/>
                  <a:pt x="19865" y="4844"/>
                </a:cubicBezTo>
                <a:cubicBezTo>
                  <a:pt x="20071" y="4827"/>
                  <a:pt x="20273" y="4824"/>
                  <a:pt x="20479" y="4824"/>
                </a:cubicBezTo>
                <a:cubicBezTo>
                  <a:pt x="20807" y="4824"/>
                  <a:pt x="21134" y="4797"/>
                  <a:pt x="21463" y="4800"/>
                </a:cubicBezTo>
                <a:cubicBezTo>
                  <a:pt x="21602" y="4801"/>
                  <a:pt x="21740" y="4802"/>
                  <a:pt x="21879" y="4794"/>
                </a:cubicBezTo>
                <a:cubicBezTo>
                  <a:pt x="21948" y="4790"/>
                  <a:pt x="22016" y="4786"/>
                  <a:pt x="22084" y="4789"/>
                </a:cubicBezTo>
              </a:path>
              <a:path w="5159" h="1298">
                <a:moveTo>
                  <a:pt x="21808" y="4462"/>
                </a:moveTo>
                <a:cubicBezTo>
                  <a:pt x="21794" y="4456"/>
                  <a:pt x="21788" y="4454"/>
                  <a:pt x="21779" y="4448"/>
                </a:cubicBezTo>
                <a:cubicBezTo>
                  <a:pt x="21810" y="4461"/>
                  <a:pt x="21842" y="4474"/>
                  <a:pt x="21874" y="4487"/>
                </a:cubicBezTo>
                <a:cubicBezTo>
                  <a:pt x="21926" y="4509"/>
                  <a:pt x="21977" y="4531"/>
                  <a:pt x="22028" y="4555"/>
                </a:cubicBezTo>
                <a:cubicBezTo>
                  <a:pt x="22076" y="4577"/>
                  <a:pt x="22124" y="4600"/>
                  <a:pt x="22162" y="4638"/>
                </a:cubicBezTo>
                <a:cubicBezTo>
                  <a:pt x="22190" y="4666"/>
                  <a:pt x="22196" y="4702"/>
                  <a:pt x="22188" y="4740"/>
                </a:cubicBezTo>
                <a:cubicBezTo>
                  <a:pt x="22178" y="4785"/>
                  <a:pt x="22149" y="4820"/>
                  <a:pt x="22120" y="4854"/>
                </a:cubicBezTo>
                <a:cubicBezTo>
                  <a:pt x="22088" y="4892"/>
                  <a:pt x="22049" y="4921"/>
                  <a:pt x="22012" y="4954"/>
                </a:cubicBezTo>
                <a:cubicBezTo>
                  <a:pt x="21984" y="4979"/>
                  <a:pt x="21954" y="5003"/>
                  <a:pt x="21930" y="5031"/>
                </a:cubicBezTo>
                <a:cubicBezTo>
                  <a:pt x="21917" y="5045"/>
                  <a:pt x="21899" y="5069"/>
                  <a:pt x="21896" y="5089"/>
                </a:cubicBezTo>
                <a:cubicBezTo>
                  <a:pt x="21894" y="5107"/>
                  <a:pt x="21898" y="5107"/>
                  <a:pt x="21904" y="5125"/>
                </a:cubicBezTo>
              </a:path>
              <a:path w="5159" h="1298">
                <a:moveTo>
                  <a:pt x="23175" y="4322"/>
                </a:moveTo>
                <a:cubicBezTo>
                  <a:pt x="23175" y="4365"/>
                  <a:pt x="23164" y="4404"/>
                  <a:pt x="23156" y="4447"/>
                </a:cubicBezTo>
                <a:cubicBezTo>
                  <a:pt x="23144" y="4512"/>
                  <a:pt x="23132" y="4578"/>
                  <a:pt x="23131" y="4644"/>
                </a:cubicBezTo>
                <a:cubicBezTo>
                  <a:pt x="23130" y="4714"/>
                  <a:pt x="23137" y="4777"/>
                  <a:pt x="23179" y="4835"/>
                </a:cubicBezTo>
                <a:cubicBezTo>
                  <a:pt x="23211" y="4879"/>
                  <a:pt x="23253" y="4889"/>
                  <a:pt x="23305" y="4892"/>
                </a:cubicBezTo>
                <a:cubicBezTo>
                  <a:pt x="23359" y="4895"/>
                  <a:pt x="23411" y="4880"/>
                  <a:pt x="23462" y="4865"/>
                </a:cubicBezTo>
                <a:cubicBezTo>
                  <a:pt x="23498" y="4854"/>
                  <a:pt x="23565" y="4833"/>
                  <a:pt x="23590" y="4801"/>
                </a:cubicBezTo>
                <a:cubicBezTo>
                  <a:pt x="23604" y="4783"/>
                  <a:pt x="23604" y="4774"/>
                  <a:pt x="23606" y="4753"/>
                </a:cubicBezTo>
              </a:path>
              <a:path w="5159" h="1298">
                <a:moveTo>
                  <a:pt x="23182" y="4661"/>
                </a:moveTo>
                <a:cubicBezTo>
                  <a:pt x="23169" y="4655"/>
                  <a:pt x="23165" y="4654"/>
                  <a:pt x="23156" y="4650"/>
                </a:cubicBezTo>
                <a:cubicBezTo>
                  <a:pt x="23184" y="4628"/>
                  <a:pt x="23210" y="4610"/>
                  <a:pt x="23243" y="4596"/>
                </a:cubicBezTo>
                <a:cubicBezTo>
                  <a:pt x="23294" y="4574"/>
                  <a:pt x="23346" y="4554"/>
                  <a:pt x="23397" y="4532"/>
                </a:cubicBezTo>
                <a:cubicBezTo>
                  <a:pt x="23433" y="4517"/>
                  <a:pt x="23472" y="4505"/>
                  <a:pt x="23505" y="4484"/>
                </a:cubicBezTo>
                <a:cubicBezTo>
                  <a:pt x="23510" y="4481"/>
                  <a:pt x="23514" y="4477"/>
                  <a:pt x="23519" y="4474"/>
                </a:cubicBezTo>
              </a:path>
              <a:path w="5159" h="1298">
                <a:moveTo>
                  <a:pt x="23047" y="4295"/>
                </a:moveTo>
                <a:cubicBezTo>
                  <a:pt x="23063" y="4272"/>
                  <a:pt x="23080" y="4252"/>
                  <a:pt x="23104" y="4236"/>
                </a:cubicBezTo>
                <a:cubicBezTo>
                  <a:pt x="23140" y="4211"/>
                  <a:pt x="23186" y="4189"/>
                  <a:pt x="23228" y="4177"/>
                </a:cubicBezTo>
                <a:cubicBezTo>
                  <a:pt x="23276" y="4163"/>
                  <a:pt x="23328" y="4157"/>
                  <a:pt x="23377" y="4159"/>
                </a:cubicBezTo>
                <a:cubicBezTo>
                  <a:pt x="23422" y="4161"/>
                  <a:pt x="23467" y="4163"/>
                  <a:pt x="23512" y="4163"/>
                </a:cubicBezTo>
              </a:path>
              <a:path w="5159" h="1298">
                <a:moveTo>
                  <a:pt x="23779" y="4363"/>
                </a:moveTo>
                <a:cubicBezTo>
                  <a:pt x="23795" y="4353"/>
                  <a:pt x="23810" y="4342"/>
                  <a:pt x="23831" y="4349"/>
                </a:cubicBezTo>
                <a:cubicBezTo>
                  <a:pt x="23864" y="4359"/>
                  <a:pt x="23891" y="4394"/>
                  <a:pt x="23913" y="4417"/>
                </a:cubicBezTo>
                <a:cubicBezTo>
                  <a:pt x="23952" y="4458"/>
                  <a:pt x="23984" y="4506"/>
                  <a:pt x="24015" y="4552"/>
                </a:cubicBezTo>
                <a:cubicBezTo>
                  <a:pt x="24027" y="4570"/>
                  <a:pt x="24076" y="4664"/>
                  <a:pt x="24098" y="4669"/>
                </a:cubicBezTo>
                <a:cubicBezTo>
                  <a:pt x="24100" y="4665"/>
                  <a:pt x="24103" y="4662"/>
                  <a:pt x="24105" y="4658"/>
                </a:cubicBezTo>
              </a:path>
              <a:path w="5159" h="1298">
                <a:moveTo>
                  <a:pt x="24058" y="4238"/>
                </a:moveTo>
                <a:cubicBezTo>
                  <a:pt x="24047" y="4236"/>
                  <a:pt x="24043" y="4235"/>
                  <a:pt x="24035" y="4234"/>
                </a:cubicBezTo>
                <a:cubicBezTo>
                  <a:pt x="24018" y="4279"/>
                  <a:pt x="24002" y="4323"/>
                  <a:pt x="23987" y="4369"/>
                </a:cubicBezTo>
                <a:cubicBezTo>
                  <a:pt x="23962" y="4446"/>
                  <a:pt x="23943" y="4524"/>
                  <a:pt x="23925" y="4603"/>
                </a:cubicBezTo>
                <a:cubicBezTo>
                  <a:pt x="23908" y="4679"/>
                  <a:pt x="23896" y="4757"/>
                  <a:pt x="23901" y="4835"/>
                </a:cubicBezTo>
                <a:cubicBezTo>
                  <a:pt x="23902" y="4853"/>
                  <a:pt x="23901" y="4886"/>
                  <a:pt x="23922" y="4881"/>
                </a:cubicBezTo>
                <a:cubicBezTo>
                  <a:pt x="23927" y="4879"/>
                  <a:pt x="23932" y="4877"/>
                  <a:pt x="23937" y="4875"/>
                </a:cubicBezTo>
              </a:path>
              <a:path w="5159" h="1298">
                <a:moveTo>
                  <a:pt x="24435" y="4396"/>
                </a:moveTo>
                <a:cubicBezTo>
                  <a:pt x="24430" y="4445"/>
                  <a:pt x="24427" y="4497"/>
                  <a:pt x="24417" y="4545"/>
                </a:cubicBezTo>
                <a:cubicBezTo>
                  <a:pt x="24414" y="4560"/>
                  <a:pt x="24412" y="4571"/>
                  <a:pt x="24410" y="4586"/>
                </a:cubicBezTo>
                <a:cubicBezTo>
                  <a:pt x="24410" y="4547"/>
                  <a:pt x="24412" y="4507"/>
                  <a:pt x="24414" y="4468"/>
                </a:cubicBezTo>
                <a:cubicBezTo>
                  <a:pt x="24418" y="4397"/>
                  <a:pt x="24418" y="4325"/>
                  <a:pt x="24427" y="4254"/>
                </a:cubicBezTo>
                <a:cubicBezTo>
                  <a:pt x="24435" y="4189"/>
                  <a:pt x="24446" y="4120"/>
                  <a:pt x="24485" y="4065"/>
                </a:cubicBezTo>
                <a:cubicBezTo>
                  <a:pt x="24508" y="4032"/>
                  <a:pt x="24549" y="4003"/>
                  <a:pt x="24591" y="4002"/>
                </a:cubicBezTo>
                <a:cubicBezTo>
                  <a:pt x="24630" y="4001"/>
                  <a:pt x="24653" y="4028"/>
                  <a:pt x="24658" y="4065"/>
                </a:cubicBezTo>
                <a:cubicBezTo>
                  <a:pt x="24664" y="4116"/>
                  <a:pt x="24635" y="4163"/>
                  <a:pt x="24607" y="4202"/>
                </a:cubicBezTo>
                <a:cubicBezTo>
                  <a:pt x="24583" y="4235"/>
                  <a:pt x="24548" y="4270"/>
                  <a:pt x="24509" y="4285"/>
                </a:cubicBezTo>
                <a:cubicBezTo>
                  <a:pt x="24496" y="4290"/>
                  <a:pt x="24484" y="4287"/>
                  <a:pt x="24471" y="4287"/>
                </a:cubicBezTo>
                <a:cubicBezTo>
                  <a:pt x="24516" y="4265"/>
                  <a:pt x="24553" y="4270"/>
                  <a:pt x="24601" y="4281"/>
                </a:cubicBezTo>
                <a:cubicBezTo>
                  <a:pt x="24653" y="4292"/>
                  <a:pt x="24691" y="4311"/>
                  <a:pt x="24733" y="4342"/>
                </a:cubicBezTo>
                <a:cubicBezTo>
                  <a:pt x="24768" y="4368"/>
                  <a:pt x="24793" y="4398"/>
                  <a:pt x="24805" y="4440"/>
                </a:cubicBezTo>
                <a:cubicBezTo>
                  <a:pt x="24818" y="4483"/>
                  <a:pt x="24806" y="4525"/>
                  <a:pt x="24778" y="4559"/>
                </a:cubicBezTo>
                <a:cubicBezTo>
                  <a:pt x="24757" y="4585"/>
                  <a:pt x="24724" y="4603"/>
                  <a:pt x="24690" y="4607"/>
                </a:cubicBezTo>
                <a:cubicBezTo>
                  <a:pt x="24659" y="4611"/>
                  <a:pt x="24617" y="4607"/>
                  <a:pt x="24587" y="4597"/>
                </a:cubicBezTo>
                <a:cubicBezTo>
                  <a:pt x="24558" y="4587"/>
                  <a:pt x="24531" y="4572"/>
                  <a:pt x="24503" y="4562"/>
                </a:cubicBezTo>
                <a:cubicBezTo>
                  <a:pt x="24493" y="4560"/>
                  <a:pt x="24489" y="4559"/>
                  <a:pt x="24482" y="4557"/>
                </a:cubicBezTo>
              </a:path>
              <a:path w="5159" h="1298">
                <a:moveTo>
                  <a:pt x="24305" y="5034"/>
                </a:moveTo>
                <a:cubicBezTo>
                  <a:pt x="24323" y="5038"/>
                  <a:pt x="24342" y="5045"/>
                  <a:pt x="24360" y="5045"/>
                </a:cubicBezTo>
                <a:cubicBezTo>
                  <a:pt x="24394" y="5046"/>
                  <a:pt x="24420" y="5032"/>
                  <a:pt x="24449" y="5017"/>
                </a:cubicBezTo>
                <a:cubicBezTo>
                  <a:pt x="24481" y="5001"/>
                  <a:pt x="24509" y="4980"/>
                  <a:pt x="24544" y="4970"/>
                </a:cubicBezTo>
                <a:cubicBezTo>
                  <a:pt x="24569" y="4963"/>
                  <a:pt x="24583" y="4967"/>
                  <a:pt x="24600" y="4987"/>
                </a:cubicBezTo>
                <a:cubicBezTo>
                  <a:pt x="24616" y="5006"/>
                  <a:pt x="24623" y="5020"/>
                  <a:pt x="24651" y="5022"/>
                </a:cubicBezTo>
                <a:cubicBezTo>
                  <a:pt x="24679" y="5024"/>
                  <a:pt x="24699" y="5007"/>
                  <a:pt x="24722" y="4996"/>
                </a:cubicBezTo>
                <a:cubicBezTo>
                  <a:pt x="24743" y="4986"/>
                  <a:pt x="24768" y="4979"/>
                  <a:pt x="24791" y="4977"/>
                </a:cubicBezTo>
                <a:cubicBezTo>
                  <a:pt x="24794" y="4977"/>
                  <a:pt x="24798" y="4976"/>
                  <a:pt x="24801" y="4976"/>
                </a:cubicBezTo>
              </a:path>
              <a:path w="5159" h="1298">
                <a:moveTo>
                  <a:pt x="23168" y="5224"/>
                </a:moveTo>
                <a:cubicBezTo>
                  <a:pt x="23182" y="5250"/>
                  <a:pt x="23189" y="5258"/>
                  <a:pt x="23219" y="5264"/>
                </a:cubicBezTo>
                <a:cubicBezTo>
                  <a:pt x="23254" y="5272"/>
                  <a:pt x="23287" y="5264"/>
                  <a:pt x="23321" y="5254"/>
                </a:cubicBezTo>
                <a:cubicBezTo>
                  <a:pt x="23350" y="5245"/>
                  <a:pt x="23378" y="5234"/>
                  <a:pt x="23406" y="5225"/>
                </a:cubicBezTo>
                <a:cubicBezTo>
                  <a:pt x="23433" y="5216"/>
                  <a:pt x="23432" y="5233"/>
                  <a:pt x="23443" y="5254"/>
                </a:cubicBezTo>
                <a:cubicBezTo>
                  <a:pt x="23453" y="5274"/>
                  <a:pt x="23461" y="5290"/>
                  <a:pt x="23481" y="5296"/>
                </a:cubicBezTo>
                <a:cubicBezTo>
                  <a:pt x="23493" y="5299"/>
                  <a:pt x="23497" y="5300"/>
                  <a:pt x="23504" y="5295"/>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516640" y="2432160"/>
            <a:ext cx="793800" cy="247680"/>
          </a:xfrm>
          <a:custGeom>
            <a:avLst/>
            <a:gdLst/>
            <a:ahLst/>
            <a:rect l="l" t="t" r="r" b="b"/>
            <a:pathLst>
              <a:path w="2204" h="687">
                <a:moveTo>
                  <a:pt x="17629" y="7073"/>
                </a:moveTo>
                <a:cubicBezTo>
                  <a:pt x="17603" y="7066"/>
                  <a:pt x="17587" y="7061"/>
                  <a:pt x="17558" y="7061"/>
                </a:cubicBezTo>
                <a:cubicBezTo>
                  <a:pt x="17471" y="7062"/>
                  <a:pt x="17383" y="7060"/>
                  <a:pt x="17296" y="7061"/>
                </a:cubicBezTo>
                <a:cubicBezTo>
                  <a:pt x="17188" y="7062"/>
                  <a:pt x="17081" y="7064"/>
                  <a:pt x="16973" y="7068"/>
                </a:cubicBezTo>
                <a:cubicBezTo>
                  <a:pt x="16878" y="7071"/>
                  <a:pt x="16784" y="7080"/>
                  <a:pt x="16689" y="7083"/>
                </a:cubicBezTo>
                <a:cubicBezTo>
                  <a:pt x="16604" y="7086"/>
                  <a:pt x="16519" y="7086"/>
                  <a:pt x="16434" y="7088"/>
                </a:cubicBezTo>
                <a:cubicBezTo>
                  <a:pt x="16337" y="7090"/>
                  <a:pt x="16240" y="7091"/>
                  <a:pt x="16143" y="7095"/>
                </a:cubicBezTo>
                <a:cubicBezTo>
                  <a:pt x="16084" y="7098"/>
                  <a:pt x="16025" y="7101"/>
                  <a:pt x="15966" y="7107"/>
                </a:cubicBezTo>
                <a:cubicBezTo>
                  <a:pt x="15923" y="7111"/>
                  <a:pt x="15891" y="7108"/>
                  <a:pt x="15887" y="7118"/>
                </a:cubicBezTo>
                <a:cubicBezTo>
                  <a:pt x="15890" y="7120"/>
                  <a:pt x="15894" y="7123"/>
                  <a:pt x="15897" y="7125"/>
                </a:cubicBezTo>
              </a:path>
              <a:path w="2204" h="687">
                <a:moveTo>
                  <a:pt x="15990" y="6809"/>
                </a:moveTo>
                <a:cubicBezTo>
                  <a:pt x="16001" y="6792"/>
                  <a:pt x="16010" y="6775"/>
                  <a:pt x="16019" y="6757"/>
                </a:cubicBezTo>
                <a:cubicBezTo>
                  <a:pt x="15922" y="6821"/>
                  <a:pt x="15829" y="6889"/>
                  <a:pt x="15732" y="6952"/>
                </a:cubicBezTo>
                <a:cubicBezTo>
                  <a:pt x="15677" y="6988"/>
                  <a:pt x="15619" y="7020"/>
                  <a:pt x="15563" y="7054"/>
                </a:cubicBezTo>
                <a:cubicBezTo>
                  <a:pt x="15527" y="7076"/>
                  <a:pt x="15487" y="7098"/>
                  <a:pt x="15457" y="7129"/>
                </a:cubicBezTo>
                <a:cubicBezTo>
                  <a:pt x="15446" y="7140"/>
                  <a:pt x="15436" y="7155"/>
                  <a:pt x="15426" y="7168"/>
                </a:cubicBezTo>
                <a:cubicBezTo>
                  <a:pt x="15453" y="7183"/>
                  <a:pt x="15478" y="7193"/>
                  <a:pt x="15508" y="7203"/>
                </a:cubicBezTo>
                <a:cubicBezTo>
                  <a:pt x="15559" y="7220"/>
                  <a:pt x="15608" y="7243"/>
                  <a:pt x="15656" y="7267"/>
                </a:cubicBezTo>
                <a:cubicBezTo>
                  <a:pt x="15706" y="7292"/>
                  <a:pt x="15755" y="7320"/>
                  <a:pt x="15803" y="7349"/>
                </a:cubicBezTo>
                <a:cubicBezTo>
                  <a:pt x="15840" y="7372"/>
                  <a:pt x="15886" y="7387"/>
                  <a:pt x="15921" y="7412"/>
                </a:cubicBezTo>
                <a:cubicBezTo>
                  <a:pt x="15936" y="7422"/>
                  <a:pt x="15935" y="7428"/>
                  <a:pt x="15946" y="7443"/>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31440" y="6491160"/>
            <a:ext cx="31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nbluth-Longmire picture</a:t>
            </a:r>
            <a:endParaRPr b="0" lang="en-US" sz="1800" spc="-1" strike="noStrike">
              <a:solidFill>
                <a:srgbClr val="000000"/>
              </a:solidFill>
              <a:latin typeface="Arial"/>
            </a:endParaRPr>
          </a:p>
        </p:txBody>
      </p:sp>
      <p:grpSp>
        <p:nvGrpSpPr>
          <p:cNvPr id="389" name=""/>
          <p:cNvGrpSpPr/>
          <p:nvPr/>
        </p:nvGrpSpPr>
        <p:grpSpPr>
          <a:xfrm>
            <a:off x="620640" y="3768840"/>
            <a:ext cx="3260520" cy="2754360"/>
            <a:chOff x="620640" y="3768840"/>
            <a:chExt cx="3260520" cy="2754360"/>
          </a:xfrm>
        </p:grpSpPr>
        <p:sp>
          <p:nvSpPr>
            <p:cNvPr id="390" name=""/>
            <p:cNvSpPr/>
            <p:nvPr/>
          </p:nvSpPr>
          <p:spPr>
            <a:xfrm>
              <a:off x="1292760" y="37735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20640" y="37688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1454040" y="1568520"/>
            <a:ext cx="201600" cy="261720"/>
          </a:xfrm>
          <a:custGeom>
            <a:avLst/>
            <a:gdLst/>
            <a:ahLst/>
            <a:rect l="l" t="t" r="r" b="b"/>
            <a:pathLst>
              <a:path w="558" h="731">
                <a:moveTo>
                  <a:pt x="4057" y="4742"/>
                </a:moveTo>
                <a:cubicBezTo>
                  <a:pt x="4061" y="4796"/>
                  <a:pt x="4066" y="4850"/>
                  <a:pt x="4067" y="4905"/>
                </a:cubicBezTo>
                <a:cubicBezTo>
                  <a:pt x="4068" y="4950"/>
                  <a:pt x="4061" y="4990"/>
                  <a:pt x="4056" y="5034"/>
                </a:cubicBezTo>
                <a:cubicBezTo>
                  <a:pt x="4053" y="5055"/>
                  <a:pt x="4055" y="5061"/>
                  <a:pt x="4073" y="5075"/>
                </a:cubicBezTo>
                <a:cubicBezTo>
                  <a:pt x="4088" y="5087"/>
                  <a:pt x="4104" y="5085"/>
                  <a:pt x="4121" y="5083"/>
                </a:cubicBezTo>
                <a:cubicBezTo>
                  <a:pt x="4143" y="5081"/>
                  <a:pt x="4162" y="5072"/>
                  <a:pt x="4183" y="5068"/>
                </a:cubicBezTo>
                <a:cubicBezTo>
                  <a:pt x="4214" y="5062"/>
                  <a:pt x="4247" y="5061"/>
                  <a:pt x="4278" y="5059"/>
                </a:cubicBezTo>
                <a:cubicBezTo>
                  <a:pt x="4349" y="5055"/>
                  <a:pt x="4417" y="5060"/>
                  <a:pt x="4488" y="5066"/>
                </a:cubicBezTo>
                <a:cubicBezTo>
                  <a:pt x="4513" y="5068"/>
                  <a:pt x="4538" y="5071"/>
                  <a:pt x="4563" y="5072"/>
                </a:cubicBezTo>
                <a:cubicBezTo>
                  <a:pt x="4574" y="5072"/>
                  <a:pt x="4586" y="5072"/>
                  <a:pt x="4597" y="5072"/>
                </a:cubicBezTo>
                <a:cubicBezTo>
                  <a:pt x="4590" y="5048"/>
                  <a:pt x="4584" y="5030"/>
                  <a:pt x="4587" y="5005"/>
                </a:cubicBezTo>
                <a:cubicBezTo>
                  <a:pt x="4590" y="4979"/>
                  <a:pt x="4596" y="4953"/>
                  <a:pt x="4597" y="4927"/>
                </a:cubicBezTo>
                <a:cubicBezTo>
                  <a:pt x="4598" y="4892"/>
                  <a:pt x="4595" y="4858"/>
                  <a:pt x="4592" y="4824"/>
                </a:cubicBezTo>
                <a:cubicBezTo>
                  <a:pt x="4585" y="4738"/>
                  <a:pt x="4589" y="4650"/>
                  <a:pt x="4578" y="4565"/>
                </a:cubicBezTo>
                <a:cubicBezTo>
                  <a:pt x="4575" y="4539"/>
                  <a:pt x="4567" y="4515"/>
                  <a:pt x="4565" y="4489"/>
                </a:cubicBezTo>
                <a:cubicBezTo>
                  <a:pt x="4564" y="4476"/>
                  <a:pt x="4568" y="4457"/>
                  <a:pt x="4565" y="4445"/>
                </a:cubicBezTo>
                <a:cubicBezTo>
                  <a:pt x="4562" y="4436"/>
                  <a:pt x="4552" y="4398"/>
                  <a:pt x="4549" y="4393"/>
                </a:cubicBezTo>
                <a:cubicBezTo>
                  <a:pt x="4536" y="4372"/>
                  <a:pt x="4522" y="4375"/>
                  <a:pt x="4502" y="4373"/>
                </a:cubicBezTo>
                <a:cubicBezTo>
                  <a:pt x="4478" y="4371"/>
                  <a:pt x="4454" y="4371"/>
                  <a:pt x="4430" y="4369"/>
                </a:cubicBezTo>
                <a:cubicBezTo>
                  <a:pt x="4400" y="4367"/>
                  <a:pt x="4369" y="4366"/>
                  <a:pt x="4339" y="4365"/>
                </a:cubicBezTo>
                <a:cubicBezTo>
                  <a:pt x="4306" y="4364"/>
                  <a:pt x="4273" y="4360"/>
                  <a:pt x="4240" y="4359"/>
                </a:cubicBezTo>
                <a:cubicBezTo>
                  <a:pt x="4185" y="4358"/>
                  <a:pt x="4128" y="4362"/>
                  <a:pt x="4073" y="4358"/>
                </a:cubicBezTo>
                <a:cubicBezTo>
                  <a:pt x="4061" y="4357"/>
                  <a:pt x="4052" y="4356"/>
                  <a:pt x="4040" y="4356"/>
                </a:cubicBezTo>
                <a:cubicBezTo>
                  <a:pt x="4052" y="4378"/>
                  <a:pt x="4063" y="4397"/>
                  <a:pt x="4070" y="4421"/>
                </a:cubicBezTo>
                <a:cubicBezTo>
                  <a:pt x="4077" y="4445"/>
                  <a:pt x="4082" y="4471"/>
                  <a:pt x="4087" y="4495"/>
                </a:cubicBezTo>
                <a:cubicBezTo>
                  <a:pt x="4093" y="4522"/>
                  <a:pt x="4101" y="4547"/>
                  <a:pt x="4108" y="4574"/>
                </a:cubicBezTo>
                <a:cubicBezTo>
                  <a:pt x="4119" y="4613"/>
                  <a:pt x="4124" y="4651"/>
                  <a:pt x="4130" y="4691"/>
                </a:cubicBezTo>
                <a:cubicBezTo>
                  <a:pt x="4137" y="4738"/>
                  <a:pt x="4146" y="4787"/>
                  <a:pt x="4144" y="4835"/>
                </a:cubicBezTo>
                <a:cubicBezTo>
                  <a:pt x="4143" y="4857"/>
                  <a:pt x="4140" y="4878"/>
                  <a:pt x="4135" y="4899"/>
                </a:cubicBezTo>
                <a:cubicBezTo>
                  <a:pt x="4130" y="4920"/>
                  <a:pt x="4122" y="4939"/>
                  <a:pt x="4118" y="4960"/>
                </a:cubicBezTo>
                <a:cubicBezTo>
                  <a:pt x="4113" y="4985"/>
                  <a:pt x="4101" y="5024"/>
                  <a:pt x="4104" y="5049"/>
                </a:cubicBezTo>
                <a:cubicBezTo>
                  <a:pt x="4108" y="5061"/>
                  <a:pt x="4109" y="5064"/>
                  <a:pt x="4113" y="507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76440" y="3435480"/>
            <a:ext cx="171360" cy="242640"/>
          </a:xfrm>
          <a:custGeom>
            <a:avLst/>
            <a:gdLst/>
            <a:ahLst/>
            <a:rect l="l" t="t" r="r" b="b"/>
            <a:pathLst>
              <a:path w="474" h="675">
                <a:moveTo>
                  <a:pt x="1895" y="9576"/>
                </a:moveTo>
                <a:cubicBezTo>
                  <a:pt x="1890" y="9563"/>
                  <a:pt x="1887" y="9555"/>
                  <a:pt x="1881" y="9543"/>
                </a:cubicBezTo>
                <a:cubicBezTo>
                  <a:pt x="1880" y="9601"/>
                  <a:pt x="1890" y="9655"/>
                  <a:pt x="1894" y="9713"/>
                </a:cubicBezTo>
                <a:cubicBezTo>
                  <a:pt x="1898" y="9772"/>
                  <a:pt x="1904" y="9831"/>
                  <a:pt x="1910" y="9890"/>
                </a:cubicBezTo>
                <a:cubicBezTo>
                  <a:pt x="1918" y="9972"/>
                  <a:pt x="1927" y="10055"/>
                  <a:pt x="1933" y="10137"/>
                </a:cubicBezTo>
                <a:cubicBezTo>
                  <a:pt x="1935" y="10164"/>
                  <a:pt x="1938" y="10190"/>
                  <a:pt x="1940" y="10217"/>
                </a:cubicBezTo>
                <a:cubicBezTo>
                  <a:pt x="1954" y="10201"/>
                  <a:pt x="1962" y="10189"/>
                  <a:pt x="1979" y="10176"/>
                </a:cubicBezTo>
                <a:cubicBezTo>
                  <a:pt x="2005" y="10156"/>
                  <a:pt x="2034" y="10146"/>
                  <a:pt x="2062" y="10130"/>
                </a:cubicBezTo>
                <a:cubicBezTo>
                  <a:pt x="2100" y="10108"/>
                  <a:pt x="2140" y="10091"/>
                  <a:pt x="2180" y="10072"/>
                </a:cubicBezTo>
                <a:cubicBezTo>
                  <a:pt x="2212" y="10057"/>
                  <a:pt x="2246" y="10039"/>
                  <a:pt x="2280" y="10029"/>
                </a:cubicBezTo>
                <a:cubicBezTo>
                  <a:pt x="2297" y="10024"/>
                  <a:pt x="2315" y="10022"/>
                  <a:pt x="2331" y="10018"/>
                </a:cubicBezTo>
                <a:cubicBezTo>
                  <a:pt x="2342" y="10015"/>
                  <a:pt x="2346" y="10014"/>
                  <a:pt x="2353" y="1001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619440" y="3492360"/>
            <a:ext cx="206280" cy="200160"/>
          </a:xfrm>
          <a:custGeom>
            <a:avLst/>
            <a:gdLst/>
            <a:ahLst/>
            <a:rect l="l" t="t" r="r" b="b"/>
            <a:pathLst>
              <a:path w="573" h="556">
                <a:moveTo>
                  <a:pt x="10053" y="10040"/>
                </a:moveTo>
                <a:cubicBezTo>
                  <a:pt x="10074" y="10044"/>
                  <a:pt x="10093" y="10048"/>
                  <a:pt x="10114" y="10054"/>
                </a:cubicBezTo>
                <a:cubicBezTo>
                  <a:pt x="10191" y="10075"/>
                  <a:pt x="10263" y="10104"/>
                  <a:pt x="10336" y="10134"/>
                </a:cubicBezTo>
                <a:cubicBezTo>
                  <a:pt x="10394" y="10158"/>
                  <a:pt x="10452" y="10183"/>
                  <a:pt x="10510" y="10207"/>
                </a:cubicBezTo>
                <a:cubicBezTo>
                  <a:pt x="10538" y="10219"/>
                  <a:pt x="10568" y="10230"/>
                  <a:pt x="10596" y="10243"/>
                </a:cubicBezTo>
                <a:cubicBezTo>
                  <a:pt x="10610" y="10249"/>
                  <a:pt x="10614" y="10251"/>
                  <a:pt x="10622" y="10257"/>
                </a:cubicBezTo>
                <a:cubicBezTo>
                  <a:pt x="10621" y="10236"/>
                  <a:pt x="10622" y="10218"/>
                  <a:pt x="10615" y="10197"/>
                </a:cubicBezTo>
                <a:cubicBezTo>
                  <a:pt x="10603" y="10160"/>
                  <a:pt x="10587" y="10126"/>
                  <a:pt x="10575" y="10089"/>
                </a:cubicBezTo>
                <a:cubicBezTo>
                  <a:pt x="10561" y="10044"/>
                  <a:pt x="10547" y="9999"/>
                  <a:pt x="10538" y="9953"/>
                </a:cubicBezTo>
                <a:cubicBezTo>
                  <a:pt x="10528" y="9907"/>
                  <a:pt x="10521" y="9860"/>
                  <a:pt x="10515" y="9813"/>
                </a:cubicBezTo>
                <a:cubicBezTo>
                  <a:pt x="10510" y="9775"/>
                  <a:pt x="10511" y="9739"/>
                  <a:pt x="10514" y="970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77880" y="1905120"/>
            <a:ext cx="771480" cy="1733400"/>
          </a:xfrm>
          <a:custGeom>
            <a:avLst/>
            <a:gdLst/>
            <a:ahLst/>
            <a:rect l="l" t="t" r="r" b="b"/>
            <a:pathLst>
              <a:path w="2147" h="4816">
                <a:moveTo>
                  <a:pt x="4027" y="5291"/>
                </a:moveTo>
                <a:cubicBezTo>
                  <a:pt x="3970" y="5351"/>
                  <a:pt x="3936" y="5391"/>
                  <a:pt x="3893" y="5476"/>
                </a:cubicBezTo>
                <a:cubicBezTo>
                  <a:pt x="3813" y="5634"/>
                  <a:pt x="3742" y="5797"/>
                  <a:pt x="3666" y="5957"/>
                </a:cubicBezTo>
                <a:cubicBezTo>
                  <a:pt x="3498" y="6312"/>
                  <a:pt x="3351" y="6668"/>
                  <a:pt x="3200" y="7030"/>
                </a:cubicBezTo>
                <a:cubicBezTo>
                  <a:pt x="2998" y="7513"/>
                  <a:pt x="2776" y="7984"/>
                  <a:pt x="2564" y="8462"/>
                </a:cubicBezTo>
                <a:cubicBezTo>
                  <a:pt x="2463" y="8690"/>
                  <a:pt x="2364" y="8919"/>
                  <a:pt x="2259" y="9145"/>
                </a:cubicBezTo>
                <a:cubicBezTo>
                  <a:pt x="2138" y="9406"/>
                  <a:pt x="2044" y="9676"/>
                  <a:pt x="1936" y="9942"/>
                </a:cubicBezTo>
                <a:cubicBezTo>
                  <a:pt x="1914" y="9997"/>
                  <a:pt x="1899" y="10052"/>
                  <a:pt x="1882" y="1010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35200" y="1927080"/>
            <a:ext cx="2047680" cy="1739880"/>
          </a:xfrm>
          <a:custGeom>
            <a:avLst/>
            <a:gdLst/>
            <a:ahLst/>
            <a:rect l="l" t="t" r="r" b="b"/>
            <a:pathLst>
              <a:path w="5688" h="4834">
                <a:moveTo>
                  <a:pt x="4821" y="5354"/>
                </a:moveTo>
                <a:cubicBezTo>
                  <a:pt x="4956" y="5512"/>
                  <a:pt x="5097" y="5659"/>
                  <a:pt x="5261" y="5791"/>
                </a:cubicBezTo>
                <a:cubicBezTo>
                  <a:pt x="5786" y="6213"/>
                  <a:pt x="6392" y="6537"/>
                  <a:pt x="6939" y="6930"/>
                </a:cubicBezTo>
                <a:cubicBezTo>
                  <a:pt x="7528" y="7353"/>
                  <a:pt x="8063" y="7819"/>
                  <a:pt x="8592" y="8315"/>
                </a:cubicBezTo>
                <a:cubicBezTo>
                  <a:pt x="8894" y="8599"/>
                  <a:pt x="9179" y="8898"/>
                  <a:pt x="9463" y="9199"/>
                </a:cubicBezTo>
                <a:cubicBezTo>
                  <a:pt x="9682" y="9431"/>
                  <a:pt x="9905" y="9641"/>
                  <a:pt x="10140" y="9856"/>
                </a:cubicBezTo>
                <a:cubicBezTo>
                  <a:pt x="10262" y="9968"/>
                  <a:pt x="10388" y="10074"/>
                  <a:pt x="10508" y="1018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2440" y="348156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203480" y="3560760"/>
            <a:ext cx="282600" cy="8748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9" name=""/>
          <p:cNvSpPr/>
          <p:nvPr/>
        </p:nvSpPr>
        <p:spPr>
          <a:xfrm>
            <a:off x="1562040" y="3527280"/>
            <a:ext cx="103320" cy="13500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059000" y="5324400"/>
            <a:ext cx="394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peat this analysis on the g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ture side &amp; find it is s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as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3656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e picture of reducing turbulence by negative magnetic shear</a:t>
            </a:r>
            <a:endParaRPr b="0" lang="en-US" sz="3200" spc="-1" strike="noStrike">
              <a:solidFill>
                <a:srgbClr val="000000"/>
              </a:solidFill>
              <a:latin typeface="Times New Roman"/>
            </a:endParaRPr>
          </a:p>
        </p:txBody>
      </p:sp>
      <p:sp>
        <p:nvSpPr>
          <p:cNvPr id="402" name="PlaceHolder 2"/>
          <p:cNvSpPr>
            <a:spLocks noGrp="1"/>
          </p:cNvSpPr>
          <p:nvPr>
            <p:ph/>
          </p:nvPr>
        </p:nvSpPr>
        <p:spPr>
          <a:xfrm>
            <a:off x="126720" y="1457280"/>
            <a:ext cx="426708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les that produce an eddy tend to follow field lin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rsed magnetic shear twists eddy in a short distance to point in the ``good curvature direc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ly reversed magnetic shear naturally produced by squeezing magnetic fields at high plasma pressure: ``Second stability'' Advanced Tokamak or Spherical Torus.</a:t>
            </a:r>
            <a:br>
              <a:rPr sz="1800"/>
            </a:b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ing the plasma (elongation and triangularity) can also change local shear</a:t>
            </a:r>
            <a:endParaRPr b="0" lang="en-US" sz="1800" spc="-1" strike="noStrike">
              <a:solidFill>
                <a:srgbClr val="000000"/>
              </a:solidFill>
              <a:latin typeface="Times New Roman"/>
            </a:endParaRPr>
          </a:p>
        </p:txBody>
      </p:sp>
      <p:sp>
        <p:nvSpPr>
          <p:cNvPr id="403" name=""/>
          <p:cNvSpPr/>
          <p:nvPr/>
        </p:nvSpPr>
        <p:spPr>
          <a:xfrm flipV="1">
            <a:off x="395280" y="1281240"/>
            <a:ext cx="830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04" name="" descr=""/>
          <p:cNvPicPr/>
          <p:nvPr/>
        </p:nvPicPr>
        <p:blipFill>
          <a:blip r:embed="rId1"/>
          <a:stretch/>
        </p:blipFill>
        <p:spPr>
          <a:xfrm>
            <a:off x="4319640" y="1344600"/>
            <a:ext cx="4486320" cy="5513400"/>
          </a:xfrm>
          <a:prstGeom prst="rect">
            <a:avLst/>
          </a:prstGeom>
          <a:ln w="0">
            <a:noFill/>
          </a:ln>
        </p:spPr>
      </p:pic>
      <p:sp>
        <p:nvSpPr>
          <p:cNvPr id="405" name=""/>
          <p:cNvSpPr/>
          <p:nvPr/>
        </p:nvSpPr>
        <p:spPr>
          <a:xfrm>
            <a:off x="0" y="6257880"/>
            <a:ext cx="3648240" cy="43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 from Antonsen, Drake, Guzdar et al. Phys. Plasmas 9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ssel, Manickam, Rewoldt, Tang Phys. Rev. Lett. 94</a:t>
            </a:r>
            <a:endParaRPr b="0" lang="en-US" sz="1000" spc="-1" strike="noStrike">
              <a:solidFill>
                <a:srgbClr val="000000"/>
              </a:solidFill>
              <a:latin typeface="Arial"/>
            </a:endParaRPr>
          </a:p>
        </p:txBody>
      </p:sp>
      <p:sp>
        <p:nvSpPr>
          <p:cNvPr id="406" name=""/>
          <p:cNvSpPr/>
          <p:nvPr/>
        </p:nvSpPr>
        <p:spPr>
          <a:xfrm>
            <a:off x="6444360" y="460548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td tokamaks)</a:t>
            </a:r>
            <a:endParaRPr b="0" lang="en-US" sz="1800" spc="-1" strike="noStrike">
              <a:solidFill>
                <a:srgbClr val="000000"/>
              </a:solidFill>
              <a:latin typeface="Arial"/>
            </a:endParaRPr>
          </a:p>
        </p:txBody>
      </p:sp>
      <p:sp>
        <p:nvSpPr>
          <p:cNvPr id="407" name=""/>
          <p:cNvSpPr/>
          <p:nvPr/>
        </p:nvSpPr>
        <p:spPr>
          <a:xfrm>
            <a:off x="6652080" y="6491160"/>
            <a:ext cx="24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rmal” in stellarators</a:t>
            </a:r>
            <a:endParaRPr b="0" lang="en-US" sz="1800" spc="-1" strike="noStrike">
              <a:solidFill>
                <a:srgbClr val="000000"/>
              </a:solidFill>
              <a:latin typeface="Arial"/>
            </a:endParaRPr>
          </a:p>
        </p:txBody>
      </p:sp>
      <p:sp>
        <p:nvSpPr>
          <p:cNvPr id="408" name=""/>
          <p:cNvSpPr/>
          <p:nvPr/>
        </p:nvSpPr>
        <p:spPr>
          <a:xfrm>
            <a:off x="6829560" y="583560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okama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71480" y="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Gyrokinetic References</a:t>
            </a:r>
            <a:endParaRPr b="0" lang="en-US" sz="3200" spc="-1" strike="noStrike">
              <a:solidFill>
                <a:srgbClr val="000000"/>
              </a:solidFill>
              <a:latin typeface="Times New Roman"/>
            </a:endParaRPr>
          </a:p>
        </p:txBody>
      </p:sp>
      <p:sp>
        <p:nvSpPr>
          <p:cNvPr id="410" name="PlaceHolder 2"/>
          <p:cNvSpPr>
            <a:spLocks noGrp="1"/>
          </p:cNvSpPr>
          <p:nvPr>
            <p:ph/>
          </p:nvPr>
        </p:nvSpPr>
        <p:spPr>
          <a:xfrm>
            <a:off x="367920" y="765000"/>
            <a:ext cx="8443800" cy="55404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talk available at  w3.pppl.gov/~hammett/talk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YRO movies shown (d3d.n16.2x_06_fly, n32o6d0.8, &amp; ETG-ki) from http://fusion.gat.com/theory/Gyromovi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ites for 4 main gyrokinetic codes discussed here (incl. refs., documentat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YRO (Waltz &amp; Candy, GA):  </a:t>
            </a:r>
            <a:r>
              <a:rPr b="0" lang="en-US" sz="1600" spc="-1" strike="noStrike" u="sng">
                <a:solidFill>
                  <a:srgbClr val="ff0066"/>
                </a:solidFill>
                <a:uFillTx/>
                <a:latin typeface="Times New Roman"/>
                <a:hlinkClick r:id="rId1"/>
              </a:rPr>
              <a:t>fusion.gat.com</a:t>
            </a:r>
            <a:r>
              <a:rPr b="0" lang="en-US" sz="1600" spc="-1" strike="noStrike" u="sng">
                <a:solidFill>
                  <a:srgbClr val="ff0066"/>
                </a:solidFill>
                <a:uFillTx/>
                <a:latin typeface="Times New Roman"/>
                <a:hlinkClick r:id="rId2"/>
              </a:rPr>
              <a:t>/theory/Gyro</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S2 (Dorland &amp; Kotschenreuther, U. Maryland/Texas): </a:t>
            </a:r>
            <a:r>
              <a:rPr b="0" lang="en-US" sz="1600" spc="-1" strike="noStrike" u="sng">
                <a:solidFill>
                  <a:srgbClr val="ff0066"/>
                </a:solidFill>
                <a:uFillTx/>
                <a:latin typeface="Times New Roman"/>
                <a:hlinkClick r:id="rId3"/>
              </a:rPr>
              <a:t>gs2.sourceforge.ne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Jenko, Garching):  www.ipp.mpg.de/~fsj</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M (Parker &amp; Chen, U. Colorado):  </a:t>
            </a:r>
            <a:r>
              <a:rPr b="0" lang="en-US" sz="1600" spc="-1" strike="noStrike" u="sng">
                <a:solidFill>
                  <a:srgbClr val="ff0066"/>
                </a:solidFill>
                <a:uFillTx/>
                <a:latin typeface="Times New Roman"/>
                <a:hlinkClick r:id="rId4"/>
              </a:rPr>
              <a:t>cips.colorado.edu/simulation/gem.htm</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nomalous Transport Scaling in the DIII-D Tokamak Matched by Supercomputer Simulation”, J. Candy &amp; R. E. Waltz, Phys. Rev. Lett. 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urning plasma projections using drift-wave transport models and scalings for the H-mode pedestal”, Kinsey et al., Nucl. Fusion 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lectron Temperature Gradient Turbulence”, W. Dorland, F. Jenko, M. Kotschenreuther, B.N. Rogers,  Phys. Rev. Lett.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Generation &amp; Stability of Zonal Flows in Ion-Temperature-Gradient Mode Turbulence”, Rogers, Dorland, Kotschenreuther, Phys. Rev. Lett.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s and Physics Basis of Tokamak Transport Models and Turbulence Simulations",  Dimits et al., Phys. Plasmas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imulations of turbulent transport with kinetic electrons and electromagnetic effects”,</a:t>
            </a:r>
            <a:r>
              <a:rPr b="1" lang="en-US" sz="1800" spc="-1" strike="noStrike">
                <a:solidFill>
                  <a:srgbClr val="000000"/>
                </a:solidFill>
                <a:latin typeface="Times New Roman"/>
              </a:rPr>
              <a:t> </a:t>
            </a:r>
            <a:r>
              <a:rPr b="0" lang="en-US" sz="1800" spc="-1" strike="noStrike">
                <a:solidFill>
                  <a:srgbClr val="000000"/>
                </a:solidFill>
                <a:latin typeface="Times New Roman"/>
              </a:rPr>
              <a:t>Y. Chen, S.E. Parker, B.I. Cohen, A.M. Dimits et al., Nucl. Fus. 43, 1121 (2003)</a:t>
            </a:r>
            <a:endParaRPr b="0" lang="en-US" sz="1800" spc="-1" strike="noStrike">
              <a:solidFill>
                <a:srgbClr val="000000"/>
              </a:solidFill>
              <a:latin typeface="Times New Roman"/>
            </a:endParaRPr>
          </a:p>
        </p:txBody>
      </p:sp>
      <p:sp>
        <p:nvSpPr>
          <p:cNvPr id="411"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71480" y="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Gyrokinetic References (cont.)</a:t>
            </a:r>
            <a:endParaRPr b="0" lang="en-US" sz="3200" spc="-1" strike="noStrike">
              <a:solidFill>
                <a:srgbClr val="000000"/>
              </a:solidFill>
              <a:latin typeface="Times New Roman"/>
            </a:endParaRPr>
          </a:p>
        </p:txBody>
      </p:sp>
      <p:sp>
        <p:nvSpPr>
          <p:cNvPr id="413" name="PlaceHolder 2"/>
          <p:cNvSpPr>
            <a:spLocks noGrp="1"/>
          </p:cNvSpPr>
          <p:nvPr>
            <p:ph/>
          </p:nvPr>
        </p:nvSpPr>
        <p:spPr>
          <a:xfrm>
            <a:off x="189000" y="754200"/>
            <a:ext cx="8789760" cy="55404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zard &amp; Hahm, Reviews of  Modern Physics 2007</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hort Introduction to General Gyrokinetic Theory”</a:t>
            </a:r>
            <a:r>
              <a:rPr b="0" lang="en-US" sz="1800" spc="-1" strike="noStrike">
                <a:solidFill>
                  <a:srgbClr val="000000"/>
                </a:solidFill>
                <a:latin typeface="Times New Roman"/>
              </a:rPr>
              <a:t>, H. Qin,  in Fields Institute Communications </a:t>
            </a:r>
            <a:r>
              <a:rPr b="1" lang="en-US" sz="1800" spc="-1" strike="noStrike">
                <a:solidFill>
                  <a:srgbClr val="000000"/>
                </a:solidFill>
                <a:latin typeface="Times New Roman"/>
              </a:rPr>
              <a:t>46</a:t>
            </a:r>
            <a:r>
              <a:rPr b="0" lang="en-US" sz="1800" spc="-1" strike="noStrike">
                <a:solidFill>
                  <a:srgbClr val="000000"/>
                </a:solidFill>
                <a:latin typeface="Times New Roman"/>
              </a:rPr>
              <a:t>, Topics in Kinetic Theory, American Mathematical Society, 171 (2005).  see also http://www.pppl.gov/~hongqin/QinPapers.php</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Geometric Gyrokinetic Theory for Edge Plasmas”</a:t>
            </a:r>
            <a:r>
              <a:rPr b="0" lang="en-US" sz="1800" spc="-1" strike="noStrike">
                <a:solidFill>
                  <a:srgbClr val="000000"/>
                </a:solidFill>
                <a:latin typeface="Times New Roman"/>
              </a:rPr>
              <a:t>, H. Qin, R. H. Cohen, W. M. Nevins, and X. Q. Xu, Physics of Plasmas </a:t>
            </a:r>
            <a:r>
              <a:rPr b="1" lang="en-US" sz="1800" spc="-1" strike="noStrike">
                <a:solidFill>
                  <a:srgbClr val="000000"/>
                </a:solidFill>
                <a:latin typeface="Times New Roman"/>
              </a:rPr>
              <a:t>14</a:t>
            </a:r>
            <a:r>
              <a:rPr b="0" lang="en-US" sz="1800" spc="-1" strike="noStrike">
                <a:solidFill>
                  <a:srgbClr val="000000"/>
                </a:solidFill>
                <a:latin typeface="Times New Roman"/>
              </a:rPr>
              <a:t>, 056110 (2007)</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eory and Computation in Full-F Gyrokinetics” B. D. Scott, Princeton PPL Theory seminar, June 2005, and other useful presentations at http://www.ipp.mpg.de/~b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 Frieman and L. Chen, Phys. Fluids </a:t>
            </a:r>
            <a:r>
              <a:rPr b="1" lang="en-US" sz="1800" spc="-1" strike="noStrike">
                <a:solidFill>
                  <a:srgbClr val="000000"/>
                </a:solidFill>
                <a:latin typeface="Times New Roman"/>
              </a:rPr>
              <a:t>25</a:t>
            </a:r>
            <a:r>
              <a:rPr b="0" lang="en-US" sz="1800" spc="-1" strike="noStrike">
                <a:solidFill>
                  <a:srgbClr val="000000"/>
                </a:solidFill>
                <a:latin typeface="Times New Roman"/>
              </a:rPr>
              <a:t>, 502 1982</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M. Antonsen and B. Lane, Phys. Fluids </a:t>
            </a:r>
            <a:r>
              <a:rPr b="1" lang="en-US" sz="1800" spc="-1" strike="noStrike">
                <a:solidFill>
                  <a:srgbClr val="000000"/>
                </a:solidFill>
                <a:latin typeface="Times New Roman"/>
              </a:rPr>
              <a:t>23</a:t>
            </a:r>
            <a:r>
              <a:rPr b="0" lang="en-US" sz="1800" spc="-1" strike="noStrike">
                <a:solidFill>
                  <a:srgbClr val="000000"/>
                </a:solidFill>
                <a:latin typeface="Times New Roman"/>
              </a:rPr>
              <a:t>, 1205 198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J. Catto, W. M. Tang, and D. E. Baldwin, Plasma Phys. </a:t>
            </a:r>
            <a:r>
              <a:rPr b="1" lang="en-US" sz="1800" spc="-1" strike="noStrike">
                <a:solidFill>
                  <a:srgbClr val="000000"/>
                </a:solidFill>
                <a:latin typeface="Times New Roman"/>
              </a:rPr>
              <a:t>23</a:t>
            </a:r>
            <a:r>
              <a:rPr b="0" lang="en-US" sz="1800" spc="-1" strike="noStrike">
                <a:solidFill>
                  <a:srgbClr val="000000"/>
                </a:solidFill>
                <a:latin typeface="Times New Roman"/>
              </a:rPr>
              <a:t>, 639 (1981)</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H. E. Dubin, J. A. Krommes, C. Oberman, &amp; W. W. Lee, Phys. Fluids </a:t>
            </a:r>
            <a:r>
              <a:rPr b="1" lang="en-US" sz="1800" spc="-1" strike="noStrike">
                <a:solidFill>
                  <a:srgbClr val="000000"/>
                </a:solidFill>
                <a:latin typeface="Times New Roman"/>
              </a:rPr>
              <a:t>26</a:t>
            </a:r>
            <a:r>
              <a:rPr b="0" lang="en-US" sz="1800" spc="-1" strike="noStrike">
                <a:solidFill>
                  <a:srgbClr val="000000"/>
                </a:solidFill>
                <a:latin typeface="Times New Roman"/>
              </a:rPr>
              <a:t>, 3524 (198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S. Hahm, Phys. Fluids </a:t>
            </a:r>
            <a:r>
              <a:rPr b="1" lang="en-US" sz="1800" spc="-1" strike="noStrike">
                <a:solidFill>
                  <a:srgbClr val="000000"/>
                </a:solidFill>
                <a:latin typeface="Times New Roman"/>
              </a:rPr>
              <a:t>31</a:t>
            </a:r>
            <a:r>
              <a:rPr b="0" lang="en-US" sz="1800" spc="-1" strike="noStrike">
                <a:solidFill>
                  <a:srgbClr val="000000"/>
                </a:solidFill>
                <a:latin typeface="Times New Roman"/>
              </a:rPr>
              <a:t>, 2670 (198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rizard, J. Plasma Phys. </a:t>
            </a:r>
            <a:r>
              <a:rPr b="1" lang="en-US" sz="1800" spc="-1" strike="noStrike">
                <a:solidFill>
                  <a:srgbClr val="000000"/>
                </a:solidFill>
                <a:latin typeface="Times New Roman"/>
              </a:rPr>
              <a:t>41</a:t>
            </a:r>
            <a:r>
              <a:rPr b="0" lang="en-US" sz="1800" spc="-1" strike="noStrike">
                <a:solidFill>
                  <a:srgbClr val="000000"/>
                </a:solidFill>
                <a:latin typeface="Times New Roman"/>
              </a:rPr>
              <a:t>, 541  (198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 Dimits, L. L. Lodestro, and D. H. E. Dubin, Phys. Fluids B </a:t>
            </a:r>
            <a:r>
              <a:rPr b="1" lang="en-US" sz="1800" spc="-1" strike="noStrike">
                <a:solidFill>
                  <a:srgbClr val="000000"/>
                </a:solidFill>
                <a:latin typeface="Times New Roman"/>
              </a:rPr>
              <a:t>4</a:t>
            </a:r>
            <a:r>
              <a:rPr b="0" lang="en-US" sz="1800" spc="-1" strike="noStrike">
                <a:solidFill>
                  <a:srgbClr val="000000"/>
                </a:solidFill>
                <a:latin typeface="Times New Roman"/>
              </a:rPr>
              <a:t>, 274 (1992)</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 Lee, Phys. Fluids 26, 556 (198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physical Gyrokinetics: Basic Equations and Linear Theory," Gregory G. Howes, Steven C. Cowley, William Dorland, Gregory W. Hammett, Eliot Quataert, Alexander A. Schekochihin, Ap.J 651, 590 (2006), astro-ph/0511812</a:t>
            </a:r>
            <a:endParaRPr b="0" lang="en-US" sz="1800" spc="-1" strike="noStrike">
              <a:solidFill>
                <a:srgbClr val="000000"/>
              </a:solidFill>
              <a:latin typeface="Times New Roman"/>
            </a:endParaRPr>
          </a:p>
        </p:txBody>
      </p:sp>
      <p:sp>
        <p:nvSpPr>
          <p:cNvPr id="414"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2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Mechanisms Driving Gyrokinetic Turbulence</a:t>
            </a:r>
            <a:endParaRPr b="0" lang="en-US" sz="4400" spc="-1" strike="noStrike">
              <a:solidFill>
                <a:srgbClr val="000000"/>
              </a:solidFill>
              <a:latin typeface="Arial"/>
            </a:endParaRPr>
          </a:p>
        </p:txBody>
      </p:sp>
      <p:sp>
        <p:nvSpPr>
          <p:cNvPr id="89" name="PlaceHolder 2"/>
          <p:cNvSpPr>
            <a:spLocks noGrp="1"/>
          </p:cNvSpPr>
          <p:nvPr>
            <p:ph/>
          </p:nvPr>
        </p:nvSpPr>
        <p:spPr>
          <a:xfrm>
            <a:off x="250560" y="1828800"/>
            <a:ext cx="8737560" cy="3679920"/>
          </a:xfrm>
          <a:prstGeom prst="rect">
            <a:avLst/>
          </a:prstGeom>
          <a:noFill/>
          <a:ln w="0">
            <a:noFill/>
          </a:ln>
        </p:spPr>
        <p:txBody>
          <a:bodyPr lIns="90000" rIns="90000" tIns="46800" bIns="46800" anchor="t">
            <a:normAutofit/>
          </a:bodyPr>
          <a:p>
            <a:pPr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pictures of gyrokinetic turbulence, &amp; how to reduce it:</a:t>
            </a:r>
            <a:br>
              <a:rPr sz="2800"/>
            </a:br>
            <a:endParaRPr b="0" lang="en-US" sz="28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y with inverted pendulum / Rayleigh-Taylor instability</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turbulence with sheared flows, magnetic shear, plasma shaping  </a:t>
            </a:r>
            <a:r>
              <a:rPr b="0" lang="en-US" sz="2400" spc="-1" strike="noStrike">
                <a:solidFill>
                  <a:srgbClr val="000000"/>
                </a:solidFill>
                <a:latin typeface="Wingdings"/>
                <a:ea typeface="Wingdings"/>
              </a:rPr>
              <a:t></a:t>
            </a:r>
            <a:r>
              <a:rPr b="0" lang="en-US" sz="2400" spc="-1" strike="noStrike">
                <a:solidFill>
                  <a:srgbClr val="000000"/>
                </a:solidFill>
                <a:latin typeface="Arial"/>
              </a:rPr>
              <a:t> advanced tokamak &amp; advanced stellarator designs</a:t>
            </a:r>
            <a:endParaRPr b="0" lang="en-US" sz="2400" spc="-1" strike="noStrike">
              <a:solidFill>
                <a:srgbClr val="000000"/>
              </a:solidFill>
              <a:latin typeface="Arial"/>
            </a:endParaRPr>
          </a:p>
          <a:p>
            <a:pPr lvl="1"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404640" y="129240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92120" y="0"/>
            <a:ext cx="82296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a:t>
            </a:r>
            <a:endParaRPr b="0" lang="en-US" sz="3200" spc="-1" strike="noStrike">
              <a:solidFill>
                <a:srgbClr val="000000"/>
              </a:solidFill>
              <a:latin typeface="Arial"/>
            </a:endParaRPr>
          </a:p>
        </p:txBody>
      </p:sp>
      <p:sp>
        <p:nvSpPr>
          <p:cNvPr id="416" name="PlaceHolder 2"/>
          <p:cNvSpPr>
            <a:spLocks noGrp="1"/>
          </p:cNvSpPr>
          <p:nvPr>
            <p:ph/>
          </p:nvPr>
        </p:nvSpPr>
        <p:spPr>
          <a:xfrm>
            <a:off x="357120" y="780840"/>
            <a:ext cx="8229600" cy="53672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Candy &amp; R. E. Waltz (GA)  (GYRO results &amp; mov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Dorland (Univ. Maryland), M. Kotschenreuther (U. Texa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Jenko (Garch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owley (UCL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Nevins, B.I. Cohen, A.M. Dimits, R. Cohen (LLN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arker and Y. Chen (U. Colorad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 Scott (Garch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Qin (PPP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Hahm, A. Brizard, W.W. Lee, W. Tang, J. Krommes, T. Stoltzfus-Dueck</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Holland, Anne White, Jon Kinsey, Gary Staebl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rnst, D. Mikkelsen, R. Budny</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Multiscale Plasma Dynamic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 Scientific Discovery Through Advanced Computing (SciDAC)</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for the Study of Plasma Microturbulenc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Simulation Laborator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ier DOE SciDAC &amp; Computational Grand Challenge projects, including Plasma Microturbulence Project &amp; Numerical Tokamak Project</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 National Energy Research Supercomputing Center (NERS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s…</a:t>
            </a:r>
            <a:endParaRPr b="0" lang="en-US" sz="1800" spc="-1" strike="noStrike">
              <a:solidFill>
                <a:srgbClr val="000000"/>
              </a:solidFill>
              <a:latin typeface="Arial"/>
            </a:endParaRPr>
          </a:p>
        </p:txBody>
      </p:sp>
      <p:sp>
        <p:nvSpPr>
          <p:cNvPr id="417"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amp; Summ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930480" y="770040"/>
            <a:ext cx="5213520" cy="6087960"/>
            <a:chOff x="3930480" y="770040"/>
            <a:chExt cx="5213520" cy="6087960"/>
          </a:xfrm>
        </p:grpSpPr>
        <p:grpSp>
          <p:nvGrpSpPr>
            <p:cNvPr id="93" name=""/>
            <p:cNvGrpSpPr/>
            <p:nvPr/>
          </p:nvGrpSpPr>
          <p:grpSpPr>
            <a:xfrm>
              <a:off x="3930480" y="770040"/>
              <a:ext cx="5078520" cy="6087960"/>
              <a:chOff x="3930480" y="770040"/>
              <a:chExt cx="5078520" cy="6087960"/>
            </a:xfrm>
          </p:grpSpPr>
          <p:pic>
            <p:nvPicPr>
              <p:cNvPr id="94" name="" descr=""/>
              <p:cNvPicPr/>
              <p:nvPr/>
            </p:nvPicPr>
            <p:blipFill>
              <a:blip r:embed="rId1"/>
              <a:stretch/>
            </p:blipFill>
            <p:spPr>
              <a:xfrm>
                <a:off x="3930480" y="792000"/>
                <a:ext cx="5078520" cy="6066000"/>
              </a:xfrm>
              <a:prstGeom prst="rect">
                <a:avLst/>
              </a:prstGeom>
              <a:ln w="0">
                <a:noFill/>
              </a:ln>
            </p:spPr>
          </p:pic>
          <p:sp>
            <p:nvSpPr>
              <p:cNvPr id="95" name=""/>
              <p:cNvSpPr/>
              <p:nvPr/>
            </p:nvSpPr>
            <p:spPr>
              <a:xfrm>
                <a:off x="3933720" y="770040"/>
                <a:ext cx="903240" cy="40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4633920" y="5116680"/>
              <a:ext cx="45100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4479840" y="5033880"/>
            <a:ext cx="4530960" cy="390600"/>
          </a:xfrm>
          <a:prstGeom prst="rect">
            <a:avLst/>
          </a:prstGeom>
          <a:solidFill>
            <a:srgbClr val="ffffff"/>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ed Confinement Time H</a:t>
            </a:r>
            <a:r>
              <a:rPr b="0" lang="en-US" sz="1800" spc="-1" strike="noStrike" baseline="-25000">
                <a:solidFill>
                  <a:srgbClr val="000000"/>
                </a:solidFill>
                <a:latin typeface="Arial"/>
              </a:rPr>
              <a:t>H</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E</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Arial"/>
              </a:rPr>
              <a:t>Empirical</a:t>
            </a:r>
            <a:endParaRPr b="0" lang="en-US" sz="1800" spc="-1" strike="noStrike">
              <a:solidFill>
                <a:srgbClr val="000000"/>
              </a:solidFill>
              <a:latin typeface="Arial"/>
            </a:endParaRPr>
          </a:p>
        </p:txBody>
      </p:sp>
      <p:sp>
        <p:nvSpPr>
          <p:cNvPr id="98" name="PlaceHolder 1"/>
          <p:cNvSpPr>
            <a:spLocks noGrp="1"/>
          </p:cNvSpPr>
          <p:nvPr>
            <p:ph type="title"/>
          </p:nvPr>
        </p:nvSpPr>
        <p:spPr>
          <a:xfrm>
            <a:off x="151920" y="-360"/>
            <a:ext cx="867564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ion performance depends sensitively on confinement</a:t>
            </a:r>
            <a:endParaRPr b="0" lang="en-US" sz="2400" spc="-1" strike="noStrike">
              <a:solidFill>
                <a:srgbClr val="000000"/>
              </a:solidFill>
              <a:latin typeface="Arial"/>
            </a:endParaRPr>
          </a:p>
        </p:txBody>
      </p:sp>
      <p:sp>
        <p:nvSpPr>
          <p:cNvPr id="99" name="PlaceHolder 2"/>
          <p:cNvSpPr>
            <a:spLocks noGrp="1"/>
          </p:cNvSpPr>
          <p:nvPr>
            <p:ph/>
          </p:nvPr>
        </p:nvSpPr>
        <p:spPr>
          <a:xfrm>
            <a:off x="232920" y="1241280"/>
            <a:ext cx="3511800" cy="259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e dependence on turbulent confinement causes some uncertainties, but also gives opportunities for significant improvements, if methods of reducing turbulence extrapolate to larger reactor scales.</a:t>
            </a:r>
            <a:endParaRPr b="0" lang="en-US" sz="1800" spc="-1" strike="noStrike">
              <a:solidFill>
                <a:srgbClr val="000000"/>
              </a:solidFill>
              <a:latin typeface="Arial"/>
            </a:endParaRPr>
          </a:p>
        </p:txBody>
      </p:sp>
      <p:sp>
        <p:nvSpPr>
          <p:cNvPr id="100" name=""/>
          <p:cNvSpPr/>
          <p:nvPr/>
        </p:nvSpPr>
        <p:spPr>
          <a:xfrm flipV="1">
            <a:off x="487440" y="573120"/>
            <a:ext cx="830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314280" y="5997600"/>
            <a:ext cx="82249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s:  best if MHD pressure limits also improve with improved confinement.  Other limits also:  power load on divertor &amp; wall, …</a:t>
            </a:r>
            <a:endParaRPr b="0" lang="en-US" sz="1800" spc="-1" strike="noStrike">
              <a:solidFill>
                <a:srgbClr val="000000"/>
              </a:solidFill>
              <a:latin typeface="Arial"/>
            </a:endParaRPr>
          </a:p>
        </p:txBody>
      </p:sp>
      <p:grpSp>
        <p:nvGrpSpPr>
          <p:cNvPr id="102" name=""/>
          <p:cNvGrpSpPr/>
          <p:nvPr/>
        </p:nvGrpSpPr>
        <p:grpSpPr>
          <a:xfrm>
            <a:off x="4358520" y="777960"/>
            <a:ext cx="463680" cy="4096440"/>
            <a:chOff x="4358520" y="777960"/>
            <a:chExt cx="463680" cy="4096440"/>
          </a:xfrm>
        </p:grpSpPr>
        <p:sp>
          <p:nvSpPr>
            <p:cNvPr id="103" name=""/>
            <p:cNvSpPr/>
            <p:nvPr/>
          </p:nvSpPr>
          <p:spPr>
            <a:xfrm>
              <a:off x="4512240" y="4508280"/>
              <a:ext cx="30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4" name=""/>
            <p:cNvSpPr/>
            <p:nvPr/>
          </p:nvSpPr>
          <p:spPr>
            <a:xfrm>
              <a:off x="4509360" y="3635280"/>
              <a:ext cx="30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5" name=""/>
            <p:cNvSpPr/>
            <p:nvPr/>
          </p:nvSpPr>
          <p:spPr>
            <a:xfrm>
              <a:off x="4379400" y="264780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6" name=""/>
            <p:cNvSpPr/>
            <p:nvPr/>
          </p:nvSpPr>
          <p:spPr>
            <a:xfrm>
              <a:off x="4358520" y="167328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7" name=""/>
            <p:cNvSpPr/>
            <p:nvPr/>
          </p:nvSpPr>
          <p:spPr>
            <a:xfrm>
              <a:off x="4369680" y="77796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grpSp>
      <p:sp>
        <p:nvSpPr>
          <p:cNvPr id="108" name=""/>
          <p:cNvSpPr/>
          <p:nvPr/>
        </p:nvSpPr>
        <p:spPr>
          <a:xfrm>
            <a:off x="7839000" y="1273320"/>
            <a:ext cx="184320" cy="366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16200000">
            <a:off x="2292840" y="2702520"/>
            <a:ext cx="37054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Fusion Power / Heating Power</a:t>
            </a:r>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498600" y="4416480"/>
                <a:ext cx="2609640" cy="820800"/>
              </a:xfrm>
              <a:prstGeom prst="rect">
                <a:avLst/>
              </a:prstGeom>
            </p:spPr>
            <p:txBody>
              <a:bodyPr/>
              <a:p>
                <a14:m>
                  <m:oMath xmlns:m="http://schemas.openxmlformats.org/officeDocument/2006/math">
                    <m:f>
                      <m:num>
                        <m:r>
                          <m:rPr>
                            <m:lit/>
                            <m:nor/>
                          </m:rPr>
                          <m:t xml:space="preserve">dE</m:t>
                        </m:r>
                      </m:num>
                      <m:den>
                        <m:r>
                          <m:rPr>
                            <m:lit/>
                            <m:nor/>
                          </m:rPr>
                          <m:t xml:space="preserve">dt</m:t>
                        </m:r>
                      </m:den>
                    </m:f>
                    <m:r>
                      <m:t xml:space="preserve">=</m:t>
                    </m:r>
                    <m:sSub>
                      <m:e>
                        <m:r>
                          <m:t xml:space="preserve">P</m:t>
                        </m:r>
                      </m:e>
                      <m:sub>
                        <m:r>
                          <m:rPr>
                            <m:lit/>
                            <m:nor/>
                          </m:rPr>
                          <m:t xml:space="preserve">ext</m:t>
                        </m:r>
                      </m:sub>
                    </m:sSub>
                    <m:r>
                      <m:t xml:space="preserve">+</m:t>
                    </m:r>
                    <m:sSub>
                      <m:e>
                        <m:r>
                          <m:t xml:space="preserve">P</m:t>
                        </m:r>
                      </m:e>
                      <m:sub>
                        <m:r>
                          <m:rPr>
                            <m:lit/>
                            <m:nor/>
                          </m:rPr>
                          <m:t xml:space="preserve">fusion</m:t>
                        </m:r>
                      </m:sub>
                    </m:sSub>
                    <m:r>
                      <m:t xml:space="preserve">−</m:t>
                    </m:r>
                    <m:f>
                      <m:num>
                        <m:r>
                          <m:t xml:space="preserve">E</m:t>
                        </m:r>
                      </m:num>
                      <m:den>
                        <m:sSub>
                          <m:e>
                            <m:r>
                              <m:t xml:space="preserve">τ</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698480"/>
            <a:ext cx="4613400" cy="5159520"/>
          </a:xfrm>
          <a:prstGeom prst="rect">
            <a:avLst/>
          </a:prstGeom>
          <a:ln w="0">
            <a:noFill/>
          </a:ln>
        </p:spPr>
      </p:pic>
      <p:sp>
        <p:nvSpPr>
          <p:cNvPr id="112" name="PlaceHolder 1"/>
          <p:cNvSpPr>
            <a:spLocks noGrp="1"/>
          </p:cNvSpPr>
          <p:nvPr>
            <p:ph/>
          </p:nvPr>
        </p:nvSpPr>
        <p:spPr>
          <a:xfrm>
            <a:off x="0" y="0"/>
            <a:ext cx="8972640" cy="1378080"/>
          </a:xfrm>
          <a:prstGeom prst="rect">
            <a:avLst/>
          </a:prstGeom>
          <a:noFill/>
          <a:ln w="0">
            <a:noFill/>
          </a:ln>
        </p:spPr>
        <p:txBody>
          <a:bodyPr lIns="90000" rIns="90000" tIns="46800" bIns="46800" anchor="t">
            <a:normAutofit/>
          </a:bodyPr>
          <a:p>
            <a:pPr marL="406440" indent="-406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 pictures of gyrokinetic turbulence, &amp; how to reduce it</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y w/ inverted pendulum / Rayleigh-Taylor instability</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urbulence with sheared flows, magnetic shear, …</a:t>
            </a:r>
            <a:endParaRPr b="0" lang="en-US" sz="2400" spc="-1" strike="noStrike">
              <a:solidFill>
                <a:srgbClr val="000000"/>
              </a:solidFill>
              <a:latin typeface="Arial"/>
            </a:endParaRPr>
          </a:p>
        </p:txBody>
      </p:sp>
      <p:sp>
        <p:nvSpPr>
          <p:cNvPr id="113" name=""/>
          <p:cNvSpPr/>
          <p:nvPr/>
        </p:nvSpPr>
        <p:spPr>
          <a:xfrm>
            <a:off x="3838680" y="4257720"/>
            <a:ext cx="105876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19240" y="4549680"/>
            <a:ext cx="13161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ff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gravity</a:t>
            </a:r>
            <a:endParaRPr b="0" lang="en-US" sz="2400" spc="-1" strike="noStrike">
              <a:solidFill>
                <a:srgbClr val="000000"/>
              </a:solidFill>
              <a:latin typeface="Arial"/>
            </a:endParaRPr>
          </a:p>
        </p:txBody>
      </p:sp>
      <p:sp>
        <p:nvSpPr>
          <p:cNvPr id="115" name=""/>
          <p:cNvSpPr/>
          <p:nvPr/>
        </p:nvSpPr>
        <p:spPr>
          <a:xfrm>
            <a:off x="5028480" y="1841400"/>
            <a:ext cx="3912840" cy="823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Inverted-density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yleigh-Taylor Instability</a:t>
            </a:r>
            <a:endParaRPr b="0" lang="en-US" sz="2400" spc="-1" strike="noStrike">
              <a:solidFill>
                <a:srgbClr val="000000"/>
              </a:solidFill>
              <a:latin typeface="Arial"/>
            </a:endParaRPr>
          </a:p>
        </p:txBody>
      </p:sp>
      <p:sp>
        <p:nvSpPr>
          <p:cNvPr id="116" name=""/>
          <p:cNvSpPr/>
          <p:nvPr/>
        </p:nvSpPr>
        <p:spPr>
          <a:xfrm>
            <a:off x="5767560" y="3011400"/>
            <a:ext cx="2668320" cy="1575000"/>
          </a:xfrm>
          <a:prstGeom prst="rect">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6392880" y="3043080"/>
            <a:ext cx="1454040" cy="1517760"/>
            <a:chOff x="6392880" y="3043080"/>
            <a:chExt cx="1454040" cy="1517760"/>
          </a:xfrm>
        </p:grpSpPr>
        <p:sp>
          <p:nvSpPr>
            <p:cNvPr id="118" name=""/>
            <p:cNvSpPr/>
            <p:nvPr/>
          </p:nvSpPr>
          <p:spPr>
            <a:xfrm rot="10800000">
              <a:off x="6392880" y="3043080"/>
              <a:ext cx="573120" cy="1517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0800000">
              <a:off x="7264440" y="3051000"/>
              <a:ext cx="573120" cy="1508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75600" y="3974400"/>
              <a:ext cx="23760" cy="189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933960" y="3962520"/>
              <a:ext cx="11160" cy="203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7846920" y="3716280"/>
              <a:ext cx="0" cy="23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6397200" y="3726000"/>
              <a:ext cx="4680" cy="203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flipH="1">
            <a:off x="7116840" y="4275000"/>
            <a:ext cx="1440" cy="101628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06360" y="1287000"/>
            <a:ext cx="867744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126" name=""/>
          <p:cNvGrpSpPr/>
          <p:nvPr/>
        </p:nvGrpSpPr>
        <p:grpSpPr>
          <a:xfrm>
            <a:off x="5772240" y="3343320"/>
            <a:ext cx="2657160" cy="868320"/>
            <a:chOff x="5772240" y="3343320"/>
            <a:chExt cx="2657160" cy="868320"/>
          </a:xfrm>
        </p:grpSpPr>
        <p:sp>
          <p:nvSpPr>
            <p:cNvPr id="127" name=""/>
            <p:cNvSpPr/>
            <p:nvPr/>
          </p:nvSpPr>
          <p:spPr>
            <a:xfrm>
              <a:off x="5772240" y="334332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772240" y="362916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72240" y="389880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85760" y="6252840"/>
            <a:ext cx="5773680" cy="436680"/>
          </a:xfrm>
          <a:prstGeom prst="rect">
            <a:avLst/>
          </a:prstGeom>
          <a:noFill/>
          <a:ln w="0">
            <a:noFill/>
          </a:ln>
        </p:spPr>
        <p:txBody>
          <a:bodyPr lIns="90000" rIns="90000" tIns="46800" bIns="46800" anchor="t">
            <a:normAutofit/>
          </a:bodyPr>
          <a:p>
            <a:pPr lvl="1" marL="81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of these insights developed with gyrofluid simulations in 1990’s, but gyrokinetics provides higher accuracy.)</a:t>
            </a:r>
            <a:endParaRPr b="0" lang="en-US" sz="1000" spc="-1" strike="noStrike">
              <a:solidFill>
                <a:srgbClr val="000000"/>
              </a:solidFill>
              <a:latin typeface="Arial"/>
            </a:endParaRPr>
          </a:p>
        </p:txBody>
      </p:sp>
      <p:sp>
        <p:nvSpPr>
          <p:cNvPr id="131" name=""/>
          <p:cNvSpPr/>
          <p:nvPr/>
        </p:nvSpPr>
        <p:spPr>
          <a:xfrm>
            <a:off x="407880" y="125892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840" y="171360"/>
            <a:ext cx="8467560" cy="152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90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uitive pictures of gyrokinetic turbulence, &amp; how to reduce i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557280" y="0"/>
            <a:ext cx="3763440" cy="3386160"/>
            <a:chOff x="557280" y="0"/>
            <a:chExt cx="3763440" cy="3386160"/>
          </a:xfrm>
        </p:grpSpPr>
        <p:sp>
          <p:nvSpPr>
            <p:cNvPr id="134" name=""/>
            <p:cNvSpPr/>
            <p:nvPr/>
          </p:nvSpPr>
          <p:spPr>
            <a:xfrm flipH="1">
              <a:off x="1690200" y="817560"/>
              <a:ext cx="609120" cy="160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550520" y="236700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80240" y="735120"/>
              <a:ext cx="745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7" name=""/>
            <p:cNvSpPr/>
            <p:nvPr/>
          </p:nvSpPr>
          <p:spPr>
            <a:xfrm>
              <a:off x="2361600" y="822960"/>
              <a:ext cx="636120" cy="15894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914920" y="2386080"/>
              <a:ext cx="228240" cy="22860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1720" y="2550960"/>
              <a:ext cx="412560" cy="88920"/>
            </a:xfrm>
            <a:custGeom>
              <a:avLst/>
              <a:gdLst/>
              <a:ahLst/>
              <a:rect l="l" t="t" r="r" b="b"/>
              <a:pathLst>
                <a:path w="260" h="56">
                  <a:moveTo>
                    <a:pt x="0" y="0"/>
                  </a:moveTo>
                  <a:cubicBezTo>
                    <a:pt x="13" y="5"/>
                    <a:pt x="52" y="20"/>
                    <a:pt x="80" y="28"/>
                  </a:cubicBezTo>
                  <a:cubicBezTo>
                    <a:pt x="108" y="36"/>
                    <a:pt x="138" y="43"/>
                    <a:pt x="168" y="48"/>
                  </a:cubicBezTo>
                  <a:cubicBezTo>
                    <a:pt x="198" y="53"/>
                    <a:pt x="241" y="54"/>
                    <a:pt x="260" y="56"/>
                  </a:cubicBezTo>
                </a:path>
              </a:pathLst>
            </a:custGeom>
            <a:noFill/>
            <a:ln w="19080">
              <a:solidFill>
                <a:srgbClr val="000000"/>
              </a:solidFill>
              <a:round/>
              <a:tailEnd len="med" type="triangle" w="me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0" name=""/>
            <p:cNvSpPr/>
            <p:nvPr/>
          </p:nvSpPr>
          <p:spPr>
            <a:xfrm>
              <a:off x="900000" y="2928960"/>
              <a:ext cx="183600" cy="457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664640" y="2709720"/>
              <a:ext cx="0" cy="57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051200" y="0"/>
              <a:ext cx="265536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ble Pendulum</a:t>
              </a:r>
              <a:endParaRPr b="0" lang="en-US" sz="2400" spc="-1" strike="noStrike">
                <a:solidFill>
                  <a:srgbClr val="000000"/>
                </a:solidFill>
                <a:latin typeface="Arial"/>
              </a:endParaRPr>
            </a:p>
          </p:txBody>
        </p:sp>
        <p:sp>
          <p:nvSpPr>
            <p:cNvPr id="143" name=""/>
            <p:cNvSpPr/>
            <p:nvPr/>
          </p:nvSpPr>
          <p:spPr>
            <a:xfrm>
              <a:off x="1477800" y="1193760"/>
              <a:ext cx="3528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sp>
          <p:nvSpPr>
            <p:cNvPr id="144" name=""/>
            <p:cNvSpPr/>
            <p:nvPr/>
          </p:nvSpPr>
          <p:spPr>
            <a:xfrm>
              <a:off x="1001520" y="2158920"/>
              <a:ext cx="438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Arial"/>
              </a:endParaRPr>
            </a:p>
          </p:txBody>
        </p:sp>
        <p:sp>
          <p:nvSpPr>
            <p:cNvPr id="145" name=""/>
            <p:cNvSpPr/>
            <p:nvPr/>
          </p:nvSpPr>
          <p:spPr>
            <a:xfrm>
              <a:off x="557280" y="2668680"/>
              <a:ext cx="9486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M</a:t>
              </a:r>
              <a:r>
                <a:rPr b="0" lang="en-US" sz="2400" spc="-1" strike="noStrike">
                  <a:solidFill>
                    <a:srgbClr val="ff0000"/>
                  </a:solidFill>
                  <a:latin typeface="Times New Roman"/>
                </a:rPr>
                <a:t>g</a:t>
              </a:r>
              <a:endParaRPr b="0" lang="en-US" sz="2400" spc="-1" strike="noStrike">
                <a:solidFill>
                  <a:srgbClr val="000000"/>
                </a:solidFill>
                <a:latin typeface="Arial"/>
              </a:endParaRPr>
            </a:p>
          </p:txBody>
        </p:sp>
        <p:sp>
          <p:nvSpPr>
            <p:cNvPr id="146" name=""/>
            <p:cNvSpPr/>
            <p:nvPr/>
          </p:nvSpPr>
          <p:spPr>
            <a:xfrm>
              <a:off x="2902320" y="2693880"/>
              <a:ext cx="14184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grpSp>
      <p:sp>
        <p:nvSpPr>
          <p:cNvPr id="147" name=""/>
          <p:cNvSpPr/>
          <p:nvPr/>
        </p:nvSpPr>
        <p:spPr>
          <a:xfrm>
            <a:off x="4404960" y="0"/>
            <a:ext cx="42984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stable Inverted Pendulum</a:t>
            </a:r>
            <a:endParaRPr b="0" lang="en-US" sz="2400" spc="-1" strike="noStrike">
              <a:solidFill>
                <a:srgbClr val="000000"/>
              </a:solidFill>
              <a:latin typeface="Arial"/>
            </a:endParaRPr>
          </a:p>
        </p:txBody>
      </p:sp>
      <p:sp>
        <p:nvSpPr>
          <p:cNvPr id="148" name=""/>
          <p:cNvSpPr/>
          <p:nvPr/>
        </p:nvSpPr>
        <p:spPr>
          <a:xfrm>
            <a:off x="4903560" y="2600280"/>
            <a:ext cx="3621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g/|L|)</a:t>
            </a:r>
            <a:r>
              <a:rPr b="0" lang="en-US" sz="2400" spc="-1" strike="noStrike" baseline="30000">
                <a:solidFill>
                  <a:srgbClr val="000000"/>
                </a:solidFill>
                <a:latin typeface="Times New Roman"/>
              </a:rPr>
              <a:t>1/2 </a:t>
            </a:r>
            <a:r>
              <a:rPr b="0" lang="en-US" sz="2400" spc="-1" strike="noStrike">
                <a:solidFill>
                  <a:srgbClr val="000000"/>
                </a:solidFill>
                <a:latin typeface="Times New Roman"/>
              </a:rPr>
              <a:t>= i(g/|L|)</a:t>
            </a:r>
            <a:r>
              <a:rPr b="0" lang="en-US" sz="2400" spc="-1" strike="noStrike" baseline="30000">
                <a:solidFill>
                  <a:srgbClr val="000000"/>
                </a:solidFill>
                <a:latin typeface="Times New Roman"/>
              </a:rPr>
              <a:t>1/2 </a:t>
            </a:r>
            <a:r>
              <a:rPr b="0" lang="en-US" sz="2400" spc="-1" strike="noStrike">
                <a:solidFill>
                  <a:srgbClr val="000000"/>
                </a:solidFill>
                <a:latin typeface="Times New Roman"/>
              </a:rPr>
              <a:t>= i</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nvGrpSpPr>
          <p:cNvPr id="149" name=""/>
          <p:cNvGrpSpPr/>
          <p:nvPr/>
        </p:nvGrpSpPr>
        <p:grpSpPr>
          <a:xfrm>
            <a:off x="6507360" y="516600"/>
            <a:ext cx="1159920" cy="1976040"/>
            <a:chOff x="6507360" y="516600"/>
            <a:chExt cx="1159920" cy="1976040"/>
          </a:xfrm>
        </p:grpSpPr>
        <p:grpSp>
          <p:nvGrpSpPr>
            <p:cNvPr id="150" name=""/>
            <p:cNvGrpSpPr/>
            <p:nvPr/>
          </p:nvGrpSpPr>
          <p:grpSpPr>
            <a:xfrm>
              <a:off x="6608160" y="516600"/>
              <a:ext cx="1059120" cy="1976040"/>
              <a:chOff x="6608160" y="516600"/>
              <a:chExt cx="1059120" cy="1976040"/>
            </a:xfrm>
          </p:grpSpPr>
          <p:sp>
            <p:nvSpPr>
              <p:cNvPr id="151" name=""/>
              <p:cNvSpPr/>
              <p:nvPr/>
            </p:nvSpPr>
            <p:spPr>
              <a:xfrm>
                <a:off x="7162920" y="812880"/>
                <a:ext cx="0" cy="571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6672960" y="743760"/>
                <a:ext cx="450000" cy="165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rot="12964200">
                <a:off x="7025040" y="561600"/>
                <a:ext cx="2278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rot="12964200">
                <a:off x="6622200" y="2403000"/>
                <a:ext cx="745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5" name=""/>
              <p:cNvSpPr/>
              <p:nvPr/>
            </p:nvSpPr>
            <p:spPr>
              <a:xfrm flipH="1" rot="12964200">
                <a:off x="7267680" y="736200"/>
                <a:ext cx="412200" cy="88920"/>
              </a:xfrm>
              <a:custGeom>
                <a:avLst/>
                <a:gdLst/>
                <a:ahLst/>
                <a:rect l="l" t="t" r="r" b="b"/>
                <a:pathLst>
                  <a:path w="260" h="56">
                    <a:moveTo>
                      <a:pt x="0" y="0"/>
                    </a:moveTo>
                    <a:cubicBezTo>
                      <a:pt x="13" y="5"/>
                      <a:pt x="52" y="20"/>
                      <a:pt x="80" y="28"/>
                    </a:cubicBezTo>
                    <a:cubicBezTo>
                      <a:pt x="108" y="36"/>
                      <a:pt x="138" y="43"/>
                      <a:pt x="168" y="48"/>
                    </a:cubicBezTo>
                    <a:cubicBezTo>
                      <a:pt x="198" y="53"/>
                      <a:pt x="241" y="54"/>
                      <a:pt x="260" y="56"/>
                    </a:cubicBezTo>
                  </a:path>
                </a:pathLst>
              </a:custGeom>
              <a:noFill/>
              <a:ln w="19080">
                <a:solidFill>
                  <a:srgbClr val="000000"/>
                </a:solidFill>
                <a:round/>
                <a:tailEnd len="med" type="triangle" w="me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56" name=""/>
              <p:cNvSpPr/>
              <p:nvPr/>
            </p:nvSpPr>
            <p:spPr>
              <a:xfrm>
                <a:off x="7182000" y="1181160"/>
                <a:ext cx="3358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
                </a:r>
                <a:endParaRPr b="0" lang="en-US" sz="2400" spc="-1" strike="noStrike">
                  <a:solidFill>
                    <a:srgbClr val="000000"/>
                  </a:solidFill>
                  <a:latin typeface="Arial"/>
                </a:endParaRPr>
              </a:p>
            </p:txBody>
          </p:sp>
        </p:grpSp>
        <p:sp>
          <p:nvSpPr>
            <p:cNvPr id="157" name=""/>
            <p:cNvSpPr/>
            <p:nvPr/>
          </p:nvSpPr>
          <p:spPr>
            <a:xfrm>
              <a:off x="6507360" y="1341360"/>
              <a:ext cx="3528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grpSp>
      <p:sp>
        <p:nvSpPr>
          <p:cNvPr id="158" name=""/>
          <p:cNvSpPr/>
          <p:nvPr/>
        </p:nvSpPr>
        <p:spPr>
          <a:xfrm>
            <a:off x="5003640" y="669960"/>
            <a:ext cx="10508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gid rod)</a:t>
            </a:r>
            <a:endParaRPr b="0" lang="en-US" sz="1600" spc="-1" strike="noStrike">
              <a:solidFill>
                <a:srgbClr val="000000"/>
              </a:solidFill>
              <a:latin typeface="Arial"/>
            </a:endParaRPr>
          </a:p>
        </p:txBody>
      </p:sp>
      <p:sp>
        <p:nvSpPr>
          <p:cNvPr id="159" name=""/>
          <p:cNvSpPr/>
          <p:nvPr/>
        </p:nvSpPr>
        <p:spPr>
          <a:xfrm>
            <a:off x="675000" y="3646440"/>
            <a:ext cx="3489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nsity-stratified Fluid</a:t>
            </a:r>
            <a:endParaRPr b="0" lang="en-US" sz="2400" spc="-1" strike="noStrike">
              <a:solidFill>
                <a:srgbClr val="000000"/>
              </a:solidFill>
              <a:latin typeface="Arial"/>
            </a:endParaRPr>
          </a:p>
        </p:txBody>
      </p:sp>
      <p:sp>
        <p:nvSpPr>
          <p:cNvPr id="160" name=""/>
          <p:cNvSpPr/>
          <p:nvPr/>
        </p:nvSpPr>
        <p:spPr>
          <a:xfrm>
            <a:off x="1132920" y="6400800"/>
            <a:ext cx="23828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a:t>
            </a: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sp>
        <p:nvSpPr>
          <p:cNvPr id="161" name=""/>
          <p:cNvSpPr/>
          <p:nvPr/>
        </p:nvSpPr>
        <p:spPr>
          <a:xfrm>
            <a:off x="2338920" y="4016520"/>
            <a:ext cx="16941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exp(-y/L)</a:t>
            </a:r>
            <a:endParaRPr b="0" lang="en-US" sz="2400" spc="-1" strike="noStrike">
              <a:solidFill>
                <a:srgbClr val="000000"/>
              </a:solidFill>
              <a:latin typeface="Arial"/>
            </a:endParaRPr>
          </a:p>
        </p:txBody>
      </p:sp>
      <p:sp>
        <p:nvSpPr>
          <p:cNvPr id="162" name=""/>
          <p:cNvSpPr/>
          <p:nvPr/>
        </p:nvSpPr>
        <p:spPr>
          <a:xfrm>
            <a:off x="4948920" y="6400800"/>
            <a:ext cx="37213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growth rate</a:t>
            </a: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sp>
        <p:nvSpPr>
          <p:cNvPr id="163" name=""/>
          <p:cNvSpPr/>
          <p:nvPr/>
        </p:nvSpPr>
        <p:spPr>
          <a:xfrm>
            <a:off x="6835320" y="4254480"/>
            <a:ext cx="159192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exp(y/L)</a:t>
            </a:r>
            <a:endParaRPr b="0" lang="en-US" sz="2400" spc="-1" strike="noStrike">
              <a:solidFill>
                <a:srgbClr val="000000"/>
              </a:solidFill>
              <a:latin typeface="Arial"/>
            </a:endParaRPr>
          </a:p>
        </p:txBody>
      </p:sp>
      <p:sp>
        <p:nvSpPr>
          <p:cNvPr id="164" name=""/>
          <p:cNvSpPr/>
          <p:nvPr/>
        </p:nvSpPr>
        <p:spPr>
          <a:xfrm>
            <a:off x="4693680" y="3548160"/>
            <a:ext cx="3912840" cy="823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Inverted-density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yleigh-Taylor Instability</a:t>
            </a:r>
            <a:endParaRPr b="0" lang="en-US" sz="2400" spc="-1" strike="noStrike">
              <a:solidFill>
                <a:srgbClr val="000000"/>
              </a:solidFill>
              <a:latin typeface="Arial"/>
            </a:endParaRPr>
          </a:p>
        </p:txBody>
      </p:sp>
      <p:sp>
        <p:nvSpPr>
          <p:cNvPr id="165" name=""/>
          <p:cNvSpPr/>
          <p:nvPr/>
        </p:nvSpPr>
        <p:spPr>
          <a:xfrm>
            <a:off x="0" y="35434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334040" y="0"/>
            <a:ext cx="0" cy="6858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803560" y="3059280"/>
            <a:ext cx="14529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bility</a:t>
            </a:r>
            <a:endParaRPr b="0" lang="en-US" sz="2400" spc="-1" strike="noStrike">
              <a:solidFill>
                <a:srgbClr val="000000"/>
              </a:solidFill>
              <a:latin typeface="Arial"/>
            </a:endParaRPr>
          </a:p>
        </p:txBody>
      </p:sp>
      <p:grpSp>
        <p:nvGrpSpPr>
          <p:cNvPr id="168" name=""/>
          <p:cNvGrpSpPr/>
          <p:nvPr/>
        </p:nvGrpSpPr>
        <p:grpSpPr>
          <a:xfrm>
            <a:off x="5600880" y="3048120"/>
            <a:ext cx="209520" cy="295200"/>
            <a:chOff x="5600880" y="3048120"/>
            <a:chExt cx="209520" cy="295200"/>
          </a:xfrm>
        </p:grpSpPr>
        <p:sp>
          <p:nvSpPr>
            <p:cNvPr id="169" name=""/>
            <p:cNvSpPr/>
            <p:nvPr/>
          </p:nvSpPr>
          <p:spPr>
            <a:xfrm flipV="1">
              <a:off x="5600880" y="3048120"/>
              <a:ext cx="0" cy="29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600880" y="3343320"/>
              <a:ext cx="20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6362640" y="50338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367320" y="54100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6953400" y="509112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V="1">
            <a:off x="6958080" y="54910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6958080" y="588636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00800" y="4713120"/>
            <a:ext cx="2668320" cy="1575000"/>
          </a:xfrm>
          <a:prstGeom prst="rect">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0800000">
            <a:off x="6126120" y="4744800"/>
            <a:ext cx="573120" cy="1517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0800000">
            <a:off x="6997680" y="4752720"/>
            <a:ext cx="573120" cy="15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673320" y="5670720"/>
            <a:ext cx="17640" cy="155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124680" y="5395680"/>
            <a:ext cx="1440" cy="14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5505480" y="5045040"/>
            <a:ext cx="2657160" cy="868320"/>
            <a:chOff x="5505480" y="5045040"/>
            <a:chExt cx="2657160" cy="868320"/>
          </a:xfrm>
        </p:grpSpPr>
        <p:sp>
          <p:nvSpPr>
            <p:cNvPr id="182" name=""/>
            <p:cNvSpPr/>
            <p:nvPr/>
          </p:nvSpPr>
          <p:spPr>
            <a:xfrm>
              <a:off x="5505480" y="504504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505480" y="533088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505480" y="560052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flipH="1">
            <a:off x="6862320" y="5956200"/>
            <a:ext cx="1800" cy="52236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65160" y="4703760"/>
            <a:ext cx="2668680" cy="157464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969840" y="5035680"/>
            <a:ext cx="2657160" cy="868320"/>
            <a:chOff x="969840" y="5035680"/>
            <a:chExt cx="2657160" cy="868320"/>
          </a:xfrm>
        </p:grpSpPr>
        <p:sp>
          <p:nvSpPr>
            <p:cNvPr id="188" name=""/>
            <p:cNvSpPr/>
            <p:nvPr/>
          </p:nvSpPr>
          <p:spPr>
            <a:xfrm>
              <a:off x="969840" y="503568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969840" y="532152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69840" y="559116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flipH="1" flipV="1">
            <a:off x="7566120" y="5389560"/>
            <a:ext cx="1440" cy="14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04880" y="5661000"/>
            <a:ext cx="17640" cy="155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0"/>
            <a:ext cx="84582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Bad Curvature” instability in plasmas </a:t>
            </a:r>
            <a:br>
              <a:rPr sz="2400"/>
            </a:br>
            <a:r>
              <a:rPr b="1" lang="en-US" sz="2400" spc="-1" strike="noStrike">
                <a:solidFill>
                  <a:srgbClr val="ff0000"/>
                </a:solidFill>
                <a:latin typeface="Symbol"/>
                <a:ea typeface="Symbol"/>
              </a:rPr>
              <a:t></a:t>
            </a:r>
            <a:r>
              <a:rPr b="1" lang="en-US" sz="2400" spc="-1" strike="noStrike">
                <a:solidFill>
                  <a:srgbClr val="ff0000"/>
                </a:solidFill>
                <a:latin typeface="Times New Roman"/>
              </a:rPr>
              <a:t> Inverted Pendulum / Rayleigh-Taylor Instability</a:t>
            </a:r>
            <a:endParaRPr b="0" lang="en-US" sz="2400" spc="-1" strike="noStrike">
              <a:solidFill>
                <a:srgbClr val="000000"/>
              </a:solidFill>
              <a:latin typeface="Times New Roman"/>
            </a:endParaRPr>
          </a:p>
        </p:txBody>
      </p:sp>
      <p:sp>
        <p:nvSpPr>
          <p:cNvPr id="194" name=""/>
          <p:cNvSpPr/>
          <p:nvPr/>
        </p:nvSpPr>
        <p:spPr>
          <a:xfrm>
            <a:off x="432360" y="1335240"/>
            <a:ext cx="39769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view of toroidal plasma:</a:t>
            </a:r>
            <a:endParaRPr b="0" lang="en-US" sz="2400" spc="-1" strike="noStrike">
              <a:solidFill>
                <a:srgbClr val="000000"/>
              </a:solidFill>
              <a:latin typeface="Arial"/>
            </a:endParaRPr>
          </a:p>
        </p:txBody>
      </p:sp>
      <p:sp>
        <p:nvSpPr>
          <p:cNvPr id="195" name=""/>
          <p:cNvSpPr/>
          <p:nvPr/>
        </p:nvSpPr>
        <p:spPr>
          <a:xfrm>
            <a:off x="584280" y="990720"/>
            <a:ext cx="792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5800" y="2133720"/>
            <a:ext cx="3352680" cy="3352680"/>
          </a:xfrm>
          <a:prstGeom prst="ellipse">
            <a:avLst/>
          </a:prstGeom>
          <a:solidFill>
            <a:srgbClr val="ff00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040280" y="4419720"/>
            <a:ext cx="22698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plasma = heavy fluid</a:t>
            </a:r>
            <a:endParaRPr b="0" lang="en-US" sz="1800" spc="-1" strike="noStrike">
              <a:solidFill>
                <a:srgbClr val="000000"/>
              </a:solidFill>
              <a:latin typeface="Arial"/>
            </a:endParaRPr>
          </a:p>
        </p:txBody>
      </p:sp>
      <p:sp>
        <p:nvSpPr>
          <p:cNvPr id="198" name=""/>
          <p:cNvSpPr/>
          <p:nvPr/>
        </p:nvSpPr>
        <p:spPr>
          <a:xfrm>
            <a:off x="1447920" y="2819520"/>
            <a:ext cx="1904760" cy="1904760"/>
          </a:xfrm>
          <a:prstGeom prst="ellipse">
            <a:avLst/>
          </a:prstGeom>
          <a:solidFill>
            <a:srgbClr val="ffffff"/>
          </a:solidFill>
          <a:ln w="190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3809880"/>
            <a:ext cx="0" cy="167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701720" y="5276880"/>
            <a:ext cx="1486080" cy="216000"/>
          </a:xfrm>
          <a:custGeom>
            <a:avLst/>
            <a:gdLst/>
            <a:ahLst/>
            <a:rect l="l" t="t" r="r" b="b"/>
            <a:pathLst>
              <a:path w="936" h="136">
                <a:moveTo>
                  <a:pt x="0" y="48"/>
                </a:moveTo>
                <a:cubicBezTo>
                  <a:pt x="19" y="55"/>
                  <a:pt x="74" y="78"/>
                  <a:pt x="116" y="90"/>
                </a:cubicBezTo>
                <a:cubicBezTo>
                  <a:pt x="158" y="102"/>
                  <a:pt x="210" y="113"/>
                  <a:pt x="254" y="120"/>
                </a:cubicBezTo>
                <a:cubicBezTo>
                  <a:pt x="298" y="127"/>
                  <a:pt x="337" y="130"/>
                  <a:pt x="380" y="132"/>
                </a:cubicBezTo>
                <a:cubicBezTo>
                  <a:pt x="423" y="134"/>
                  <a:pt x="465" y="136"/>
                  <a:pt x="512" y="132"/>
                </a:cubicBezTo>
                <a:cubicBezTo>
                  <a:pt x="559" y="128"/>
                  <a:pt x="613" y="119"/>
                  <a:pt x="662" y="108"/>
                </a:cubicBezTo>
                <a:cubicBezTo>
                  <a:pt x="711" y="97"/>
                  <a:pt x="762" y="82"/>
                  <a:pt x="808" y="64"/>
                </a:cubicBezTo>
                <a:cubicBezTo>
                  <a:pt x="854" y="46"/>
                  <a:pt x="909" y="13"/>
                  <a:pt x="936"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38440" y="5462640"/>
            <a:ext cx="1479600" cy="216000"/>
          </a:xfrm>
          <a:custGeom>
            <a:avLst/>
            <a:gdLst/>
            <a:ahLst/>
            <a:rect l="l" t="t" r="r" b="b"/>
            <a:pathLst>
              <a:path w="931" h="136">
                <a:moveTo>
                  <a:pt x="0" y="54"/>
                </a:moveTo>
                <a:cubicBezTo>
                  <a:pt x="19" y="60"/>
                  <a:pt x="70" y="79"/>
                  <a:pt x="111" y="90"/>
                </a:cubicBezTo>
                <a:cubicBezTo>
                  <a:pt x="152" y="101"/>
                  <a:pt x="205" y="113"/>
                  <a:pt x="249" y="120"/>
                </a:cubicBezTo>
                <a:cubicBezTo>
                  <a:pt x="293" y="127"/>
                  <a:pt x="332" y="130"/>
                  <a:pt x="375" y="132"/>
                </a:cubicBezTo>
                <a:cubicBezTo>
                  <a:pt x="418" y="134"/>
                  <a:pt x="460" y="136"/>
                  <a:pt x="507" y="132"/>
                </a:cubicBezTo>
                <a:cubicBezTo>
                  <a:pt x="554" y="128"/>
                  <a:pt x="608" y="119"/>
                  <a:pt x="657" y="108"/>
                </a:cubicBezTo>
                <a:cubicBezTo>
                  <a:pt x="706" y="97"/>
                  <a:pt x="757" y="82"/>
                  <a:pt x="803" y="64"/>
                </a:cubicBezTo>
                <a:cubicBezTo>
                  <a:pt x="849" y="46"/>
                  <a:pt x="904" y="13"/>
                  <a:pt x="931"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719360" y="5629320"/>
            <a:ext cx="1500120" cy="191880"/>
          </a:xfrm>
          <a:custGeom>
            <a:avLst/>
            <a:gdLst/>
            <a:ahLst/>
            <a:rect l="l" t="t" r="r" b="b"/>
            <a:pathLst>
              <a:path w="945" h="121">
                <a:moveTo>
                  <a:pt x="0" y="36"/>
                </a:moveTo>
                <a:cubicBezTo>
                  <a:pt x="18" y="43"/>
                  <a:pt x="70" y="64"/>
                  <a:pt x="111" y="75"/>
                </a:cubicBezTo>
                <a:cubicBezTo>
                  <a:pt x="152" y="86"/>
                  <a:pt x="205" y="98"/>
                  <a:pt x="249" y="105"/>
                </a:cubicBezTo>
                <a:cubicBezTo>
                  <a:pt x="293" y="112"/>
                  <a:pt x="332" y="115"/>
                  <a:pt x="375" y="117"/>
                </a:cubicBezTo>
                <a:cubicBezTo>
                  <a:pt x="418" y="119"/>
                  <a:pt x="455" y="121"/>
                  <a:pt x="507" y="117"/>
                </a:cubicBezTo>
                <a:cubicBezTo>
                  <a:pt x="559" y="113"/>
                  <a:pt x="635" y="106"/>
                  <a:pt x="687" y="96"/>
                </a:cubicBezTo>
                <a:cubicBezTo>
                  <a:pt x="739" y="86"/>
                  <a:pt x="773" y="73"/>
                  <a:pt x="816" y="57"/>
                </a:cubicBezTo>
                <a:cubicBezTo>
                  <a:pt x="859" y="41"/>
                  <a:pt x="918" y="12"/>
                  <a:pt x="945"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763640" y="4186080"/>
            <a:ext cx="1333440" cy="373320"/>
          </a:xfrm>
          <a:custGeom>
            <a:avLst/>
            <a:gdLst/>
            <a:ahLst/>
            <a:rect l="l" t="t" r="r" b="b"/>
            <a:pathLst>
              <a:path w="840" h="235">
                <a:moveTo>
                  <a:pt x="0" y="27"/>
                </a:moveTo>
                <a:cubicBezTo>
                  <a:pt x="16" y="42"/>
                  <a:pt x="62" y="94"/>
                  <a:pt x="99" y="123"/>
                </a:cubicBezTo>
                <a:cubicBezTo>
                  <a:pt x="136" y="152"/>
                  <a:pt x="181" y="186"/>
                  <a:pt x="222" y="204"/>
                </a:cubicBezTo>
                <a:cubicBezTo>
                  <a:pt x="263" y="222"/>
                  <a:pt x="295" y="227"/>
                  <a:pt x="345" y="231"/>
                </a:cubicBezTo>
                <a:cubicBezTo>
                  <a:pt x="395" y="235"/>
                  <a:pt x="473" y="233"/>
                  <a:pt x="522" y="225"/>
                </a:cubicBezTo>
                <a:cubicBezTo>
                  <a:pt x="571" y="217"/>
                  <a:pt x="604" y="200"/>
                  <a:pt x="642" y="180"/>
                </a:cubicBezTo>
                <a:cubicBezTo>
                  <a:pt x="680" y="160"/>
                  <a:pt x="714" y="135"/>
                  <a:pt x="747" y="105"/>
                </a:cubicBezTo>
                <a:cubicBezTo>
                  <a:pt x="780" y="75"/>
                  <a:pt x="821" y="22"/>
                  <a:pt x="84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466440" y="5307120"/>
            <a:ext cx="1661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r>
              <a:rPr b="0" lang="en-US" sz="1800" spc="-1" strike="noStrike">
                <a:solidFill>
                  <a:srgbClr val="000000"/>
                </a:solidFill>
                <a:latin typeface="Arial"/>
              </a:rPr>
              <a:t> = “light fluid”</a:t>
            </a:r>
            <a:endParaRPr b="0" lang="en-US" sz="1800" spc="-1" strike="noStrike">
              <a:solidFill>
                <a:srgbClr val="000000"/>
              </a:solidFill>
              <a:latin typeface="Arial"/>
            </a:endParaRPr>
          </a:p>
        </p:txBody>
      </p:sp>
      <p:sp>
        <p:nvSpPr>
          <p:cNvPr id="205" name=""/>
          <p:cNvSpPr/>
          <p:nvPr/>
        </p:nvSpPr>
        <p:spPr>
          <a:xfrm>
            <a:off x="2438280" y="597528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53720" y="5961240"/>
            <a:ext cx="2661480" cy="403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eff</a:t>
            </a:r>
            <a:r>
              <a:rPr b="0" lang="en-US" sz="1800" spc="-1" strike="noStrike">
                <a:solidFill>
                  <a:srgbClr val="000000"/>
                </a:solidFill>
                <a:latin typeface="Arial"/>
              </a:rPr>
              <a:t> =      centrifugal force</a:t>
            </a:r>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473280" y="5925960"/>
                <a:ext cx="265320" cy="493920"/>
              </a:xfrm>
              <a:prstGeom prst="rect">
                <a:avLst/>
              </a:prstGeom>
            </p:spPr>
            <p:txBody>
              <a:bodyPr/>
              <a:p>
                <a14:m>
                  <m:oMath xmlns:m="http://schemas.openxmlformats.org/officeDocument/2006/math">
                    <m:f>
                      <m:num>
                        <m:sSup>
                          <m:e>
                            <m:r>
                              <m:t xml:space="preserve">v</m:t>
                            </m:r>
                          </m:e>
                          <m:sup>
                            <m:r>
                              <m:t xml:space="preserve">2</m:t>
                            </m:r>
                          </m:sup>
                        </m:sSup>
                      </m:num>
                      <m:den>
                        <m:r>
                          <m:t xml:space="preserve">R</m:t>
                        </m:r>
                      </m:den>
                    </m:f>
                  </m:oMath>
                </a14:m>
              </a:p>
            </p:txBody>
          </p:sp>
        </mc:Choice>
        <mc:Fallback/>
      </mc:AlternateContent>
      <p:sp>
        <p:nvSpPr>
          <p:cNvPr id="208" name=""/>
          <p:cNvSpPr/>
          <p:nvPr/>
        </p:nvSpPr>
        <p:spPr>
          <a:xfrm>
            <a:off x="1498680" y="5248440"/>
            <a:ext cx="734760" cy="276120"/>
          </a:xfrm>
          <a:custGeom>
            <a:avLst/>
            <a:gdLst/>
            <a:ahLst/>
            <a:rect l="l" t="t" r="r" b="b"/>
            <a:pathLst>
              <a:path w="462" h="174">
                <a:moveTo>
                  <a:pt x="0" y="36"/>
                </a:moveTo>
                <a:cubicBezTo>
                  <a:pt x="14" y="22"/>
                  <a:pt x="25" y="6"/>
                  <a:pt x="44" y="0"/>
                </a:cubicBezTo>
                <a:cubicBezTo>
                  <a:pt x="51" y="2"/>
                  <a:pt x="62" y="10"/>
                  <a:pt x="62" y="10"/>
                </a:cubicBezTo>
                <a:cubicBezTo>
                  <a:pt x="69" y="31"/>
                  <a:pt x="57" y="51"/>
                  <a:pt x="36" y="58"/>
                </a:cubicBezTo>
                <a:cubicBezTo>
                  <a:pt x="20" y="48"/>
                  <a:pt x="32" y="36"/>
                  <a:pt x="42" y="26"/>
                </a:cubicBezTo>
                <a:cubicBezTo>
                  <a:pt x="45" y="23"/>
                  <a:pt x="68" y="21"/>
                  <a:pt x="72" y="20"/>
                </a:cubicBezTo>
                <a:cubicBezTo>
                  <a:pt x="76" y="21"/>
                  <a:pt x="88" y="20"/>
                  <a:pt x="92" y="26"/>
                </a:cubicBezTo>
                <a:cubicBezTo>
                  <a:pt x="94" y="30"/>
                  <a:pt x="96" y="38"/>
                  <a:pt x="96" y="38"/>
                </a:cubicBezTo>
                <a:cubicBezTo>
                  <a:pt x="92" y="54"/>
                  <a:pt x="85" y="65"/>
                  <a:pt x="72" y="74"/>
                </a:cubicBezTo>
                <a:cubicBezTo>
                  <a:pt x="61" y="70"/>
                  <a:pt x="63" y="60"/>
                  <a:pt x="70" y="52"/>
                </a:cubicBezTo>
                <a:cubicBezTo>
                  <a:pt x="80" y="40"/>
                  <a:pt x="94" y="40"/>
                  <a:pt x="108" y="36"/>
                </a:cubicBezTo>
                <a:cubicBezTo>
                  <a:pt x="125" y="38"/>
                  <a:pt x="134" y="41"/>
                  <a:pt x="140" y="58"/>
                </a:cubicBezTo>
                <a:cubicBezTo>
                  <a:pt x="136" y="70"/>
                  <a:pt x="120" y="92"/>
                  <a:pt x="108" y="96"/>
                </a:cubicBezTo>
                <a:cubicBezTo>
                  <a:pt x="103" y="95"/>
                  <a:pt x="96" y="88"/>
                  <a:pt x="100" y="82"/>
                </a:cubicBezTo>
                <a:cubicBezTo>
                  <a:pt x="92" y="79"/>
                  <a:pt x="98" y="72"/>
                  <a:pt x="100" y="68"/>
                </a:cubicBezTo>
                <a:cubicBezTo>
                  <a:pt x="107" y="57"/>
                  <a:pt x="116" y="48"/>
                  <a:pt x="128" y="42"/>
                </a:cubicBezTo>
                <a:cubicBezTo>
                  <a:pt x="150" y="47"/>
                  <a:pt x="161" y="54"/>
                  <a:pt x="168" y="76"/>
                </a:cubicBezTo>
                <a:cubicBezTo>
                  <a:pt x="165" y="91"/>
                  <a:pt x="157" y="99"/>
                  <a:pt x="142" y="104"/>
                </a:cubicBezTo>
                <a:cubicBezTo>
                  <a:pt x="130" y="87"/>
                  <a:pt x="150" y="58"/>
                  <a:pt x="168" y="52"/>
                </a:cubicBezTo>
                <a:cubicBezTo>
                  <a:pt x="181" y="55"/>
                  <a:pt x="186" y="59"/>
                  <a:pt x="194" y="70"/>
                </a:cubicBezTo>
                <a:cubicBezTo>
                  <a:pt x="197" y="74"/>
                  <a:pt x="202" y="82"/>
                  <a:pt x="202" y="82"/>
                </a:cubicBezTo>
                <a:cubicBezTo>
                  <a:pt x="200" y="102"/>
                  <a:pt x="198" y="111"/>
                  <a:pt x="178" y="116"/>
                </a:cubicBezTo>
                <a:cubicBezTo>
                  <a:pt x="167" y="100"/>
                  <a:pt x="184" y="79"/>
                  <a:pt x="198" y="70"/>
                </a:cubicBezTo>
                <a:cubicBezTo>
                  <a:pt x="223" y="72"/>
                  <a:pt x="224" y="68"/>
                  <a:pt x="238" y="82"/>
                </a:cubicBezTo>
                <a:cubicBezTo>
                  <a:pt x="245" y="103"/>
                  <a:pt x="234" y="123"/>
                  <a:pt x="214" y="130"/>
                </a:cubicBezTo>
                <a:cubicBezTo>
                  <a:pt x="200" y="111"/>
                  <a:pt x="214" y="88"/>
                  <a:pt x="232" y="76"/>
                </a:cubicBezTo>
                <a:cubicBezTo>
                  <a:pt x="253" y="78"/>
                  <a:pt x="264" y="82"/>
                  <a:pt x="276" y="100"/>
                </a:cubicBezTo>
                <a:cubicBezTo>
                  <a:pt x="279" y="114"/>
                  <a:pt x="266" y="139"/>
                  <a:pt x="252" y="144"/>
                </a:cubicBezTo>
                <a:cubicBezTo>
                  <a:pt x="234" y="140"/>
                  <a:pt x="247" y="109"/>
                  <a:pt x="258" y="98"/>
                </a:cubicBezTo>
                <a:cubicBezTo>
                  <a:pt x="263" y="93"/>
                  <a:pt x="276" y="88"/>
                  <a:pt x="276" y="88"/>
                </a:cubicBezTo>
                <a:cubicBezTo>
                  <a:pt x="288" y="90"/>
                  <a:pt x="299" y="92"/>
                  <a:pt x="308" y="102"/>
                </a:cubicBezTo>
                <a:cubicBezTo>
                  <a:pt x="311" y="106"/>
                  <a:pt x="316" y="114"/>
                  <a:pt x="316" y="114"/>
                </a:cubicBezTo>
                <a:cubicBezTo>
                  <a:pt x="320" y="133"/>
                  <a:pt x="324" y="149"/>
                  <a:pt x="302" y="156"/>
                </a:cubicBezTo>
                <a:cubicBezTo>
                  <a:pt x="280" y="152"/>
                  <a:pt x="288" y="113"/>
                  <a:pt x="304" y="102"/>
                </a:cubicBezTo>
                <a:cubicBezTo>
                  <a:pt x="327" y="104"/>
                  <a:pt x="337" y="105"/>
                  <a:pt x="350" y="124"/>
                </a:cubicBezTo>
                <a:cubicBezTo>
                  <a:pt x="351" y="129"/>
                  <a:pt x="353" y="135"/>
                  <a:pt x="354" y="140"/>
                </a:cubicBezTo>
                <a:cubicBezTo>
                  <a:pt x="355" y="143"/>
                  <a:pt x="356" y="148"/>
                  <a:pt x="356" y="148"/>
                </a:cubicBezTo>
                <a:cubicBezTo>
                  <a:pt x="354" y="158"/>
                  <a:pt x="354" y="163"/>
                  <a:pt x="344" y="166"/>
                </a:cubicBezTo>
                <a:cubicBezTo>
                  <a:pt x="339" y="163"/>
                  <a:pt x="334" y="150"/>
                  <a:pt x="334" y="150"/>
                </a:cubicBezTo>
                <a:cubicBezTo>
                  <a:pt x="338" y="135"/>
                  <a:pt x="351" y="119"/>
                  <a:pt x="364" y="110"/>
                </a:cubicBezTo>
                <a:cubicBezTo>
                  <a:pt x="383" y="113"/>
                  <a:pt x="382" y="120"/>
                  <a:pt x="396" y="130"/>
                </a:cubicBezTo>
                <a:cubicBezTo>
                  <a:pt x="400" y="135"/>
                  <a:pt x="404" y="148"/>
                  <a:pt x="404" y="148"/>
                </a:cubicBezTo>
                <a:cubicBezTo>
                  <a:pt x="402" y="167"/>
                  <a:pt x="405" y="169"/>
                  <a:pt x="390" y="174"/>
                </a:cubicBezTo>
                <a:cubicBezTo>
                  <a:pt x="371" y="169"/>
                  <a:pt x="376" y="147"/>
                  <a:pt x="384" y="132"/>
                </a:cubicBezTo>
                <a:cubicBezTo>
                  <a:pt x="386" y="129"/>
                  <a:pt x="391" y="122"/>
                  <a:pt x="394" y="120"/>
                </a:cubicBezTo>
                <a:cubicBezTo>
                  <a:pt x="398" y="118"/>
                  <a:pt x="406" y="116"/>
                  <a:pt x="406" y="116"/>
                </a:cubicBezTo>
                <a:cubicBezTo>
                  <a:pt x="416" y="118"/>
                  <a:pt x="436" y="122"/>
                  <a:pt x="444" y="128"/>
                </a:cubicBezTo>
                <a:cubicBezTo>
                  <a:pt x="450" y="137"/>
                  <a:pt x="420" y="122"/>
                  <a:pt x="430" y="120"/>
                </a:cubicBezTo>
                <a:cubicBezTo>
                  <a:pt x="410" y="116"/>
                  <a:pt x="434" y="117"/>
                  <a:pt x="430" y="122"/>
                </a:cubicBezTo>
                <a:cubicBezTo>
                  <a:pt x="428" y="124"/>
                  <a:pt x="455" y="128"/>
                  <a:pt x="462" y="13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399040" y="3998880"/>
            <a:ext cx="3481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sp>
        <p:nvSpPr>
          <p:cNvPr id="210" name=""/>
          <p:cNvSpPr/>
          <p:nvPr/>
        </p:nvSpPr>
        <p:spPr>
          <a:xfrm>
            <a:off x="6042600" y="1297080"/>
            <a:ext cx="18630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rate:</a:t>
            </a:r>
            <a:endParaRPr b="0" lang="en-US" sz="24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5537160" y="1832040"/>
                <a:ext cx="2843280" cy="850680"/>
              </a:xfrm>
              <a:prstGeom prst="rect">
                <a:avLst/>
              </a:prstGeom>
            </p:spPr>
            <p:txBody>
              <a:bodyPr/>
              <a:p>
                <a14:m>
                  <m:oMath xmlns:m="http://schemas.openxmlformats.org/officeDocument/2006/math">
                    <m:r>
                      <m:t xml:space="preserve">γ</m:t>
                    </m:r>
                    <m:r>
                      <m:t xml:space="preserve">=</m:t>
                    </m:r>
                    <m:rad>
                      <m:radPr>
                        <m:degHide m:val="1"/>
                      </m:radPr>
                      <m:deg/>
                      <m:e>
                        <m:f>
                          <m:num>
                            <m:sSub>
                              <m:e>
                                <m:r>
                                  <m:t xml:space="preserve">g</m:t>
                                </m:r>
                              </m:e>
                              <m:sub>
                                <m:r>
                                  <m:rPr>
                                    <m:lit/>
                                    <m:nor/>
                                  </m:rPr>
                                  <m:t xml:space="preserve">eff</m:t>
                                </m:r>
                              </m:sub>
                            </m:sSub>
                          </m:num>
                          <m:den>
                            <m:r>
                              <m:t xml:space="preserve">L</m:t>
                            </m:r>
                          </m:den>
                        </m:f>
                      </m:e>
                    </m:rad>
                    <m:r>
                      <m:t xml:space="preserve">=</m:t>
                    </m:r>
                    <m:rad>
                      <m:radPr>
                        <m:degHide m:val="1"/>
                      </m:radPr>
                      <m:deg/>
                      <m:e>
                        <m:f>
                          <m:num>
                            <m:sSubSup>
                              <m:e>
                                <m:r>
                                  <m:t xml:space="preserve">v</m:t>
                                </m:r>
                              </m:e>
                              <m:sub>
                                <m:r>
                                  <m:t xml:space="preserve">t</m:t>
                                </m:r>
                              </m:sub>
                              <m:sup>
                                <m:r>
                                  <m:t xml:space="preserve">2</m:t>
                                </m:r>
                              </m:sup>
                            </m:sSubSup>
                          </m:num>
                          <m:den>
                            <m:r>
                              <m:rPr>
                                <m:lit/>
                                <m:nor/>
                              </m:rPr>
                              <m:t xml:space="preserve">RL</m:t>
                            </m:r>
                          </m:den>
                        </m:f>
                      </m:e>
                    </m:rad>
                    <m:r>
                      <m:t xml:space="preserve">=</m:t>
                    </m:r>
                    <m:f>
                      <m:num>
                        <m:sSub>
                          <m:e>
                            <m:r>
                              <m:t xml:space="preserve">v</m:t>
                            </m:r>
                          </m:e>
                          <m:sub>
                            <m:r>
                              <m:t xml:space="preserve">t</m:t>
                            </m:r>
                          </m:sub>
                        </m:sSub>
                      </m:num>
                      <m:den>
                        <m:rad>
                          <m:radPr>
                            <m:degHide m:val="1"/>
                          </m:radPr>
                          <m:deg/>
                          <m:e>
                            <m:r>
                              <m:rPr>
                                <m:lit/>
                                <m:nor/>
                              </m:rPr>
                              <m:t xml:space="preserve">RL</m:t>
                            </m:r>
                          </m:e>
                        </m:rad>
                      </m:den>
                    </m:f>
                  </m:oMath>
                </a14:m>
              </a:p>
            </p:txBody>
          </p:sp>
        </mc:Choice>
        <mc:Fallback/>
      </mc:AlternateContent>
      <p:sp>
        <p:nvSpPr>
          <p:cNvPr id="212" name=""/>
          <p:cNvSpPr/>
          <p:nvPr/>
        </p:nvSpPr>
        <p:spPr>
          <a:xfrm>
            <a:off x="5176080" y="2843280"/>
            <a:ext cx="33411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instability 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HD &amp; drift/microinstabilities</a:t>
            </a:r>
            <a:endParaRPr b="0" lang="en-US" sz="1800" spc="-1" strike="noStrike">
              <a:solidFill>
                <a:srgbClr val="000000"/>
              </a:solidFill>
              <a:latin typeface="Arial"/>
            </a:endParaRPr>
          </a:p>
        </p:txBody>
      </p:sp>
      <p:sp>
        <p:nvSpPr>
          <p:cNvPr id="213" name=""/>
          <p:cNvSpPr/>
          <p:nvPr/>
        </p:nvSpPr>
        <p:spPr>
          <a:xfrm>
            <a:off x="6134040" y="3584520"/>
            <a:ext cx="244044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L = </a:t>
            </a:r>
            <a:r>
              <a:rPr b="0" lang="en-US" sz="1200" spc="-1" strike="noStrike">
                <a:solidFill>
                  <a:srgbClr val="000000"/>
                </a:solidFill>
                <a:latin typeface="Symbol"/>
                <a:ea typeface="Symbol"/>
              </a:rPr>
              <a:t></a:t>
            </a:r>
            <a:r>
              <a:rPr b="0" lang="en-US" sz="1200" spc="-1" strike="noStrike">
                <a:solidFill>
                  <a:srgbClr val="000000"/>
                </a:solidFill>
                <a:latin typeface="Arial"/>
              </a:rPr>
              <a:t>p/p in MH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ombination of </a:t>
            </a:r>
            <a:r>
              <a:rPr b="0" lang="en-US" sz="1200" spc="-1" strike="noStrike">
                <a:solidFill>
                  <a:srgbClr val="000000"/>
                </a:solidFill>
                <a:latin typeface="Symbol"/>
                <a:ea typeface="Symbol"/>
              </a:rPr>
              <a:t></a:t>
            </a:r>
            <a:r>
              <a:rPr b="0" lang="en-US" sz="1200" spc="-1" strike="noStrike">
                <a:solidFill>
                  <a:srgbClr val="000000"/>
                </a:solidFill>
                <a:latin typeface="Arial"/>
              </a:rPr>
              <a:t>n &amp; </a:t>
            </a:r>
            <a:r>
              <a:rPr b="0" lang="en-US" sz="1200" spc="-1" strike="noStrike">
                <a:solidFill>
                  <a:srgbClr val="000000"/>
                </a:solidFill>
                <a:latin typeface="Symbol"/>
                <a:ea typeface="Symbol"/>
              </a:rPr>
              <a:t></a:t>
            </a:r>
            <a:r>
              <a:rPr b="0" lang="en-US" sz="1200" spc="-1" strike="noStrike">
                <a:solidFill>
                  <a:srgbClr val="000000"/>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roinstabilit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84280" y="863640"/>
            <a:ext cx="792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99640" y="230040"/>
            <a:ext cx="724428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Secret for Stabilizing Bad-Curvature Instabilities</a:t>
            </a:r>
            <a:endParaRPr b="0" lang="en-US" sz="2400" spc="-1" strike="noStrike">
              <a:solidFill>
                <a:srgbClr val="000000"/>
              </a:solidFill>
              <a:latin typeface="Arial"/>
            </a:endParaRPr>
          </a:p>
        </p:txBody>
      </p:sp>
      <p:pic>
        <p:nvPicPr>
          <p:cNvPr id="216" name="" descr=""/>
          <p:cNvPicPr/>
          <p:nvPr/>
        </p:nvPicPr>
        <p:blipFill>
          <a:blip r:embed="rId1"/>
          <a:stretch/>
        </p:blipFill>
        <p:spPr>
          <a:xfrm>
            <a:off x="1401840" y="1893960"/>
            <a:ext cx="2587680" cy="1697040"/>
          </a:xfrm>
          <a:prstGeom prst="rect">
            <a:avLst/>
          </a:prstGeom>
          <a:ln w="0">
            <a:noFill/>
          </a:ln>
        </p:spPr>
      </p:pic>
      <p:pic>
        <p:nvPicPr>
          <p:cNvPr id="217" name="" descr=""/>
          <p:cNvPicPr/>
          <p:nvPr/>
        </p:nvPicPr>
        <p:blipFill>
          <a:blip r:embed="rId2"/>
          <a:stretch/>
        </p:blipFill>
        <p:spPr>
          <a:xfrm>
            <a:off x="4991040" y="1874880"/>
            <a:ext cx="2576520" cy="1778040"/>
          </a:xfrm>
          <a:prstGeom prst="rect">
            <a:avLst/>
          </a:prstGeom>
          <a:ln w="0">
            <a:noFill/>
          </a:ln>
        </p:spPr>
      </p:pic>
      <p:sp>
        <p:nvSpPr>
          <p:cNvPr id="218" name=""/>
          <p:cNvSpPr/>
          <p:nvPr/>
        </p:nvSpPr>
        <p:spPr>
          <a:xfrm>
            <a:off x="1082880" y="1081080"/>
            <a:ext cx="7163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 in </a:t>
            </a:r>
            <a:r>
              <a:rPr b="1" i="1" lang="en-US" sz="2400" spc="-1" strike="noStrike">
                <a:solidFill>
                  <a:srgbClr val="000000"/>
                </a:solidFill>
                <a:latin typeface="Arial"/>
              </a:rPr>
              <a:t>B</a:t>
            </a:r>
            <a:r>
              <a:rPr b="0" lang="en-US" sz="2400" spc="-1" strike="noStrike">
                <a:solidFill>
                  <a:srgbClr val="000000"/>
                </a:solidFill>
                <a:latin typeface="Arial"/>
              </a:rPr>
              <a:t> carries plasma from bad curvature reg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ood curvature region:</a:t>
            </a:r>
            <a:endParaRPr b="0" lang="en-US" sz="2400" spc="-1" strike="noStrike">
              <a:solidFill>
                <a:srgbClr val="000000"/>
              </a:solidFill>
              <a:latin typeface="Arial"/>
            </a:endParaRPr>
          </a:p>
        </p:txBody>
      </p:sp>
      <p:sp>
        <p:nvSpPr>
          <p:cNvPr id="219" name=""/>
          <p:cNvSpPr/>
          <p:nvPr/>
        </p:nvSpPr>
        <p:spPr>
          <a:xfrm>
            <a:off x="1931040" y="3532320"/>
            <a:ext cx="13845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able</a:t>
            </a:r>
            <a:endParaRPr b="0" lang="en-US" sz="2400" spc="-1" strike="noStrike">
              <a:solidFill>
                <a:srgbClr val="000000"/>
              </a:solidFill>
              <a:latin typeface="Arial"/>
            </a:endParaRPr>
          </a:p>
        </p:txBody>
      </p:sp>
      <p:sp>
        <p:nvSpPr>
          <p:cNvPr id="220" name=""/>
          <p:cNvSpPr/>
          <p:nvPr/>
        </p:nvSpPr>
        <p:spPr>
          <a:xfrm>
            <a:off x="5808600" y="3532320"/>
            <a:ext cx="10461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ble</a:t>
            </a:r>
            <a:endParaRPr b="0" lang="en-US" sz="2400" spc="-1" strike="noStrike">
              <a:solidFill>
                <a:srgbClr val="000000"/>
              </a:solidFill>
              <a:latin typeface="Arial"/>
            </a:endParaRPr>
          </a:p>
        </p:txBody>
      </p:sp>
      <p:sp>
        <p:nvSpPr>
          <p:cNvPr id="221" name=""/>
          <p:cNvSpPr/>
          <p:nvPr/>
        </p:nvSpPr>
        <p:spPr>
          <a:xfrm>
            <a:off x="970200" y="5979960"/>
            <a:ext cx="735876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how twirling a honey dipper can prevent honey from dripping.</a:t>
            </a:r>
            <a:endParaRPr b="0" lang="en-US" sz="1800" spc="-1" strike="noStrike">
              <a:solidFill>
                <a:srgbClr val="000000"/>
              </a:solidFill>
              <a:latin typeface="Arial"/>
            </a:endParaRPr>
          </a:p>
        </p:txBody>
      </p:sp>
      <p:pic>
        <p:nvPicPr>
          <p:cNvPr id="222" name="" descr=""/>
          <p:cNvPicPr/>
          <p:nvPr/>
        </p:nvPicPr>
        <p:blipFill>
          <a:blip r:embed="rId3"/>
          <a:stretch/>
        </p:blipFill>
        <p:spPr>
          <a:xfrm>
            <a:off x="1623960" y="3914640"/>
            <a:ext cx="2082960" cy="2109960"/>
          </a:xfrm>
          <a:prstGeom prst="rect">
            <a:avLst/>
          </a:prstGeom>
          <a:ln w="0">
            <a:noFill/>
          </a:ln>
        </p:spPr>
      </p:pic>
      <p:pic>
        <p:nvPicPr>
          <p:cNvPr id="223" name="" descr=""/>
          <p:cNvPicPr/>
          <p:nvPr/>
        </p:nvPicPr>
        <p:blipFill>
          <a:blip r:embed="rId4"/>
          <a:stretch/>
        </p:blipFill>
        <p:spPr>
          <a:xfrm>
            <a:off x="5351400" y="3900600"/>
            <a:ext cx="19749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eg Hammett</cp:lastModifiedBy>
  <dcterms:modified xsi:type="dcterms:W3CDTF">2008-09-15T13:57:16Z</dcterms:modified>
  <cp:revision>3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