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F85F-8FB8-47E2-B13E-D35C08897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205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46F0-8CC3-4583-9AFE-3468B1645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8C6B-E793-45D2-8331-315A96164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F931-2C2C-40F3-B98B-AE6D24488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D481-C7B3-46CF-B0F8-4B25D66E3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21C3-B947-433F-A5A4-0066D8A59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C5FA-1727-4C1E-8F21-E4ACB61BD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9D9C-05C7-4A08-B3EF-AF2A2B715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529D-1B06-4045-8C00-6BBD18EB8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D740-4EF8-4258-83E1-93028C13A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52DF-78A2-42DD-AB81-37034CC78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0972-9E70-445B-A2CF-17C5327AC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17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417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417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5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320" y="3124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uart R.Hud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.A.Monticello, A.H.Reiman, D.J.Strickler, S.P.Hirshman, L-P. Ku, E.Lazarus, A.Brooks, M.C.Zarnstorff, A.H.Boozer, G-Y. Fu and G.H.Neil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PPLlogo" descr=""/>
          <p:cNvPicPr/>
          <p:nvPr/>
        </p:nvPicPr>
        <p:blipFill>
          <a:blip r:embed="rId1"/>
          <a:stretch/>
        </p:blipFill>
        <p:spPr>
          <a:xfrm>
            <a:off x="76320" y="5992920"/>
            <a:ext cx="2971800" cy="712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7632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ression of Magnetic Island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larator Equilibrium Calc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to NCS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AEA" descr=""/>
          <p:cNvPicPr/>
          <p:nvPr/>
        </p:nvPicPr>
        <p:blipFill>
          <a:blip r:embed="rId2"/>
          <a:stretch/>
        </p:blipFill>
        <p:spPr>
          <a:xfrm>
            <a:off x="7391520" y="5791320"/>
            <a:ext cx="971280" cy="923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6019920"/>
            <a:ext cx="449568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AEA Fusion Energ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yon, France 14-19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B5EB-F547-478C-896A-CA395325A3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HealedPoincarePlot" descr=""/>
          <p:cNvPicPr/>
          <p:nvPr/>
        </p:nvPicPr>
        <p:blipFill>
          <a:blip r:embed="rId1"/>
          <a:stretch/>
        </p:blipFill>
        <p:spPr>
          <a:xfrm>
            <a:off x="961920" y="709560"/>
            <a:ext cx="7953480" cy="5919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led configuration has good-flux-su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6386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/6 island sup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6095880"/>
            <a:ext cx="1981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order is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consid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9360" y="762120"/>
            <a:ext cx="18435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MEC 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523880" y="4495680"/>
            <a:ext cx="60984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371600" y="4419720"/>
            <a:ext cx="1600200" cy="12189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5181480"/>
            <a:ext cx="144792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05520" y="4952520"/>
            <a:ext cx="1447560" cy="1143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76920" y="4647960"/>
            <a:ext cx="1523880" cy="1447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724280" y="4343400"/>
            <a:ext cx="1371600" cy="1752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71840" y="106668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5562720"/>
            <a:ext cx="2133360" cy="99036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care plo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-down sym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95680" y="4038120"/>
            <a:ext cx="762120" cy="2057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952880"/>
            <a:ext cx="22100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/5 island sup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2057400"/>
            <a:ext cx="152424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4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  =  178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=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 0.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EF41-2C36-4F3F-B620-8B2991E1D8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ilComparison" descr=""/>
          <p:cNvPicPr/>
          <p:nvPr/>
        </p:nvPicPr>
        <p:blipFill>
          <a:blip r:embed="rId1"/>
          <a:stretch/>
        </p:blipFill>
        <p:spPr>
          <a:xfrm>
            <a:off x="782640" y="585720"/>
            <a:ext cx="5618160" cy="6043680"/>
          </a:xfrm>
          <a:prstGeom prst="rect">
            <a:avLst/>
          </a:prstGeom>
          <a:ln w="0">
            <a:noFill/>
          </a:ln>
        </p:spPr>
      </p:pic>
      <p:pic>
        <p:nvPicPr>
          <p:cNvPr id="160" name="CoilComparisonClose" descr=""/>
          <p:cNvPicPr/>
          <p:nvPr/>
        </p:nvPicPr>
        <p:blipFill>
          <a:blip r:embed="rId2"/>
          <a:stretch/>
        </p:blipFill>
        <p:spPr>
          <a:xfrm>
            <a:off x="295200" y="2286000"/>
            <a:ext cx="3591000" cy="2895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72200" y="1374840"/>
            <a:ext cx="2781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 shows coils on toroidal winding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 chan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 change excee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ion toler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impact machine design (diagnostic, NBI access still 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on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rmonics have been adjus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86000"/>
            <a:ext cx="2514600" cy="2895480"/>
          </a:xfrm>
          <a:custGeom>
            <a:avLst/>
            <a:gdLst/>
            <a:ahLst/>
            <a:rect l="l" t="t" r="r" b="b"/>
            <a:pathLst>
              <a:path w="1584" h="1824">
                <a:moveTo>
                  <a:pt x="0" y="0"/>
                </a:moveTo>
                <a:lnTo>
                  <a:pt x="1584" y="0"/>
                </a:lnTo>
                <a:lnTo>
                  <a:pt x="1584" y="1824"/>
                </a:lnTo>
                <a:lnTo>
                  <a:pt x="0" y="18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9000" y="3733920"/>
            <a:ext cx="113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73392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90680" y="2514600"/>
            <a:ext cx="977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a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90920" y="2971440"/>
            <a:ext cx="152280" cy="6094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itude of the coil change is accep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A39A-8A2D-4A16-9A37-55EB9BCCFC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HealedVacuum" descr=""/>
          <p:cNvPicPr/>
          <p:nvPr/>
        </p:nvPicPr>
        <p:blipFill>
          <a:blip r:embed="rId1"/>
          <a:stretch/>
        </p:blipFill>
        <p:spPr>
          <a:xfrm>
            <a:off x="1138320" y="933480"/>
            <a:ext cx="7091280" cy="5010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led coils support good vacuum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6019920"/>
            <a:ext cx="59436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led coils maintain good vacuum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371600"/>
            <a:ext cx="380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5A38-F8C7-4AE3-B60A-3B7E51AFB6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ed coils show improvement as configuration v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Eds303beforeafter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5381640" cy="4411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95280" y="762120"/>
            <a:ext cx="6782040" cy="1600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profiles vary, the island content will va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sland content of the healed coil equilibria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rov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spect to the original coil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sequence of equilibria modeling a discharge evolution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733920"/>
            <a:ext cx="1905120" cy="167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scharge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    =  303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4.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  =  132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=  0.3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 0.6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019920" y="4648320"/>
            <a:ext cx="167616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248160" y="2971800"/>
            <a:ext cx="15238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74320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`healed’ coi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 (3,5) i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55627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coi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(3,5) i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9480" y="4495680"/>
            <a:ext cx="3375000" cy="1024200"/>
          </a:xfrm>
          <a:custGeom>
            <a:avLst/>
            <a:gdLst/>
            <a:ahLst/>
            <a:rect l="l" t="t" r="r" b="b"/>
            <a:pathLst>
              <a:path w="2126" h="645">
                <a:moveTo>
                  <a:pt x="110" y="0"/>
                </a:moveTo>
                <a:cubicBezTo>
                  <a:pt x="94" y="41"/>
                  <a:pt x="23" y="163"/>
                  <a:pt x="14" y="246"/>
                </a:cubicBezTo>
                <a:cubicBezTo>
                  <a:pt x="5" y="329"/>
                  <a:pt x="0" y="435"/>
                  <a:pt x="56" y="498"/>
                </a:cubicBezTo>
                <a:cubicBezTo>
                  <a:pt x="112" y="561"/>
                  <a:pt x="197" y="603"/>
                  <a:pt x="350" y="624"/>
                </a:cubicBezTo>
                <a:cubicBezTo>
                  <a:pt x="503" y="645"/>
                  <a:pt x="798" y="640"/>
                  <a:pt x="974" y="624"/>
                </a:cubicBezTo>
                <a:cubicBezTo>
                  <a:pt x="1150" y="608"/>
                  <a:pt x="1254" y="584"/>
                  <a:pt x="1406" y="528"/>
                </a:cubicBezTo>
                <a:cubicBezTo>
                  <a:pt x="1558" y="472"/>
                  <a:pt x="1774" y="360"/>
                  <a:pt x="1886" y="288"/>
                </a:cubicBezTo>
                <a:cubicBezTo>
                  <a:pt x="1998" y="216"/>
                  <a:pt x="2038" y="144"/>
                  <a:pt x="2078" y="96"/>
                </a:cubicBezTo>
                <a:cubicBezTo>
                  <a:pt x="2118" y="48"/>
                  <a:pt x="2122" y="24"/>
                  <a:pt x="2126" y="0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5640" y="4495680"/>
            <a:ext cx="2743200" cy="1311480"/>
          </a:xfrm>
          <a:custGeom>
            <a:avLst/>
            <a:gdLst/>
            <a:ahLst/>
            <a:rect l="l" t="t" r="r" b="b"/>
            <a:pathLst>
              <a:path w="1728" h="826">
                <a:moveTo>
                  <a:pt x="1728" y="12"/>
                </a:moveTo>
                <a:cubicBezTo>
                  <a:pt x="1718" y="49"/>
                  <a:pt x="1695" y="161"/>
                  <a:pt x="1668" y="234"/>
                </a:cubicBezTo>
                <a:cubicBezTo>
                  <a:pt x="1641" y="307"/>
                  <a:pt x="1622" y="374"/>
                  <a:pt x="1566" y="450"/>
                </a:cubicBezTo>
                <a:cubicBezTo>
                  <a:pt x="1510" y="526"/>
                  <a:pt x="1429" y="631"/>
                  <a:pt x="1332" y="690"/>
                </a:cubicBezTo>
                <a:cubicBezTo>
                  <a:pt x="1235" y="749"/>
                  <a:pt x="1107" y="793"/>
                  <a:pt x="984" y="804"/>
                </a:cubicBezTo>
                <a:cubicBezTo>
                  <a:pt x="861" y="815"/>
                  <a:pt x="715" y="826"/>
                  <a:pt x="594" y="756"/>
                </a:cubicBezTo>
                <a:cubicBezTo>
                  <a:pt x="473" y="686"/>
                  <a:pt x="357" y="510"/>
                  <a:pt x="258" y="384"/>
                </a:cubicBezTo>
                <a:cubicBezTo>
                  <a:pt x="159" y="258"/>
                  <a:pt x="54" y="80"/>
                  <a:pt x="0" y="0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1440" y="3095640"/>
            <a:ext cx="3519360" cy="1324080"/>
          </a:xfrm>
          <a:custGeom>
            <a:avLst/>
            <a:gdLst/>
            <a:ahLst/>
            <a:rect l="l" t="t" r="r" b="b"/>
            <a:pathLst>
              <a:path w="2217" h="834">
                <a:moveTo>
                  <a:pt x="9" y="834"/>
                </a:moveTo>
                <a:cubicBezTo>
                  <a:pt x="11" y="755"/>
                  <a:pt x="0" y="476"/>
                  <a:pt x="21" y="360"/>
                </a:cubicBezTo>
                <a:cubicBezTo>
                  <a:pt x="42" y="244"/>
                  <a:pt x="73" y="195"/>
                  <a:pt x="135" y="138"/>
                </a:cubicBezTo>
                <a:cubicBezTo>
                  <a:pt x="197" y="81"/>
                  <a:pt x="319" y="36"/>
                  <a:pt x="393" y="18"/>
                </a:cubicBezTo>
                <a:cubicBezTo>
                  <a:pt x="467" y="0"/>
                  <a:pt x="464" y="22"/>
                  <a:pt x="579" y="30"/>
                </a:cubicBezTo>
                <a:cubicBezTo>
                  <a:pt x="694" y="38"/>
                  <a:pt x="960" y="55"/>
                  <a:pt x="1083" y="66"/>
                </a:cubicBezTo>
                <a:cubicBezTo>
                  <a:pt x="1206" y="77"/>
                  <a:pt x="1214" y="73"/>
                  <a:pt x="1317" y="96"/>
                </a:cubicBezTo>
                <a:cubicBezTo>
                  <a:pt x="1420" y="119"/>
                  <a:pt x="1578" y="150"/>
                  <a:pt x="1701" y="204"/>
                </a:cubicBezTo>
                <a:cubicBezTo>
                  <a:pt x="1824" y="258"/>
                  <a:pt x="1977" y="344"/>
                  <a:pt x="2055" y="420"/>
                </a:cubicBezTo>
                <a:cubicBezTo>
                  <a:pt x="2133" y="496"/>
                  <a:pt x="2142" y="591"/>
                  <a:pt x="2169" y="660"/>
                </a:cubicBezTo>
                <a:cubicBezTo>
                  <a:pt x="2196" y="729"/>
                  <a:pt x="2207" y="798"/>
                  <a:pt x="2217" y="834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011400"/>
            <a:ext cx="3276720" cy="1484280"/>
          </a:xfrm>
          <a:custGeom>
            <a:avLst/>
            <a:gdLst/>
            <a:ahLst/>
            <a:rect l="l" t="t" r="r" b="b"/>
            <a:pathLst>
              <a:path w="2064" h="935">
                <a:moveTo>
                  <a:pt x="0" y="887"/>
                </a:moveTo>
                <a:cubicBezTo>
                  <a:pt x="11" y="826"/>
                  <a:pt x="40" y="623"/>
                  <a:pt x="66" y="521"/>
                </a:cubicBezTo>
                <a:cubicBezTo>
                  <a:pt x="92" y="419"/>
                  <a:pt x="102" y="346"/>
                  <a:pt x="156" y="275"/>
                </a:cubicBezTo>
                <a:cubicBezTo>
                  <a:pt x="210" y="204"/>
                  <a:pt x="291" y="139"/>
                  <a:pt x="390" y="95"/>
                </a:cubicBezTo>
                <a:cubicBezTo>
                  <a:pt x="489" y="51"/>
                  <a:pt x="548" y="0"/>
                  <a:pt x="750" y="11"/>
                </a:cubicBezTo>
                <a:cubicBezTo>
                  <a:pt x="952" y="22"/>
                  <a:pt x="1407" y="79"/>
                  <a:pt x="1602" y="161"/>
                </a:cubicBezTo>
                <a:cubicBezTo>
                  <a:pt x="1797" y="243"/>
                  <a:pt x="1843" y="374"/>
                  <a:pt x="1920" y="503"/>
                </a:cubicBezTo>
                <a:cubicBezTo>
                  <a:pt x="1997" y="632"/>
                  <a:pt x="2024" y="783"/>
                  <a:pt x="2064" y="935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CD66-C47E-4C1E-A85A-0DD396794A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m Coils provide additional isl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CSXEds100Trimmed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5029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19920" y="1709640"/>
            <a:ext cx="2666880" cy="804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rim co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m)=(3,6) is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5410080"/>
            <a:ext cx="2514600" cy="838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im co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nd sup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572000" y="2285640"/>
            <a:ext cx="1523880" cy="762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876920"/>
            <a:ext cx="137160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52280" y="2819520"/>
            <a:ext cx="1905120" cy="167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scharge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    =  10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.3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  =  81.6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=  0.4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 0.5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990720"/>
            <a:ext cx="8534520" cy="533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procedure determines the trim coil currents which suppress is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981160"/>
            <a:ext cx="2362320" cy="1057320"/>
          </a:xfrm>
          <a:custGeom>
            <a:avLst/>
            <a:gdLst/>
            <a:ahLst/>
            <a:rect l="l" t="t" r="r" b="b"/>
            <a:pathLst>
              <a:path w="1488" h="666">
                <a:moveTo>
                  <a:pt x="0" y="666"/>
                </a:moveTo>
                <a:cubicBezTo>
                  <a:pt x="11" y="625"/>
                  <a:pt x="42" y="492"/>
                  <a:pt x="66" y="420"/>
                </a:cubicBezTo>
                <a:cubicBezTo>
                  <a:pt x="90" y="348"/>
                  <a:pt x="118" y="283"/>
                  <a:pt x="144" y="234"/>
                </a:cubicBezTo>
                <a:cubicBezTo>
                  <a:pt x="170" y="185"/>
                  <a:pt x="183" y="160"/>
                  <a:pt x="222" y="126"/>
                </a:cubicBezTo>
                <a:cubicBezTo>
                  <a:pt x="261" y="92"/>
                  <a:pt x="310" y="48"/>
                  <a:pt x="378" y="30"/>
                </a:cubicBezTo>
                <a:cubicBezTo>
                  <a:pt x="446" y="12"/>
                  <a:pt x="525" y="0"/>
                  <a:pt x="630" y="18"/>
                </a:cubicBezTo>
                <a:cubicBezTo>
                  <a:pt x="735" y="36"/>
                  <a:pt x="891" y="75"/>
                  <a:pt x="1008" y="138"/>
                </a:cubicBezTo>
                <a:cubicBezTo>
                  <a:pt x="1125" y="201"/>
                  <a:pt x="1252" y="308"/>
                  <a:pt x="1332" y="396"/>
                </a:cubicBezTo>
                <a:cubicBezTo>
                  <a:pt x="1412" y="484"/>
                  <a:pt x="1455" y="610"/>
                  <a:pt x="1488" y="666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11440" y="3127320"/>
            <a:ext cx="2502000" cy="930240"/>
          </a:xfrm>
          <a:custGeom>
            <a:avLst/>
            <a:gdLst/>
            <a:ahLst/>
            <a:rect l="l" t="t" r="r" b="b"/>
            <a:pathLst>
              <a:path w="1576" h="586">
                <a:moveTo>
                  <a:pt x="44" y="574"/>
                </a:moveTo>
                <a:cubicBezTo>
                  <a:pt x="38" y="547"/>
                  <a:pt x="10" y="474"/>
                  <a:pt x="8" y="412"/>
                </a:cubicBezTo>
                <a:cubicBezTo>
                  <a:pt x="6" y="350"/>
                  <a:pt x="0" y="262"/>
                  <a:pt x="32" y="202"/>
                </a:cubicBezTo>
                <a:cubicBezTo>
                  <a:pt x="64" y="142"/>
                  <a:pt x="123" y="85"/>
                  <a:pt x="200" y="52"/>
                </a:cubicBezTo>
                <a:cubicBezTo>
                  <a:pt x="277" y="19"/>
                  <a:pt x="352" y="7"/>
                  <a:pt x="494" y="4"/>
                </a:cubicBezTo>
                <a:cubicBezTo>
                  <a:pt x="636" y="1"/>
                  <a:pt x="901" y="0"/>
                  <a:pt x="1052" y="34"/>
                </a:cubicBezTo>
                <a:cubicBezTo>
                  <a:pt x="1203" y="68"/>
                  <a:pt x="1318" y="148"/>
                  <a:pt x="1400" y="208"/>
                </a:cubicBezTo>
                <a:cubicBezTo>
                  <a:pt x="1482" y="268"/>
                  <a:pt x="1515" y="339"/>
                  <a:pt x="1544" y="394"/>
                </a:cubicBezTo>
                <a:cubicBezTo>
                  <a:pt x="1573" y="449"/>
                  <a:pt x="1572" y="506"/>
                  <a:pt x="1574" y="538"/>
                </a:cubicBezTo>
                <a:cubicBezTo>
                  <a:pt x="1576" y="570"/>
                  <a:pt x="1560" y="576"/>
                  <a:pt x="1556" y="586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978E-D69E-4386-A312-A6E61986ACA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153280" cy="5562720"/>
          </a:xfrm>
          <a:prstGeom prst="rect">
            <a:avLst/>
          </a:prstGeom>
          <a:solidFill>
            <a:srgbClr val="f8fc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sma and coils conve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free-boundary equilibrium with selected islands suppressed, while preserving engineering constraints and plasma st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the coil geometry at every PIES iteration enables effective control of non-linearity of the plasma response to changes in the external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ls support a variety of equilibria with good flux surface quality, and trim coils provide control of isl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824F-9800-435B-946E-DA7106E4647D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and Out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solidFill>
            <a:srgbClr val="f8fc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llarators will in general have islands and, unless avoided or suppressed, islands and associated regions of chaos lead to poor plasma confin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nds in free-boundary NCSX equilibria were eliminated (coil-healing) as a final step in the coil design, after the coil-plasma optim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s of the coil healing procedure are desc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for NCSX are presented showing a stable stellarator equilibrium, with build-able coils, with “good-flux-surfaces”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0AA8-4C6B-4018-8562-B32E3D4CD1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indingSurface" descr=""/>
          <p:cNvPicPr/>
          <p:nvPr/>
        </p:nvPicPr>
        <p:blipFill>
          <a:blip r:embed="rId1"/>
          <a:stretch/>
        </p:blipFill>
        <p:spPr>
          <a:xfrm>
            <a:off x="5234040" y="1371600"/>
            <a:ext cx="3909960" cy="3483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ls are modified to remove is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UpDownComparisonPoincare" descr=""/>
          <p:cNvPicPr/>
          <p:nvPr/>
        </p:nvPicPr>
        <p:blipFill>
          <a:blip r:embed="rId2"/>
          <a:stretch/>
        </p:blipFill>
        <p:spPr>
          <a:xfrm>
            <a:off x="76320" y="1644480"/>
            <a:ext cx="5257800" cy="391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477200" y="2209680"/>
            <a:ext cx="218880" cy="1981440"/>
          </a:xfrm>
          <a:custGeom>
            <a:avLst/>
            <a:gdLst/>
            <a:ahLst/>
            <a:rect l="l" t="t" r="r" b="b"/>
            <a:pathLst>
              <a:path w="138" h="1248">
                <a:moveTo>
                  <a:pt x="138" y="0"/>
                </a:moveTo>
                <a:cubicBezTo>
                  <a:pt x="131" y="44"/>
                  <a:pt x="116" y="164"/>
                  <a:pt x="96" y="264"/>
                </a:cubicBezTo>
                <a:cubicBezTo>
                  <a:pt x="76" y="364"/>
                  <a:pt x="28" y="511"/>
                  <a:pt x="18" y="600"/>
                </a:cubicBezTo>
                <a:cubicBezTo>
                  <a:pt x="8" y="689"/>
                  <a:pt x="30" y="725"/>
                  <a:pt x="36" y="798"/>
                </a:cubicBezTo>
                <a:cubicBezTo>
                  <a:pt x="42" y="871"/>
                  <a:pt x="60" y="963"/>
                  <a:pt x="54" y="1038"/>
                </a:cubicBezTo>
                <a:cubicBezTo>
                  <a:pt x="48" y="1113"/>
                  <a:pt x="11" y="1205"/>
                  <a:pt x="0" y="1248"/>
                </a:cubicBezTo>
              </a:path>
            </a:pathLst>
          </a:custGeom>
          <a:noFill/>
          <a:ln w="3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10600" y="2152800"/>
            <a:ext cx="209520" cy="1962000"/>
          </a:xfrm>
          <a:custGeom>
            <a:avLst/>
            <a:gdLst/>
            <a:ahLst/>
            <a:rect l="l" t="t" r="r" b="b"/>
            <a:pathLst>
              <a:path w="132" h="1236">
                <a:moveTo>
                  <a:pt x="132" y="0"/>
                </a:moveTo>
                <a:cubicBezTo>
                  <a:pt x="126" y="44"/>
                  <a:pt x="115" y="162"/>
                  <a:pt x="96" y="264"/>
                </a:cubicBezTo>
                <a:cubicBezTo>
                  <a:pt x="77" y="366"/>
                  <a:pt x="29" y="522"/>
                  <a:pt x="18" y="612"/>
                </a:cubicBezTo>
                <a:cubicBezTo>
                  <a:pt x="7" y="702"/>
                  <a:pt x="25" y="746"/>
                  <a:pt x="30" y="804"/>
                </a:cubicBezTo>
                <a:cubicBezTo>
                  <a:pt x="35" y="862"/>
                  <a:pt x="53" y="888"/>
                  <a:pt x="48" y="960"/>
                </a:cubicBezTo>
                <a:cubicBezTo>
                  <a:pt x="43" y="1032"/>
                  <a:pt x="10" y="1179"/>
                  <a:pt x="0" y="1236"/>
                </a:cubicBezTo>
              </a:path>
            </a:pathLst>
          </a:custGeom>
          <a:noFill/>
          <a:ln w="64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10600" y="2209680"/>
            <a:ext cx="209520" cy="1962360"/>
          </a:xfrm>
          <a:custGeom>
            <a:avLst/>
            <a:gdLst/>
            <a:ahLst/>
            <a:rect l="l" t="t" r="r" b="b"/>
            <a:pathLst>
              <a:path w="132" h="1236">
                <a:moveTo>
                  <a:pt x="132" y="0"/>
                </a:moveTo>
                <a:cubicBezTo>
                  <a:pt x="126" y="44"/>
                  <a:pt x="115" y="162"/>
                  <a:pt x="96" y="264"/>
                </a:cubicBezTo>
                <a:cubicBezTo>
                  <a:pt x="77" y="366"/>
                  <a:pt x="29" y="522"/>
                  <a:pt x="18" y="612"/>
                </a:cubicBezTo>
                <a:cubicBezTo>
                  <a:pt x="7" y="702"/>
                  <a:pt x="25" y="746"/>
                  <a:pt x="30" y="804"/>
                </a:cubicBezTo>
                <a:cubicBezTo>
                  <a:pt x="35" y="862"/>
                  <a:pt x="53" y="888"/>
                  <a:pt x="48" y="960"/>
                </a:cubicBezTo>
                <a:cubicBezTo>
                  <a:pt x="43" y="1032"/>
                  <a:pt x="10" y="1179"/>
                  <a:pt x="0" y="1236"/>
                </a:cubicBezTo>
              </a:path>
            </a:pathLst>
          </a:custGeom>
          <a:noFill/>
          <a:ln cap="rnd" w="38160">
            <a:solidFill>
              <a:srgbClr val="0000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209680"/>
            <a:ext cx="219240" cy="1981440"/>
          </a:xfrm>
          <a:custGeom>
            <a:avLst/>
            <a:gdLst/>
            <a:ahLst/>
            <a:rect l="l" t="t" r="r" b="b"/>
            <a:pathLst>
              <a:path w="138" h="1248">
                <a:moveTo>
                  <a:pt x="138" y="0"/>
                </a:moveTo>
                <a:cubicBezTo>
                  <a:pt x="131" y="44"/>
                  <a:pt x="116" y="164"/>
                  <a:pt x="96" y="264"/>
                </a:cubicBezTo>
                <a:cubicBezTo>
                  <a:pt x="76" y="364"/>
                  <a:pt x="28" y="511"/>
                  <a:pt x="18" y="600"/>
                </a:cubicBezTo>
                <a:cubicBezTo>
                  <a:pt x="8" y="689"/>
                  <a:pt x="30" y="725"/>
                  <a:pt x="36" y="798"/>
                </a:cubicBezTo>
                <a:cubicBezTo>
                  <a:pt x="42" y="871"/>
                  <a:pt x="60" y="963"/>
                  <a:pt x="54" y="1038"/>
                </a:cubicBezTo>
                <a:cubicBezTo>
                  <a:pt x="48" y="1113"/>
                  <a:pt x="11" y="1205"/>
                  <a:pt x="0" y="1248"/>
                </a:cubicBezTo>
              </a:path>
            </a:pathLst>
          </a:custGeom>
          <a:noFill/>
          <a:ln w="38160">
            <a:solidFill>
              <a:srgbClr val="00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71500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islands and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healed’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good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43400" y="4572000"/>
            <a:ext cx="14479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495320" y="1828440"/>
            <a:ext cx="1295640" cy="399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952880"/>
            <a:ext cx="335268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l adju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move resonan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ot to 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20040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15280" y="4572000"/>
            <a:ext cx="371520" cy="228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C578-8EA2-4E2B-9B3D-BCDF2F993A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l healing is required becaus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lasma and coils are designed using optimization routines that shape plasma boundary to achieve desired physics, while satisfying engineering constraints on coil geometry.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ee Strickler IAEA-CN-94/FT/P2-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ast equilibrium codes (in particular VMEC) presuppose perfect nested magnetic surfac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ence &amp; size of magnetic islands cannot be addre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plasma and coil optimization, the coil geometry is modified to suppress the spectrum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.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evant to island formation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is procedure is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il-he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il-healing must not degrade the optimized plasma properties  (ideal stability, quasi-axisymmetry, aspect ratio,  . . .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il-healing must not violate engineering constra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C425-C022-4E66-B1CF-80830BF1F6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990720"/>
            <a:ext cx="4302000" cy="3962160"/>
          </a:xfrm>
          <a:prstGeom prst="rect">
            <a:avLst/>
          </a:prstGeom>
          <a:solidFill>
            <a:srgbClr val="cee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5480" y="1508040"/>
            <a:ext cx="3324240" cy="1768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808760" cy="82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quilibrium calculation and coil healing proceed simultaneously via an iterative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447920"/>
            <a:ext cx="32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50120" y="1905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51560" y="2362320"/>
            <a:ext cx="23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26800" y="2819520"/>
            <a:ext cx="33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3560" y="3276720"/>
            <a:ext cx="28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5400" y="3809880"/>
            <a:ext cx="25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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9680" y="4343400"/>
            <a:ext cx="25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105520"/>
            <a:ext cx="6019920" cy="838080"/>
          </a:xfrm>
          <a:prstGeom prst="roundRect">
            <a:avLst>
              <a:gd name="adj" fmla="val 16667"/>
            </a:avLst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iteration, the coil geometry is adj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ncel the resonan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6095880"/>
            <a:ext cx="8077320" cy="609840"/>
          </a:xfrm>
          <a:prstGeom prst="roundRect">
            <a:avLst>
              <a:gd name="adj" fmla="val 16667"/>
            </a:avLst>
          </a:prstGeom>
          <a:solidFill>
            <a:srgbClr val="cee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iteration inde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;  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 field    ;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 field   ;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il geometry harmonics 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.99 blending parameter     ;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i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pling matri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4640" y="990720"/>
            <a:ext cx="4321440" cy="39888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PIES/healing iteration is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241880"/>
            <a:ext cx="250164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il geometry adju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784680"/>
            <a:ext cx="304272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nant fields function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327480"/>
            <a:ext cx="243000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ly integrabl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2680" y="1498680"/>
            <a:ext cx="333684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field = plasma + coil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29800" y="1955880"/>
            <a:ext cx="265428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plasma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0880" y="2413080"/>
            <a:ext cx="239832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plasma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25840" y="2870280"/>
            <a:ext cx="340092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nding for numeric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8640" y="1557360"/>
            <a:ext cx="636840" cy="3166920"/>
          </a:xfrm>
          <a:custGeom>
            <a:avLst/>
            <a:gdLst/>
            <a:ahLst/>
            <a:rect l="l" t="t" r="r" b="b"/>
            <a:pathLst>
              <a:path w="401" h="1995">
                <a:moveTo>
                  <a:pt x="383" y="1929"/>
                </a:moveTo>
                <a:cubicBezTo>
                  <a:pt x="328" y="1894"/>
                  <a:pt x="106" y="1995"/>
                  <a:pt x="53" y="1719"/>
                </a:cubicBezTo>
                <a:cubicBezTo>
                  <a:pt x="0" y="1443"/>
                  <a:pt x="7" y="546"/>
                  <a:pt x="65" y="273"/>
                </a:cubicBezTo>
                <a:cubicBezTo>
                  <a:pt x="123" y="0"/>
                  <a:pt x="331" y="121"/>
                  <a:pt x="401" y="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13320" y="17524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13320" y="213372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13320" y="26668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3320" y="31240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3320" y="35812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13320" y="40384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3320" y="457200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898560"/>
            <a:ext cx="3124080" cy="5493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d on the PIE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984240"/>
            <a:ext cx="1362240" cy="539640"/>
          </a:xfrm>
          <a:custGeom>
            <a:avLst/>
            <a:gdLst/>
            <a:ahLst/>
            <a:rect l="l" t="t" r="r" b="b"/>
            <a:pathLst>
              <a:path w="858" h="340">
                <a:moveTo>
                  <a:pt x="858" y="160"/>
                </a:moveTo>
                <a:cubicBezTo>
                  <a:pt x="816" y="139"/>
                  <a:pt x="694" y="46"/>
                  <a:pt x="606" y="28"/>
                </a:cubicBezTo>
                <a:cubicBezTo>
                  <a:pt x="518" y="10"/>
                  <a:pt x="431" y="0"/>
                  <a:pt x="330" y="52"/>
                </a:cubicBezTo>
                <a:cubicBezTo>
                  <a:pt x="229" y="104"/>
                  <a:pt x="69" y="280"/>
                  <a:pt x="0" y="340"/>
                </a:cubicBezTo>
              </a:path>
            </a:pathLst>
          </a:custGeom>
          <a:noFill/>
          <a:ln w="76320">
            <a:solidFill>
              <a:srgbClr val="ff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4863-DC60-498E-91B1-3CF51D0974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erturbation" descr=""/>
          <p:cNvPicPr/>
          <p:nvPr/>
        </p:nvPicPr>
        <p:blipFill>
          <a:blip r:embed="rId1"/>
          <a:stretch/>
        </p:blipFill>
        <p:spPr>
          <a:xfrm>
            <a:off x="0" y="2600280"/>
            <a:ext cx="9144000" cy="4257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867280"/>
            <a:ext cx="8001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rfaces are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atic-flux minimizing surfaces may be thought of as rational rotational transform flux surfaces of a nearby field with good flux surfaces.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war, Hudson &amp; Price.Physics Letters A, 194:49, 1994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udson &amp; Dewar, Physics of Plasmas 6(5):1532,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nant normal fields at the rational surfaces form islands, and island overlap causes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nd suppression achieved by suppression of resonant fiel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60199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60199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6019920"/>
            <a:ext cx="3045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60199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nd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1722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BB62-4A92-436F-AF34-CA82ADBE6C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eld normal to the rational surface is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QuadraticFluxMinimizingSurface" descr=""/>
          <p:cNvPicPr/>
          <p:nvPr/>
        </p:nvPicPr>
        <p:blipFill>
          <a:blip r:embed="rId1"/>
          <a:stretch/>
        </p:blipFill>
        <p:spPr>
          <a:xfrm>
            <a:off x="995400" y="838080"/>
            <a:ext cx="7462800" cy="5840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6005520"/>
            <a:ext cx="274320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025" y="15169"/>
                </a:moveTo>
                <a:lnTo>
                  <a:pt x="22200" y="3957"/>
                </a:lnTo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 section (black l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es through is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1581120"/>
            <a:ext cx="26672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071" y="-17888"/>
                </a:moveTo>
                <a:lnTo>
                  <a:pt x="22217" y="4000"/>
                </a:lnTo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e plot 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d do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838080"/>
            <a:ext cx="2514600" cy="586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560" y="618660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19720" y="4267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724280"/>
            <a:ext cx="46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190760" y="4267080"/>
            <a:ext cx="223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876920"/>
            <a:ext cx="3200400" cy="76176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give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 resonant nor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is a function of coil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946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3505320"/>
            <a:ext cx="7596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124080"/>
            <a:ext cx="1676520" cy="405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40388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402264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572000"/>
            <a:ext cx="152280" cy="152280"/>
          </a:xfrm>
          <a:prstGeom prst="parallelogram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91440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lustr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dratic-flux-minimizing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3856-044E-43AC-A1D9-748AF0F48C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8120" y="4281480"/>
            <a:ext cx="1828800" cy="671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747960"/>
            <a:ext cx="1828800" cy="671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nant fields are cancelled by coil-adjustmen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constraints and plasma stability is preser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il-coil separation and coil minimum radius of curvature are functions of coil-geometr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stability (kink, ballooning) are functions of free-boundary equilibrium, which in turn is a function of coil-geometr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sired solution 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8719400">
            <a:off x="1638000" y="3161880"/>
            <a:ext cx="152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2767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/plasma resonan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809880"/>
            <a:ext cx="45720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38098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ering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3434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405320"/>
            <a:ext cx="45720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200400"/>
            <a:ext cx="1828800" cy="671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43000" y="3138480"/>
                <a:ext cx="388944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267080" y="41148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47242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95288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EDD6-3921-4171-9364-CB0D1E86C8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4800600"/>
            <a:ext cx="8229600" cy="175248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12880"/>
            <a:ext cx="762120" cy="496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533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numerical methods find solu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rder expansion for small changes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ulti-dimensional Newton method solves for the coil correction to cancel the resonant fields at the rational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il geometry is adjusted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ach PIES iteration, the coils are adjusted to remove resonant fiel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he iterations proceed, the coil field and plasma field converge to an equilibrium with selected islands suppre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22560" y="1712880"/>
                <a:ext cx="3328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δξ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35480" y="3124080"/>
                <a:ext cx="25556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∇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ξ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876920" y="4114800"/>
            <a:ext cx="167616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F3EB-D06F-4581-8D78-13D81E072F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17:16:17Z</dcterms:created>
  <dc:creator>shudson</dc:creator>
  <dc:description/>
  <dc:language>en-US</dc:language>
  <cp:lastModifiedBy>shudson</cp:lastModifiedBy>
  <dcterms:modified xsi:type="dcterms:W3CDTF">2002-10-11T15:24:56Z</dcterms:modified>
  <cp:revision>90</cp:revision>
  <dc:subject/>
  <dc:title>Stellarator Island Healing</dc:title>
</cp:coreProperties>
</file>