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15D-2B58-474B-A5D4-020C9E76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9D4-769E-4FC5-8DFE-F56BBC5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860-396A-482F-B359-9631A952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9E3-D9ED-4FA8-8732-EE7FB818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385-49DE-48C8-8B8B-0E3FC243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0CB-DECE-4C89-9AC1-2EEE9967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4CD-25FC-4D25-9311-E3C9F599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152-6C19-48F7-ABD5-D8481495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C90-34D6-44BF-9C2D-A0026BA1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053-CBB0-4ABA-930F-4F96394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B3F-6609-4DC5-B6AC-349302D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1A5-3BED-43CA-98F3-30235596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C302-4848-4B29-88FF-C5D42C9F7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luence of pressure-gradient and average-shear on ballooning stability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i-analytic expression for ballooning 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.C.Heg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.Nakajim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.Wa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1) Princeton Plasma Physics Laboratory, P.O. Box 451,Princeton NJ 08543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2) Department of Engineering Physics, University of Wisconsin-Madison, WI 53706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3) National Institute for Fusion Science, Nagoya 464-01,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4) Department of Physics and Astronomy, University of Montana, Missoula, MT, 598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0000"/>
                </a:solidFill>
                <a:uFillTx/>
                <a:latin typeface="Verdana"/>
              </a:rPr>
              <a:t>JP1.053 : 46</a:t>
            </a:r>
            <a:r>
              <a:rPr b="0" lang="en-US" sz="1400" spc="-1" strike="noStrike" u="sng" baseline="30000">
                <a:solidFill>
                  <a:srgbClr val="330000"/>
                </a:solidFill>
                <a:uFillTx/>
                <a:latin typeface="Verdana"/>
              </a:rPr>
              <a:t>th</a:t>
            </a:r>
            <a:r>
              <a:rPr b="0" lang="en-US" sz="1400" spc="-1" strike="noStrike" u="sng">
                <a:solidFill>
                  <a:srgbClr val="330000"/>
                </a:solidFill>
                <a:uFillTx/>
                <a:latin typeface="Verdana"/>
              </a:rPr>
              <a:t> Annual Meeting of the Division of Plasma Physics, Savannah Geor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bility boundary is verified by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obal equilibrium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37160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quence of increasing pressure equilibria is constructed with VM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 boundary, fixed current 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=0.3 surface, the ballooning stability is re-calc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d with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+, stable or u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ginal stability diagram is constru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original equilibrium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: exact solution to perturbed eq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ted : from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analytic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The stability diagram gives good prediction of global stability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3b15%202nd%20order%20comparison%20with%20global%202" descr=""/>
          <p:cNvPicPr/>
          <p:nvPr/>
        </p:nvPicPr>
        <p:blipFill>
          <a:blip r:embed="rId1"/>
          <a:stretch/>
        </p:blipFill>
        <p:spPr>
          <a:xfrm>
            <a:off x="4876920" y="1440000"/>
            <a:ext cx="3809880" cy="38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47712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124080"/>
            <a:ext cx="28195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438280"/>
            <a:ext cx="990720" cy="381240"/>
          </a:xfrm>
          <a:prstGeom prst="leftRightArrow">
            <a:avLst>
              <a:gd name="adj1" fmla="val 50000"/>
              <a:gd name="adj2" fmla="val 517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24382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99880" y="24382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25E-ACAF-420A-8053-323549166B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general, need higher order terms . 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D-like configuration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SX-lik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563868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  : exact (numerical) solution to perturbed ballooning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tted : from analytic expression (2nd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shed : from analytic expression (4th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hd-like" descr=""/>
          <p:cNvPicPr/>
          <p:nvPr/>
        </p:nvPicPr>
        <p:blipFill>
          <a:blip r:embed="rId1"/>
          <a:stretch/>
        </p:blipFill>
        <p:spPr>
          <a:xfrm>
            <a:off x="304920" y="1378080"/>
            <a:ext cx="4267080" cy="4260600"/>
          </a:xfrm>
          <a:prstGeom prst="rect">
            <a:avLst/>
          </a:prstGeom>
          <a:ln w="0">
            <a:noFill/>
          </a:ln>
        </p:spPr>
      </p:pic>
      <p:pic>
        <p:nvPicPr>
          <p:cNvPr id="135" name="ncsx-like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17672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F08-6F6D-48E7-9212-1AE77AF8E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ytic expression describing the dependence of the ballooning growth rate on pressure-gradient and shear variations is der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agrees well with the exact numerical solution to the perturbed ballooning equation, and agrees with stability boundaries computed with global equilibrium reco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determin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ressure-gradient is stabilizing or destabi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 may be of use in stellarator optimization routines and enable deeper insight into mechanism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D60-205C-463C-A56B-F39A3801CE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work o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in stellarators has show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ARE et al., PRL 2002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HEGNA &amp; HUDSON, PRL 2001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le reg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perty of the configuration determin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5812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 of profile vari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NE &amp; CHANCE, NF 198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is applied to stellarator configur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GNA &amp; NAKAJIMA, PoP 19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 variations (and the self-consistent coordinate response) produce variations in the ballooning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perturbation theory is used to obtain an analytic expression for th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llooning growth rate,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function of the pressure-gradient and average-shear: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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,p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constant geometry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tic expression determines if pressure-gradient is stabilizing or destabilizing, and 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8EA-F93C-4848-8D28-A025D3EA3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 approaches will be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reconstr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ary p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VMEC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-var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REENE&amp;CHANCE,198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uct semi-analytic equilib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extension of profile-vari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057400"/>
            <a:ext cx="2971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21240" y="3352680"/>
          <a:ext cx="10152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52680"/>
                    <a:ext cx="1015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486400" y="4952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848040" y="331416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648400" y="3286080"/>
          <a:ext cx="259884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8400" y="3286080"/>
                    <a:ext cx="2598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480" y="4495680"/>
            <a:ext cx="4267440" cy="1371600"/>
          </a:xfrm>
          <a:prstGeom prst="wedgeRoundRectCallout">
            <a:avLst>
              <a:gd name="adj1" fmla="val 74180"/>
              <a:gd name="adj2" fmla="val 5995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0199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to be descri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219-CC83-407A-9FC2-49DFD0011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essure-gradient and average-shear profiles are vari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ethod of profile vari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begin with a full solution to an MHD equilibriu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M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alytic vari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mpo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rmally small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urfac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 in the gradients is zero-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e parameters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208480" y="2209680"/>
          <a:ext cx="294660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2209680"/>
                    <a:ext cx="29466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7AC-AF26-4592-A369-A820FFA69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4038480"/>
            <a:ext cx="3124080" cy="304920"/>
          </a:xfrm>
          <a:prstGeom prst="wedgeRoundRectCallout">
            <a:avLst>
              <a:gd name="adj1" fmla="val -71240"/>
              <a:gd name="adj2" fmla="val 107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r will keep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 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elf-consistent coordinate response is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ordinates are similarly adjusted to preserv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zero 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local shear is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quation i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at the surface of inter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for arbitrarily large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efficients are determined by the original equilibr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1371600"/>
          <a:ext cx="591156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9115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17880" y="3025800"/>
          <a:ext cx="46339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7880" y="3025800"/>
                    <a:ext cx="46339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52280" y="5638680"/>
          <a:ext cx="883944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638680"/>
                    <a:ext cx="8839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920" y="5105520"/>
          <a:ext cx="129528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105520"/>
                    <a:ext cx="1295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419720" y="5029200"/>
          <a:ext cx="419076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02920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914400" y="2071800"/>
          <a:ext cx="71834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2071800"/>
                    <a:ext cx="71834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5CF-B8E7-46D6-974C-5C0695A612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oefficients of the ballooning equation ar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20600" y="990720"/>
          <a:ext cx="7437600" cy="54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990720"/>
                    <a:ext cx="743760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791320" y="3505320"/>
            <a:ext cx="3124080" cy="609480"/>
          </a:xfrm>
          <a:prstGeom prst="wedgeRoundRectCallout">
            <a:avLst>
              <a:gd name="adj1" fmla="val -50356"/>
              <a:gd name="adj2" fmla="val 1117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be resolved numericall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further analytic progres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593-AF6D-45C3-9C72-6AA6E58D2D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genvalue perturbation theory gives analytic expression for change in ballooning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1424160"/>
          <a:ext cx="80359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4160"/>
                    <a:ext cx="80359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87226"/>
              <a:gd name="adj2" fmla="val 744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419720"/>
            <a:ext cx="1752480" cy="304560"/>
          </a:xfrm>
          <a:prstGeom prst="wedgeRoundRectCallout">
            <a:avLst>
              <a:gd name="adj1" fmla="val -53712"/>
              <a:gd name="adj2" fmla="val -14635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r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73550"/>
              <a:gd name="adj2" fmla="val -536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828800"/>
            <a:ext cx="75438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A54-98F6-47A1-A070-ADB80FD6E2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theory determines . . 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creased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is stabilizing or destabiliz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 if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ble region will exist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05120"/>
          <a:ext cx="5654520" cy="20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56545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990720" y="2743200"/>
            <a:ext cx="6172200" cy="533520"/>
          </a:xfrm>
          <a:prstGeom prst="wedgeRoundRectCallout">
            <a:avLst>
              <a:gd name="adj1" fmla="val 17412"/>
              <a:gd name="adj2" fmla="val -4970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id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general, need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. ,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33520" y="3962520"/>
            <a:ext cx="7848360" cy="2666520"/>
            <a:chOff x="533520" y="3962520"/>
            <a:chExt cx="7848360" cy="2666520"/>
          </a:xfrm>
        </p:grpSpPr>
        <p:sp>
          <p:nvSpPr>
            <p:cNvPr id="94" name=""/>
            <p:cNvSpPr/>
            <p:nvPr/>
          </p:nvSpPr>
          <p:spPr>
            <a:xfrm flipV="1">
              <a:off x="3429000" y="4114800"/>
              <a:ext cx="3809880" cy="2286000"/>
            </a:xfrm>
            <a:custGeom>
              <a:avLst/>
              <a:gdLst/>
              <a:ahLst/>
              <a:rect l="l" t="t" r="r" b="b"/>
              <a:pathLst>
                <a:path w="3264" h="2224">
                  <a:moveTo>
                    <a:pt x="0" y="96"/>
                  </a:moveTo>
                  <a:cubicBezTo>
                    <a:pt x="544" y="1160"/>
                    <a:pt x="1088" y="2224"/>
                    <a:pt x="1632" y="2208"/>
                  </a:cubicBezTo>
                  <a:cubicBezTo>
                    <a:pt x="2176" y="2192"/>
                    <a:pt x="2992" y="368"/>
                    <a:pt x="326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5257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533520" y="4800600"/>
            <a:ext cx="1415880" cy="95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800600"/>
                      <a:ext cx="141588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 flipV="1">
              <a:off x="2133720" y="39625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1847880" y="3962520"/>
            <a:ext cx="2858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47880" y="3962520"/>
                      <a:ext cx="2858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8016840" y="5334120"/>
            <a:ext cx="36504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16840" y="5334120"/>
                      <a:ext cx="3650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 flipV="1">
              <a:off x="5334120" y="4114440"/>
              <a:ext cx="0" cy="2514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5486400" y="5504040"/>
            <a:ext cx="669960" cy="591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5504040"/>
                      <a:ext cx="6699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4587840" y="5504040"/>
            <a:ext cx="669960" cy="59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87840" y="5504040"/>
                      <a:ext cx="6699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5486400" y="5334120"/>
              <a:ext cx="762120" cy="304560"/>
            </a:xfrm>
            <a:prstGeom prst="rightArrow">
              <a:avLst>
                <a:gd name="adj1" fmla="val 50000"/>
                <a:gd name="adj2" fmla="val 625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343400" y="5334120"/>
              <a:ext cx="838080" cy="304560"/>
            </a:xfrm>
            <a:prstGeom prst="rightArrow">
              <a:avLst>
                <a:gd name="adj1" fmla="val 50000"/>
                <a:gd name="adj2" fmla="val 687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03848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47712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4724280"/>
              <a:ext cx="2438640" cy="457200"/>
            </a:xfrm>
            <a:prstGeom prst="leftRightArrow">
              <a:avLst>
                <a:gd name="adj1" fmla="val 50000"/>
                <a:gd name="adj2" fmla="val 10618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4724280"/>
              <a:ext cx="1523880" cy="457200"/>
            </a:xfrm>
            <a:prstGeom prst="rightArrow">
              <a:avLst>
                <a:gd name="adj1" fmla="val 50000"/>
                <a:gd name="adj2" fmla="val 833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209680" y="4724280"/>
              <a:ext cx="1828800" cy="4572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2913120" y="4495680"/>
            <a:ext cx="592200" cy="346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13120" y="4495680"/>
                      <a:ext cx="59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5033880" y="4495680"/>
            <a:ext cx="617760" cy="346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33880" y="4495680"/>
                      <a:ext cx="6177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6799320" y="4495680"/>
            <a:ext cx="592200" cy="346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99320" y="4495680"/>
                      <a:ext cx="59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90A-34B8-4CDC-B6BC-411EB93F9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ginal stability boundary : quasi-poloida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3b15.6.ip010" descr=""/>
          <p:cNvPicPr/>
          <p:nvPr/>
        </p:nvPicPr>
        <p:blipFill>
          <a:blip r:embed="rId1"/>
          <a:stretch/>
        </p:blipFill>
        <p:spPr>
          <a:xfrm>
            <a:off x="5029200" y="12366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121932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si-poloidal configuration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RE et al. PRL, 200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d curve is stability boundary determined by exactly re-solving ballooning equation on grid 200x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tted curve from analytic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ing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der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gle eigenfunction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alytic expression accurately reproduces exact stability bound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60E-693E-4CBF-958B-B6D57DD5CA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2:37:09Z</dcterms:created>
  <dc:creator>shudson</dc:creator>
  <dc:description/>
  <dc:language>en-US</dc:language>
  <cp:lastModifiedBy>shudson</cp:lastModifiedBy>
  <dcterms:modified xsi:type="dcterms:W3CDTF">2004-11-10T15:04:13Z</dcterms:modified>
  <cp:revision>205</cp:revision>
  <dc:subject/>
  <dc:title>Influence of pressure-gradient and average-shear on ballooning stability</dc:title>
</cp:coreProperties>
</file>