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1.jpeg" ContentType="image/jpeg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22.jpeg" ContentType="image/jpeg"/>
  <Override PartName="/ppt/media/image14.wmf" ContentType="image/x-wmf"/>
  <Override PartName="/ppt/media/image23.jpeg" ContentType="image/jpeg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58A8-E740-42EA-92F3-1590151E2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19F5-0C13-404F-ADD1-E40FD6441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DA91-DE11-4079-8B1E-FA39C127C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9768-81ED-4245-B5BE-AAEF6F576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9EB1-A8F6-4DF8-9BB8-2FA6A34CD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205B-8477-4B0A-95D1-800C841D0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941D-493C-42F9-BFB2-FD3D03B75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8E46-96A9-45CA-8C76-210895D78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2F79-85C9-47E0-86D1-E6CB5A583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48CA-C966-4A38-B983-3A9160B3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2776-D54E-4A00-A8A0-7A32FA3F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125F-25B8-46BD-9313-A35777B5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152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674C0-C953-462E-A0E3-0282B51595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8.wmf"/><Relationship Id="rId1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4582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fluence of pressure-gradient and average-shear on ballooning stability</a:t>
            </a:r>
            <a:br>
              <a:rPr sz="3600"/>
            </a:br>
            <a:br>
              <a:rPr sz="36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mi-analytic expression for ballooning growth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34286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.R.Hudso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.C.Hegn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N.Nakajim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A.War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MTI9"/>
              </a:rPr>
              <a:t>1) Princeton Plasma Physics Laboratory, P.O. Box 451,Princeton NJ 08543, US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MTI9"/>
              </a:rPr>
              <a:t>2) Department of Engineering Physics, University of Wisconsin-Madison, WI 53706, US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MTI9"/>
              </a:rPr>
              <a:t>3) National Institute for Fusion Science, Nagoya 464-01, Japa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MTI9"/>
              </a:rPr>
              <a:t>4) Department of Physics and Astronomy, University of Montana, Missoula, MT, 59812, US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85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330000"/>
                </a:solidFill>
                <a:uFillTx/>
                <a:latin typeface="Verdana"/>
              </a:rPr>
              <a:t>JP1.053 : 46</a:t>
            </a:r>
            <a:r>
              <a:rPr b="0" lang="en-US" sz="1400" spc="-1" strike="noStrike" u="sng" baseline="30000">
                <a:solidFill>
                  <a:srgbClr val="330000"/>
                </a:solidFill>
                <a:uFillTx/>
                <a:latin typeface="Verdana"/>
              </a:rPr>
              <a:t>th</a:t>
            </a:r>
            <a:r>
              <a:rPr b="0" lang="en-US" sz="1400" spc="-1" strike="noStrike" u="sng">
                <a:solidFill>
                  <a:srgbClr val="330000"/>
                </a:solidFill>
                <a:uFillTx/>
                <a:latin typeface="Verdana"/>
              </a:rPr>
              <a:t> Annual Meeting of the Division of Plasma Physics, Savannah Georg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ability boundary is verified by 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lobal equilibrium reco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1371600"/>
            <a:ext cx="44956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equence of increasing pressure equilibria is constructed with VM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xed boundary, fixed current pro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s=0.3 surface, the ballooning stability is re-calcu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dicated with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+, stable or uns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arginal stability diagram is constru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original equilibrium 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id : exact solution to perturbed eq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tted : from 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der analytic expre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The stability diagram gives good prediction of global stability bound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m3b15%202nd%20order%20comparison%20with%20global%202" descr=""/>
          <p:cNvPicPr/>
          <p:nvPr/>
        </p:nvPicPr>
        <p:blipFill>
          <a:blip r:embed="rId1"/>
          <a:stretch/>
        </p:blipFill>
        <p:spPr>
          <a:xfrm>
            <a:off x="4876920" y="1440000"/>
            <a:ext cx="3809880" cy="3894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477120" y="29718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581280" y="3124080"/>
            <a:ext cx="281952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72200" y="2438280"/>
            <a:ext cx="990720" cy="381240"/>
          </a:xfrm>
          <a:prstGeom prst="leftRightArrow">
            <a:avLst>
              <a:gd name="adj1" fmla="val 50000"/>
              <a:gd name="adj2" fmla="val 51733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s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315200" y="2438280"/>
            <a:ext cx="1066680" cy="381240"/>
          </a:xfrm>
          <a:prstGeom prst="rightArrow">
            <a:avLst>
              <a:gd name="adj1" fmla="val 50000"/>
              <a:gd name="adj2" fmla="val 6994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s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4799880" y="2438280"/>
            <a:ext cx="1219320" cy="381240"/>
          </a:xfrm>
          <a:prstGeom prst="rightArrow">
            <a:avLst>
              <a:gd name="adj1" fmla="val 50000"/>
              <a:gd name="adj2" fmla="val 7995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s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FDBB-84D3-4136-8EFE-724270D870E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general, need higher order terms . . </a:t>
            </a:r>
            <a:br>
              <a:rPr sz="2400"/>
            </a:b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HD-like configuration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CSX-like 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90720" y="5638680"/>
            <a:ext cx="7391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lid   : exact (numerical) solution to perturbed ballooning eq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tted : from analytic expression (2nd ord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shed : from analytic expression (4th ord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lhd-like" descr=""/>
          <p:cNvPicPr/>
          <p:nvPr/>
        </p:nvPicPr>
        <p:blipFill>
          <a:blip r:embed="rId1"/>
          <a:stretch/>
        </p:blipFill>
        <p:spPr>
          <a:xfrm>
            <a:off x="304920" y="1378080"/>
            <a:ext cx="4267080" cy="4260600"/>
          </a:xfrm>
          <a:prstGeom prst="rect">
            <a:avLst/>
          </a:prstGeom>
          <a:ln w="0">
            <a:noFill/>
          </a:ln>
        </p:spPr>
      </p:pic>
      <p:pic>
        <p:nvPicPr>
          <p:cNvPr id="135" name="ncsx-like" descr=""/>
          <p:cNvPicPr/>
          <p:nvPr/>
        </p:nvPicPr>
        <p:blipFill>
          <a:blip r:embed="rId2"/>
          <a:stretch/>
        </p:blipFill>
        <p:spPr>
          <a:xfrm>
            <a:off x="4572000" y="1371600"/>
            <a:ext cx="4176720" cy="42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C9ED-EC10-4B2C-ADED-BD776B42F95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nalytic expression describing the dependence of the ballooning growth rate on pressure-gradient and shear variations is deri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xpression agrees well with the exact numerical solution to the perturbed ballooning equation, and agrees with stability boundaries computed with global equilibrium reconstru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xpression determin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pressure-gradient is stabilizing or destabiliz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ggests if a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able region will ex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ry may be of use in stellarator optimization routines and enable deeper insight into mechanism of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abi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57CF-2A00-40B6-B302-C9F40290512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837720"/>
            <a:ext cx="80773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nt work o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ability in stellarators has shown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stellarators 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WARE et al., PRL 2002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stellarators do n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HEGNA &amp; HUDSON, PRL 2001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ess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able reg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property of the configuration determines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abilit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9718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358128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ethod of profile variations [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EENE &amp; CHANCE, NF 198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 is applied to stellarator configurations [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EGNA &amp; NAKAJIMA, PoP 199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file variations (and the self-consistent coordinate response) produce variations in the ballooning coeffici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igenvalue perturbation theory is used to obtain an analytic expression for the 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ballooning growth rate, </a:t>
            </a:r>
            <a:r>
              <a:rPr b="0" i="1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a function of the pressure-gradient and average-shear: </a:t>
            </a:r>
            <a:r>
              <a:rPr b="0" i="1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= </a:t>
            </a:r>
            <a:r>
              <a:rPr b="0" i="1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 (</a:t>
            </a:r>
            <a:r>
              <a:rPr b="0" i="1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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'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 ,p 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'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or constant geometry)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nalytic expression determines if pressure-gradient is stabilizing or destabilizing, and suggests if a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able region will ex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C032-D248-44D4-B229-9ABEC41DB3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ree approaches will be comp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4572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librium reconstru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ultipl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quilibrium calcu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vary p'(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&amp;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(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 VMEC)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ultipl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allooning calcu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le-vari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GREENE&amp;CHANCE,198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singl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quilibrium calc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struct semi-analytic equilibri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ultipl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allooning calcu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tic 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extension of profile-variatio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singl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quilibrium calc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singl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allooning calc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2057400"/>
            <a:ext cx="2971800" cy="28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21240" y="3352680"/>
          <a:ext cx="101520" cy="15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1240" y="3352680"/>
                    <a:ext cx="101520" cy="1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5486400" y="49528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sure grad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3848040" y="331416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 sh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648400" y="3286080"/>
          <a:ext cx="2598840" cy="47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48400" y="3286080"/>
                    <a:ext cx="259884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609480" y="4495680"/>
            <a:ext cx="4267440" cy="1371600"/>
          </a:xfrm>
          <a:prstGeom prst="wedgeRoundRectCallout">
            <a:avLst>
              <a:gd name="adj1" fmla="val 74180"/>
              <a:gd name="adj2" fmla="val 5995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95680" y="6019920"/>
            <a:ext cx="2971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to be describ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8E6D-689C-4AF4-B354-B2D1FAF4E9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essure-gradient and average-shear profiles are varied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method of profile varia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begin with a full solution to an MHD equilibrium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VM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analytic variation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amp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impos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formally small param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surface of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tion in the gradients is zero-order in </a:t>
            </a:r>
            <a:r>
              <a:rPr b="0" i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free parameters (</a:t>
            </a: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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208480" y="2209680"/>
          <a:ext cx="2946600" cy="347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8480" y="2209680"/>
                    <a:ext cx="2946600" cy="34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2F83-4E70-41E3-9445-44EAC1A2D7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791320" y="4038480"/>
            <a:ext cx="3124080" cy="304920"/>
          </a:xfrm>
          <a:prstGeom prst="wedgeRoundRectCallout">
            <a:avLst>
              <a:gd name="adj1" fmla="val -71240"/>
              <a:gd name="adj2" fmla="val 10729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ter will keep (</a:t>
            </a:r>
            <a:r>
              <a:rPr b="0" i="1" lang="en-US" sz="1400" spc="-1" strike="noStrike">
                <a:solidFill>
                  <a:srgbClr val="3333cc"/>
                </a:solidFill>
                <a:latin typeface="Symbol"/>
                <a:ea typeface="Symbol"/>
              </a:rPr>
              <a:t></a:t>
            </a:r>
            <a:r>
              <a:rPr b="0" i="1" lang="en-US" sz="1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'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(</a:t>
            </a:r>
            <a:r>
              <a:rPr b="0" i="1" lang="en-US" sz="1400" spc="-1" strike="noStrike">
                <a:solidFill>
                  <a:srgbClr val="3333cc"/>
                </a:solidFill>
                <a:latin typeface="Symbol"/>
                <a:ea typeface="Symbol"/>
              </a:rPr>
              <a:t></a:t>
            </a:r>
            <a:r>
              <a:rPr b="0" i="1" lang="en-US" sz="1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' </a:t>
            </a:r>
            <a:r>
              <a:rPr b="0" i="1" lang="en-US" sz="14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i="1" lang="en-US" sz="1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1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'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0" i="1" lang="en-US" sz="14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i="1" lang="en-US" sz="1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1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'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self-consistent coordinate response is determ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ordinates are similarly adjusted to preserve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=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zero order in </a:t>
            </a:r>
            <a:r>
              <a:rPr b="0" i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the local shear is chan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equation is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ct at the surface of intere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id for arbitrarily large (</a:t>
            </a: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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efficients are determined by the original equilibriu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676520" y="1371600"/>
          <a:ext cx="5911560" cy="5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371600"/>
                    <a:ext cx="591156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2117880" y="3025800"/>
          <a:ext cx="4633920" cy="63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17880" y="3025800"/>
                    <a:ext cx="463392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152280" y="5638680"/>
          <a:ext cx="8839440" cy="1052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5638680"/>
                    <a:ext cx="8839440" cy="10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04920" y="5105520"/>
          <a:ext cx="1295280" cy="573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5105520"/>
                    <a:ext cx="129528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4419720" y="5029200"/>
          <a:ext cx="4190760" cy="596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19720" y="5029200"/>
                    <a:ext cx="41907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914400" y="2071800"/>
          <a:ext cx="7183440" cy="442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14400" y="2071800"/>
                    <a:ext cx="71834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5984-9B00-45B8-BD07-0FC2CDEEDAA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coefficients of the ballooning equation are chan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020600" y="990720"/>
          <a:ext cx="7437600" cy="540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0600" y="990720"/>
                    <a:ext cx="7437600" cy="540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791320" y="3505320"/>
            <a:ext cx="3124080" cy="609480"/>
          </a:xfrm>
          <a:prstGeom prst="wedgeRoundRectCallout">
            <a:avLst>
              <a:gd name="adj1" fmla="val -50356"/>
              <a:gd name="adj2" fmla="val 111717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y be resolved numerically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t further analytic progress poss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193E-1EAF-4D0D-A4E9-C8CDA1CF266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igenvalue perturbation theory gives analytic expression for change in ballooning growth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85800" y="1424160"/>
          <a:ext cx="8035920" cy="520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24160"/>
                    <a:ext cx="8035920" cy="52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6858000" y="4800600"/>
            <a:ext cx="1752480" cy="304920"/>
          </a:xfrm>
          <a:prstGeom prst="wedgeRoundRectCallout">
            <a:avLst>
              <a:gd name="adj1" fmla="val -87226"/>
              <a:gd name="adj2" fmla="val 74481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perator inver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4419720"/>
            <a:ext cx="1752480" cy="304560"/>
          </a:xfrm>
          <a:prstGeom prst="wedgeRoundRectCallout">
            <a:avLst>
              <a:gd name="adj1" fmla="val -53712"/>
              <a:gd name="adj2" fmla="val -146356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ner 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0" y="4800600"/>
            <a:ext cx="1752480" cy="304920"/>
          </a:xfrm>
          <a:prstGeom prst="wedgeRoundRectCallout">
            <a:avLst>
              <a:gd name="adj1" fmla="val -73550"/>
              <a:gd name="adj2" fmla="val -53648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perator inver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1828800"/>
            <a:ext cx="75438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C242-9B71-4CC8-90E5-8A08D7DED50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theory determines . . .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increased 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 is stabilizing or destabilizing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•  if 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able region will exist.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990720" y="1905120"/>
          <a:ext cx="5654520" cy="209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905120"/>
                    <a:ext cx="5654520" cy="20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990720" y="2743200"/>
            <a:ext cx="6172200" cy="533520"/>
          </a:xfrm>
          <a:prstGeom prst="wedgeRoundRectCallout">
            <a:avLst>
              <a:gd name="adj1" fmla="val 17412"/>
              <a:gd name="adj2" fmla="val -49703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id if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'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&lt;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;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 general, need (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'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(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'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. ,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533520" y="3962520"/>
            <a:ext cx="7848360" cy="2666520"/>
            <a:chOff x="533520" y="3962520"/>
            <a:chExt cx="7848360" cy="2666520"/>
          </a:xfrm>
        </p:grpSpPr>
        <p:sp>
          <p:nvSpPr>
            <p:cNvPr id="94" name=""/>
            <p:cNvSpPr/>
            <p:nvPr/>
          </p:nvSpPr>
          <p:spPr>
            <a:xfrm flipV="1">
              <a:off x="3429000" y="4114800"/>
              <a:ext cx="3809880" cy="2286000"/>
            </a:xfrm>
            <a:custGeom>
              <a:avLst/>
              <a:gdLst/>
              <a:ahLst/>
              <a:rect l="l" t="t" r="r" b="b"/>
              <a:pathLst>
                <a:path w="3264" h="2224">
                  <a:moveTo>
                    <a:pt x="0" y="96"/>
                  </a:moveTo>
                  <a:cubicBezTo>
                    <a:pt x="544" y="1160"/>
                    <a:pt x="1088" y="2224"/>
                    <a:pt x="1632" y="2208"/>
                  </a:cubicBezTo>
                  <a:cubicBezTo>
                    <a:pt x="2176" y="2192"/>
                    <a:pt x="2992" y="368"/>
                    <a:pt x="326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33720" y="5257800"/>
              <a:ext cx="617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6" name=""/>
            <p:cNvGraphicFramePr/>
            <p:nvPr/>
          </p:nvGraphicFramePr>
          <p:xfrm>
            <a:off x="533520" y="4800600"/>
            <a:ext cx="1415880" cy="950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3520" y="4800600"/>
                      <a:ext cx="1415880" cy="95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8" name=""/>
            <p:cNvSpPr/>
            <p:nvPr/>
          </p:nvSpPr>
          <p:spPr>
            <a:xfrm flipV="1">
              <a:off x="2133720" y="39625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9" name=""/>
            <p:cNvGraphicFramePr/>
            <p:nvPr/>
          </p:nvGraphicFramePr>
          <p:xfrm>
            <a:off x="1847880" y="3962520"/>
            <a:ext cx="285840" cy="380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847880" y="3962520"/>
                      <a:ext cx="28584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1" name=""/>
            <p:cNvGraphicFramePr/>
            <p:nvPr/>
          </p:nvGraphicFramePr>
          <p:xfrm>
            <a:off x="8016840" y="5334120"/>
            <a:ext cx="365040" cy="3934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016840" y="5334120"/>
                      <a:ext cx="36504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3" name=""/>
            <p:cNvSpPr/>
            <p:nvPr/>
          </p:nvSpPr>
          <p:spPr>
            <a:xfrm flipV="1">
              <a:off x="5334120" y="4114440"/>
              <a:ext cx="0" cy="25146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4" name=""/>
            <p:cNvGraphicFramePr/>
            <p:nvPr/>
          </p:nvGraphicFramePr>
          <p:xfrm>
            <a:off x="5486400" y="5504040"/>
            <a:ext cx="669960" cy="5918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486400" y="5504040"/>
                      <a:ext cx="669960" cy="59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4587840" y="5504040"/>
            <a:ext cx="669960" cy="5918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587840" y="5504040"/>
                      <a:ext cx="669960" cy="59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8" name=""/>
            <p:cNvSpPr/>
            <p:nvPr/>
          </p:nvSpPr>
          <p:spPr>
            <a:xfrm>
              <a:off x="5486400" y="5334120"/>
              <a:ext cx="762120" cy="304560"/>
            </a:xfrm>
            <a:prstGeom prst="rightArrow">
              <a:avLst>
                <a:gd name="adj1" fmla="val 50000"/>
                <a:gd name="adj2" fmla="val 6255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4343400" y="5334120"/>
              <a:ext cx="838080" cy="304560"/>
            </a:xfrm>
            <a:prstGeom prst="rightArrow">
              <a:avLst>
                <a:gd name="adj1" fmla="val 50000"/>
                <a:gd name="adj2" fmla="val 6879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4038480" y="426708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6477120" y="426708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038480" y="4724280"/>
              <a:ext cx="2438640" cy="457200"/>
            </a:xfrm>
            <a:prstGeom prst="leftRightArrow">
              <a:avLst>
                <a:gd name="adj1" fmla="val 50000"/>
                <a:gd name="adj2" fmla="val 106183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ns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477120" y="4724280"/>
              <a:ext cx="1523880" cy="457200"/>
            </a:xfrm>
            <a:prstGeom prst="rightArrow">
              <a:avLst>
                <a:gd name="adj1" fmla="val 50000"/>
                <a:gd name="adj2" fmla="val 8332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Times New Roman"/>
                </a:rPr>
                <a:t>n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209680" y="4724280"/>
              <a:ext cx="1828800" cy="457200"/>
            </a:xfrm>
            <a:prstGeom prst="rightArrow">
              <a:avLst>
                <a:gd name="adj1" fmla="val 50000"/>
                <a:gd name="adj2" fmla="val 100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Times New Roman"/>
                </a:rPr>
                <a:t>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5" name=""/>
            <p:cNvGraphicFramePr/>
            <p:nvPr/>
          </p:nvGraphicFramePr>
          <p:xfrm>
            <a:off x="2913120" y="4495680"/>
            <a:ext cx="592200" cy="3463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6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913120" y="4495680"/>
                      <a:ext cx="592200" cy="34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7" name=""/>
            <p:cNvGraphicFramePr/>
            <p:nvPr/>
          </p:nvGraphicFramePr>
          <p:xfrm>
            <a:off x="5033880" y="4495680"/>
            <a:ext cx="617760" cy="3463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033880" y="4495680"/>
                      <a:ext cx="617760" cy="34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9" name=""/>
            <p:cNvGraphicFramePr/>
            <p:nvPr/>
          </p:nvGraphicFramePr>
          <p:xfrm>
            <a:off x="6799320" y="4495680"/>
            <a:ext cx="592200" cy="3463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2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799320" y="4495680"/>
                      <a:ext cx="592200" cy="34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C572-E0C1-45FE-A790-3D48238C8B8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ginal stability boundary : quasi-poloidal 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m3b15.6.ip010" descr=""/>
          <p:cNvPicPr/>
          <p:nvPr/>
        </p:nvPicPr>
        <p:blipFill>
          <a:blip r:embed="rId1"/>
          <a:stretch/>
        </p:blipFill>
        <p:spPr>
          <a:xfrm>
            <a:off x="5029200" y="1236600"/>
            <a:ext cx="3809880" cy="37162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04920" y="1219320"/>
            <a:ext cx="44956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asi-poloidal configuration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WARE et al. PRL, 2002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able 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id curve is stability boundary determined by exactly re-solving ballooning equation on grid 200x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tted curve from analytic 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luding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rder te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ingle eigenfunction calc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analytic expression accurately reproduces exact stability bounda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775B-381D-4C11-B7F7-8D76F340775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6T12:37:09Z</dcterms:created>
  <dc:creator>shudson</dc:creator>
  <dc:description/>
  <dc:language>en-US</dc:language>
  <cp:lastModifiedBy>shudson</cp:lastModifiedBy>
  <dcterms:modified xsi:type="dcterms:W3CDTF">2004-11-10T15:04:13Z</dcterms:modified>
  <cp:revision>205</cp:revision>
  <dc:subject/>
  <dc:title>Influence of pressure-gradient and average-shear on ballooning stability</dc:title>
</cp:coreProperties>
</file>