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037-C5EC-4F13-A684-F145EFF1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BAD-9EBA-440F-A0E6-B9AEF1D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628-4588-4410-B58C-F3EFC667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16E-31F6-4813-BA06-9AC3EBC6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042-6DDE-4447-8987-5DBE587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D24-7824-4035-938F-2D5BFE64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A32-35DA-4E02-A7F8-10AB70A7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28D-0BF1-446C-9A54-CB7C3BA9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1EC-0F93-4367-8A3C-88E266D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5C2-D37F-4A37-B5E7-C83D4C2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ACA-49F6-46E5-96E1-5014968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1DF-F4FA-4D73-81F9-5C74D2F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6C3-C516-484B-8213-E7F6756F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luence of pressure-gradient and average-shear on ballooning stability</a:t>
            </a: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-analytic expression for ballooning growt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R.Hud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.C.Heg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.Nakajim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.Torass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.W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G.Wohlbi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1) Princeton Plasma Physics Laboratory, P.O. Box 451,Princeton NJ 08543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2) Department of Engineering Physics, University of Wisconsin-Madison, WI 53706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3) National Institute for Fusion Science, Nagoya 464-01,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4) Courant Institute of Mathematical Sciences, New York University, NY 100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MTI9"/>
              </a:rPr>
              <a:t>5) Department of Physics and Astronomy, University of Montana, Missoula, MT, 59812, U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TH/P2-24 : 20</a:t>
            </a:r>
            <a:r>
              <a:rPr b="0" lang="en-US" sz="1400" spc="-1" strike="noStrike" baseline="30000">
                <a:solidFill>
                  <a:srgbClr val="33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330000"/>
                </a:solidFill>
                <a:latin typeface="Verdana"/>
              </a:rPr>
              <a:t> IAEA Fusion Energy Conference, 1-6 November 2004, Vilamoura, Portu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bility boundary is verified by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 equilibrium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increasing pressure equilibria is constructed with VM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boundary, fixed current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=0.3 surface, the ballooning stability is re-calc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d wi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+, stable or u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ginal stability diagram is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riginal equilibrium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: exact solution to perturbed eq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: from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 analytic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he stability diagram gives good prediction of global stability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3b15%202nd%20order%20comparison%20with%20global%202" descr=""/>
          <p:cNvPicPr/>
          <p:nvPr/>
        </p:nvPicPr>
        <p:blipFill>
          <a:blip r:embed="rId1"/>
          <a:stretch/>
        </p:blipFill>
        <p:spPr>
          <a:xfrm>
            <a:off x="4876920" y="1440000"/>
            <a:ext cx="3809880" cy="3894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7712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81280" y="312408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438280"/>
            <a:ext cx="990720" cy="381240"/>
          </a:xfrm>
          <a:prstGeom prst="leftRightArrow">
            <a:avLst>
              <a:gd name="adj1" fmla="val 50000"/>
              <a:gd name="adj2" fmla="val 517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2438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99880" y="24382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42F-2613-47E7-B858-A645D84920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general, need higher order terms . 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D-like configuration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SX-lik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63868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  : exact (numerical) solution to perturbed ballooning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ted : from analytic expression (2nd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ed : from analytic expression (4th or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hd-like" descr=""/>
          <p:cNvPicPr/>
          <p:nvPr/>
        </p:nvPicPr>
        <p:blipFill>
          <a:blip r:embed="rId1"/>
          <a:stretch/>
        </p:blipFill>
        <p:spPr>
          <a:xfrm>
            <a:off x="304920" y="1378080"/>
            <a:ext cx="4267080" cy="4260600"/>
          </a:xfrm>
          <a:prstGeom prst="rect">
            <a:avLst/>
          </a:prstGeom>
          <a:ln w="0">
            <a:noFill/>
          </a:ln>
        </p:spPr>
      </p:pic>
      <p:pic>
        <p:nvPicPr>
          <p:cNvPr id="134" name="ncsx-like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767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D00-39A1-46DD-8E1E-22F69AEE1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ytic expression describing the dependence of the ballooning growth rate on pressure-gradient and shear variations is de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agrees well with the exact numerical solution to the perturbed ballooning equation, and agrees with stability boundaries computed with global equilibrium reco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determin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essure-gradient is stabilizing or desta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may be of use in stellarator optimization routines and enable deeper insight into mechanism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6F9-4E00-4D95-BE24-132D6BCBB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work 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in stellarators has show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WARE et al., PRL 2002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ellarators 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HEGNA &amp; HUDSON, PRL 2001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le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perty of the configuration determin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581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of profile vari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E &amp; CHANCE, NF 19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is applied to stellarator configurations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GNA &amp; NAKAJIMA, PoP 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file variations (and the self-consistent coordinate response) produce variations in the ballooning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perturbation theory is used to obtain an analytic expression for th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llooning growth rate,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pressure-gradient and average-shear: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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,p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constant geometry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tic expression determines if pressure-gradient is stabilizing or destabilizing, and suggests i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 will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3D6-F981-4FB4-815E-342D6A14F3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approaches will be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re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ry p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VMEC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var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EENE&amp;CHANCE,19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uct semi-analytic equilib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tension of profile-vari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looning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57400"/>
            <a:ext cx="2971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21240" y="3352680"/>
          <a:ext cx="1015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52680"/>
                    <a:ext cx="1015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86400" y="4952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848040" y="33141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48520" y="3314880"/>
          <a:ext cx="13968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314880"/>
                    <a:ext cx="1396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480" y="4495680"/>
            <a:ext cx="4267440" cy="1371600"/>
          </a:xfrm>
          <a:prstGeom prst="wedgeRoundRectCallout">
            <a:avLst>
              <a:gd name="adj1" fmla="val 74180"/>
              <a:gd name="adj2" fmla="val 59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to be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BB7-EF9A-4453-AA17-0E813C518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sure-gradient and average-shear profiles are vari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ethod of profile var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gin with a full solution to an MHD equilibriu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M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tic vari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mpo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ally small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rfac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in the gradients is zero-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e parameters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208480" y="2209680"/>
          <a:ext cx="29466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2209680"/>
                    <a:ext cx="2946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FA8-BB6F-4AD0-8599-08A98B78F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4038480"/>
            <a:ext cx="3124080" cy="304920"/>
          </a:xfrm>
          <a:prstGeom prst="wedgeRoundRectCallout">
            <a:avLst>
              <a:gd name="adj1" fmla="val -71240"/>
              <a:gd name="adj2" fmla="val 107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r will keep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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 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elf-consistent coordinate response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ordinates are similarly adjusted to preserv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zero order in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local shear is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uation i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at the surface of inter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arbitrarily large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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efficients are determined by the original equilibr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371600"/>
          <a:ext cx="59115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115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17880" y="3025800"/>
          <a:ext cx="46339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3025800"/>
                    <a:ext cx="4633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280" y="5638680"/>
          <a:ext cx="883944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638680"/>
                    <a:ext cx="8839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5105520"/>
          <a:ext cx="12952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10552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419720" y="5029200"/>
          <a:ext cx="419076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2920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2071800"/>
          <a:ext cx="71834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2071800"/>
                    <a:ext cx="7183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08F-9FA6-43F8-9B78-0A0924A563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efficients of the ballooning equation ar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20600" y="990720"/>
          <a:ext cx="743760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990720"/>
                    <a:ext cx="74376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91320" y="3505320"/>
            <a:ext cx="3124080" cy="609480"/>
          </a:xfrm>
          <a:prstGeom prst="wedgeRoundRectCallout">
            <a:avLst>
              <a:gd name="adj1" fmla="val -50356"/>
              <a:gd name="adj2" fmla="val 111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be resolved numericall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further analytic progres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1CA-8A99-4D9E-90F3-A6B46B830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genvalue perturbation theory gives analytic expression for change in ballooning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1424160"/>
          <a:ext cx="80359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4160"/>
                    <a:ext cx="80359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87226"/>
              <a:gd name="adj2" fmla="val 74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19720"/>
            <a:ext cx="1752480" cy="304560"/>
          </a:xfrm>
          <a:prstGeom prst="wedgeRoundRectCallout">
            <a:avLst>
              <a:gd name="adj1" fmla="val -53712"/>
              <a:gd name="adj2" fmla="val -1463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800600"/>
            <a:ext cx="1752480" cy="304920"/>
          </a:xfrm>
          <a:prstGeom prst="wedgeRoundRectCallout">
            <a:avLst>
              <a:gd name="adj1" fmla="val -73550"/>
              <a:gd name="adj2" fmla="val -536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5ED-A620-497C-8089-1885A4B8A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theory determines . . 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creased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is stabilizing or destabiliz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if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ble region will exist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4880" y="1868400"/>
          <a:ext cx="565452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868400"/>
                    <a:ext cx="565452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2743200"/>
            <a:ext cx="6172200" cy="533520"/>
          </a:xfrm>
          <a:prstGeom prst="wedgeRoundRectCallout">
            <a:avLst>
              <a:gd name="adj1" fmla="val 17412"/>
              <a:gd name="adj2" fmla="val -497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general, need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. 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3962520"/>
            <a:ext cx="7848360" cy="2666520"/>
            <a:chOff x="533520" y="3962520"/>
            <a:chExt cx="7848360" cy="2666520"/>
          </a:xfrm>
        </p:grpSpPr>
        <p:sp>
          <p:nvSpPr>
            <p:cNvPr id="93" name=""/>
            <p:cNvSpPr/>
            <p:nvPr/>
          </p:nvSpPr>
          <p:spPr>
            <a:xfrm flipV="1">
              <a:off x="3429000" y="4114800"/>
              <a:ext cx="3809880" cy="2286000"/>
            </a:xfrm>
            <a:custGeom>
              <a:avLst/>
              <a:gdLst/>
              <a:ahLst/>
              <a:rect l="l" t="t" r="r" b="b"/>
              <a:pathLst>
                <a:path w="3264" h="2224">
                  <a:moveTo>
                    <a:pt x="0" y="96"/>
                  </a:moveTo>
                  <a:cubicBezTo>
                    <a:pt x="544" y="1160"/>
                    <a:pt x="1088" y="2224"/>
                    <a:pt x="1632" y="2208"/>
                  </a:cubicBezTo>
                  <a:cubicBezTo>
                    <a:pt x="2176" y="2192"/>
                    <a:pt x="2992" y="368"/>
                    <a:pt x="326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5257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533520" y="4800600"/>
            <a:ext cx="1415880" cy="95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800600"/>
                      <a:ext cx="141588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2133720" y="39625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847880" y="3962520"/>
            <a:ext cx="2858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7880" y="3962520"/>
                      <a:ext cx="2858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8016840" y="5334120"/>
            <a:ext cx="3650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16840" y="5334120"/>
                      <a:ext cx="3650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 flipV="1">
              <a:off x="5334120" y="4114440"/>
              <a:ext cx="0" cy="251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486400" y="5504040"/>
            <a:ext cx="669960" cy="59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87840" y="5504040"/>
            <a:ext cx="669960" cy="59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87840" y="5504040"/>
                      <a:ext cx="66996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5486400" y="5334120"/>
              <a:ext cx="762120" cy="304560"/>
            </a:xfrm>
            <a:prstGeom prst="rightArrow">
              <a:avLst>
                <a:gd name="adj1" fmla="val 50000"/>
                <a:gd name="adj2" fmla="val 625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5334120"/>
              <a:ext cx="838080" cy="304560"/>
            </a:xfrm>
            <a:prstGeom prst="right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03848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47712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724280"/>
              <a:ext cx="2438640" cy="457200"/>
            </a:xfrm>
            <a:prstGeom prst="leftRightArrow">
              <a:avLst>
                <a:gd name="adj1" fmla="val 50000"/>
                <a:gd name="adj2" fmla="val 10618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7120" y="4724280"/>
              <a:ext cx="1523880" cy="457200"/>
            </a:xfrm>
            <a:prstGeom prst="rightArrow">
              <a:avLst>
                <a:gd name="adj1" fmla="val 50000"/>
                <a:gd name="adj2" fmla="val 833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209680" y="4724280"/>
              <a:ext cx="1828800" cy="4572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2913120" y="4495680"/>
            <a:ext cx="592200" cy="34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131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5033880" y="4495680"/>
            <a:ext cx="617760" cy="34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33880" y="4495680"/>
                      <a:ext cx="6177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6799320" y="4495680"/>
            <a:ext cx="59220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99320" y="4495680"/>
                      <a:ext cx="59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588-B3A6-46F8-8D1A-51365D30A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ginal stability boundary : quasi-poloida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3b15.6.ip010" descr=""/>
          <p:cNvPicPr/>
          <p:nvPr/>
        </p:nvPicPr>
        <p:blipFill>
          <a:blip r:embed="rId1"/>
          <a:stretch/>
        </p:blipFill>
        <p:spPr>
          <a:xfrm>
            <a:off x="5029200" y="12366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121932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poloidal configuration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RE et al. PRL, 200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 curve is stability boundary determined by exactly re-solving ballooning equation on grid 200x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curve from analytic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eigenfunction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alytic expression accurately reproduces exact stability bound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CFD-D2D7-48C9-9B57-62FD62696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37:09Z</dcterms:created>
  <dc:creator>shudson</dc:creator>
  <dc:description/>
  <dc:language>en-US</dc:language>
  <cp:lastModifiedBy>shudson</cp:lastModifiedBy>
  <dcterms:modified xsi:type="dcterms:W3CDTF">2004-10-25T13:25:33Z</dcterms:modified>
  <cp:revision>200</cp:revision>
  <dc:subject/>
  <dc:title>Influence of pressure-gradient and average-shear on ballooning stability</dc:title>
</cp:coreProperties>
</file>