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20.jpeg" ContentType="image/jpeg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21.jpeg" ContentType="image/jpeg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22.jpeg" ContentType="image/jpeg"/>
  <Override PartName="/ppt/media/image14.wmf" ContentType="image/x-wmf"/>
  <Override PartName="/ppt/media/image23.jpeg" ContentType="image/jpeg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15444-C30B-4A4C-8F6F-667842E1F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DA3DE-26F5-432D-966B-B4EA41900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ED1B2-DB52-413A-8BCF-88C61374A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A6F5D-F43A-4386-B64C-F9E27B7A5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C069D-C0DD-4402-BF85-90DDA9420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D8C18-F09C-4DFF-A392-88BAA837E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5ABA5-149C-4756-B50F-9719AF2E1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F2C5C-A325-4837-B50F-B67A42459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1E3C0-C136-4AB5-9095-E77E59ADA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DFF77-9AA6-435E-9213-D8ACDFEFC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05275-B7D8-4BE6-BABF-FF0652BA7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464E9-1963-4CF5-9B26-8C722750A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152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B4455-3397-4EA4-A70C-F99D58285E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8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9.wmf"/><Relationship Id="rId1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7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8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9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8.wmf"/><Relationship Id="rId19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560" y="533160"/>
            <a:ext cx="845820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fluence of pressure-gradient and average-shear on ballooning stability</a:t>
            </a:r>
            <a:br>
              <a:rPr sz="3600"/>
            </a:br>
            <a:br>
              <a:rPr sz="3600"/>
            </a:b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mi-analytic expression for ballooning growth 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800" y="342864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.R.Hudson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C.C.Hegna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N.Nakajima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R.Torasso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A.Ware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J.G.Wohlbie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MTI9"/>
              </a:rPr>
              <a:t>1) Princeton Plasma Physics Laboratory, P.O. Box 451,Princeton NJ 08543, US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MTI9"/>
              </a:rPr>
              <a:t>2) Department of Engineering Physics, University of Wisconsin-Madison, WI 53706, US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MTI9"/>
              </a:rPr>
              <a:t>3) National Institute for Fusion Science, Nagoya 464-01, Japa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MTI9"/>
              </a:rPr>
              <a:t>4) Courant Institute of Mathematical Sciences, New York University, NY 10012, US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MTI9"/>
              </a:rPr>
              <a:t>5) Department of Physics and Astronomy, University of Montana, Missoula, MT, 59812, US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8520"/>
            <a:ext cx="838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0000"/>
                </a:solidFill>
                <a:latin typeface="Verdana"/>
              </a:rPr>
              <a:t>TH/P2-24 : 20</a:t>
            </a:r>
            <a:r>
              <a:rPr b="0" lang="en-US" sz="1400" spc="-1" strike="noStrike" baseline="30000">
                <a:solidFill>
                  <a:srgbClr val="330000"/>
                </a:solidFill>
                <a:latin typeface="Verdana"/>
              </a:rPr>
              <a:t>th</a:t>
            </a:r>
            <a:r>
              <a:rPr b="0" lang="en-US" sz="1400" spc="-1" strike="noStrike">
                <a:solidFill>
                  <a:srgbClr val="330000"/>
                </a:solidFill>
                <a:latin typeface="Verdana"/>
              </a:rPr>
              <a:t> IAEA Fusion Energy Conference, 1-6 November 2004, Vilamoura, Portug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tability boundary is verified by </a:t>
            </a:r>
            <a:br>
              <a:rPr sz="2400"/>
            </a:b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lobal equilibrium reconstr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04920" y="1371600"/>
            <a:ext cx="449568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sequence of increasing pressure equilibria is constructed with VM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xed boundary, fixed current pro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ach s=0.3 surface, the ballooning stability is re-calcul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dicated with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+, stable or unst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marginal stability diagram is construc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original equilibrium 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id : exact solution to perturbed eq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tted : from 2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d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der analytic expres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Times New Roman"/>
              </a:rPr>
              <a:t>The stability diagram gives good prediction of global stability bound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m3b15%202nd%20order%20comparison%20with%20global%202" descr=""/>
          <p:cNvPicPr/>
          <p:nvPr/>
        </p:nvPicPr>
        <p:blipFill>
          <a:blip r:embed="rId1"/>
          <a:stretch/>
        </p:blipFill>
        <p:spPr>
          <a:xfrm>
            <a:off x="4876920" y="1440000"/>
            <a:ext cx="3809880" cy="389412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6477120" y="2971800"/>
            <a:ext cx="15228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581280" y="3124080"/>
            <a:ext cx="281952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172200" y="2438280"/>
            <a:ext cx="990720" cy="381240"/>
          </a:xfrm>
          <a:prstGeom prst="leftRightArrow">
            <a:avLst>
              <a:gd name="adj1" fmla="val 50000"/>
              <a:gd name="adj2" fmla="val 51733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s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315200" y="2438280"/>
            <a:ext cx="1066680" cy="381240"/>
          </a:xfrm>
          <a:prstGeom prst="rightArrow">
            <a:avLst>
              <a:gd name="adj1" fmla="val 50000"/>
              <a:gd name="adj2" fmla="val 6994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s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4799880" y="2438280"/>
            <a:ext cx="1219320" cy="381240"/>
          </a:xfrm>
          <a:prstGeom prst="rightArrow">
            <a:avLst>
              <a:gd name="adj1" fmla="val 50000"/>
              <a:gd name="adj2" fmla="val 7995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s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288ED-D0A8-4181-9D04-EBC075ED821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 general, need higher order terms . . </a:t>
            </a:r>
            <a:br>
              <a:rPr sz="2400"/>
            </a:br>
            <a:br>
              <a:rPr sz="24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HD-like configuration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CSX-like configu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990720" y="5638680"/>
            <a:ext cx="73911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lid   : exact (numerical) solution to perturbed ballooning eq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otted : from analytic expression (2nd order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ashed : from analytic expression (4th order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lhd-like" descr=""/>
          <p:cNvPicPr/>
          <p:nvPr/>
        </p:nvPicPr>
        <p:blipFill>
          <a:blip r:embed="rId1"/>
          <a:stretch/>
        </p:blipFill>
        <p:spPr>
          <a:xfrm>
            <a:off x="304920" y="1378080"/>
            <a:ext cx="4267080" cy="4260600"/>
          </a:xfrm>
          <a:prstGeom prst="rect">
            <a:avLst/>
          </a:prstGeom>
          <a:ln w="0">
            <a:noFill/>
          </a:ln>
        </p:spPr>
      </p:pic>
      <p:pic>
        <p:nvPicPr>
          <p:cNvPr id="134" name="ncsx-like" descr=""/>
          <p:cNvPicPr/>
          <p:nvPr/>
        </p:nvPicPr>
        <p:blipFill>
          <a:blip r:embed="rId2"/>
          <a:stretch/>
        </p:blipFill>
        <p:spPr>
          <a:xfrm>
            <a:off x="4572000" y="1371600"/>
            <a:ext cx="4176720" cy="4267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E8ECA-B723-4772-A2AE-F4F84657CC6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153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analytic expression describing the dependence of the ballooning growth rate on pressure-gradient and shear variations is deriv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expression agrees well with the exact numerical solution to the perturbed ballooning equation, and agrees with stability boundaries computed with global equilibrium reconstruc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expression determines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pressure-gradient is stabilizing or destabiliz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ggests if a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table region will exis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ory may be of use in stellarator optimization routines and enable deeper insight into mechanism of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tabili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2F2ED-FBB4-48DE-8950-71331F1828B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tiv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440" y="837720"/>
            <a:ext cx="80773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nt work on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tability in stellarators has shown tha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me stellarators d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[WARE et al., PRL 2002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me stellarators do no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[HEGNA &amp; HUDSON, PRL 2001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sess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table region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property of the configuration determines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tability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297180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62120" y="3581280"/>
            <a:ext cx="77724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method of profile variations [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REENE &amp; CHANCE, NF 198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] is applied to stellarator configurations [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EGNA &amp; NAKAJIMA, PoP 1996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]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profile variations (and the self-consistent coordinate response) produce variations in the ballooning coeffici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igenvalue perturbation theory is used to obtain an analytic expression for the </a:t>
            </a:r>
            <a:r>
              <a:rPr b="0" i="1" lang="en-US" sz="2000" spc="-1" strike="noStrike">
                <a:solidFill>
                  <a:srgbClr val="0000ff"/>
                </a:solidFill>
                <a:latin typeface="Times New Roman"/>
              </a:rPr>
              <a:t>ballooning growth rate, </a:t>
            </a:r>
            <a:r>
              <a:rPr b="0" i="1" lang="en-US" sz="2000" spc="-1" strike="noStrike">
                <a:solidFill>
                  <a:srgbClr val="0000ff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a function of the pressure-gradient and average-shear: </a:t>
            </a:r>
            <a:r>
              <a:rPr b="0" i="1" lang="en-US" sz="2000" spc="-1" strike="noStrike">
                <a:solidFill>
                  <a:srgbClr val="0000ff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ff"/>
                </a:solidFill>
                <a:latin typeface="Times New Roman"/>
              </a:rPr>
              <a:t>= </a:t>
            </a:r>
            <a:r>
              <a:rPr b="0" i="1" lang="en-US" sz="2000" spc="-1" strike="noStrike">
                <a:solidFill>
                  <a:srgbClr val="0000ff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ff"/>
                </a:solidFill>
                <a:latin typeface="Times New Roman"/>
              </a:rPr>
              <a:t> (</a:t>
            </a:r>
            <a:r>
              <a:rPr b="0" i="1" lang="en-US" sz="2000" spc="-1" strike="noStrike">
                <a:solidFill>
                  <a:srgbClr val="0000ff"/>
                </a:solidFill>
                <a:latin typeface="Symbol"/>
                <a:ea typeface="Symbol"/>
              </a:rPr>
              <a:t></a:t>
            </a:r>
            <a:r>
              <a:rPr b="0" i="1" lang="en-US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'</a:t>
            </a:r>
            <a:r>
              <a:rPr b="0" i="1" lang="en-US" sz="2000" spc="-1" strike="noStrike">
                <a:solidFill>
                  <a:srgbClr val="0000ff"/>
                </a:solidFill>
                <a:latin typeface="Times New Roman"/>
              </a:rPr>
              <a:t> ,p </a:t>
            </a:r>
            <a:r>
              <a:rPr b="0" i="1" lang="en-US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'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or constant geometry)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analytic expression determines if pressure-gradient is stabilizing or destabilizing, and suggests if a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table region will exis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F1C61-0C67-41F1-9624-19FD8E26030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ree approaches will be compa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4572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librium reconstruc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multiple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quilibrium calcul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vary p'(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&amp;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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'(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; VMEC)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multiple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allooning calcul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le-variatio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GREENE&amp;CHANCE,1983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single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quilibrium calcu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onstruct semi-analytic equilibri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multiple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allooning calcul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alytic ex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(extension of profile-variation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single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quilibrium calcu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single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allooning calcu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486400" y="2057400"/>
            <a:ext cx="2971800" cy="289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4521240" y="3352680"/>
          <a:ext cx="101520" cy="15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21240" y="3352680"/>
                    <a:ext cx="101520" cy="15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5486400" y="49528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sure grad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6200000">
            <a:off x="3848040" y="331416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erage  sh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6248520" y="3314880"/>
          <a:ext cx="1396800" cy="419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248520" y="3314880"/>
                    <a:ext cx="1396800" cy="4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/>
          <p:nvPr/>
        </p:nvSpPr>
        <p:spPr>
          <a:xfrm>
            <a:off x="609480" y="4495680"/>
            <a:ext cx="4267440" cy="1371600"/>
          </a:xfrm>
          <a:prstGeom prst="wedgeRoundRectCallout">
            <a:avLst>
              <a:gd name="adj1" fmla="val 74180"/>
              <a:gd name="adj2" fmla="val 59953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95680" y="6019920"/>
            <a:ext cx="2971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0000"/>
                </a:solidFill>
                <a:latin typeface="Times New Roman"/>
              </a:rPr>
              <a:t>to be describ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47B53-A8BE-48B3-94BF-3F9BDCAA6CE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pressure-gradient and average-shear profiles are varied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method of profile variation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 begin with a full solution to an MHD equilibrium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VMEC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 analytic variation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amp;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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impos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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formally small parame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surface of inter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tion in the gradients is zero-order in </a:t>
            </a:r>
            <a:r>
              <a:rPr b="0" i="1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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wo free parameters (</a:t>
            </a:r>
            <a:r>
              <a:rPr b="0" i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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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i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5208480" y="2209680"/>
          <a:ext cx="2946600" cy="347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08480" y="2209680"/>
                    <a:ext cx="2946600" cy="347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66A16-335C-41E6-8B0A-4EAE3F9763F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5791320" y="4038480"/>
            <a:ext cx="3124080" cy="304920"/>
          </a:xfrm>
          <a:prstGeom prst="wedgeRoundRectCallout">
            <a:avLst>
              <a:gd name="adj1" fmla="val -71240"/>
              <a:gd name="adj2" fmla="val 107291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ater will keep (</a:t>
            </a:r>
            <a:r>
              <a:rPr b="0" i="1" lang="en-US" sz="1400" spc="-1" strike="noStrike">
                <a:solidFill>
                  <a:srgbClr val="3333cc"/>
                </a:solidFill>
                <a:latin typeface="Symbol"/>
                <a:ea typeface="Symbol"/>
              </a:rPr>
              <a:t></a:t>
            </a:r>
            <a:r>
              <a:rPr b="0" i="1" lang="en-US" sz="1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'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, (</a:t>
            </a:r>
            <a:r>
              <a:rPr b="0" i="1" lang="en-US" sz="1400" spc="-1" strike="noStrike">
                <a:solidFill>
                  <a:srgbClr val="3333cc"/>
                </a:solidFill>
                <a:latin typeface="Symbol"/>
                <a:ea typeface="Symbol"/>
              </a:rPr>
              <a:t></a:t>
            </a:r>
            <a:r>
              <a:rPr b="0" i="1" lang="en-US" sz="1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' </a:t>
            </a:r>
            <a:r>
              <a:rPr b="0" i="1" lang="en-US" sz="1400" spc="-1" strike="noStrike">
                <a:solidFill>
                  <a:srgbClr val="3333cc"/>
                </a:solidFill>
                <a:latin typeface="Symbol"/>
                <a:ea typeface="Symbol"/>
              </a:rPr>
              <a:t></a:t>
            </a:r>
            <a:r>
              <a:rPr b="0" i="1" lang="en-US" sz="14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i="1" lang="en-US" sz="1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'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0" i="1" lang="en-US" sz="1400" spc="-1" strike="noStrike">
                <a:solidFill>
                  <a:srgbClr val="3333cc"/>
                </a:solidFill>
                <a:latin typeface="Symbol"/>
                <a:ea typeface="Symbol"/>
              </a:rPr>
              <a:t></a:t>
            </a:r>
            <a:r>
              <a:rPr b="0" i="1" lang="en-US" sz="14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i="1" lang="en-US" sz="1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'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,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153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e self-consistent coordinate response is determin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coordinates are similarly adjusted to preserve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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=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zero order in </a:t>
            </a:r>
            <a:r>
              <a:rPr b="0" i="1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the local shear is chang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s equation is 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act at the surface of interes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id for arbitrarily large (</a:t>
            </a:r>
            <a:r>
              <a:rPr b="0" i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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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i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coefficients are determined by the original equilibriu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1676520" y="1371600"/>
          <a:ext cx="5911560" cy="59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1371600"/>
                    <a:ext cx="5911560" cy="59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" name=""/>
          <p:cNvGraphicFramePr/>
          <p:nvPr/>
        </p:nvGraphicFramePr>
        <p:xfrm>
          <a:off x="2117880" y="3025800"/>
          <a:ext cx="4633920" cy="63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17880" y="3025800"/>
                    <a:ext cx="463392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" name=""/>
          <p:cNvGraphicFramePr/>
          <p:nvPr/>
        </p:nvGraphicFramePr>
        <p:xfrm>
          <a:off x="152280" y="5638680"/>
          <a:ext cx="8839440" cy="1052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2280" y="5638680"/>
                    <a:ext cx="8839440" cy="105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" name=""/>
          <p:cNvGraphicFramePr/>
          <p:nvPr/>
        </p:nvGraphicFramePr>
        <p:xfrm>
          <a:off x="304920" y="5105520"/>
          <a:ext cx="1295280" cy="573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4920" y="5105520"/>
                    <a:ext cx="1295280" cy="57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4419720" y="5029200"/>
          <a:ext cx="4190760" cy="5968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419720" y="5029200"/>
                    <a:ext cx="419076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914400" y="2071800"/>
          <a:ext cx="7183440" cy="4428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914400" y="2071800"/>
                    <a:ext cx="71834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47C62-12D2-4EA3-BBF9-9C4CFA1653C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e coefficients of the ballooning equation are chang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1020600" y="990720"/>
          <a:ext cx="7437600" cy="540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20600" y="990720"/>
                    <a:ext cx="7437600" cy="540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791320" y="3505320"/>
            <a:ext cx="3124080" cy="609480"/>
          </a:xfrm>
          <a:prstGeom prst="wedgeRoundRectCallout">
            <a:avLst>
              <a:gd name="adj1" fmla="val -50356"/>
              <a:gd name="adj2" fmla="val 111717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y be resolved numerically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ut further analytic progress possi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A9776-E372-4770-A9F1-49A005A907F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Eigenvalue perturbation theory gives analytic expression for change in ballooning growth r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685800" y="1424160"/>
          <a:ext cx="8035920" cy="5205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24160"/>
                    <a:ext cx="8035920" cy="520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"/>
          <p:cNvSpPr/>
          <p:nvPr/>
        </p:nvSpPr>
        <p:spPr>
          <a:xfrm>
            <a:off x="6858000" y="4800600"/>
            <a:ext cx="1752480" cy="304920"/>
          </a:xfrm>
          <a:prstGeom prst="wedgeRoundRectCallout">
            <a:avLst>
              <a:gd name="adj1" fmla="val -87226"/>
              <a:gd name="adj2" fmla="val 74481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perator inver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4419720"/>
            <a:ext cx="1752480" cy="304560"/>
          </a:xfrm>
          <a:prstGeom prst="wedgeRoundRectCallout">
            <a:avLst>
              <a:gd name="adj1" fmla="val -53712"/>
              <a:gd name="adj2" fmla="val -146356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ner produ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858000" y="4800600"/>
            <a:ext cx="1752480" cy="304920"/>
          </a:xfrm>
          <a:prstGeom prst="wedgeRoundRectCallout">
            <a:avLst>
              <a:gd name="adj1" fmla="val -73550"/>
              <a:gd name="adj2" fmla="val -53648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perator inver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ADD24-BC33-4DD7-8B5D-DFC2A4D80F9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e theory determines . . . 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increased 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' is stabilizing or destabilizing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•  if a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table region will exist.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974880" y="1868400"/>
          <a:ext cx="5654520" cy="209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4880" y="1868400"/>
                    <a:ext cx="5654520" cy="209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" name=""/>
          <p:cNvSpPr/>
          <p:nvPr/>
        </p:nvSpPr>
        <p:spPr>
          <a:xfrm>
            <a:off x="990720" y="2743200"/>
            <a:ext cx="6172200" cy="533520"/>
          </a:xfrm>
          <a:prstGeom prst="wedgeRoundRectCallout">
            <a:avLst>
              <a:gd name="adj1" fmla="val 17412"/>
              <a:gd name="adj2" fmla="val -49703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id if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'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1600" spc="-1" strike="noStrike">
                <a:solidFill>
                  <a:srgbClr val="3333cc"/>
                </a:solidFill>
                <a:latin typeface="Symbol"/>
                <a:ea typeface="Symbol"/>
              </a:rPr>
              <a:t></a:t>
            </a:r>
            <a:r>
              <a:rPr b="0" i="1" lang="en-US" sz="16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i="1" lang="en-US" sz="1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'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lt;&lt;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'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;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 general, need (</a:t>
            </a:r>
            <a:r>
              <a:rPr b="0" i="1" lang="en-US" sz="1600" spc="-1" strike="noStrike">
                <a:solidFill>
                  <a:srgbClr val="3333cc"/>
                </a:solidFill>
                <a:latin typeface="Symbol"/>
                <a:ea typeface="Symbol"/>
              </a:rPr>
              <a:t></a:t>
            </a:r>
            <a:r>
              <a:rPr b="0" i="1" lang="en-US" sz="16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i="1" lang="en-US" sz="1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'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,(</a:t>
            </a:r>
            <a:r>
              <a:rPr b="0" i="1" lang="en-US" sz="1600" spc="-1" strike="noStrike">
                <a:solidFill>
                  <a:srgbClr val="3333cc"/>
                </a:solidFill>
                <a:latin typeface="Symbol"/>
                <a:ea typeface="Symbol"/>
              </a:rPr>
              <a:t></a:t>
            </a:r>
            <a:r>
              <a:rPr b="0" i="1" lang="en-US" sz="16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i="1" lang="en-US" sz="1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'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, . , 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533520" y="3962520"/>
            <a:ext cx="7848360" cy="2666520"/>
            <a:chOff x="533520" y="3962520"/>
            <a:chExt cx="7848360" cy="2666520"/>
          </a:xfrm>
        </p:grpSpPr>
        <p:sp>
          <p:nvSpPr>
            <p:cNvPr id="93" name=""/>
            <p:cNvSpPr/>
            <p:nvPr/>
          </p:nvSpPr>
          <p:spPr>
            <a:xfrm flipV="1">
              <a:off x="3429000" y="4114800"/>
              <a:ext cx="3809880" cy="2286000"/>
            </a:xfrm>
            <a:custGeom>
              <a:avLst/>
              <a:gdLst/>
              <a:ahLst/>
              <a:rect l="l" t="t" r="r" b="b"/>
              <a:pathLst>
                <a:path w="3264" h="2224">
                  <a:moveTo>
                    <a:pt x="0" y="96"/>
                  </a:moveTo>
                  <a:cubicBezTo>
                    <a:pt x="544" y="1160"/>
                    <a:pt x="1088" y="2224"/>
                    <a:pt x="1632" y="2208"/>
                  </a:cubicBezTo>
                  <a:cubicBezTo>
                    <a:pt x="2176" y="2192"/>
                    <a:pt x="2992" y="368"/>
                    <a:pt x="3264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133720" y="5257800"/>
              <a:ext cx="6172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95" name=""/>
            <p:cNvGraphicFramePr/>
            <p:nvPr/>
          </p:nvGraphicFramePr>
          <p:xfrm>
            <a:off x="533520" y="4800600"/>
            <a:ext cx="1415880" cy="9507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9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33520" y="4800600"/>
                      <a:ext cx="1415880" cy="950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7" name=""/>
            <p:cNvSpPr/>
            <p:nvPr/>
          </p:nvSpPr>
          <p:spPr>
            <a:xfrm flipV="1">
              <a:off x="2133720" y="3962520"/>
              <a:ext cx="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98" name=""/>
            <p:cNvGraphicFramePr/>
            <p:nvPr/>
          </p:nvGraphicFramePr>
          <p:xfrm>
            <a:off x="1847880" y="3962520"/>
            <a:ext cx="285840" cy="380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99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847880" y="3962520"/>
                      <a:ext cx="28584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0" name=""/>
            <p:cNvGraphicFramePr/>
            <p:nvPr/>
          </p:nvGraphicFramePr>
          <p:xfrm>
            <a:off x="8016840" y="5334120"/>
            <a:ext cx="365040" cy="3934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1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8016840" y="5334120"/>
                      <a:ext cx="365040" cy="393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2" name=""/>
            <p:cNvSpPr/>
            <p:nvPr/>
          </p:nvSpPr>
          <p:spPr>
            <a:xfrm flipV="1">
              <a:off x="5334120" y="4114440"/>
              <a:ext cx="0" cy="251460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3" name=""/>
            <p:cNvGraphicFramePr/>
            <p:nvPr/>
          </p:nvGraphicFramePr>
          <p:xfrm>
            <a:off x="5486400" y="5504040"/>
            <a:ext cx="669960" cy="59184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4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486400" y="5504040"/>
                      <a:ext cx="669960" cy="591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5" name=""/>
            <p:cNvGraphicFramePr/>
            <p:nvPr/>
          </p:nvGraphicFramePr>
          <p:xfrm>
            <a:off x="4587840" y="5504040"/>
            <a:ext cx="669960" cy="59184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6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4587840" y="5504040"/>
                      <a:ext cx="669960" cy="591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7" name=""/>
            <p:cNvSpPr/>
            <p:nvPr/>
          </p:nvSpPr>
          <p:spPr>
            <a:xfrm>
              <a:off x="5486400" y="5334120"/>
              <a:ext cx="762120" cy="304560"/>
            </a:xfrm>
            <a:prstGeom prst="rightArrow">
              <a:avLst>
                <a:gd name="adj1" fmla="val 50000"/>
                <a:gd name="adj2" fmla="val 62559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4343400" y="5334120"/>
              <a:ext cx="838080" cy="304560"/>
            </a:xfrm>
            <a:prstGeom prst="rightArrow">
              <a:avLst>
                <a:gd name="adj1" fmla="val 50000"/>
                <a:gd name="adj2" fmla="val 68794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flipV="1">
              <a:off x="4038480" y="4267080"/>
              <a:ext cx="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 flipV="1">
              <a:off x="6477120" y="4267080"/>
              <a:ext cx="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038480" y="4724280"/>
              <a:ext cx="2438640" cy="457200"/>
            </a:xfrm>
            <a:prstGeom prst="leftRightArrow">
              <a:avLst>
                <a:gd name="adj1" fmla="val 50000"/>
                <a:gd name="adj2" fmla="val 106183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unstab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77120" y="4724280"/>
              <a:ext cx="1523880" cy="457200"/>
            </a:xfrm>
            <a:prstGeom prst="rightArrow">
              <a:avLst>
                <a:gd name="adj1" fmla="val 50000"/>
                <a:gd name="adj2" fmla="val 83327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1600" spc="-1" strike="noStrike" baseline="30000">
                  <a:solidFill>
                    <a:srgbClr val="000000"/>
                  </a:solidFill>
                  <a:latin typeface="Times New Roman"/>
                </a:rPr>
                <a:t>n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stab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2209680" y="4724280"/>
              <a:ext cx="1828800" cy="457200"/>
            </a:xfrm>
            <a:prstGeom prst="rightArrow">
              <a:avLst>
                <a:gd name="adj1" fmla="val 50000"/>
                <a:gd name="adj2" fmla="val 1000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1600" spc="-1" strike="noStrike" baseline="30000">
                  <a:solidFill>
                    <a:srgbClr val="000000"/>
                  </a:solidFill>
                  <a:latin typeface="Times New Roman"/>
                </a:rPr>
                <a:t>s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stab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14" name=""/>
            <p:cNvGraphicFramePr/>
            <p:nvPr/>
          </p:nvGraphicFramePr>
          <p:xfrm>
            <a:off x="2913120" y="4495680"/>
            <a:ext cx="592200" cy="34632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2913120" y="4495680"/>
                      <a:ext cx="592200" cy="346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6" name=""/>
            <p:cNvGraphicFramePr/>
            <p:nvPr/>
          </p:nvGraphicFramePr>
          <p:xfrm>
            <a:off x="5033880" y="4495680"/>
            <a:ext cx="617760" cy="34632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7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5033880" y="4495680"/>
                      <a:ext cx="617760" cy="346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8" name=""/>
            <p:cNvGraphicFramePr/>
            <p:nvPr/>
          </p:nvGraphicFramePr>
          <p:xfrm>
            <a:off x="6799320" y="4495680"/>
            <a:ext cx="592200" cy="34632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9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6799320" y="4495680"/>
                      <a:ext cx="592200" cy="346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6E963-DF52-4DF6-A4F3-3E5DD5C9C6E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rginal stability boundary : quasi-poloidal configu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m3b15.6.ip010" descr=""/>
          <p:cNvPicPr/>
          <p:nvPr/>
        </p:nvPicPr>
        <p:blipFill>
          <a:blip r:embed="rId1"/>
          <a:stretch/>
        </p:blipFill>
        <p:spPr>
          <a:xfrm>
            <a:off x="5029200" y="1236600"/>
            <a:ext cx="3809880" cy="371628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304920" y="1219320"/>
            <a:ext cx="449568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uasi-poloidal configuration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WARE et al. PRL, 2002]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table reg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lid curve is stability boundary determined by exactly re-solving ballooning equation on grid 200x2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tted curve from analytic exp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cluding 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order te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single eigenfunction calcu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Times New Roman"/>
              </a:rPr>
              <a:t>analytic expression accurately reproduces exact stability boundar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AE44E-E1D1-484C-8638-704F1FE82DE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6T12:37:09Z</dcterms:created>
  <dc:creator>shudson</dc:creator>
  <dc:description/>
  <dc:language>en-US</dc:language>
  <cp:lastModifiedBy>shudson</cp:lastModifiedBy>
  <dcterms:modified xsi:type="dcterms:W3CDTF">2004-10-25T13:25:33Z</dcterms:modified>
  <cp:revision>200</cp:revision>
  <dc:subject/>
  <dc:title>Influence of pressure-gradient and average-shear on ballooning stability</dc:title>
</cp:coreProperties>
</file>