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9.jpeg" ContentType="image/jpeg"/>
  <Override PartName="/ppt/media/image4.wmf" ContentType="image/x-wmf"/>
  <Override PartName="/ppt/media/image18.jpeg" ContentType="image/jpeg"/>
  <Override PartName="/ppt/media/image16.wmf" ContentType="image/x-wmf"/>
  <Override PartName="/ppt/media/image1.jpeg" ContentType="image/jpeg"/>
  <Override PartName="/ppt/media/image15.wmf" ContentType="image/x-wmf"/>
  <Override PartName="/ppt/media/image5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2.png" ContentType="image/png"/>
  <Override PartName="/ppt/media/image20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23A5-2A40-46CA-B96D-3565C32C5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4253400"/>
            <a:ext cx="861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A09A-C784-4903-969A-2420BA5A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190512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425340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7080" y="425340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08DD-52A9-4132-B14F-7C0383572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277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6240" y="1905120"/>
            <a:ext cx="277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7560" y="1905120"/>
            <a:ext cx="277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4253400"/>
            <a:ext cx="277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6240" y="4253400"/>
            <a:ext cx="277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7560" y="4253400"/>
            <a:ext cx="277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3838-2286-43F9-A72D-A3452B12E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66DA-6EB8-4A95-8671-1CE4B7FCE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9051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79CD-D48A-43C6-812A-831B575C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FCF1-5A9E-48A5-87CA-8D202B5B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4201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905120"/>
            <a:ext cx="4201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A009-EDB4-47F3-BCB4-67F1F1AF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B0C6-3642-4FBD-807C-448E1FC0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7745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3388-5889-4AC0-AECA-18A3555B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1905120"/>
            <a:ext cx="4201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425340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06EA-0403-412C-8ECA-EE9A4976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9051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DFC6-EF87-46AD-9C5C-15E49464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4201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190512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080" y="425340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3DEB-D67F-45E6-A0FA-5C4BD12B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90512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4253400"/>
            <a:ext cx="861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728D-FE07-4BEF-9C99-CBD476B5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4253400"/>
            <a:ext cx="861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5689-8821-438C-96FC-BF43843E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90512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425340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080" y="425340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35E9-8484-4226-BF23-E425979DF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277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6240" y="1905120"/>
            <a:ext cx="277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7560" y="1905120"/>
            <a:ext cx="277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4253400"/>
            <a:ext cx="277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6240" y="4253400"/>
            <a:ext cx="277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7560" y="4253400"/>
            <a:ext cx="277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4236-0586-47A5-B326-BBD26CE57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3747-831A-45F1-B279-F9D35119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4201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905120"/>
            <a:ext cx="4201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80B9-FD2B-46B4-98F6-A260796B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DE83-0CED-4361-8F38-E12A2B36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7745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F2C4-3C73-411E-8219-9EF12BDD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7080" y="1905120"/>
            <a:ext cx="4201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425340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2DCB-D0D3-4B5B-96FE-7492F5D9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4201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7080" y="190512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7080" y="425340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C170-9056-4154-A28E-EB9E54DD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7080" y="190512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4253400"/>
            <a:ext cx="861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ED31-9193-42C9-9B9F-B4CC96A2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051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F73B-54CD-42B4-A24B-EA7597F0E915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5B68-902E-43DA-B8C5-3CA26947F553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6.wmf"/><Relationship Id="rId1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a semi-analytic expression determining the influence of pressure-gradient and average shear on ballooning stability is determined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this equation provides the marginal stability diagram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Collaboration with C.C.Hegna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thanks also to N.Pomphrey, A.Ware, R.Torasso, N.Nakajima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Influence of pressure-gradient, shear</a:t>
            </a:r>
            <a:br>
              <a:rPr sz="3600"/>
            </a:b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on ballooning stability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Usefulness of profile-variation method is verified by equilibrium reconstructio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4280" y="2166840"/>
            <a:ext cx="3935520" cy="3932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A sequence of equilibria,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with increasing pressure,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is constructed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Though the geometry is changing,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the marginal stability diagram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is a good predictor of stability limit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The equilibrium is indicated with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+ if unstabl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264c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if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tabl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44" name="m3b15%202nd%20order%20comparison%20with%20global%202" descr=""/>
          <p:cNvPicPr/>
          <p:nvPr/>
        </p:nvPicPr>
        <p:blipFill>
          <a:blip r:embed="rId2"/>
          <a:stretch/>
        </p:blipFill>
        <p:spPr>
          <a:xfrm>
            <a:off x="4400640" y="1719360"/>
            <a:ext cx="452916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The ballooning equation takes the form..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500120" y="2443320"/>
          <a:ext cx="5945400" cy="367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00120" y="2443320"/>
                    <a:ext cx="5945400" cy="36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841680" y="2125800"/>
            <a:ext cx="266328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264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6600" y="1844640"/>
            <a:ext cx="2133720" cy="577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depends on s</a:t>
            </a:r>
            <a:r>
              <a:rPr b="0" lang="en-US" sz="24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The pressure-gradient &amp; shear are varied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6120" y="1905120"/>
            <a:ext cx="4228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138640" y="1905120"/>
          <a:ext cx="3425760" cy="360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38640" y="1905120"/>
                    <a:ext cx="3425760" cy="36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187280" y="4619520"/>
            <a:ext cx="2743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zero-order change in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gradient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8000" y="2073240"/>
            <a:ext cx="45576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first-order change in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pressure and transform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58680" y="5621400"/>
            <a:ext cx="7218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wo free parameters </a:t>
            </a:r>
            <a:r>
              <a:rPr b="0" lang="en-US" sz="2400" spc="-1" strike="noStrike">
                <a:solidFill>
                  <a:srgbClr val="00264c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264c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264c"/>
                </a:solidFill>
                <a:latin typeface="Symbol"/>
                <a:ea typeface="Symbol"/>
              </a:rPr>
              <a:t>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4920" y="1762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04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e coordinates are varied to preserve MHD equilibrium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04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It is the only the local shear which is affected to zero-order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04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e perturbed ballooning equation takes the form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The coordinate response &amp; perturbed ballooning equation are determined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812960" y="2151000"/>
          <a:ext cx="5135400" cy="52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12960" y="2151000"/>
                    <a:ext cx="513540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293920" y="3038400"/>
          <a:ext cx="4060800" cy="64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93920" y="3038400"/>
                    <a:ext cx="40608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533520" y="4091040"/>
          <a:ext cx="7877160" cy="2282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520" y="4091040"/>
                    <a:ext cx="7877160" cy="22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Eigenvalue perturbation theory is applicabl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3960" y="1830240"/>
          <a:ext cx="8386920" cy="469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3960" y="1830240"/>
                    <a:ext cx="8386920" cy="46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2000" y="228240"/>
            <a:ext cx="8636040" cy="1219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eory determines . . . .</a:t>
            </a:r>
            <a:br>
              <a:rPr sz="2400"/>
            </a:b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if increasing p</a:t>
            </a:r>
            <a:r>
              <a:rPr b="0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is stabilizing or destabilizing; </a:t>
            </a:r>
            <a:br>
              <a:rPr sz="2400"/>
            </a:b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if a second stable region is likely to exis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293840" y="1666800"/>
          <a:ext cx="6737400" cy="97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3840" y="1666800"/>
                    <a:ext cx="673740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523880" y="2619360"/>
          <a:ext cx="5430960" cy="2174760"/>
        </p:xfrm>
        <a:graphic>
          <a:graphicData uri="http://schemas.openxmlformats.org/drawingml/2006/table">
            <a:tbl>
              <a:tblPr/>
              <a:tblGrid>
                <a:gridCol w="1809720"/>
                <a:gridCol w="1811520"/>
                <a:gridCol w="1809720"/>
              </a:tblGrid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101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2084400" y="2616120"/>
          <a:ext cx="700200" cy="67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84400" y="2616120"/>
                    <a:ext cx="70020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692520" y="2616120"/>
          <a:ext cx="949320" cy="674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692520" y="2616120"/>
                    <a:ext cx="94932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5662440" y="2616120"/>
          <a:ext cx="700200" cy="674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662440" y="2616120"/>
                    <a:ext cx="70020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1941480" y="3314880"/>
          <a:ext cx="1001880" cy="1023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41480" y="3314880"/>
                    <a:ext cx="100188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450040" y="3314880"/>
          <a:ext cx="1126800" cy="10238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450040" y="3314880"/>
                    <a:ext cx="112680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389320" y="4856040"/>
          <a:ext cx="3632040" cy="11732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389320" y="4856040"/>
                    <a:ext cx="363204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Quasi-poloidal (m3b15) configuratio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228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04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quasi-poloidal configuration studied by Ware et al. has strong second stable regio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04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solid curve is stability boundary determined by exactly re-solving ballooning equation on grid 200x200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04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dotted curve from analytic expression – single eigenfunction calculatio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35" name="m3b15.6.ip010" descr=""/>
          <p:cNvPicPr/>
          <p:nvPr/>
        </p:nvPicPr>
        <p:blipFill>
          <a:blip r:embed="rId5"/>
          <a:stretch/>
        </p:blipFill>
        <p:spPr>
          <a:xfrm>
            <a:off x="4545000" y="1987560"/>
            <a:ext cx="435924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LHD has second stable region near cor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228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04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LHD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04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solid line is exact calculation; that is, solving the perturbed eigenvalue equation exactly on a grid 200x200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04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dotted curve from analytic expression; requires only one ballooning calculation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38" name="lhd" descr=""/>
          <p:cNvPicPr/>
          <p:nvPr/>
        </p:nvPicPr>
        <p:blipFill>
          <a:blip r:embed="rId5"/>
          <a:stretch/>
        </p:blipFill>
        <p:spPr>
          <a:xfrm>
            <a:off x="5165640" y="2389320"/>
            <a:ext cx="362124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4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NCSX li383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228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04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li383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04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solid line is exact calculation; that is, solving the perturbed eigenvalue equation exactly on a grid 200x200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04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dotted curve from analytic expression; requires only one ballooning calculation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41" name="li383" descr=""/>
          <p:cNvPicPr/>
          <p:nvPr/>
        </p:nvPicPr>
        <p:blipFill>
          <a:blip r:embed="rId5"/>
          <a:stretch/>
        </p:blipFill>
        <p:spPr>
          <a:xfrm>
            <a:off x="4876920" y="2092320"/>
            <a:ext cx="406692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4T12:48:35Z</dcterms:created>
  <dc:creator>shudson</dc:creator>
  <dc:description/>
  <dc:language>en-US</dc:language>
  <cp:lastModifiedBy>shudson</cp:lastModifiedBy>
  <dcterms:modified xsi:type="dcterms:W3CDTF">2004-03-10T14:49:29Z</dcterms:modified>
  <cp:revision>645</cp:revision>
  <dc:subject/>
  <dc:title>Marginal ballooning stability</dc:title>
</cp:coreProperties>
</file>