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9.jpeg" ContentType="image/jpeg"/>
  <Override PartName="/ppt/media/image4.wmf" ContentType="image/x-wmf"/>
  <Override PartName="/ppt/media/image18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20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C66-E9F4-4F99-9920-F51D2A3A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2534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F29-FA46-4F65-B00B-BDC8180C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3C4-DBB4-4458-8A0A-52CC4335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16A-AD19-4955-8391-25735051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0D90-9A38-4F1D-905A-105D8485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D594-F7A9-4C37-8CE3-97BDE17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D9F0-DB48-4F78-9B16-D0024F76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A9EB-9627-4BA0-AF2A-515A9C7C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9B5F-AD8F-46E4-8D1B-20B6A320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45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5283-1733-4751-9B26-F36889E9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C2ED-1E6E-4364-A8F7-A42FCDFA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DFE-9560-47EA-8696-A633DBA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8DEC-F09B-40F5-BCF5-B6D9602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05C1-9C95-4945-8D3C-24B1CB3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42534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87E-5B5E-443D-84E9-E2A641E8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22D8-08A5-47D7-B1FF-9358C868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A94-C4D2-44B5-9C13-31807F45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FC7-CEF3-43AC-87AE-DAF25331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3D2-0CFE-4130-8A89-DD4ABEC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AAA-5185-4A24-A887-E9AA90F1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45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37B-7BF9-41CE-81CD-79CED80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A8E-7368-4253-AD08-5DD50A70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B99-5750-4D9F-AFD3-D1AE56C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72D-D57A-48C9-9931-BA7B7499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7AFE-81A0-4C08-AA58-CA1A66880FC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E4EE-5671-4FEB-9838-04FEDCFEE10F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 semi-analytic expression determining the influence of pressure-gradient and average shear on ballooning stability is determine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is equation provides the marginal stability diagra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llaboration with C.C.Hegn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anks also to N.Pomphrey, A.Ware, R.Torasso, N.Nakajim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fluence of pressure-gradient, shear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on ballooning sta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Usefulness of profile-variation method is verified by equilibrium reconstru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4280" y="2166840"/>
            <a:ext cx="3935520" cy="393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 sequence of equilibria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with increasing pressure,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s constructed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hough the geometry is changing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he marginal stability diagra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s a good predictor of stability limit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he equilibrium is indicated with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+ if unstab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tab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4" name="m3b15%202nd%20order%20comparison%20with%20global%202" descr=""/>
          <p:cNvPicPr/>
          <p:nvPr/>
        </p:nvPicPr>
        <p:blipFill>
          <a:blip r:embed="rId2"/>
          <a:stretch/>
        </p:blipFill>
        <p:spPr>
          <a:xfrm>
            <a:off x="4400640" y="1719360"/>
            <a:ext cx="45291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ballooning equation takes the form.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00120" y="2443320"/>
          <a:ext cx="5945400" cy="36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2443320"/>
                    <a:ext cx="59454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841680" y="2125800"/>
            <a:ext cx="26632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264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600" y="1844640"/>
            <a:ext cx="2133720" cy="57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epends on s</a:t>
            </a:r>
            <a:r>
              <a:rPr b="0" lang="en-US" sz="24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pressure-gradient &amp; shear are varie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422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38640" y="1905120"/>
          <a:ext cx="3425760" cy="36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38640" y="1905120"/>
                    <a:ext cx="34257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187280" y="4619520"/>
            <a:ext cx="2743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ero-order change in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gradien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" y="2073240"/>
            <a:ext cx="4557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rst-order change in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ressure and transfor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58680" y="5621400"/>
            <a:ext cx="7218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wo free parameters 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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1762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e coordinates are varied to preserve MHD equilibri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t is the only the local shear which is affected to zero-ord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e perturbed ballooning equation takes the for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coordinate response &amp; perturbed ballooning equation are determine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12960" y="2151000"/>
          <a:ext cx="51354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2960" y="2151000"/>
                    <a:ext cx="51354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93920" y="3038400"/>
          <a:ext cx="406080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93920" y="3038400"/>
                    <a:ext cx="4060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33520" y="4091040"/>
          <a:ext cx="7877160" cy="22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091040"/>
                    <a:ext cx="787716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Eigenvalue perturbation theory is applicab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3960" y="1830240"/>
          <a:ext cx="8386920" cy="46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3960" y="1830240"/>
                    <a:ext cx="838692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2000" y="228240"/>
            <a:ext cx="863604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eory determines . . . .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f increasing p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s stabilizing or destabilizing; 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f a second stable region is likely to exi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3840" y="1666800"/>
          <a:ext cx="6737400" cy="97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3840" y="1666800"/>
                    <a:ext cx="67374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23880" y="2619360"/>
          <a:ext cx="5430960" cy="2174760"/>
        </p:xfrm>
        <a:graphic>
          <a:graphicData uri="http://schemas.openxmlformats.org/drawingml/2006/table">
            <a:tbl>
              <a:tblPr/>
              <a:tblGrid>
                <a:gridCol w="1809720"/>
                <a:gridCol w="1811520"/>
                <a:gridCol w="180972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84400" y="2616120"/>
          <a:ext cx="700200" cy="6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4400" y="2616120"/>
                    <a:ext cx="700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692520" y="2616120"/>
          <a:ext cx="949320" cy="67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92520" y="2616120"/>
                    <a:ext cx="9493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662440" y="2616120"/>
          <a:ext cx="700200" cy="67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62440" y="2616120"/>
                    <a:ext cx="700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941480" y="3314880"/>
          <a:ext cx="1001880" cy="102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1480" y="3314880"/>
                    <a:ext cx="10018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450040" y="3314880"/>
          <a:ext cx="1126800" cy="102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50040" y="3314880"/>
                    <a:ext cx="11268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389320" y="4856040"/>
          <a:ext cx="3632040" cy="1173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89320" y="4856040"/>
                    <a:ext cx="36320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Quasi-poloidal (m3b15) configur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22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quasi-poloidal configuration studied by Ware et al. has strong second stable reg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olid curve is stability boundary determined by exactly re-solving ballooning equation on grid 200x20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otted curve from analytic expression – single eigenfunction calcul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5" name="m3b15.6.ip010" descr=""/>
          <p:cNvPicPr/>
          <p:nvPr/>
        </p:nvPicPr>
        <p:blipFill>
          <a:blip r:embed="rId5"/>
          <a:stretch/>
        </p:blipFill>
        <p:spPr>
          <a:xfrm>
            <a:off x="4545000" y="1987560"/>
            <a:ext cx="43592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HD has second stable region near cor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22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H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olid line is exact calculation; that is, solving the perturbed eigenvalue equation exactly on a grid 200x20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otted curve from analytic expression; requires only one ballooning calculatio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8" name="lhd" descr=""/>
          <p:cNvPicPr/>
          <p:nvPr/>
        </p:nvPicPr>
        <p:blipFill>
          <a:blip r:embed="rId5"/>
          <a:stretch/>
        </p:blipFill>
        <p:spPr>
          <a:xfrm>
            <a:off x="5165640" y="2389320"/>
            <a:ext cx="362124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NCSX li38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22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i38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olid line is exact calculation; that is, solving the perturbed eigenvalue equation exactly on a grid 200x20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otted curve from analytic expression; requires only one ballooning calculatio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1" name="li383" descr=""/>
          <p:cNvPicPr/>
          <p:nvPr/>
        </p:nvPicPr>
        <p:blipFill>
          <a:blip r:embed="rId5"/>
          <a:stretch/>
        </p:blipFill>
        <p:spPr>
          <a:xfrm>
            <a:off x="4876920" y="2092320"/>
            <a:ext cx="40669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2:48:35Z</dcterms:created>
  <dc:creator>shudson</dc:creator>
  <dc:description/>
  <dc:language>en-US</dc:language>
  <cp:lastModifiedBy>shudson</cp:lastModifiedBy>
  <dcterms:modified xsi:type="dcterms:W3CDTF">2004-03-10T14:49:29Z</dcterms:modified>
  <cp:revision>645</cp:revision>
  <dc:subject/>
  <dc:title>Marginal ballooning stability</dc:title>
</cp:coreProperties>
</file>