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21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FB6E-62F7-41B8-99DB-3DDF6C71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0C69-AD68-443A-9052-6559D759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6A87-7B68-449B-A49E-C2C9E248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92FB-04D2-45EE-AEB0-359FA888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7335-A696-4562-B8EB-A85E87CF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CFBF-EFC7-4F18-B929-9017E41E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44D2-D068-4FE6-93F7-43FA2FBD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E783-E326-4ADA-8C7E-8ECAF4D0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F832-E69A-46EC-B314-39080F68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6602-5965-46E3-A17A-762AEABA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6798-8CAA-4815-9C4C-EEA4342F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BBF1-0549-452E-8903-324904F0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152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1BB1-ACD8-4FB9-9E29-6FBDAC969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.wmf"/><Relationship Id="rId1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luence of pressure-gradient and average-shear on ballooning stability</a:t>
            </a:r>
            <a:br>
              <a:rPr sz="3600"/>
            </a:br>
            <a:br>
              <a:rPr sz="36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i-analytic expression for ballooning growth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R.Hud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.C.Heg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.Nakajim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.Torass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.War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MTI9"/>
              </a:rPr>
              <a:t>1) Princeton Plasma Physics Laboratory, P.O. Box 451,Princeton NJ 08543, U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MTI9"/>
              </a:rPr>
              <a:t>2) Department of Engineering Physics, University of Wisconsin-Madison, WI 53706, U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MTI9"/>
              </a:rPr>
              <a:t>3) National Institute for Fusion Science, Nagoya 464-01, Jap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MTI9"/>
              </a:rPr>
              <a:t>4) Courant Institute of Mathematical Sciences, New York University, NY 10012, U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MTI9"/>
              </a:rPr>
              <a:t>5) Department of Physics and Astronomy, University of Montana, Missoula, MT, 59812, U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85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Verdana"/>
              </a:rPr>
              <a:t>2004 International Sherwood Theory Conference April 26-28, Missoula, Monta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bility boundary is verified by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lobal equilibrium re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371600"/>
            <a:ext cx="4495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quence of increasing pressure equilibria is constructed with VM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xed boundary, fixed current pro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s=0.3 surface, the ballooning stability is re-calc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icated with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+, stable or un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rginal stability diagram is constru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original equilibrium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 : exact solution to perturbed eq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ted : from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der analytic ex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The stability diagram gives good prediction of global stability bou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m3b15%202nd%20order%20comparison%20with%20global%202" descr=""/>
          <p:cNvPicPr/>
          <p:nvPr/>
        </p:nvPicPr>
        <p:blipFill>
          <a:blip r:embed="rId1"/>
          <a:stretch/>
        </p:blipFill>
        <p:spPr>
          <a:xfrm>
            <a:off x="4876920" y="1440000"/>
            <a:ext cx="3809880" cy="3894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477120" y="2971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581280" y="3124080"/>
            <a:ext cx="28195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2438280"/>
            <a:ext cx="990720" cy="381240"/>
          </a:xfrm>
          <a:prstGeom prst="leftRightArrow">
            <a:avLst>
              <a:gd name="adj1" fmla="val 50000"/>
              <a:gd name="adj2" fmla="val 5173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15200" y="2438280"/>
            <a:ext cx="1066680" cy="381240"/>
          </a:xfrm>
          <a:prstGeom prst="rightArrow">
            <a:avLst>
              <a:gd name="adj1" fmla="val 50000"/>
              <a:gd name="adj2" fmla="val 699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799880" y="2438280"/>
            <a:ext cx="1219320" cy="381240"/>
          </a:xfrm>
          <a:prstGeom prst="rightArrow">
            <a:avLst>
              <a:gd name="adj1" fmla="val 50000"/>
              <a:gd name="adj2" fmla="val 799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6D7C-EE44-4642-B53A-AC14865DB4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bility boundary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HD-like configuration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CSX-like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lhd" descr=""/>
          <p:cNvPicPr/>
          <p:nvPr/>
        </p:nvPicPr>
        <p:blipFill>
          <a:blip r:embed="rId1"/>
          <a:stretch/>
        </p:blipFill>
        <p:spPr>
          <a:xfrm>
            <a:off x="950760" y="1752480"/>
            <a:ext cx="3621240" cy="3892680"/>
          </a:xfrm>
          <a:prstGeom prst="rect">
            <a:avLst/>
          </a:prstGeom>
          <a:ln w="0">
            <a:noFill/>
          </a:ln>
        </p:spPr>
      </p:pic>
      <p:pic>
        <p:nvPicPr>
          <p:cNvPr id="130" name="li383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3833640" cy="3886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990720" y="5638680"/>
            <a:ext cx="7391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lid   : exact (numerical) solution to perturbed ballooning eq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tted : from analytic expression (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rd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52280" y="4038480"/>
            <a:ext cx="2743200" cy="762120"/>
          </a:xfrm>
          <a:prstGeom prst="wedgeRoundRectCallout">
            <a:avLst>
              <a:gd name="adj1" fmla="val -53300"/>
              <a:gd name="adj2" fmla="val -109171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-region of LHD-lik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ong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table regi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bitrary pressure gradi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248520" y="2895480"/>
            <a:ext cx="2209680" cy="609840"/>
          </a:xfrm>
          <a:prstGeom prst="wedgeRoundRectCallout">
            <a:avLst>
              <a:gd name="adj1" fmla="val -21268"/>
              <a:gd name="adj2" fmla="val 227861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xed-boundary li38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ak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table reg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B8EC-26AC-40DC-B2B6-6780D86A06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nalytic expression describing the dependence of the ballooning growth rate on pressure-gradient and shear variations is deri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pression agrees well with the exact numerical solution to the perturbed ballooning equation, and agrees with stability boundaries computed with global equilibrium reconstru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pression determin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pressure-gradient is stabilizing or destabili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ggests if a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ble region will ex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y may be of use in stellarator optimization routines and enable deeper insight into mechanism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 will attempt to translate these results to global mode st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813F-6C0A-4167-A9F3-C6195BA456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80773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 work o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ility in stellarators has shown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tellarators 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WARE et al., PRL 2002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tellarators do 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HEGNA &amp; HUDSON, PRL 2001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es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le reg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property of the configuration determine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ilit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971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58128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ethod of profile variations [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EENE &amp; CHANCE, NF 198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 is applied to stellarator configurations [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GNA &amp; NAKAJIMA, PoP 199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file variations (and the self-consistent coordinate response) produce variations in the ballooning coeffici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genvalue perturbation theory is used to obtain an analytic expression for the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ballooning growth rate, </a:t>
            </a:r>
            <a:r>
              <a:rPr b="0" i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a function of the pressure-gradient and average-shear: </a:t>
            </a:r>
            <a:r>
              <a:rPr b="0" i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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 ,p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r constant geometry)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nalytic expression determines if pressure-gradient is stabilizing or destabilizing, and suggests if a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ble region will ex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81D4-E534-474A-8469-ADF3BDC84C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ree approaches will be comp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librium reconstr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ltip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uilibrium calc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ary p'(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amp;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(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VMEC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ltip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llooning calc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le-vari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REENE&amp;CHANCE,198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ing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uilibrium cal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struct semi-analytic equilibr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ltip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llooning calc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tic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extension of profile-varia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ing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uilibrium cal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ing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llooning cal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057400"/>
            <a:ext cx="29718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21240" y="3352680"/>
          <a:ext cx="101520" cy="1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1240" y="3352680"/>
                    <a:ext cx="101520" cy="1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486400" y="49528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3848040" y="331416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 s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248520" y="3314880"/>
          <a:ext cx="13968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3314880"/>
                    <a:ext cx="13968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609480" y="4495680"/>
            <a:ext cx="4267440" cy="1371600"/>
          </a:xfrm>
          <a:prstGeom prst="wedgeRoundRectCallout">
            <a:avLst>
              <a:gd name="adj1" fmla="val 74180"/>
              <a:gd name="adj2" fmla="val 5995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6019920"/>
            <a:ext cx="297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to be describ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6E12-5D67-4A7D-993F-7E1BDFB33E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essure-gradient and average-shear profiles are varied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method of profile vari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begin with a full solution to an MHD equilibrium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VM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nalytic variation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impos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formally small 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surfac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tion in the gradients is zero-order in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free parameters (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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208480" y="2209680"/>
          <a:ext cx="2946600" cy="347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8480" y="2209680"/>
                    <a:ext cx="294660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56BD-932B-492B-B1FC-297351AFAB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791320" y="3733920"/>
            <a:ext cx="3124080" cy="304560"/>
          </a:xfrm>
          <a:prstGeom prst="wedgeRoundRectCallout">
            <a:avLst>
              <a:gd name="adj1" fmla="val -68291"/>
              <a:gd name="adj2" fmla="val 4531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ter will keep (</a:t>
            </a:r>
            <a:r>
              <a:rPr b="0" i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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0" i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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 </a:t>
            </a:r>
            <a:r>
              <a:rPr b="0" i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elf-consistent coordinate response is determ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ordinates are similarly adjusted to preserv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zero order in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 local shear is 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equation i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ct at the surface of intere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id for arbitrarily large (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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efficients are determined by the original equilibrium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imply solved using Fourier representation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013120" y="1428840"/>
          <a:ext cx="472104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3120" y="1428840"/>
                    <a:ext cx="47210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117880" y="2438280"/>
          <a:ext cx="4633920" cy="63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17880" y="2438280"/>
                    <a:ext cx="46339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52280" y="5638680"/>
          <a:ext cx="8839440" cy="105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5638680"/>
                    <a:ext cx="883944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04920" y="4952880"/>
          <a:ext cx="144756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952880"/>
                    <a:ext cx="14475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419720" y="5029200"/>
          <a:ext cx="4190760" cy="59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5029200"/>
                    <a:ext cx="41907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3652-C197-433C-8A06-97AA89382D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coefficients of the ballooning equation are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20600" y="990720"/>
          <a:ext cx="7437600" cy="54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990720"/>
                    <a:ext cx="7437600" cy="54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791320" y="3505320"/>
            <a:ext cx="3124080" cy="609480"/>
          </a:xfrm>
          <a:prstGeom prst="wedgeRoundRectCallout">
            <a:avLst>
              <a:gd name="adj1" fmla="val -50356"/>
              <a:gd name="adj2" fmla="val 11171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 be resolved numericall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t further analytic progress 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043A-C1B9-41B6-A075-29EFE1E55D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igenvalue perturbation theory gives analytic expression for change in ballooning growth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85800" y="1424160"/>
          <a:ext cx="8035920" cy="52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24160"/>
                    <a:ext cx="8035920" cy="52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6858000" y="4800600"/>
            <a:ext cx="1752480" cy="304920"/>
          </a:xfrm>
          <a:prstGeom prst="wedgeRoundRectCallout">
            <a:avLst>
              <a:gd name="adj1" fmla="val -87226"/>
              <a:gd name="adj2" fmla="val 74481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erator i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4419720"/>
            <a:ext cx="1752480" cy="304560"/>
          </a:xfrm>
          <a:prstGeom prst="wedgeRoundRectCallout">
            <a:avLst>
              <a:gd name="adj1" fmla="val -53712"/>
              <a:gd name="adj2" fmla="val -14635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ner 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0" y="4800600"/>
            <a:ext cx="1752480" cy="304920"/>
          </a:xfrm>
          <a:prstGeom prst="wedgeRoundRectCallout">
            <a:avLst>
              <a:gd name="adj1" fmla="val -73550"/>
              <a:gd name="adj2" fmla="val -5364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erator i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7E80-61A1-49E7-8ABF-A71C22E3A5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 flipV="1">
            <a:off x="3429000" y="3657600"/>
            <a:ext cx="3809880" cy="2286000"/>
          </a:xfrm>
          <a:custGeom>
            <a:avLst/>
            <a:gdLst/>
            <a:ahLst/>
            <a:rect l="l" t="t" r="r" b="b"/>
            <a:pathLst>
              <a:path w="3264" h="2224">
                <a:moveTo>
                  <a:pt x="0" y="96"/>
                </a:moveTo>
                <a:cubicBezTo>
                  <a:pt x="544" y="1160"/>
                  <a:pt x="1088" y="2224"/>
                  <a:pt x="1632" y="2208"/>
                </a:cubicBezTo>
                <a:cubicBezTo>
                  <a:pt x="2176" y="2192"/>
                  <a:pt x="2992" y="368"/>
                  <a:pt x="326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theory determines . . .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creased 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 is stabilizing or destabilizing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 if 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ble region will exist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48006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33520" y="4343400"/>
          <a:ext cx="141588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343400"/>
                    <a:ext cx="141588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 flipV="1">
            <a:off x="2133720" y="3505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847880" y="3505320"/>
          <a:ext cx="28584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47880" y="35053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8016840" y="4876920"/>
          <a:ext cx="365040" cy="39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16840" y="4876920"/>
                    <a:ext cx="3650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143000" y="1846440"/>
          <a:ext cx="5514840" cy="1658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1846440"/>
                    <a:ext cx="551484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 flipV="1">
            <a:off x="5334120" y="3657240"/>
            <a:ext cx="0" cy="251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486400" y="5046840"/>
          <a:ext cx="669960" cy="591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86400" y="5046840"/>
                    <a:ext cx="66996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587840" y="5046840"/>
          <a:ext cx="669960" cy="591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87840" y="5046840"/>
                    <a:ext cx="66996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5486400" y="48769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343400" y="4876920"/>
            <a:ext cx="838080" cy="304560"/>
          </a:xfrm>
          <a:prstGeom prst="rightArrow">
            <a:avLst>
              <a:gd name="adj1" fmla="val 50000"/>
              <a:gd name="adj2" fmla="val 687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0384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47712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4267080"/>
            <a:ext cx="2438640" cy="457200"/>
          </a:xfrm>
          <a:prstGeom prst="leftRightArrow">
            <a:avLst>
              <a:gd name="adj1" fmla="val 50000"/>
              <a:gd name="adj2" fmla="val 10618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26708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09680" y="4267080"/>
            <a:ext cx="1828800" cy="4572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2590920"/>
            <a:ext cx="2590560" cy="457200"/>
          </a:xfrm>
          <a:prstGeom prst="wedgeRoundRectCallout">
            <a:avLst>
              <a:gd name="adj1" fmla="val -78981"/>
              <a:gd name="adj2" fmla="val -5590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id if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1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&lt;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may need (</a:t>
            </a:r>
            <a:r>
              <a:rPr b="0" i="1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1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(</a:t>
            </a:r>
            <a:r>
              <a:rPr b="0" i="1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1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913120" y="4038480"/>
          <a:ext cx="592200" cy="346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13120" y="4038480"/>
                    <a:ext cx="59220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033880" y="4038480"/>
          <a:ext cx="617760" cy="346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33880" y="4038480"/>
                    <a:ext cx="61776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6799320" y="4038480"/>
          <a:ext cx="592200" cy="346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99320" y="4038480"/>
                    <a:ext cx="59220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6397-FC2A-49C0-97AB-50665C9A0A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ginal stability boundary : quasi-poloidal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m3b15.6.ip010" descr=""/>
          <p:cNvPicPr/>
          <p:nvPr/>
        </p:nvPicPr>
        <p:blipFill>
          <a:blip r:embed="rId1"/>
          <a:stretch/>
        </p:blipFill>
        <p:spPr>
          <a:xfrm>
            <a:off x="5029200" y="1236600"/>
            <a:ext cx="3809880" cy="3716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4920" y="1219320"/>
            <a:ext cx="4495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si-poloidal configuration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WARE et al. PRL, 2002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ble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id curve is stability boundary determined by exactly re-solving ballooning equation on grid 200x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tted curve from analytic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luding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der 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ingle eigenfunction cal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analytic expression accurately reproduces exact stability bound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E350-08BE-42C7-9CEA-B35C2A5BB4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2:37:09Z</dcterms:created>
  <dc:creator>shudson</dc:creator>
  <dc:description/>
  <dc:language>en-US</dc:language>
  <cp:lastModifiedBy>shudson</cp:lastModifiedBy>
  <dcterms:modified xsi:type="dcterms:W3CDTF">2004-04-21T14:29:32Z</dcterms:modified>
  <cp:revision>193</cp:revision>
  <dc:subject/>
  <dc:title>Influence of pressure-gradient and average-shear on ballooning stability</dc:title>
</cp:coreProperties>
</file>