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EDD8-49B8-405E-8AD0-5FE87B378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49DF-94F1-4274-BE82-C71105D46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8337-4A3A-46E8-9D05-0DB05972F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8AE9-B8E9-4BDD-9344-CF8E7396A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CB6F-626F-4765-808B-C2047363D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22EB-A544-4850-82F4-257E20BEB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1AD9-FFE4-45EF-B0FE-E34587D1B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57BE-590F-48D6-BB77-EA36F0DB8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06BA-501D-4371-95CF-15A2C48E3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BFB5-59F6-4892-8256-88F59AC88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E073-A69E-44D4-B732-D6E5A3A00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80F9-0E2C-490F-9D4A-32535B4AC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AACA-C639-4004-84E1-27832046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ect calculation of ballooning eigenvalue deriva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national Stellarator Workshop 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hd4thordererrorconvergence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657600" cy="3662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3D,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der interpolation is easily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0160" y="4886280"/>
          <a:ext cx="879444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60" y="4886280"/>
                    <a:ext cx="87944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09480" y="9144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se of the derivatives enables a crude-grid to give good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1295280"/>
            <a:ext cx="7315200" cy="5473800"/>
            <a:chOff x="1371600" y="1295280"/>
            <a:chExt cx="7315200" cy="5473800"/>
          </a:xfrm>
        </p:grpSpPr>
        <p:pic>
          <p:nvPicPr>
            <p:cNvPr id="104" name="StellaratorTheoryTeleconferenceBallooningProfile" descr=""/>
            <p:cNvPicPr/>
            <p:nvPr/>
          </p:nvPicPr>
          <p:blipFill>
            <a:blip r:embed="rId1"/>
            <a:stretch/>
          </p:blipFill>
          <p:spPr>
            <a:xfrm>
              <a:off x="1752480" y="1295280"/>
              <a:ext cx="5257800" cy="52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324480" y="1295280"/>
              <a:ext cx="2362320" cy="609480"/>
            </a:xfrm>
            <a:prstGeom prst="wedgeRoundRectCallout">
              <a:avLst>
                <a:gd name="adj1" fmla="val -85819"/>
                <a:gd name="adj2" fmla="val 34898"/>
                <a:gd name="adj3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id : ex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lculated at 100 radial po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6400800"/>
              <a:ext cx="43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ial (VMEC) coordi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-600480" y="3722760"/>
              <a:ext cx="4343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llooning 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4724280"/>
              <a:ext cx="2210040" cy="380880"/>
            </a:xfrm>
            <a:prstGeom prst="wedgeRoundRectCallout">
              <a:avLst>
                <a:gd name="adj1" fmla="val 53162"/>
                <a:gd name="adj2" fmla="val -395833"/>
                <a:gd name="adj3" fmla="val 16667"/>
              </a:avLst>
            </a:prstGeom>
            <a:solidFill>
              <a:srgbClr val="ffff99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 : grid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1752480"/>
              <a:ext cx="2819520" cy="380880"/>
            </a:xfrm>
            <a:prstGeom prst="wedgeRoundRectCallout">
              <a:avLst>
                <a:gd name="adj1" fmla="val 56643"/>
                <a:gd name="adj2" fmla="val 220000"/>
                <a:gd name="adj3" fmla="val 16667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shed : 2-point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2680" y="4724280"/>
              <a:ext cx="2210040" cy="380880"/>
            </a:xfrm>
            <a:prstGeom prst="wedgeRoundRectCallout">
              <a:avLst>
                <a:gd name="adj1" fmla="val 6824"/>
                <a:gd name="adj2" fmla="val -343333"/>
                <a:gd name="adj3" fmla="val 16667"/>
              </a:avLst>
            </a:prstGeom>
            <a:solidFill>
              <a:srgbClr val="ffff99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 : grid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erical routines are developed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the semi-classical quantization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erical tools required for ray tracing have been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 will try to compare finite-n stability limits with TERPSICHORE / CAS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rticular, determine what effect the str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 of NCSX wil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it is possible to include FLR effects into the ray trac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3716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infinite-n stability an accurate indication of low-n stability in stella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CSX, infinite-n limit is 4%, but finite-n (n&lt;50) limit is &gt;6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the connection, semi-classical quantization can be used to construct finite-n modes from the infinite-n calc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classical quantization requires ray tracing, and ray tracing requires the derivatives of the ballooning eigen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oster describes an efficient numerical method to calculate the derivatives of the ballooning eigen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9810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wo approaches to MHD stabilit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vs.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6120" y="1473120"/>
          <a:ext cx="84391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473120"/>
                    <a:ext cx="8439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tellarato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tra dimensionality leads to quantum ch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957320"/>
          <a:ext cx="82296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57320"/>
                    <a:ext cx="82296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09480" y="1523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stellarators depend more strongly on field line label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dependence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looning isosurfaces (mostly) like those in tokamaks; cylindr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trajectories mostly integrable; semi-classical quantization agrees with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ite-n ballooning limit reasonable approximation to low-n stability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: L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dependence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looning isosurfaces spher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trajectories chaotic; leads to quantum chaos; difficult to quantize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dynamics suggest highly localized ballooning instabilities; difficult to resolve with global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large discrepancy between infinite-n and low-n stability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: NCS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local to global : ray 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9800" y="1954080"/>
          <a:ext cx="82803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54080"/>
                    <a:ext cx="82803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934320" y="4267080"/>
            <a:ext cx="1828800" cy="381240"/>
          </a:xfrm>
          <a:prstGeom prst="wedgeRoundRectCallout">
            <a:avLst>
              <a:gd name="adj1" fmla="val -81078"/>
              <a:gd name="adj2" fmla="val -7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grid spacin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3716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ly, the eigenvalue derivatives can be determined directly using perturb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943280"/>
          <a:ext cx="8610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43280"/>
                    <a:ext cx="8610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09480" y="13716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rect calculation of the derivatives is beneficial because . .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ys may be integrated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cube need not be construc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igenvalue derivatives may be given directly to an o.d.e.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ay be useful if only a few ray trajectories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to locally refine ray trajectories using higher numeric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lculation of the derivatives is consistent with the calculation of the eigenva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 need to work on this : eigenvalue and derivative are both extrapolated; are they still consistent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atives enable a higher order interpolation of the data-cu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 a 2 point interpolation in 1 dimens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5626080"/>
            <a:ext cx="7696080" cy="851040"/>
            <a:chOff x="762120" y="5626080"/>
            <a:chExt cx="7696080" cy="851040"/>
          </a:xfrm>
        </p:grpSpPr>
        <p:sp>
          <p:nvSpPr>
            <p:cNvPr id="67" name=""/>
            <p:cNvSpPr/>
            <p:nvPr/>
          </p:nvSpPr>
          <p:spPr>
            <a:xfrm>
              <a:off x="762120" y="6477120"/>
              <a:ext cx="7696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90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752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14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6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038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00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562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324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086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0720" y="5791320"/>
              <a:ext cx="761760" cy="291960"/>
            </a:xfrm>
            <a:custGeom>
              <a:avLst/>
              <a:gdLst/>
              <a:ahLst/>
              <a:rect l="l" t="t" r="r" b="b"/>
              <a:pathLst>
                <a:path w="480" h="184">
                  <a:moveTo>
                    <a:pt x="0" y="0"/>
                  </a:moveTo>
                  <a:lnTo>
                    <a:pt x="480" y="1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4120" y="5626080"/>
              <a:ext cx="3054600" cy="490680"/>
            </a:xfrm>
            <a:custGeom>
              <a:avLst/>
              <a:gdLst/>
              <a:ahLst/>
              <a:rect l="l" t="t" r="r" b="b"/>
              <a:pathLst>
                <a:path w="1924" h="309">
                  <a:moveTo>
                    <a:pt x="0" y="92"/>
                  </a:moveTo>
                  <a:cubicBezTo>
                    <a:pt x="80" y="125"/>
                    <a:pt x="318" y="309"/>
                    <a:pt x="478" y="296"/>
                  </a:cubicBezTo>
                  <a:cubicBezTo>
                    <a:pt x="638" y="283"/>
                    <a:pt x="804" y="24"/>
                    <a:pt x="962" y="12"/>
                  </a:cubicBezTo>
                  <a:cubicBezTo>
                    <a:pt x="1120" y="0"/>
                    <a:pt x="1268" y="186"/>
                    <a:pt x="1428" y="225"/>
                  </a:cubicBezTo>
                  <a:cubicBezTo>
                    <a:pt x="1588" y="264"/>
                    <a:pt x="1821" y="243"/>
                    <a:pt x="1924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480" y="5639040"/>
              <a:ext cx="762120" cy="457200"/>
            </a:xfrm>
            <a:custGeom>
              <a:avLst/>
              <a:gdLst/>
              <a:ahLst/>
              <a:rect l="l" t="t" r="r" b="b"/>
              <a:pathLst>
                <a:path w="486" h="261">
                  <a:moveTo>
                    <a:pt x="0" y="261"/>
                  </a:moveTo>
                  <a:lnTo>
                    <a:pt x="4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600" y="5639040"/>
              <a:ext cx="762120" cy="380880"/>
            </a:xfrm>
            <a:custGeom>
              <a:avLst/>
              <a:gdLst/>
              <a:ahLst/>
              <a:rect l="l" t="t" r="r" b="b"/>
              <a:pathLst>
                <a:path w="482" h="217">
                  <a:moveTo>
                    <a:pt x="0" y="0"/>
                  </a:moveTo>
                  <a:lnTo>
                    <a:pt x="482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6010560"/>
              <a:ext cx="761760" cy="9360"/>
            </a:xfrm>
            <a:custGeom>
              <a:avLst/>
              <a:gdLst/>
              <a:ahLst/>
              <a:rect l="l" t="t" r="r" b="b"/>
              <a:pathLst>
                <a:path w="480" h="6">
                  <a:moveTo>
                    <a:pt x="0" y="6"/>
                  </a:moveTo>
                  <a:lnTo>
                    <a:pt x="4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848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838080" y="4800600"/>
          <a:ext cx="7239240" cy="685800"/>
        </p:xfrm>
        <a:graphic>
          <a:graphicData uri="http://schemas.openxmlformats.org/drawingml/2006/table">
            <a:tbl>
              <a:tblPr/>
              <a:tblGrid>
                <a:gridCol w="1809720"/>
                <a:gridCol w="1810080"/>
                <a:gridCol w="1809720"/>
                <a:gridCol w="180972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09480" y="14479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xample, consider an LHD-lik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are unstable iso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sosurfacesC" descr=""/>
          <p:cNvPicPr/>
          <p:nvPr/>
        </p:nvPicPr>
        <p:blipFill>
          <a:blip r:embed="rId1"/>
          <a:srcRect l="10184" t="0" r="6483" b="0"/>
          <a:stretch/>
        </p:blipFill>
        <p:spPr>
          <a:xfrm>
            <a:off x="1676520" y="236232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5791320" y="30481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409720" y="213372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190760" y="30481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743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342"/>
              <a:gd name="adj4" fmla="val -26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743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342"/>
              <a:gd name="adj4" fmla="val -26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676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342"/>
              <a:gd name="adj4" fmla="val -26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5181480"/>
            <a:ext cx="3657600" cy="914400"/>
          </a:xfrm>
          <a:prstGeom prst="borderCallout1">
            <a:avLst>
              <a:gd name="adj1" fmla="val 18750"/>
              <a:gd name="adj2" fmla="val -8333"/>
              <a:gd name="adj3" fmla="val -103472"/>
              <a:gd name="adj4" fmla="val -16277"/>
            </a:avLst>
          </a:prstGeom>
          <a:noFill/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ological cylind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tend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09680"/>
            <a:ext cx="3352680" cy="914400"/>
          </a:xfrm>
          <a:prstGeom prst="borderCallout1">
            <a:avLst>
              <a:gd name="adj1" fmla="val 18750"/>
              <a:gd name="adj2" fmla="val -8333"/>
              <a:gd name="adj3" fmla="val 166148"/>
              <a:gd name="adj4" fmla="val 143842"/>
            </a:avLst>
          </a:prstGeom>
          <a:noFill/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ological sphe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liz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5-09-30T19:21:52Z</dcterms:modified>
  <cp:revision>114</cp:revision>
  <dc:subject/>
  <dc:title>Direct calculation of   using eigenvalue perturbation theory   S.R.Hudson  </dc:title>
</cp:coreProperties>
</file>