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8.jpeg" ContentType="image/jpeg"/>
  <Override PartName="/ppt/media/image4.wmf" ContentType="image/x-wmf"/>
  <Override PartName="/ppt/media/image5.png" ContentType="image/png"/>
  <Override PartName="/ppt/media/image6.png" ContentType="image/png"/>
  <Override PartName="/ppt/media/image7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9342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1D4285-B43E-4E78-B4B8-630C1364F7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04920" y="4005360"/>
            <a:ext cx="86104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80A5EC-0170-4968-901A-A23CE71966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4201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17080" y="1219320"/>
            <a:ext cx="4201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4005360"/>
            <a:ext cx="4201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717080" y="4005360"/>
            <a:ext cx="4201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EB89E3-65F6-444E-B7B0-61B81E514D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2772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16240" y="1219320"/>
            <a:ext cx="2772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560" y="1219320"/>
            <a:ext cx="2772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04920" y="4005360"/>
            <a:ext cx="2772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16240" y="4005360"/>
            <a:ext cx="2772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27560" y="4005360"/>
            <a:ext cx="2772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5DF7D5-21FE-4ACF-8D12-B4779289066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304920" y="1219320"/>
            <a:ext cx="861048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35D91B-52B1-432D-85B1-EB42567F2CF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ABFEEA-AC1D-45C3-BBA9-3E550AEBB5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420156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717080" y="1219320"/>
            <a:ext cx="420156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D76053-38EE-4226-8A07-A99B562FCE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0899BE-D908-49CF-ADF8-7B9246A6DA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440" y="456840"/>
            <a:ext cx="792468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CFA46B-B320-4378-AF6D-127180C21E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4201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17080" y="1219320"/>
            <a:ext cx="420156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304920" y="4005360"/>
            <a:ext cx="4201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A4A460-FDFE-41F1-97F4-52D0FDF7B3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420156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17080" y="1219320"/>
            <a:ext cx="4201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717080" y="4005360"/>
            <a:ext cx="4201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D995A7-4299-44E1-883F-C634890760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4201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17080" y="1219320"/>
            <a:ext cx="4201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04920" y="4005360"/>
            <a:ext cx="86104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C10633-D395-4A48-8D93-85DF293822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219320"/>
            <a:ext cx="861048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933960" y="6019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EE761-4EF5-475D-969E-430BDEE1F7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  <a:ea typeface="Arial"/>
              </a:rPr>
              <a:t>D</a:t>
            </a: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irect calculation of ballooning eigenvalue derivatives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371600" y="533412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.R.Hud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ternational Stellarator Workshop 2005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lhd4thordererrorconvergence" descr=""/>
          <p:cNvPicPr/>
          <p:nvPr/>
        </p:nvPicPr>
        <p:blipFill>
          <a:blip r:embed="rId1"/>
          <a:stretch/>
        </p:blipFill>
        <p:spPr>
          <a:xfrm>
            <a:off x="2590920" y="1143000"/>
            <a:ext cx="3657600" cy="366228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5345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 3D, 4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order interpolation is easily obtain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200160" y="4886280"/>
          <a:ext cx="8794440" cy="1743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00160" y="4886280"/>
                    <a:ext cx="8794440" cy="174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"/>
          <p:cNvSpPr/>
          <p:nvPr/>
        </p:nvSpPr>
        <p:spPr>
          <a:xfrm>
            <a:off x="609480" y="91440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use of the derivatives enables a crude-grid to give good interpo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1371600" y="1295280"/>
            <a:ext cx="7315200" cy="5473800"/>
            <a:chOff x="1371600" y="1295280"/>
            <a:chExt cx="7315200" cy="5473800"/>
          </a:xfrm>
        </p:grpSpPr>
        <p:pic>
          <p:nvPicPr>
            <p:cNvPr id="104" name="StellaratorTheoryTeleconferenceBallooningProfile" descr=""/>
            <p:cNvPicPr/>
            <p:nvPr/>
          </p:nvPicPr>
          <p:blipFill>
            <a:blip r:embed="rId1"/>
            <a:stretch/>
          </p:blipFill>
          <p:spPr>
            <a:xfrm>
              <a:off x="1752480" y="1295280"/>
              <a:ext cx="5257800" cy="524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6324480" y="1295280"/>
              <a:ext cx="2362320" cy="609480"/>
            </a:xfrm>
            <a:prstGeom prst="wedgeRoundRectCallout">
              <a:avLst>
                <a:gd name="adj1" fmla="val -85819"/>
                <a:gd name="adj2" fmla="val 34898"/>
                <a:gd name="adj3" fmla="val 16667"/>
              </a:avLst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olid : exac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alculated at 100 radial point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590920" y="6400800"/>
              <a:ext cx="434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adial (VMEC) coordina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rot="16200000">
              <a:off x="-600480" y="3722760"/>
              <a:ext cx="434340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allooning profi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352680" y="4724280"/>
              <a:ext cx="2210040" cy="380880"/>
            </a:xfrm>
            <a:prstGeom prst="wedgeRoundRectCallout">
              <a:avLst>
                <a:gd name="adj1" fmla="val 53162"/>
                <a:gd name="adj2" fmla="val -395833"/>
                <a:gd name="adj3" fmla="val 16667"/>
              </a:avLst>
            </a:prstGeom>
            <a:solidFill>
              <a:srgbClr val="ffff99">
                <a:alpha val="50000"/>
              </a:srgbClr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X : grid poi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1752480"/>
              <a:ext cx="2819520" cy="380880"/>
            </a:xfrm>
            <a:prstGeom prst="wedgeRoundRectCallout">
              <a:avLst>
                <a:gd name="adj1" fmla="val 56643"/>
                <a:gd name="adj2" fmla="val 220000"/>
                <a:gd name="adj3" fmla="val 16667"/>
              </a:avLst>
            </a:prstGeom>
            <a:solidFill>
              <a:srgbClr val="ffff99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ashed : 2-point interpol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352680" y="4724280"/>
              <a:ext cx="2210040" cy="380880"/>
            </a:xfrm>
            <a:prstGeom prst="wedgeRoundRectCallout">
              <a:avLst>
                <a:gd name="adj1" fmla="val 6824"/>
                <a:gd name="adj2" fmla="val -343333"/>
                <a:gd name="adj3" fmla="val 16667"/>
              </a:avLst>
            </a:prstGeom>
            <a:solidFill>
              <a:srgbClr val="ffff99">
                <a:alpha val="50000"/>
              </a:srgbClr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X : grid poi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609480" y="114300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numerical routines are developed,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ext the semi-classical quantization . . 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5341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numerical tools required for ray tracing have been develop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ture work will try to compare finite-n stability limits with TERPSICHORE / CAS3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particular, determine what effect the strong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pendence of NCSX will produ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so, it is possible to include FLR effects into the ray tracing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09480" y="137160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BSTRACT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s infinite-n stability an accurate indication of low-n stability in stellara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52280" y="2133360"/>
            <a:ext cx="87631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NCSX, infinite-n limit is 4%, but finite-n (n&lt;50) limit is &gt;6%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understand the connection, semi-classical quantization can be used to construct finite-n modes from the infinite-n calcul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mi-classical quantization requires ray tracing, and ray tracing requires the derivatives of the ballooning eigenvalu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poster describes an efficient numerical method to calculate the derivatives of the ballooning eigenvalu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19810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two approaches to MHD stability: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ocal vs. glob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76120" y="1473120"/>
          <a:ext cx="8439120" cy="4857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6120" y="1473120"/>
                    <a:ext cx="8439120" cy="485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"/>
          <p:cNvSpPr/>
          <p:nvPr/>
        </p:nvSpPr>
        <p:spPr>
          <a:xfrm>
            <a:off x="609480" y="121932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r stellarators,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extra dimensionality leads to quantum cha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457200" y="1957320"/>
          <a:ext cx="8229600" cy="4900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957320"/>
                    <a:ext cx="8229600" cy="490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609480" y="15238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ome stellarators depend more strongly on field line label than oth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4920" y="175248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k dependence o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llooning isosurfaces (mostly) like those in tokamaks; cylindrica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y trajectories mostly integrable; semi-classical quantization agrees with glob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finite-n ballooning limit reasonable approximation to low-n stability lim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g: LH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ong dependence o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llooning isosurfaces spherica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y trajectories chaotic; leads to quantum chaos; difficult to quantize 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y dynamics suggest highly localized ballooning instabilities; difficult to resolve with global co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sible large discrepancy between infinite-n and low-n stability lim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g: NCS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09480" y="121932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rom local to global : ray trac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9800" y="1954080"/>
          <a:ext cx="8280360" cy="414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1954080"/>
                    <a:ext cx="8280360" cy="414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6934320" y="4267080"/>
            <a:ext cx="1828800" cy="381240"/>
          </a:xfrm>
          <a:prstGeom prst="wedgeRoundRectCallout">
            <a:avLst>
              <a:gd name="adj1" fmla="val -81078"/>
              <a:gd name="adj2" fmla="val -7125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th grid spacing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09480" y="137160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lternatively, the eigenvalue derivatives can be determined directly using perturbation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304920" y="1943280"/>
          <a:ext cx="8610480" cy="4533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943280"/>
                    <a:ext cx="861048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609480" y="137160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80010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direct calculation of the derivatives is beneficial because . . 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610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rays may be integrated direct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data-cube need not be construc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eigenvalue derivatives may be given directly to an o.d.e. integr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may be useful if only a few ray trajectories are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imple to locally refine ray trajectories using higher numerical accurac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calculation of the derivatives is consistent with the calculation of the eigenvalu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 need to work on this : eigenvalue and derivative are both extrapolated; are they still consistent ?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derivatives enable a higher order interpolation of the data-cub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sider a 2 point interpolation in 1 dimension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762120" y="5626080"/>
            <a:ext cx="7696080" cy="851040"/>
            <a:chOff x="762120" y="5626080"/>
            <a:chExt cx="7696080" cy="851040"/>
          </a:xfrm>
        </p:grpSpPr>
        <p:sp>
          <p:nvSpPr>
            <p:cNvPr id="67" name=""/>
            <p:cNvSpPr/>
            <p:nvPr/>
          </p:nvSpPr>
          <p:spPr>
            <a:xfrm>
              <a:off x="762120" y="6477120"/>
              <a:ext cx="769608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>
              <a:off x="990720" y="5714640"/>
              <a:ext cx="0" cy="76212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V="1">
              <a:off x="1752480" y="5714640"/>
              <a:ext cx="0" cy="76212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V="1">
              <a:off x="2514600" y="5714640"/>
              <a:ext cx="0" cy="76212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3276720" y="5714640"/>
              <a:ext cx="0" cy="76212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V="1">
              <a:off x="4038480" y="5714640"/>
              <a:ext cx="0" cy="76212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V="1">
              <a:off x="4800600" y="5714640"/>
              <a:ext cx="0" cy="76212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V="1">
              <a:off x="5562720" y="5714640"/>
              <a:ext cx="0" cy="76212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V="1">
              <a:off x="6324480" y="5714640"/>
              <a:ext cx="0" cy="76212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V="1">
              <a:off x="7086600" y="5714640"/>
              <a:ext cx="0" cy="76212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90720" y="5791320"/>
              <a:ext cx="761760" cy="291960"/>
            </a:xfrm>
            <a:custGeom>
              <a:avLst/>
              <a:gdLst/>
              <a:ahLst/>
              <a:rect l="l" t="t" r="r" b="b"/>
              <a:pathLst>
                <a:path w="480" h="184">
                  <a:moveTo>
                    <a:pt x="0" y="0"/>
                  </a:moveTo>
                  <a:lnTo>
                    <a:pt x="480" y="18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94120" y="5626080"/>
              <a:ext cx="3054600" cy="490680"/>
            </a:xfrm>
            <a:custGeom>
              <a:avLst/>
              <a:gdLst/>
              <a:ahLst/>
              <a:rect l="l" t="t" r="r" b="b"/>
              <a:pathLst>
                <a:path w="1924" h="309">
                  <a:moveTo>
                    <a:pt x="0" y="92"/>
                  </a:moveTo>
                  <a:cubicBezTo>
                    <a:pt x="80" y="125"/>
                    <a:pt x="318" y="309"/>
                    <a:pt x="478" y="296"/>
                  </a:cubicBezTo>
                  <a:cubicBezTo>
                    <a:pt x="638" y="283"/>
                    <a:pt x="804" y="24"/>
                    <a:pt x="962" y="12"/>
                  </a:cubicBezTo>
                  <a:cubicBezTo>
                    <a:pt x="1120" y="0"/>
                    <a:pt x="1268" y="186"/>
                    <a:pt x="1428" y="225"/>
                  </a:cubicBezTo>
                  <a:cubicBezTo>
                    <a:pt x="1588" y="264"/>
                    <a:pt x="1821" y="243"/>
                    <a:pt x="1924" y="24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752480" y="5639040"/>
              <a:ext cx="762120" cy="457200"/>
            </a:xfrm>
            <a:custGeom>
              <a:avLst/>
              <a:gdLst/>
              <a:ahLst/>
              <a:rect l="l" t="t" r="r" b="b"/>
              <a:pathLst>
                <a:path w="486" h="261">
                  <a:moveTo>
                    <a:pt x="0" y="261"/>
                  </a:moveTo>
                  <a:lnTo>
                    <a:pt x="486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514600" y="5639040"/>
              <a:ext cx="762120" cy="380880"/>
            </a:xfrm>
            <a:custGeom>
              <a:avLst/>
              <a:gdLst/>
              <a:ahLst/>
              <a:rect l="l" t="t" r="r" b="b"/>
              <a:pathLst>
                <a:path w="482" h="217">
                  <a:moveTo>
                    <a:pt x="0" y="0"/>
                  </a:moveTo>
                  <a:lnTo>
                    <a:pt x="482" y="217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276720" y="6010560"/>
              <a:ext cx="761760" cy="9360"/>
            </a:xfrm>
            <a:custGeom>
              <a:avLst/>
              <a:gdLst/>
              <a:ahLst/>
              <a:rect l="l" t="t" r="r" b="b"/>
              <a:pathLst>
                <a:path w="480" h="6">
                  <a:moveTo>
                    <a:pt x="0" y="6"/>
                  </a:moveTo>
                  <a:lnTo>
                    <a:pt x="48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 flipV="1">
              <a:off x="7848720" y="5714640"/>
              <a:ext cx="0" cy="76212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83" name=""/>
          <p:cNvGraphicFramePr/>
          <p:nvPr/>
        </p:nvGraphicFramePr>
        <p:xfrm>
          <a:off x="838080" y="4800600"/>
          <a:ext cx="7239240" cy="685800"/>
        </p:xfrm>
        <a:graphic>
          <a:graphicData uri="http://schemas.openxmlformats.org/drawingml/2006/table">
            <a:tbl>
              <a:tblPr/>
              <a:tblGrid>
                <a:gridCol w="1809720"/>
                <a:gridCol w="1810080"/>
                <a:gridCol w="1809720"/>
                <a:gridCol w="1809720"/>
              </a:tblGrid>
              <a:tr h="34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thout derivati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point interpol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th derivati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point interpol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ne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rror O(h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ubi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rror O(h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4" name=""/>
          <p:cNvSpPr/>
          <p:nvPr/>
        </p:nvSpPr>
        <p:spPr>
          <a:xfrm>
            <a:off x="609480" y="144792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r example, consider an LHD-like equilibriu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5341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hown are unstable isosurfa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isosurfacesC" descr=""/>
          <p:cNvPicPr/>
          <p:nvPr/>
        </p:nvPicPr>
        <p:blipFill>
          <a:blip r:embed="rId1"/>
          <a:srcRect l="10184" t="0" r="6483" b="0"/>
          <a:stretch/>
        </p:blipFill>
        <p:spPr>
          <a:xfrm>
            <a:off x="1676520" y="2362320"/>
            <a:ext cx="6858000" cy="27432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 flipV="1">
            <a:off x="5791320" y="3048120"/>
            <a:ext cx="20574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H="1" flipV="1">
            <a:off x="5409720" y="2133720"/>
            <a:ext cx="38124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4190760" y="3048120"/>
            <a:ext cx="16002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543800" y="274320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2342"/>
              <a:gd name="adj4" fmla="val -2638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581280" y="274320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2342"/>
              <a:gd name="adj4" fmla="val -2638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952880" y="167652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2342"/>
              <a:gd name="adj4" fmla="val -2638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76920" y="5181480"/>
            <a:ext cx="3657600" cy="914400"/>
          </a:xfrm>
          <a:prstGeom prst="borderCallout1">
            <a:avLst>
              <a:gd name="adj1" fmla="val 18750"/>
              <a:gd name="adj2" fmla="val -8333"/>
              <a:gd name="adj3" fmla="val -103472"/>
              <a:gd name="adj4" fmla="val -16277"/>
            </a:avLst>
          </a:prstGeom>
          <a:noFill/>
          <a:ln w="2844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pological cylindr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extended in </a:t>
            </a: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04920" y="2209680"/>
            <a:ext cx="3352680" cy="914400"/>
          </a:xfrm>
          <a:prstGeom prst="borderCallout1">
            <a:avLst>
              <a:gd name="adj1" fmla="val 18750"/>
              <a:gd name="adj2" fmla="val -8333"/>
              <a:gd name="adj3" fmla="val 166148"/>
              <a:gd name="adj4" fmla="val 143842"/>
            </a:avLst>
          </a:prstGeom>
          <a:noFill/>
          <a:ln w="2844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pological spher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localized in </a:t>
            </a: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09480" y="121932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5T17:21:27Z</dcterms:created>
  <dc:creator>shudson</dc:creator>
  <dc:description/>
  <dc:language>en-US</dc:language>
  <cp:lastModifiedBy>shudson</cp:lastModifiedBy>
  <dcterms:modified xsi:type="dcterms:W3CDTF">2005-09-30T19:21:52Z</dcterms:modified>
  <cp:revision>114</cp:revision>
  <dc:subject/>
  <dc:title>Direct calculation of   using eigenvalue perturbation theory   S.R.Hudson  </dc:title>
</cp:coreProperties>
</file>