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2E43-62A4-447E-A921-0CA9A487E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613C-2F08-448F-B98F-24C2660D9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C80A-2157-4635-8DD1-7EB5B3AFB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FFE1-934C-4C21-B477-315573091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0CE2-323F-4161-BBE5-4A655941F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82E9-4554-4AAF-90C3-082671BA8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FDCE-E12B-4FBE-9C54-2AAF81C72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2B06-29B0-43EC-908F-E7141F2E3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5502-715C-4D5E-9C21-E87A075BE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F38A-4B54-4315-A6C6-06E009F0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BE18-235C-4ECE-A67F-AD320DFDA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5B36-FE8C-4F2F-801D-4E9BD8DC6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AE8-A9A6-446D-9BF9-44A7DEEE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949320" y="568440"/>
          <a:ext cx="7089840" cy="53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568440"/>
                    <a:ext cx="7089840" cy="53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ocal to global : ray 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9800" y="1344600"/>
          <a:ext cx="82803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44600"/>
                    <a:ext cx="82803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934320" y="4267080"/>
            <a:ext cx="1828800" cy="381240"/>
          </a:xfrm>
          <a:prstGeom prst="wedgeRoundRectCallout">
            <a:avLst>
              <a:gd name="adj1" fmla="val -81078"/>
              <a:gd name="adj2" fmla="val -7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grid spacin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eigenvalue derivatives can be determined directly using perturb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461960"/>
          <a:ext cx="861048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61960"/>
                    <a:ext cx="86104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rect calculation of the derivatives is beneficial because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ys may be integrated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cube need not be construc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igenvalue derivatives may be given directly to an o.d.e.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ay be useful if only a few ray trajectories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to locally refine ray trajectories using higher numeric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lculation of the derivatives is consistent with the calculation of the eigenva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 need to work on this : eigenvalue and derivative are both extrapolated; are they still consistent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atives enable a higher order interpolation of the data-cu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 a 2 point interpolation in 1 dimens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2120" y="5626080"/>
            <a:ext cx="7696080" cy="851040"/>
            <a:chOff x="762120" y="5626080"/>
            <a:chExt cx="7696080" cy="851040"/>
          </a:xfrm>
        </p:grpSpPr>
        <p:sp>
          <p:nvSpPr>
            <p:cNvPr id="51" name=""/>
            <p:cNvSpPr/>
            <p:nvPr/>
          </p:nvSpPr>
          <p:spPr>
            <a:xfrm>
              <a:off x="762120" y="6477120"/>
              <a:ext cx="7696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0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752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514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276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038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800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562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24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086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5791320"/>
              <a:ext cx="761760" cy="291960"/>
            </a:xfrm>
            <a:custGeom>
              <a:avLst/>
              <a:gdLst/>
              <a:ahLst/>
              <a:rect l="l" t="t" r="r" b="b"/>
              <a:pathLst>
                <a:path w="480" h="184">
                  <a:moveTo>
                    <a:pt x="0" y="0"/>
                  </a:moveTo>
                  <a:lnTo>
                    <a:pt x="480" y="1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4120" y="5626080"/>
              <a:ext cx="3054600" cy="490680"/>
            </a:xfrm>
            <a:custGeom>
              <a:avLst/>
              <a:gdLst/>
              <a:ahLst/>
              <a:rect l="l" t="t" r="r" b="b"/>
              <a:pathLst>
                <a:path w="1924" h="309">
                  <a:moveTo>
                    <a:pt x="0" y="92"/>
                  </a:moveTo>
                  <a:cubicBezTo>
                    <a:pt x="80" y="125"/>
                    <a:pt x="318" y="309"/>
                    <a:pt x="478" y="296"/>
                  </a:cubicBezTo>
                  <a:cubicBezTo>
                    <a:pt x="638" y="283"/>
                    <a:pt x="804" y="24"/>
                    <a:pt x="962" y="12"/>
                  </a:cubicBezTo>
                  <a:cubicBezTo>
                    <a:pt x="1120" y="0"/>
                    <a:pt x="1268" y="186"/>
                    <a:pt x="1428" y="225"/>
                  </a:cubicBezTo>
                  <a:cubicBezTo>
                    <a:pt x="1588" y="264"/>
                    <a:pt x="1821" y="243"/>
                    <a:pt x="1924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5639040"/>
              <a:ext cx="762120" cy="457200"/>
            </a:xfrm>
            <a:custGeom>
              <a:avLst/>
              <a:gdLst/>
              <a:ahLst/>
              <a:rect l="l" t="t" r="r" b="b"/>
              <a:pathLst>
                <a:path w="486" h="261">
                  <a:moveTo>
                    <a:pt x="0" y="261"/>
                  </a:moveTo>
                  <a:lnTo>
                    <a:pt x="4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4600" y="5639040"/>
              <a:ext cx="762120" cy="380880"/>
            </a:xfrm>
            <a:custGeom>
              <a:avLst/>
              <a:gdLst/>
              <a:ahLst/>
              <a:rect l="l" t="t" r="r" b="b"/>
              <a:pathLst>
                <a:path w="482" h="217">
                  <a:moveTo>
                    <a:pt x="0" y="0"/>
                  </a:moveTo>
                  <a:lnTo>
                    <a:pt x="482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6010560"/>
              <a:ext cx="761760" cy="9360"/>
            </a:xfrm>
            <a:custGeom>
              <a:avLst/>
              <a:gdLst/>
              <a:ahLst/>
              <a:rect l="l" t="t" r="r" b="b"/>
              <a:pathLst>
                <a:path w="480" h="6">
                  <a:moveTo>
                    <a:pt x="0" y="6"/>
                  </a:moveTo>
                  <a:lnTo>
                    <a:pt x="4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848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838080" y="4800600"/>
          <a:ext cx="7239240" cy="685800"/>
        </p:xfrm>
        <a:graphic>
          <a:graphicData uri="http://schemas.openxmlformats.org/drawingml/2006/table">
            <a:tbl>
              <a:tblPr/>
              <a:tblGrid>
                <a:gridCol w="1809720"/>
                <a:gridCol w="1810080"/>
                <a:gridCol w="1809720"/>
                <a:gridCol w="180972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tellaratorTheoryTeleconferenceEigenvalueContour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576600" cy="3576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consider a tokam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rcular cross section tokamak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ence, minimal #Fourier harm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the ballooning code, interpolation, ray tracing etc. is fully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n below are unstable ballooning con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tellaratorTheoryTeleconfernceErrorConvergence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624360" cy="3302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3D,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interpolation is easily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0160" y="4414680"/>
          <a:ext cx="8794440" cy="21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60" y="4414680"/>
                    <a:ext cx="879444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6002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genvalue interpolation error                 derivative interpolation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tellaratorTheoryTeleconferenceBallooningProfile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57800" cy="5249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the derivatives enables a crude-grid to give good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143000"/>
            <a:ext cx="2362320" cy="609480"/>
          </a:xfrm>
          <a:prstGeom prst="wedgeRoundRectCallout">
            <a:avLst>
              <a:gd name="adj1" fmla="val -85819"/>
              <a:gd name="adj2" fmla="val 34898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d : ex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d at 100 radial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l (VMEC) coord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600480" y="3570480"/>
            <a:ext cx="434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looning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572000"/>
            <a:ext cx="2210040" cy="380880"/>
          </a:xfrm>
          <a:prstGeom prst="wedgeRoundRectCallout">
            <a:avLst>
              <a:gd name="adj1" fmla="val 53162"/>
              <a:gd name="adj2" fmla="val -395833"/>
              <a:gd name="adj3" fmla="val 16667"/>
            </a:avLst>
          </a:prstGeom>
          <a:solidFill>
            <a:srgbClr val="ffff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: grid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600200"/>
            <a:ext cx="2819520" cy="380880"/>
          </a:xfrm>
          <a:prstGeom prst="wedgeRoundRectCallout">
            <a:avLst>
              <a:gd name="adj1" fmla="val 56643"/>
              <a:gd name="adj2" fmla="val 220000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shed : 2-point interp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572000"/>
            <a:ext cx="2210040" cy="380880"/>
          </a:xfrm>
          <a:prstGeom prst="wedgeRoundRectCallout">
            <a:avLst>
              <a:gd name="adj1" fmla="val 6824"/>
              <a:gd name="adj2" fmla="val -343333"/>
              <a:gd name="adj3" fmla="val 16667"/>
            </a:avLst>
          </a:prstGeom>
          <a:solidFill>
            <a:srgbClr val="ffff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: grid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work possibly include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igenvalue and derivatives are calculated using Richardson’s extrapol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polation wrt #grid points along field line for each ballooning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check the consistency of extrapolated-eigenvalue with extrapolated-deriv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order interpolation on data-cub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: extend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int interpolation to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terpolation: O(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order derivatives can be calculated using perturbatio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order derivatives can further improve the data-cube interp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it worthwhile to calculate the higher order derivativ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some configurations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understand the theory in more detail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ably start with axisymmetric approximatio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wly add non-axisymmetry towards NC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priate mass normalization for comparison wit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3D / TERPSICH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5-09-07T15:44:20Z</dcterms:modified>
  <cp:revision>90</cp:revision>
  <dc:subject/>
  <dc:title>Direct calculation of   using eigenvalue perturbation theory   S.R.Hudson  </dc:title>
</cp:coreProperties>
</file>