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74A8-0BF1-47E5-935B-0BFDBF4A6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5BA4-A57E-45D6-9985-F5E3B5B0C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91BCA-9822-4B6E-B678-EC9312F4AD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EB729-BF4F-422C-8D61-F962A417CA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35A5-C0BA-40AF-AB4F-730E2E4A98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4C0C-B7DB-4393-8AF8-F34E13E86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E85EA-6933-451F-9924-925BBBC03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E7357-EF9A-4EEC-93E5-95354E6BD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0877-7C55-499F-9D85-ECC309F3A2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D1E00-3944-4855-8441-38DA32262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104C-6961-4C1C-B10C-4471DA334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8757-5C41-4A91-9F31-CFA16332D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4233-13B2-451C-80D5-A91400FC5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" name=""/>
          <p:cNvGraphicFramePr/>
          <p:nvPr/>
        </p:nvGraphicFramePr>
        <p:xfrm>
          <a:off x="949320" y="568440"/>
          <a:ext cx="7089840" cy="53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9320" y="568440"/>
                    <a:ext cx="7089840" cy="53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local to global : ray tra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9800" y="1344600"/>
          <a:ext cx="828036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344600"/>
                    <a:ext cx="828036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6934320" y="4267080"/>
            <a:ext cx="1828800" cy="381240"/>
          </a:xfrm>
          <a:prstGeom prst="wedgeRoundRectCallout">
            <a:avLst>
              <a:gd name="adj1" fmla="val -81078"/>
              <a:gd name="adj2" fmla="val -712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grid spacing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ly, the eigenvalue derivatives can be determined directly using perturbation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1461960"/>
          <a:ext cx="8610480" cy="453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61960"/>
                    <a:ext cx="861048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rect calculation of the derivatives is beneficial because 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ays may be integrated dir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data-cube need not be construc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eigenvalue derivatives may be given directly to an o.d.e. integ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may be useful if only a few ray trajectories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ple to locally refine ray trajectories using higher numerical accu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alculation of the derivatives is consistent with the calculation of the eigenvalu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 need to work on this : eigenvalue and derivative are both extrapolated; are they still consistent 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rivatives enable a higher order interpolation of the data-cub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ider a 2 point interpolation in 1 dimens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62120" y="5626080"/>
            <a:ext cx="7696080" cy="851040"/>
            <a:chOff x="762120" y="5626080"/>
            <a:chExt cx="7696080" cy="851040"/>
          </a:xfrm>
        </p:grpSpPr>
        <p:sp>
          <p:nvSpPr>
            <p:cNvPr id="51" name=""/>
            <p:cNvSpPr/>
            <p:nvPr/>
          </p:nvSpPr>
          <p:spPr>
            <a:xfrm>
              <a:off x="762120" y="6477120"/>
              <a:ext cx="7696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99072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175248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51460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27672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403848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80060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556272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32448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708660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720" y="5791320"/>
              <a:ext cx="761760" cy="291960"/>
            </a:xfrm>
            <a:custGeom>
              <a:avLst/>
              <a:gdLst/>
              <a:ahLst/>
              <a:rect l="l" t="t" r="r" b="b"/>
              <a:pathLst>
                <a:path w="480" h="184">
                  <a:moveTo>
                    <a:pt x="0" y="0"/>
                  </a:moveTo>
                  <a:lnTo>
                    <a:pt x="480" y="1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94120" y="5626080"/>
              <a:ext cx="3054600" cy="490680"/>
            </a:xfrm>
            <a:custGeom>
              <a:avLst/>
              <a:gdLst/>
              <a:ahLst/>
              <a:rect l="l" t="t" r="r" b="b"/>
              <a:pathLst>
                <a:path w="1924" h="309">
                  <a:moveTo>
                    <a:pt x="0" y="92"/>
                  </a:moveTo>
                  <a:cubicBezTo>
                    <a:pt x="80" y="125"/>
                    <a:pt x="318" y="309"/>
                    <a:pt x="478" y="296"/>
                  </a:cubicBezTo>
                  <a:cubicBezTo>
                    <a:pt x="638" y="283"/>
                    <a:pt x="804" y="24"/>
                    <a:pt x="962" y="12"/>
                  </a:cubicBezTo>
                  <a:cubicBezTo>
                    <a:pt x="1120" y="0"/>
                    <a:pt x="1268" y="186"/>
                    <a:pt x="1428" y="225"/>
                  </a:cubicBezTo>
                  <a:cubicBezTo>
                    <a:pt x="1588" y="264"/>
                    <a:pt x="1821" y="243"/>
                    <a:pt x="1924" y="2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52480" y="5639040"/>
              <a:ext cx="762120" cy="457200"/>
            </a:xfrm>
            <a:custGeom>
              <a:avLst/>
              <a:gdLst/>
              <a:ahLst/>
              <a:rect l="l" t="t" r="r" b="b"/>
              <a:pathLst>
                <a:path w="486" h="261">
                  <a:moveTo>
                    <a:pt x="0" y="261"/>
                  </a:moveTo>
                  <a:lnTo>
                    <a:pt x="48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14600" y="5639040"/>
              <a:ext cx="762120" cy="380880"/>
            </a:xfrm>
            <a:custGeom>
              <a:avLst/>
              <a:gdLst/>
              <a:ahLst/>
              <a:rect l="l" t="t" r="r" b="b"/>
              <a:pathLst>
                <a:path w="482" h="217">
                  <a:moveTo>
                    <a:pt x="0" y="0"/>
                  </a:moveTo>
                  <a:lnTo>
                    <a:pt x="482" y="2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76720" y="6010560"/>
              <a:ext cx="761760" cy="9360"/>
            </a:xfrm>
            <a:custGeom>
              <a:avLst/>
              <a:gdLst/>
              <a:ahLst/>
              <a:rect l="l" t="t" r="r" b="b"/>
              <a:pathLst>
                <a:path w="480" h="6">
                  <a:moveTo>
                    <a:pt x="0" y="6"/>
                  </a:moveTo>
                  <a:lnTo>
                    <a:pt x="48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84872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7" name=""/>
          <p:cNvGraphicFramePr/>
          <p:nvPr/>
        </p:nvGraphicFramePr>
        <p:xfrm>
          <a:off x="838080" y="4800600"/>
          <a:ext cx="7239240" cy="685800"/>
        </p:xfrm>
        <a:graphic>
          <a:graphicData uri="http://schemas.openxmlformats.org/drawingml/2006/table">
            <a:tbl>
              <a:tblPr/>
              <a:tblGrid>
                <a:gridCol w="1809720"/>
                <a:gridCol w="1810080"/>
                <a:gridCol w="1809720"/>
                <a:gridCol w="1809720"/>
              </a:tblGrid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out deriv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point interpo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 deriv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point interpo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 O(h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b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 O(h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tellaratorTheoryTeleconferenceEigenvalueContour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3576600" cy="35766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consider a tokam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ircular cross section tokamak i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pendence, minimal #Fourier harm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 that the ballooning code, interpolation, ray tracing etc. is fully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n below are unstable ballooning con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StellaratorTheoryTeleconfernceErrorConvergence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624360" cy="3302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3D,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der interpolation is easily obt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00160" y="4414680"/>
          <a:ext cx="8794440" cy="213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160" y="4414680"/>
                    <a:ext cx="879444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600200" y="10666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genvalue interpolation error                 derivative interpolation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tellaratorTheoryTeleconferenceBallooningProfile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257800" cy="52498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 of the derivatives enables a crude-grid to give good interp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1143000"/>
            <a:ext cx="2362320" cy="609480"/>
          </a:xfrm>
          <a:prstGeom prst="wedgeRoundRectCallout">
            <a:avLst>
              <a:gd name="adj1" fmla="val -85819"/>
              <a:gd name="adj2" fmla="val 34898"/>
              <a:gd name="adj3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lid : ex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d at 100 radial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6248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al (VMEC) coordi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600480" y="3570480"/>
            <a:ext cx="434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looning 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4572000"/>
            <a:ext cx="2210040" cy="380880"/>
          </a:xfrm>
          <a:prstGeom prst="wedgeRoundRectCallout">
            <a:avLst>
              <a:gd name="adj1" fmla="val 53162"/>
              <a:gd name="adj2" fmla="val -395833"/>
              <a:gd name="adj3" fmla="val 16667"/>
            </a:avLst>
          </a:prstGeom>
          <a:solidFill>
            <a:srgbClr val="ffff99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: grid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1600200"/>
            <a:ext cx="2819520" cy="380880"/>
          </a:xfrm>
          <a:prstGeom prst="wedgeRoundRectCallout">
            <a:avLst>
              <a:gd name="adj1" fmla="val 56643"/>
              <a:gd name="adj2" fmla="val 220000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shed : 2-point interp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4572000"/>
            <a:ext cx="2210040" cy="380880"/>
          </a:xfrm>
          <a:prstGeom prst="wedgeRoundRectCallout">
            <a:avLst>
              <a:gd name="adj1" fmla="val 6824"/>
              <a:gd name="adj2" fmla="val -343333"/>
              <a:gd name="adj3" fmla="val 16667"/>
            </a:avLst>
          </a:prstGeom>
          <a:solidFill>
            <a:srgbClr val="ffff99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: grid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ture work possibly includes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igenvalue and derivatives are calculated using Richardson’s extrapola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rapolation wrt #grid points along field line for each ballooning calc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 to check the consistency of extrapolated-eigenvalue with extrapolated-deriv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order interpolation on data-cube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g: extend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oint interpolation to 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terpolation: O(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(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order derivatives can be calculated using perturbation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er order derivatives can further improve the data-cube interp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it worthwhile to calculate the higher order derivative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some configurations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 to understand the theory in more detail 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ably start with axisymmetric approximation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owly add non-axisymmetry towards NCS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ropriate mass normalization for comparison with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S3D / TERPSICH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shudson</cp:lastModifiedBy>
  <dcterms:modified xsi:type="dcterms:W3CDTF">2005-09-07T15:44:20Z</dcterms:modified>
  <cp:revision>90</cp:revision>
  <dc:subject/>
  <dc:title>Direct calculation of   using eigenvalue perturbation theory   S.R.Hudson  </dc:title>
</cp:coreProperties>
</file>