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2.png" ContentType="image/png"/>
  <Override PartName="/ppt/media/image25.png" ContentType="image/png"/>
  <Override PartName="/ppt/media/image12.pct" ContentType="image/x-pict"/>
  <Override PartName="/ppt/media/image1.png" ContentType="image/png"/>
  <Override PartName="/ppt/media/image10.jpeg" ContentType="image/jpeg"/>
  <Override PartName="/ppt/media/image5.png" ContentType="image/png"/>
  <Override PartName="/ppt/media/image9.pct" ContentType="image/x-pict"/>
  <Override PartName="/ppt/media/image11.png" ContentType="image/png"/>
  <Override PartName="/ppt/media/image8.png" ContentType="image/png"/>
  <Override PartName="/ppt/media/image7.jpeg" ContentType="image/jpeg"/>
  <Override PartName="/ppt/media/image6.png" ContentType="image/png"/>
  <Override PartName="/ppt/media/image17.pct" ContentType="image/x-pict"/>
  <Override PartName="/ppt/media/image4.png" ContentType="image/png"/>
  <Override PartName="/ppt/media/image28.pct" ContentType="image/x-pict"/>
  <Override PartName="/ppt/media/image27.pct" ContentType="image/x-pict"/>
  <Override PartName="/ppt/media/image20.jpeg" ContentType="image/jpeg"/>
  <Override PartName="/ppt/media/image24.pct" ContentType="image/x-pict"/>
  <Override PartName="/ppt/media/image15.png" ContentType="image/png"/>
  <Override PartName="/ppt/media/image23.pct" ContentType="image/x-pict"/>
  <Override PartName="/ppt/media/image14.png" ContentType="image/png"/>
  <Override PartName="/ppt/media/image3.png" ContentType="image/png"/>
  <Override PartName="/ppt/media/image26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8.pct" ContentType="image/x-pict"/>
  <Override PartName="/ppt/media/image1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0D72-7CD8-42D1-8752-0F2C1605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4D1E-79EA-4FCF-988D-163C926D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B9B-0995-4578-B527-A3E1F2B2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85D-692A-455D-911B-AC6B68F9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EDFE-CCAB-49A9-8FF4-445D1021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30C1-4091-410D-9388-09575B57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94F-C87D-4065-86A3-472D6B7F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AD36-31A7-48F8-B061-64ADDB43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29B-7648-4540-B63D-D5095BDF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7E8-B64C-4A9E-8EF0-09162162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280-1354-40D2-A49C-2B9BA1FA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424-F3FB-4C78-8C3C-564EB1F0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6E94-BC34-4A1E-A95B-1D3F66F1C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.pct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pct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2590920"/>
            <a:ext cx="70707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Stepped pressure profile equilibria via partial Taylor relax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R. L. Dewa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, M. J. Hol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, S. R. Huds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ppl_logo_pc" descr=""/>
          <p:cNvPicPr/>
          <p:nvPr/>
        </p:nvPicPr>
        <p:blipFill>
          <a:blip r:embed="rId1"/>
          <a:stretch/>
        </p:blipFill>
        <p:spPr>
          <a:xfrm>
            <a:off x="4622760" y="380880"/>
            <a:ext cx="4521240" cy="1758960"/>
          </a:xfrm>
          <a:prstGeom prst="rect">
            <a:avLst/>
          </a:prstGeom>
          <a:ln w="0">
            <a:noFill/>
          </a:ln>
        </p:spPr>
      </p:pic>
      <p:pic>
        <p:nvPicPr>
          <p:cNvPr id="44" name="ANUlogo" descr=""/>
          <p:cNvPicPr/>
          <p:nvPr/>
        </p:nvPicPr>
        <p:blipFill>
          <a:blip r:embed="rId2"/>
          <a:srcRect l="14903" t="19496" r="8120" b="28508"/>
          <a:stretch/>
        </p:blipFill>
        <p:spPr>
          <a:xfrm>
            <a:off x="228600" y="0"/>
            <a:ext cx="4038480" cy="208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4952880"/>
            <a:ext cx="7696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[1] Research School of Physical Sciences and Engineering, Australian  National University, ACT 0200,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[2] Princeton Plasma Physics Laboratory, New Jersey 08543, U.S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64960" y="6491160"/>
            <a:ext cx="63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pported by Australian Research Council Grant DP04527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_arc" descr=""/>
          <p:cNvPicPr/>
          <p:nvPr/>
        </p:nvPicPr>
        <p:blipFill>
          <a:blip r:embed="rId3"/>
          <a:stretch/>
        </p:blipFill>
        <p:spPr>
          <a:xfrm>
            <a:off x="0" y="6397560"/>
            <a:ext cx="198108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04560" y="79704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1240" indent="-111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74, Taylor argued that turbulent plasmas with small resistivity and viscosity relax to a Beltrami field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504040" y="5221440"/>
                <a:ext cx="19188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55760" y="3616200"/>
            <a:ext cx="52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solutions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= 0 of functiona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773680" y="3691080"/>
                <a:ext cx="22766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−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90400" y="4173480"/>
                <a:ext cx="2627640" cy="16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:</m:t>
                              </m:r>
                            </m:e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Ñ´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λB</m:t>
                        </m:r>
                      </m:e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:</m:t>
                              </m:r>
                            </m:e>
                            <m:e/>
                            <m:e/>
                          </m:mr>
                        </m:m>
                        <m:d>
                          <m:dPr>
                            <m:begChr m:val="⟨"/>
                            <m:endChr m:val="⟩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m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:</m:t>
                              </m:r>
                            </m:e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Ñ´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995560" y="1671480"/>
                <a:ext cx="27972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07880" y="184464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energ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6040" y="3089160"/>
            <a:ext cx="66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ylor solved for minimu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bject to fix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9720" y="251784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Helicit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992320" y="2585880"/>
                <a:ext cx="1771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7378560" y="1689120"/>
            <a:ext cx="1363680" cy="1201680"/>
          </a:xfrm>
          <a:custGeom>
            <a:avLst/>
            <a:gdLst/>
            <a:ahLst/>
            <a:rect l="l" t="t" r="r" b="b"/>
            <a:pathLst>
              <a:path w="859" h="757">
                <a:moveTo>
                  <a:pt x="110" y="521"/>
                </a:moveTo>
                <a:cubicBezTo>
                  <a:pt x="68" y="512"/>
                  <a:pt x="58" y="486"/>
                  <a:pt x="35" y="453"/>
                </a:cubicBezTo>
                <a:cubicBezTo>
                  <a:pt x="27" y="421"/>
                  <a:pt x="11" y="396"/>
                  <a:pt x="1" y="364"/>
                </a:cubicBezTo>
                <a:cubicBezTo>
                  <a:pt x="6" y="270"/>
                  <a:pt x="0" y="216"/>
                  <a:pt x="62" y="151"/>
                </a:cubicBezTo>
                <a:cubicBezTo>
                  <a:pt x="73" y="119"/>
                  <a:pt x="98" y="97"/>
                  <a:pt x="124" y="76"/>
                </a:cubicBezTo>
                <a:cubicBezTo>
                  <a:pt x="147" y="58"/>
                  <a:pt x="144" y="49"/>
                  <a:pt x="172" y="35"/>
                </a:cubicBezTo>
                <a:cubicBezTo>
                  <a:pt x="220" y="11"/>
                  <a:pt x="291" y="7"/>
                  <a:pt x="343" y="0"/>
                </a:cubicBezTo>
                <a:cubicBezTo>
                  <a:pt x="487" y="7"/>
                  <a:pt x="493" y="9"/>
                  <a:pt x="604" y="41"/>
                </a:cubicBezTo>
                <a:cubicBezTo>
                  <a:pt x="668" y="84"/>
                  <a:pt x="722" y="123"/>
                  <a:pt x="775" y="179"/>
                </a:cubicBezTo>
                <a:cubicBezTo>
                  <a:pt x="803" y="208"/>
                  <a:pt x="814" y="249"/>
                  <a:pt x="837" y="281"/>
                </a:cubicBezTo>
                <a:cubicBezTo>
                  <a:pt x="854" y="332"/>
                  <a:pt x="847" y="309"/>
                  <a:pt x="858" y="350"/>
                </a:cubicBezTo>
                <a:cubicBezTo>
                  <a:pt x="853" y="446"/>
                  <a:pt x="859" y="537"/>
                  <a:pt x="803" y="617"/>
                </a:cubicBezTo>
                <a:cubicBezTo>
                  <a:pt x="793" y="648"/>
                  <a:pt x="769" y="696"/>
                  <a:pt x="741" y="713"/>
                </a:cubicBezTo>
                <a:cubicBezTo>
                  <a:pt x="736" y="720"/>
                  <a:pt x="734" y="729"/>
                  <a:pt x="727" y="734"/>
                </a:cubicBezTo>
                <a:cubicBezTo>
                  <a:pt x="715" y="742"/>
                  <a:pt x="686" y="748"/>
                  <a:pt x="686" y="748"/>
                </a:cubicBezTo>
                <a:cubicBezTo>
                  <a:pt x="560" y="744"/>
                  <a:pt x="477" y="757"/>
                  <a:pt x="371" y="720"/>
                </a:cubicBezTo>
                <a:cubicBezTo>
                  <a:pt x="291" y="644"/>
                  <a:pt x="203" y="583"/>
                  <a:pt x="110" y="521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83480" y="2070000"/>
            <a:ext cx="757080" cy="446040"/>
          </a:xfrm>
          <a:custGeom>
            <a:avLst/>
            <a:gdLst/>
            <a:ahLst/>
            <a:rect l="l" t="t" r="r" b="b"/>
            <a:pathLst>
              <a:path w="477" h="281">
                <a:moveTo>
                  <a:pt x="233" y="281"/>
                </a:moveTo>
                <a:cubicBezTo>
                  <a:pt x="194" y="253"/>
                  <a:pt x="154" y="225"/>
                  <a:pt x="110" y="206"/>
                </a:cubicBezTo>
                <a:cubicBezTo>
                  <a:pt x="97" y="200"/>
                  <a:pt x="83" y="197"/>
                  <a:pt x="69" y="192"/>
                </a:cubicBezTo>
                <a:cubicBezTo>
                  <a:pt x="62" y="190"/>
                  <a:pt x="48" y="185"/>
                  <a:pt x="48" y="185"/>
                </a:cubicBezTo>
                <a:cubicBezTo>
                  <a:pt x="33" y="162"/>
                  <a:pt x="15" y="153"/>
                  <a:pt x="0" y="130"/>
                </a:cubicBezTo>
                <a:cubicBezTo>
                  <a:pt x="5" y="73"/>
                  <a:pt x="8" y="49"/>
                  <a:pt x="21" y="0"/>
                </a:cubicBezTo>
                <a:cubicBezTo>
                  <a:pt x="76" y="2"/>
                  <a:pt x="130" y="3"/>
                  <a:pt x="185" y="7"/>
                </a:cubicBezTo>
                <a:cubicBezTo>
                  <a:pt x="228" y="10"/>
                  <a:pt x="213" y="48"/>
                  <a:pt x="247" y="55"/>
                </a:cubicBezTo>
                <a:cubicBezTo>
                  <a:pt x="285" y="63"/>
                  <a:pt x="325" y="60"/>
                  <a:pt x="364" y="62"/>
                </a:cubicBezTo>
                <a:cubicBezTo>
                  <a:pt x="402" y="73"/>
                  <a:pt x="423" y="107"/>
                  <a:pt x="446" y="137"/>
                </a:cubicBezTo>
                <a:cubicBezTo>
                  <a:pt x="455" y="164"/>
                  <a:pt x="463" y="192"/>
                  <a:pt x="473" y="219"/>
                </a:cubicBezTo>
                <a:cubicBezTo>
                  <a:pt x="471" y="231"/>
                  <a:pt x="477" y="250"/>
                  <a:pt x="466" y="254"/>
                </a:cubicBezTo>
                <a:cubicBezTo>
                  <a:pt x="436" y="266"/>
                  <a:pt x="402" y="256"/>
                  <a:pt x="370" y="260"/>
                </a:cubicBezTo>
                <a:cubicBezTo>
                  <a:pt x="324" y="265"/>
                  <a:pt x="279" y="276"/>
                  <a:pt x="233" y="281"/>
                </a:cubicBezTo>
                <a:close/>
              </a:path>
            </a:pathLst>
          </a:cu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761240" y="30607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912080" y="25272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913880" y="2146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913880" y="1689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Taylor relax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50320" y="4802040"/>
            <a:ext cx="51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re &lt;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denotes jump across interfa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5929200"/>
            <a:ext cx="830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invoke field-l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os rather than turbul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generaliz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ially relax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sm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tension to multiple interfaces : Frustrated Taylor Relax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29760" y="1130400"/>
            <a:ext cx="9068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zation of single interface mode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1574640"/>
            <a:ext cx="8763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pies et a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laxed Plasma-Vacuum Syste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 Phys. Plas. 8(8).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pies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laxed Plasma-Vacuum Systems with press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 Phys. Plas. 8(8).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441680" y="4595760"/>
                <a:ext cx="26085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g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sSup>
                          <m:e>
                            <m:r>
                              <m:t xml:space="preserve">d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091040" y="5464080"/>
                <a:ext cx="41022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sSup>
                      <m:e>
                        <m:r>
                          <m:t xml:space="preserve">d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483000" y="6091200"/>
                <a:ext cx="1754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g</m:t>
                                    </m:r>
                                  </m:den>
                                </m:f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t xml:space="preserve">d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486360" y="475308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energy function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6720" y="543888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icity funct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4200" y="604836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function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03880" y="6108840"/>
            <a:ext cx="29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op integrals con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50040" y="5291280"/>
            <a:ext cx="2133720" cy="761760"/>
          </a:xfrm>
          <a:prstGeom prst="ellips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3840" y="2336760"/>
            <a:ext cx="875016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ystem compri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sma regi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relaxed st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s separated by ideal MHD barri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losed by a vacuu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sed in a perfectly conducting w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502320" y="2324160"/>
            <a:ext cx="2463840" cy="2222280"/>
            <a:chOff x="6502320" y="2324160"/>
            <a:chExt cx="2463840" cy="2222280"/>
          </a:xfrm>
        </p:grpSpPr>
        <p:sp>
          <p:nvSpPr>
            <p:cNvPr id="277" name=""/>
            <p:cNvSpPr/>
            <p:nvPr/>
          </p:nvSpPr>
          <p:spPr>
            <a:xfrm>
              <a:off x="6502320" y="2324160"/>
              <a:ext cx="2463840" cy="2222280"/>
            </a:xfrm>
            <a:custGeom>
              <a:avLst/>
              <a:gdLst/>
              <a:ahLst/>
              <a:rect l="l" t="t" r="r" b="b"/>
              <a:pathLst>
                <a:path w="1766" h="1067">
                  <a:moveTo>
                    <a:pt x="183" y="811"/>
                  </a:moveTo>
                  <a:cubicBezTo>
                    <a:pt x="156" y="806"/>
                    <a:pt x="132" y="798"/>
                    <a:pt x="106" y="792"/>
                  </a:cubicBezTo>
                  <a:cubicBezTo>
                    <a:pt x="64" y="750"/>
                    <a:pt x="75" y="750"/>
                    <a:pt x="42" y="709"/>
                  </a:cubicBezTo>
                  <a:cubicBezTo>
                    <a:pt x="30" y="659"/>
                    <a:pt x="20" y="611"/>
                    <a:pt x="4" y="562"/>
                  </a:cubicBezTo>
                  <a:cubicBezTo>
                    <a:pt x="9" y="415"/>
                    <a:pt x="0" y="301"/>
                    <a:pt x="87" y="184"/>
                  </a:cubicBezTo>
                  <a:cubicBezTo>
                    <a:pt x="104" y="161"/>
                    <a:pt x="137" y="126"/>
                    <a:pt x="164" y="120"/>
                  </a:cubicBezTo>
                  <a:cubicBezTo>
                    <a:pt x="197" y="96"/>
                    <a:pt x="234" y="78"/>
                    <a:pt x="273" y="69"/>
                  </a:cubicBezTo>
                  <a:cubicBezTo>
                    <a:pt x="301" y="54"/>
                    <a:pt x="351" y="28"/>
                    <a:pt x="382" y="24"/>
                  </a:cubicBezTo>
                  <a:cubicBezTo>
                    <a:pt x="441" y="17"/>
                    <a:pt x="561" y="11"/>
                    <a:pt x="561" y="11"/>
                  </a:cubicBezTo>
                  <a:cubicBezTo>
                    <a:pt x="708" y="16"/>
                    <a:pt x="858" y="0"/>
                    <a:pt x="1002" y="30"/>
                  </a:cubicBezTo>
                  <a:cubicBezTo>
                    <a:pt x="1255" y="83"/>
                    <a:pt x="1399" y="171"/>
                    <a:pt x="1572" y="357"/>
                  </a:cubicBezTo>
                  <a:cubicBezTo>
                    <a:pt x="1608" y="396"/>
                    <a:pt x="1651" y="428"/>
                    <a:pt x="1681" y="472"/>
                  </a:cubicBezTo>
                  <a:cubicBezTo>
                    <a:pt x="1696" y="520"/>
                    <a:pt x="1720" y="566"/>
                    <a:pt x="1738" y="613"/>
                  </a:cubicBezTo>
                  <a:cubicBezTo>
                    <a:pt x="1748" y="666"/>
                    <a:pt x="1758" y="713"/>
                    <a:pt x="1764" y="766"/>
                  </a:cubicBezTo>
                  <a:cubicBezTo>
                    <a:pt x="1762" y="819"/>
                    <a:pt x="1766" y="873"/>
                    <a:pt x="1758" y="926"/>
                  </a:cubicBezTo>
                  <a:cubicBezTo>
                    <a:pt x="1753" y="958"/>
                    <a:pt x="1717" y="975"/>
                    <a:pt x="1694" y="990"/>
                  </a:cubicBezTo>
                  <a:cubicBezTo>
                    <a:pt x="1668" y="1007"/>
                    <a:pt x="1604" y="1016"/>
                    <a:pt x="1578" y="1022"/>
                  </a:cubicBezTo>
                  <a:cubicBezTo>
                    <a:pt x="1536" y="1032"/>
                    <a:pt x="1498" y="1054"/>
                    <a:pt x="1457" y="1067"/>
                  </a:cubicBezTo>
                  <a:cubicBezTo>
                    <a:pt x="1238" y="1063"/>
                    <a:pt x="1022" y="1053"/>
                    <a:pt x="804" y="1042"/>
                  </a:cubicBezTo>
                  <a:cubicBezTo>
                    <a:pt x="700" y="1023"/>
                    <a:pt x="601" y="981"/>
                    <a:pt x="497" y="965"/>
                  </a:cubicBezTo>
                  <a:cubicBezTo>
                    <a:pt x="478" y="952"/>
                    <a:pt x="459" y="950"/>
                    <a:pt x="439" y="939"/>
                  </a:cubicBezTo>
                  <a:cubicBezTo>
                    <a:pt x="388" y="910"/>
                    <a:pt x="342" y="874"/>
                    <a:pt x="286" y="856"/>
                  </a:cubicBezTo>
                  <a:cubicBezTo>
                    <a:pt x="255" y="826"/>
                    <a:pt x="227" y="811"/>
                    <a:pt x="183" y="811"/>
                  </a:cubicBez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035120" y="2705760"/>
              <a:ext cx="1032120" cy="1150200"/>
            </a:xfrm>
            <a:custGeom>
              <a:avLst/>
              <a:gdLst/>
              <a:ahLst/>
              <a:rect l="l" t="t" r="r" b="b"/>
              <a:pathLst>
                <a:path w="563" h="500">
                  <a:moveTo>
                    <a:pt x="121" y="396"/>
                  </a:moveTo>
                  <a:cubicBezTo>
                    <a:pt x="93" y="378"/>
                    <a:pt x="64" y="336"/>
                    <a:pt x="44" y="307"/>
                  </a:cubicBezTo>
                  <a:cubicBezTo>
                    <a:pt x="38" y="281"/>
                    <a:pt x="34" y="265"/>
                    <a:pt x="19" y="243"/>
                  </a:cubicBezTo>
                  <a:cubicBezTo>
                    <a:pt x="4" y="189"/>
                    <a:pt x="0" y="73"/>
                    <a:pt x="70" y="51"/>
                  </a:cubicBezTo>
                  <a:cubicBezTo>
                    <a:pt x="87" y="34"/>
                    <a:pt x="106" y="21"/>
                    <a:pt x="128" y="12"/>
                  </a:cubicBezTo>
                  <a:cubicBezTo>
                    <a:pt x="140" y="7"/>
                    <a:pt x="166" y="0"/>
                    <a:pt x="166" y="0"/>
                  </a:cubicBezTo>
                  <a:cubicBezTo>
                    <a:pt x="267" y="5"/>
                    <a:pt x="366" y="16"/>
                    <a:pt x="467" y="25"/>
                  </a:cubicBezTo>
                  <a:cubicBezTo>
                    <a:pt x="525" y="54"/>
                    <a:pt x="507" y="35"/>
                    <a:pt x="531" y="70"/>
                  </a:cubicBezTo>
                  <a:cubicBezTo>
                    <a:pt x="539" y="94"/>
                    <a:pt x="545" y="115"/>
                    <a:pt x="550" y="140"/>
                  </a:cubicBezTo>
                  <a:cubicBezTo>
                    <a:pt x="554" y="159"/>
                    <a:pt x="563" y="198"/>
                    <a:pt x="563" y="198"/>
                  </a:cubicBezTo>
                  <a:cubicBezTo>
                    <a:pt x="550" y="500"/>
                    <a:pt x="557" y="370"/>
                    <a:pt x="121" y="396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74400" y="2532240"/>
              <a:ext cx="1853280" cy="1578240"/>
            </a:xfrm>
            <a:custGeom>
              <a:avLst/>
              <a:gdLst/>
              <a:ahLst/>
              <a:rect l="l" t="t" r="r" b="b"/>
              <a:pathLst>
                <a:path w="1011" h="704">
                  <a:moveTo>
                    <a:pt x="180" y="487"/>
                  </a:moveTo>
                  <a:cubicBezTo>
                    <a:pt x="143" y="433"/>
                    <a:pt x="192" y="497"/>
                    <a:pt x="148" y="461"/>
                  </a:cubicBezTo>
                  <a:cubicBezTo>
                    <a:pt x="109" y="430"/>
                    <a:pt x="161" y="450"/>
                    <a:pt x="116" y="436"/>
                  </a:cubicBezTo>
                  <a:cubicBezTo>
                    <a:pt x="102" y="414"/>
                    <a:pt x="74" y="386"/>
                    <a:pt x="52" y="372"/>
                  </a:cubicBezTo>
                  <a:cubicBezTo>
                    <a:pt x="48" y="365"/>
                    <a:pt x="45" y="358"/>
                    <a:pt x="39" y="352"/>
                  </a:cubicBezTo>
                  <a:cubicBezTo>
                    <a:pt x="34" y="347"/>
                    <a:pt x="25" y="346"/>
                    <a:pt x="20" y="340"/>
                  </a:cubicBezTo>
                  <a:cubicBezTo>
                    <a:pt x="12" y="329"/>
                    <a:pt x="12" y="314"/>
                    <a:pt x="7" y="301"/>
                  </a:cubicBezTo>
                  <a:cubicBezTo>
                    <a:pt x="15" y="147"/>
                    <a:pt x="0" y="205"/>
                    <a:pt x="26" y="122"/>
                  </a:cubicBezTo>
                  <a:cubicBezTo>
                    <a:pt x="33" y="98"/>
                    <a:pt x="82" y="82"/>
                    <a:pt x="103" y="77"/>
                  </a:cubicBezTo>
                  <a:cubicBezTo>
                    <a:pt x="190" y="57"/>
                    <a:pt x="275" y="31"/>
                    <a:pt x="359" y="0"/>
                  </a:cubicBezTo>
                  <a:cubicBezTo>
                    <a:pt x="459" y="2"/>
                    <a:pt x="560" y="3"/>
                    <a:pt x="660" y="7"/>
                  </a:cubicBezTo>
                  <a:cubicBezTo>
                    <a:pt x="692" y="8"/>
                    <a:pt x="681" y="16"/>
                    <a:pt x="711" y="26"/>
                  </a:cubicBezTo>
                  <a:cubicBezTo>
                    <a:pt x="770" y="46"/>
                    <a:pt x="824" y="77"/>
                    <a:pt x="884" y="96"/>
                  </a:cubicBezTo>
                  <a:cubicBezTo>
                    <a:pt x="891" y="121"/>
                    <a:pt x="908" y="132"/>
                    <a:pt x="922" y="154"/>
                  </a:cubicBezTo>
                  <a:cubicBezTo>
                    <a:pt x="933" y="224"/>
                    <a:pt x="939" y="299"/>
                    <a:pt x="980" y="359"/>
                  </a:cubicBezTo>
                  <a:cubicBezTo>
                    <a:pt x="1011" y="458"/>
                    <a:pt x="997" y="420"/>
                    <a:pt x="986" y="615"/>
                  </a:cubicBezTo>
                  <a:cubicBezTo>
                    <a:pt x="984" y="646"/>
                    <a:pt x="962" y="669"/>
                    <a:pt x="935" y="679"/>
                  </a:cubicBezTo>
                  <a:cubicBezTo>
                    <a:pt x="910" y="704"/>
                    <a:pt x="918" y="704"/>
                    <a:pt x="871" y="704"/>
                  </a:cubicBezTo>
                  <a:cubicBezTo>
                    <a:pt x="764" y="704"/>
                    <a:pt x="658" y="700"/>
                    <a:pt x="551" y="698"/>
                  </a:cubicBezTo>
                  <a:cubicBezTo>
                    <a:pt x="532" y="692"/>
                    <a:pt x="513" y="685"/>
                    <a:pt x="494" y="679"/>
                  </a:cubicBezTo>
                  <a:cubicBezTo>
                    <a:pt x="481" y="675"/>
                    <a:pt x="455" y="666"/>
                    <a:pt x="455" y="666"/>
                  </a:cubicBezTo>
                  <a:cubicBezTo>
                    <a:pt x="434" y="652"/>
                    <a:pt x="422" y="636"/>
                    <a:pt x="398" y="628"/>
                  </a:cubicBezTo>
                  <a:cubicBezTo>
                    <a:pt x="367" y="604"/>
                    <a:pt x="326" y="582"/>
                    <a:pt x="289" y="570"/>
                  </a:cubicBezTo>
                  <a:cubicBezTo>
                    <a:pt x="266" y="547"/>
                    <a:pt x="243" y="529"/>
                    <a:pt x="212" y="519"/>
                  </a:cubicBezTo>
                  <a:cubicBezTo>
                    <a:pt x="199" y="510"/>
                    <a:pt x="187" y="502"/>
                    <a:pt x="174" y="493"/>
                  </a:cubicBezTo>
                  <a:cubicBezTo>
                    <a:pt x="148" y="476"/>
                    <a:pt x="145" y="477"/>
                    <a:pt x="180" y="487"/>
                  </a:cubicBez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35960" y="28796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4920" y="2879640"/>
              <a:ext cx="465840" cy="555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40280" y="308772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48160" y="3020040"/>
              <a:ext cx="46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ff3300"/>
                  </a:solidFill>
                  <a:latin typeface="Arial"/>
                </a:rPr>
                <a:t>n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40280" y="399096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03560" y="36435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40600" y="3643560"/>
              <a:ext cx="43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ff33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01160" y="2949120"/>
              <a:ext cx="3992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667560" y="407664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al relaxation using ideal invariants—earlier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Bhattacharjee &amp; Dewa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ergy Principle with Global Invaria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hys. Fluid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887 (1982) in that we constrain relaxation with an extended class of weighted helicities that are all invariant under ideal MHD perturb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 from B&amp;D in using step-function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variation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relaxed” equilib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22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Function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821040" y="816120"/>
                <a:ext cx="29685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457200" y="1447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 yiel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31800" y="2090880"/>
                <a:ext cx="3154320" cy="28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Ñ´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B</m:t>
                          </m:r>
                        </m:e>
                      </m:mr>
                      <m:mr>
                        <m:e/>
                        <m:e/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stant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B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/>
                        <m:e>
                          <m:d>
                            <m:dPr>
                              <m:begChr m:val="⟨"/>
                              <m:endChr m:val="⟩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V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Ñ´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/>
                        <m:e>
                          <m:r>
                            <m:t xml:space="preserve">Ñ</m:t>
                          </m:r>
                          <m:r>
                            <m:t xml:space="preserve">⋅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W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B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4776840" y="3276720"/>
            <a:ext cx="43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unit normal to interfa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648320" y="3718080"/>
                <a:ext cx="20574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380880" y="5029200"/>
            <a:ext cx="854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oidal flux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p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oroidal flux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ant during relax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22360" y="5662440"/>
                <a:ext cx="5276880" cy="13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sSup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stant</m:t>
                          </m:r>
                        </m:e>
                        <m:e/>
                      </m:mr>
                      <m:mr>
                        <m:e>
                          <m:r>
                            <m:t xml:space="preserve">V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stant, </m:t>
                          </m:r>
                        </m:e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ol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stant</m:t>
                          </m:r>
                        </m:e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variation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table equilib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62120" y="3067200"/>
                <a:ext cx="2327040" cy="16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Ñ´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b</m:t>
                          </m:r>
                        </m:e>
                      </m:mr>
                      <m:mr>
                        <m:e>
                          <m:r>
                            <m:t xml:space="preserve">V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Ñ´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/>
                        <m:e>
                          <m:r>
                            <m:t xml:space="preserve">Ñ</m:t>
                          </m:r>
                          <m:r>
                            <m:t xml:space="preserve">⋅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W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B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457200" y="6172200"/>
            <a:ext cx="84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expressions for perturbed fluxes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p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ach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92960" y="2414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Y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1280" y="789120"/>
            <a:ext cx="86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t fixed constraint. Two possible choices a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725400" y="1469880"/>
                <a:ext cx="2127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U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UV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d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5410080" y="3048120"/>
            <a:ext cx="29718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interface displacement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549680" y="1384200"/>
                <a:ext cx="25369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dt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/>
                                    </m:sSup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459720" y="239076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solution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962440" y="2452680"/>
                <a:ext cx="9442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626000" y="2390760"/>
                <a:ext cx="1963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λ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3916800" y="23796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14520" y="4950000"/>
                <a:ext cx="64627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Ñ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Ñ´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´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e>
                                <m:sup/>
                              </m:sSup>
                            </m:sub>
                          </m:sSub>
                          <m:d>
                            <m:dPr>
                              <m:begChr m:val="["/>
                              <m:endChr m:val="]"/>
                            </m:dPr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t xml:space="preserve">B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b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t xml:space="preserve">B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Ñ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B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λ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1 Eg: Cylindrical Equilib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49120" y="2436840"/>
            <a:ext cx="4108320" cy="4125960"/>
            <a:chOff x="249120" y="2436840"/>
            <a:chExt cx="4108320" cy="4125960"/>
          </a:xfrm>
        </p:grpSpPr>
        <p:sp>
          <p:nvSpPr>
            <p:cNvPr id="315" name=""/>
            <p:cNvSpPr/>
            <p:nvPr/>
          </p:nvSpPr>
          <p:spPr>
            <a:xfrm>
              <a:off x="630000" y="2816280"/>
              <a:ext cx="3357720" cy="3449520"/>
            </a:xfrm>
            <a:prstGeom prst="ellipse">
              <a:avLst/>
            </a:prstGeom>
            <a:solidFill>
              <a:srgbClr val="f8f8f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33480" y="3078000"/>
              <a:ext cx="2782800" cy="2903760"/>
            </a:xfrm>
            <a:prstGeom prst="ellipse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39880" y="3881520"/>
              <a:ext cx="1173240" cy="1152360"/>
            </a:xfrm>
            <a:prstGeom prst="ellips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22480" y="4165560"/>
              <a:ext cx="590400" cy="55872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9120" y="2436840"/>
              <a:ext cx="4108320" cy="412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96800" y="405756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50880" y="384192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50920" y="2873520"/>
              <a:ext cx="35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17160" y="253512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24360" y="4265640"/>
              <a:ext cx="43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85000" y="4540320"/>
              <a:ext cx="43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56200" y="5310360"/>
              <a:ext cx="456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3200" y="323064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45280" y="55260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68560" y="43196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49440" y="1093680"/>
                <a:ext cx="66895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</m:mr>
                      <m:mr>
                        <m:e>
                          <m:r>
                            <m:t xml:space="preserve">V</m:t>
                          </m:r>
                          <m:r>
                            <m:t xml:space="preserve">: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p>
                                      <m:r>
                                        <m:t xml:space="preserve">V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p>
                                      <m:r>
                                        <m:t xml:space="preserve">V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17440" y="620280"/>
            <a:ext cx="212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257560" y="706320"/>
          <a:ext cx="1562040" cy="4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7560" y="706320"/>
                    <a:ext cx="15620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4691520" y="2455920"/>
            <a:ext cx="42724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s at radial locatio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Besse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3600" y="6458040"/>
            <a:ext cx="337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# unknowns = 4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4888080" y="3911760"/>
          <a:ext cx="3527280" cy="2482560"/>
        </p:xfrm>
        <a:graphic>
          <a:graphicData uri="http://schemas.openxmlformats.org/drawingml/2006/table">
            <a:tbl>
              <a:tblPr/>
              <a:tblGrid>
                <a:gridCol w="1763640"/>
                <a:gridCol w="1763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unknow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d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r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r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quilibria with positive shear ex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1400" y="866880"/>
            <a:ext cx="46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. five-layer equilibrium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cylinder_barriers" descr=""/>
          <p:cNvPicPr/>
          <p:nvPr/>
        </p:nvPicPr>
        <p:blipFill>
          <a:blip r:embed="rId1"/>
          <a:srcRect l="10772" t="0" r="3078" b="44247"/>
          <a:stretch/>
        </p:blipFill>
        <p:spPr>
          <a:xfrm>
            <a:off x="0" y="1981080"/>
            <a:ext cx="4572000" cy="27766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228600" y="1676520"/>
            <a:ext cx="324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urs of poloidal flu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27040" y="5334120"/>
            <a:ext cx="725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file continuous in plasma reg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must have some reverse 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optimized to model tokamak-like equilib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cylinder_barriers" descr=""/>
          <p:cNvPicPr/>
          <p:nvPr/>
        </p:nvPicPr>
        <p:blipFill>
          <a:blip r:embed="rId2"/>
          <a:srcRect l="9230" t="55760" r="33851" b="0"/>
          <a:stretch/>
        </p:blipFill>
        <p:spPr>
          <a:xfrm>
            <a:off x="4648320" y="2133720"/>
            <a:ext cx="41148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tral Analysis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3804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30760" indent="-230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ier decompose perturbed field b and interfac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752480" y="1295280"/>
                <a:ext cx="19814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b</m:t>
                        </m:r>
                      </m:e>
                    </m:acc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mθ</m:t>
                        </m:r>
                        <m:r>
                          <m:t xml:space="preserve">+</m:t>
                        </m:r>
                        <m:r>
                          <m:t xml:space="preserve">κz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4495680" y="1295280"/>
                <a:ext cx="1968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mθ</m:t>
                        </m:r>
                        <m:r>
                          <m:t xml:space="preserve">+</m:t>
                        </m:r>
                        <m:r>
                          <m:t xml:space="preserve">κz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47" name=""/>
          <p:cNvGrpSpPr/>
          <p:nvPr/>
        </p:nvGrpSpPr>
        <p:grpSpPr>
          <a:xfrm>
            <a:off x="1046160" y="1828800"/>
            <a:ext cx="7772400" cy="838080"/>
            <a:chOff x="1046160" y="1828800"/>
            <a:chExt cx="7772400" cy="838080"/>
          </a:xfrm>
        </p:grpSpPr>
        <p:sp>
          <p:nvSpPr>
            <p:cNvPr id="348" name=""/>
            <p:cNvSpPr/>
            <p:nvPr/>
          </p:nvSpPr>
          <p:spPr>
            <a:xfrm>
              <a:off x="1046160" y="1828800"/>
              <a:ext cx="77724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3280" indent="-2332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re complex Fourier amplitu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Z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Z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/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z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riodicity axial 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1350720" y="1828800"/>
                  <a:ext cx="60984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~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0" name=""/>
          <p:cNvSpPr/>
          <p:nvPr/>
        </p:nvSpPr>
        <p:spPr>
          <a:xfrm>
            <a:off x="377280" y="2792520"/>
            <a:ext cx="599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ystem of equations reduce to 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901800" y="3449520"/>
                <a:ext cx="27464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: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6828120" y="3416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246560" y="3832200"/>
                <a:ext cx="35053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975200" y="3430440"/>
                <a:ext cx="160020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κ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/</m:t>
                        </m:r>
                        <m:sSup>
                          <m:e>
                            <m:r>
                              <m:t xml:space="preserve">κ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4258440" y="34164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4137120" y="4605480"/>
                <a:ext cx="36637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814680" y="4654440"/>
            <a:ext cx="3085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n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f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3560" y="5197320"/>
            <a:ext cx="795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 + 2 unknown constants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…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V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90440" y="57117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C’s at wall and core eliminate two unknow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00160" y="61833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pply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face condition 2N times (inside + outsid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584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face conds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igenvalue equ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640" y="2590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30760" indent="-230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interface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492200" y="3236760"/>
                <a:ext cx="48592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sSup>
                          <m:e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e>
                          <m:sup/>
                        </m:sSup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r>
                              <m:t xml:space="preserve">∇</m:t>
                            </m:r>
                            <m:r>
                              <m:t xml:space="preserve">)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λξ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274760" y="1390680"/>
                <a:ext cx="45356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∇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336600" y="793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interface condition at each interface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38440" y="2003400"/>
            <a:ext cx="201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95640" y="198900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2200" y="3936960"/>
            <a:ext cx="82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 interfaces reduces to tridiagonal eigenvalue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525600" y="4605480"/>
          <a:ext cx="8265960" cy="22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605480"/>
                    <a:ext cx="8265960" cy="22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bility benchmarked to 1-layer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0200" y="820800"/>
            <a:ext cx="80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QR algorithm for Hessenberg matrices to solve for all eigenvalues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merical Recipes, Ch. 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hmark 1-layer equilibrium scans to Kaiser and Uecker, reproducing stability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KU1_scan" descr=""/>
          <p:cNvPicPr/>
          <p:nvPr/>
        </p:nvPicPr>
        <p:blipFill>
          <a:blip r:embed="rId1"/>
          <a:srcRect l="1692" t="4425" r="5798" b="0"/>
          <a:stretch/>
        </p:blipFill>
        <p:spPr>
          <a:xfrm>
            <a:off x="4902120" y="3957480"/>
            <a:ext cx="3741840" cy="2900520"/>
          </a:xfrm>
          <a:prstGeom prst="rect">
            <a:avLst/>
          </a:prstGeom>
          <a:ln w="0">
            <a:noFill/>
          </a:ln>
        </p:spPr>
      </p:pic>
      <p:pic>
        <p:nvPicPr>
          <p:cNvPr id="374" name="KU1_org" descr=""/>
          <p:cNvPicPr/>
          <p:nvPr/>
        </p:nvPicPr>
        <p:blipFill>
          <a:blip r:embed="rId2"/>
          <a:srcRect l="0" t="0" r="0" b="5895"/>
          <a:stretch/>
        </p:blipFill>
        <p:spPr>
          <a:xfrm>
            <a:off x="588960" y="4068720"/>
            <a:ext cx="3645000" cy="27892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539640" y="2576520"/>
            <a:ext cx="80899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scan over Lagrange multiplier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jump 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gle at plasma/vacuum interface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r different conducting wall radi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Regions interior to each layer contour are stabl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30240" y="3689280"/>
            <a:ext cx="321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iser and Uecker,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xed (N=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13880" y="3629160"/>
            <a:ext cx="21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e, Dewar, Hud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7324560" y="3506760"/>
                <a:ext cx="18370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dt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/>
                                    </m:sSup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3960" y="1142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HD equilibria in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A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epped pressure profil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rical plasma equilibria and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work : generalization to arbitrary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4360" y="0"/>
            <a:ext cx="83916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figuration space contracts with increasing bet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9400" y="1187280"/>
            <a:ext cx="8089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n over Lagrange multiplier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jump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gle at plasma/vacuum interfac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wall radiu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.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KU2_scan" descr=""/>
          <p:cNvPicPr/>
          <p:nvPr/>
        </p:nvPicPr>
        <p:blipFill>
          <a:blip r:embed="rId1"/>
          <a:srcRect l="1893" t="6254" r="7952" b="0"/>
          <a:stretch/>
        </p:blipFill>
        <p:spPr>
          <a:xfrm>
            <a:off x="765000" y="2260440"/>
            <a:ext cx="5670720" cy="4424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485040" y="3048120"/>
            <a:ext cx="216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s interior to each layer contour are sta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B Configu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47840" y="1890720"/>
            <a:ext cx="3444840" cy="4967280"/>
            <a:chOff x="447840" y="1890720"/>
            <a:chExt cx="3444840" cy="4967280"/>
          </a:xfrm>
        </p:grpSpPr>
        <p:pic>
          <p:nvPicPr>
            <p:cNvPr id="385" name="scan_ITB1" descr=""/>
            <p:cNvPicPr/>
            <p:nvPr/>
          </p:nvPicPr>
          <p:blipFill>
            <a:blip r:embed="rId1"/>
            <a:srcRect l="18589" t="0" r="34355" b="41422"/>
            <a:stretch/>
          </p:blipFill>
          <p:spPr>
            <a:xfrm>
              <a:off x="447840" y="1890720"/>
              <a:ext cx="3444840" cy="32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scan_ITB1" descr=""/>
            <p:cNvPicPr/>
            <p:nvPr/>
          </p:nvPicPr>
          <p:blipFill>
            <a:blip r:embed="rId2"/>
            <a:srcRect l="17851" t="57489" r="30494" b="0"/>
            <a:stretch/>
          </p:blipFill>
          <p:spPr>
            <a:xfrm>
              <a:off x="862200" y="5081760"/>
              <a:ext cx="2876400" cy="17762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561960" y="946080"/>
                <a:ext cx="33624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  <m:sup>
                            <m:r>
                              <m:t xml:space="preserve">V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V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970520" y="957240"/>
                <a:ext cx="34876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591120" y="1479600"/>
            <a:ext cx="230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constrain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343400" y="1241280"/>
            <a:ext cx="522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4967280" y="1609560"/>
          <a:ext cx="124776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7280" y="1609560"/>
                    <a:ext cx="124776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4921200" y="2112840"/>
          <a:ext cx="2387520" cy="79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21200" y="2112840"/>
                    <a:ext cx="238752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6266520" y="1643040"/>
            <a:ext cx="254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T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solu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figuration S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scan_ITB2" descr=""/>
          <p:cNvPicPr/>
          <p:nvPr/>
        </p:nvPicPr>
        <p:blipFill>
          <a:blip r:embed="rId1"/>
          <a:srcRect l="3885" t="2019" r="0" b="0"/>
          <a:stretch/>
        </p:blipFill>
        <p:spPr>
          <a:xfrm>
            <a:off x="684360" y="666720"/>
            <a:ext cx="8001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D Beltrami field—first c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asymmetric_hudson10" descr=""/>
          <p:cNvPicPr/>
          <p:nvPr/>
        </p:nvPicPr>
        <p:blipFill>
          <a:blip r:embed="rId1"/>
          <a:stretch/>
        </p:blipFill>
        <p:spPr>
          <a:xfrm>
            <a:off x="2284560" y="1176480"/>
            <a:ext cx="5529240" cy="55292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0" y="762120"/>
            <a:ext cx="47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ly perturb plasma bound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99160" y="4943520"/>
            <a:ext cx="21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c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ot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21000" y="1560600"/>
            <a:ext cx="3917880" cy="41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78240" y="2595600"/>
            <a:ext cx="2014560" cy="2112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66840" y="3005280"/>
          <a:ext cx="1733400" cy="46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6840" y="3005280"/>
                    <a:ext cx="17334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3076560" y="5518080"/>
          <a:ext cx="1230480" cy="46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76560" y="5518080"/>
                    <a:ext cx="12304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254160" y="3706920"/>
            <a:ext cx="232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method of li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224760" y="4334040"/>
            <a:ext cx="1650960" cy="888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59720" y="51814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haos vis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743360" y="803160"/>
                <a:ext cx="38973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 flipH="1" flipV="1">
            <a:off x="4644720" y="1112400"/>
            <a:ext cx="1052280" cy="328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5600" y="22971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Summary 1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66760" y="939960"/>
            <a:ext cx="8712000" cy="52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x surfaces support increases in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erformance (ie. high pressure) fusion plasmas require good flux surfa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 initi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 3D ideal MH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in regions of ration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surfaces must be relinquished for ration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highly irration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ome flux surfaces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aim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 convergent algorithm for constructing 3D  ideal MHD equilibri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 relationship between ideal MHD stability of multiple interface model and internal transport barrier 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 2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16000" y="685800"/>
            <a:ext cx="871200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) Analytic stepped pressure equilibria have been constructed and studied in cylindrical geome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ifferent normalization give ballooning/ global 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de written to compute global stability… analysis in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7) numerical algorithms to solve in arbitrary 3D geometry to be designed and implement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oops_6nov99b" descr=""/>
          <p:cNvPicPr/>
          <p:nvPr/>
        </p:nvPicPr>
        <p:blipFill>
          <a:blip r:embed="rId1"/>
          <a:stretch/>
        </p:blipFill>
        <p:spPr>
          <a:xfrm>
            <a:off x="4327560" y="5433840"/>
            <a:ext cx="123336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530520" y="2624040"/>
            <a:ext cx="1516320" cy="1524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3D MHD equilib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59160" y="2139840"/>
                <a:ext cx="19177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Ñ´</m:t>
                    </m:r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J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864480" y="2138400"/>
                <a:ext cx="14256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152640" y="160020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deal MH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762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MHD equilibria are solutions of ideal MHD in systems with no (spatial) ignorable co-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99960" y="2176560"/>
                <a:ext cx="16272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Ñp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´</m:t>
                    </m:r>
                    <m:r>
                      <m:t xml:space="preserve">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761000" y="2136600"/>
                <a:ext cx="1609560" cy="4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Ñ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751360" y="2739960"/>
            <a:ext cx="2286000" cy="1322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34880" y="4622760"/>
            <a:ext cx="61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amaks, due to coil ripple or instabil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ITER01ss" descr=""/>
          <p:cNvPicPr/>
          <p:nvPr/>
        </p:nvPicPr>
        <p:blipFill>
          <a:blip r:embed="rId4"/>
          <a:stretch/>
        </p:blipFill>
        <p:spPr>
          <a:xfrm>
            <a:off x="6521400" y="4176720"/>
            <a:ext cx="1622520" cy="16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6320" y="290664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llara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4000" y="569916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al plas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87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inding Numbers for Toroidal Magnetic Fiel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iter_mag_field_only" descr=""/>
          <p:cNvPicPr/>
          <p:nvPr/>
        </p:nvPicPr>
        <p:blipFill>
          <a:blip r:embed="rId1"/>
          <a:srcRect l="9256" t="2332" r="8191" b="4665"/>
          <a:stretch/>
        </p:blipFill>
        <p:spPr>
          <a:xfrm>
            <a:off x="7059600" y="5361120"/>
            <a:ext cx="1521000" cy="1207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40" y="3438360"/>
            <a:ext cx="86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okamaks,  conventionally use winding numb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0120" y="4471920"/>
            <a:ext cx="68580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irrationa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godically passes through all points in magnetic surfac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rational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ines close on each oth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0400" y="3867120"/>
            <a:ext cx="65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e. toroid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ions per poloid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tation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080" y="6191280"/>
            <a:ext cx="57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tellarators,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tational trans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23000" y="6110280"/>
          <a:ext cx="1143000" cy="60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23000" y="6110280"/>
                    <a:ext cx="11430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"/>
          <p:cNvGrpSpPr/>
          <p:nvPr/>
        </p:nvGrpSpPr>
        <p:grpSpPr>
          <a:xfrm>
            <a:off x="4176720" y="955800"/>
            <a:ext cx="2552760" cy="2141280"/>
            <a:chOff x="4176720" y="955800"/>
            <a:chExt cx="2552760" cy="2141280"/>
          </a:xfrm>
        </p:grpSpPr>
        <p:pic>
          <p:nvPicPr>
            <p:cNvPr id="73" name="flux_surfaces%20001" descr=""/>
            <p:cNvPicPr/>
            <p:nvPr/>
          </p:nvPicPr>
          <p:blipFill>
            <a:blip r:embed="rId4"/>
            <a:srcRect l="20182" t="16861" r="0" b="20641"/>
            <a:stretch/>
          </p:blipFill>
          <p:spPr>
            <a:xfrm>
              <a:off x="4176720" y="955800"/>
              <a:ext cx="2552760" cy="21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389560" y="1488960"/>
              <a:ext cx="98280" cy="18432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57"/>
                  </a:moveTo>
                  <a:cubicBezTo>
                    <a:pt x="31" y="46"/>
                    <a:pt x="30" y="35"/>
                    <a:pt x="25" y="25"/>
                  </a:cubicBezTo>
                  <a:cubicBezTo>
                    <a:pt x="20" y="15"/>
                    <a:pt x="10" y="7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76880" y="1739880"/>
              <a:ext cx="253800" cy="98280"/>
            </a:xfrm>
            <a:custGeom>
              <a:avLst/>
              <a:gdLst/>
              <a:ahLst/>
              <a:rect l="l" t="t" r="r" b="b"/>
              <a:pathLst>
                <a:path w="70" h="38">
                  <a:moveTo>
                    <a:pt x="70" y="38"/>
                  </a:moveTo>
                  <a:cubicBezTo>
                    <a:pt x="58" y="25"/>
                    <a:pt x="47" y="12"/>
                    <a:pt x="35" y="6"/>
                  </a:cubicBezTo>
                  <a:cubicBezTo>
                    <a:pt x="23" y="0"/>
                    <a:pt x="6" y="1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87680" y="2003400"/>
              <a:ext cx="257400" cy="73080"/>
            </a:xfrm>
            <a:custGeom>
              <a:avLst/>
              <a:gdLst/>
              <a:ahLst/>
              <a:rect l="l" t="t" r="r" b="b"/>
              <a:pathLst>
                <a:path w="205" h="31">
                  <a:moveTo>
                    <a:pt x="205" y="18"/>
                  </a:moveTo>
                  <a:cubicBezTo>
                    <a:pt x="162" y="9"/>
                    <a:pt x="120" y="0"/>
                    <a:pt x="86" y="2"/>
                  </a:cubicBezTo>
                  <a:cubicBezTo>
                    <a:pt x="52" y="4"/>
                    <a:pt x="26" y="17"/>
                    <a:pt x="0" y="3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97480" y="1832040"/>
              <a:ext cx="96840" cy="685800"/>
            </a:xfrm>
            <a:custGeom>
              <a:avLst/>
              <a:gdLst/>
              <a:ahLst/>
              <a:rect l="l" t="t" r="r" b="b"/>
              <a:pathLst>
                <a:path w="61" h="432">
                  <a:moveTo>
                    <a:pt x="32" y="432"/>
                  </a:moveTo>
                  <a:cubicBezTo>
                    <a:pt x="46" y="352"/>
                    <a:pt x="61" y="272"/>
                    <a:pt x="56" y="200"/>
                  </a:cubicBezTo>
                  <a:cubicBezTo>
                    <a:pt x="51" y="128"/>
                    <a:pt x="11" y="3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32040" y="968400"/>
              <a:ext cx="241560" cy="673200"/>
            </a:xfrm>
            <a:custGeom>
              <a:avLst/>
              <a:gdLst/>
              <a:ahLst/>
              <a:rect l="l" t="t" r="r" b="b"/>
              <a:pathLst>
                <a:path w="248" h="704">
                  <a:moveTo>
                    <a:pt x="248" y="704"/>
                  </a:moveTo>
                  <a:cubicBezTo>
                    <a:pt x="220" y="562"/>
                    <a:pt x="193" y="421"/>
                    <a:pt x="152" y="304"/>
                  </a:cubicBezTo>
                  <a:cubicBezTo>
                    <a:pt x="111" y="187"/>
                    <a:pt x="55" y="9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66960" y="204300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65680" y="1022400"/>
              <a:ext cx="31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85760" y="903240"/>
            <a:ext cx="380196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okamaks, and ideally in stellarator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e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gneticsurfa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field lines cover by winding around in a helical fash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general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3D MHD equilibria, </a:t>
            </a:r>
            <a:r>
              <a:rPr b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i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0 and smoothness of profiles are incompatible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island4" descr=""/>
          <p:cNvPicPr/>
          <p:nvPr/>
        </p:nvPicPr>
        <p:blipFill>
          <a:blip r:embed="rId1"/>
          <a:stretch/>
        </p:blipFill>
        <p:spPr>
          <a:xfrm>
            <a:off x="733320" y="3719520"/>
            <a:ext cx="1743120" cy="1393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09600" y="1309680"/>
                <a:ext cx="10857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06600" y="1332000"/>
                <a:ext cx="10544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Ñ</m:t>
                    </m:r>
                    <m:r>
                      <m:t xml:space="preserve">⋅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261040" y="1274760"/>
                <a:ext cx="2003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Ñs</m:t>
                    </m:r>
                    <m:r>
                      <m:rPr>
                        <m:lit/>
                        <m:nor/>
                      </m:rPr>
                      <m:t xml:space="preserve">=-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acc>
                          <m:accPr>
                            <m:chr m:val="^"/>
                          </m:accPr>
                          <m:e/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4590720" y="126036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343240"/>
            <a:ext cx="876312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very singular operator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ws up at each rational magnetic surface (which would be dens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y existed)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densely. Suff. to 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631880" y="1641600"/>
                <a:ext cx="30495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Ñ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acc>
                          <m:accPr>
                            <m:chr m:val="^"/>
                          </m:accPr>
                          <m:e/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384120" y="124920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31680" y="1822320"/>
            <a:ext cx="42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b. const. along field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5640" y="5165640"/>
            <a:ext cx="8789760" cy="1426320"/>
            <a:chOff x="125640" y="5165640"/>
            <a:chExt cx="8789760" cy="1426320"/>
          </a:xfrm>
        </p:grpSpPr>
        <p:sp>
          <p:nvSpPr>
            <p:cNvPr id="93" name=""/>
            <p:cNvSpPr/>
            <p:nvPr/>
          </p:nvSpPr>
          <p:spPr>
            <a:xfrm>
              <a:off x="304920" y="5553000"/>
              <a:ext cx="8610480" cy="10389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 order to have a static (3D) equilibrium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’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must be zero in the neighborhood of 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ever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rational rotational transform, a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lux surfaces must be relinquishe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”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5640" y="5165640"/>
              <a:ext cx="746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f. Grad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oroidal Containment of plasma,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ys. Plas.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(196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3080" y="180324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28760" y="1252440"/>
            <a:ext cx="10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259680" y="3252960"/>
                <a:ext cx="27810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´Ñ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3510000" y="3720960"/>
            <a:ext cx="54990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to ensure a mathematically well-defin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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s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over finite regi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—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ce-free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70120" y="3827520"/>
            <a:ext cx="217440" cy="39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trami &amp; piecewise Beltra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8480" y="1404720"/>
            <a:ext cx="854568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-free fields for which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con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a volume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ltrami fiel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field-line chaos in a region implies a Beltrami field in region sinc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a field line, and a single field line fills a chaotic regions ergodical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if there are islands in the region, Beltrami assumption is natural, as it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ple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libriu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are surfaces separating chaotic regions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um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ross such su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5960" y="672840"/>
            <a:ext cx="61722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Hamiltonian mechanic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lu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1640" y="2755800"/>
            <a:ext cx="83059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08080" indent="-2080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turbs an integrable Hamiltonian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in a toru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lux surfa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by a periodic functional perturbation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p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4660920"/>
            <a:ext cx="867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4586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Bruno and Laurence (c. 1996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. Pure Appl. Maths, XLIX, 717-764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0120" y="5168880"/>
            <a:ext cx="83408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d existence theorems for sharp boundary solutions for tori for small departure from axisymm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6440" y="3975120"/>
            <a:ext cx="881388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3160" indent="-1731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AM theory 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lux surfa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re sufficiently far from resonance (</a:t>
            </a:r>
            <a:r>
              <a:rPr b="0" i="1" lang="en-US" sz="2200" spc="-1" strike="noStrike">
                <a:solidFill>
                  <a:srgbClr val="3333cc"/>
                </a:solidFill>
                <a:latin typeface="Arial"/>
              </a:rPr>
              <a:t>q 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sufficiently irration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lux surfac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rvive for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9360" y="139680"/>
            <a:ext cx="8839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KAM su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9800" y="6134040"/>
            <a:ext cx="7315200" cy="448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the pressure only across KAM surf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8920" y="2222640"/>
            <a:ext cx="7696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6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Kolmogorov Arnold Moser (KAM) Theory (c. 196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240000" y="3502080"/>
                <a:ext cx="20970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y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11" name=""/>
          <p:cNvGraphicFramePr/>
          <p:nvPr/>
        </p:nvGraphicFramePr>
        <p:xfrm>
          <a:off x="792000" y="1295280"/>
          <a:ext cx="1514520" cy="7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1295280"/>
                    <a:ext cx="151452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603520" y="1295280"/>
          <a:ext cx="129528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03520" y="1295280"/>
                    <a:ext cx="129528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394160" y="1273320"/>
            <a:ext cx="22478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t =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  q =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65960" y="1155600"/>
            <a:ext cx="1193760" cy="11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45320" y="1397160"/>
            <a:ext cx="6350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17000" y="851040"/>
            <a:ext cx="330120" cy="787320"/>
          </a:xfrm>
          <a:custGeom>
            <a:avLst/>
            <a:gdLst/>
            <a:ahLst/>
            <a:rect l="l" t="t" r="r" b="b"/>
            <a:pathLst>
              <a:path w="208" h="496">
                <a:moveTo>
                  <a:pt x="208" y="496"/>
                </a:moveTo>
                <a:cubicBezTo>
                  <a:pt x="193" y="385"/>
                  <a:pt x="179" y="275"/>
                  <a:pt x="144" y="192"/>
                </a:cubicBezTo>
                <a:cubicBezTo>
                  <a:pt x="109" y="109"/>
                  <a:pt x="54" y="5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23240" y="914400"/>
            <a:ext cx="330120" cy="787320"/>
          </a:xfrm>
          <a:custGeom>
            <a:avLst/>
            <a:gdLst/>
            <a:ahLst/>
            <a:rect l="l" t="t" r="r" b="b"/>
            <a:pathLst>
              <a:path w="208" h="496">
                <a:moveTo>
                  <a:pt x="208" y="496"/>
                </a:moveTo>
                <a:cubicBezTo>
                  <a:pt x="193" y="385"/>
                  <a:pt x="179" y="275"/>
                  <a:pt x="144" y="192"/>
                </a:cubicBezTo>
                <a:cubicBezTo>
                  <a:pt x="109" y="109"/>
                  <a:pt x="54" y="5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50240" y="1765440"/>
            <a:ext cx="2030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23120" y="1405080"/>
            <a:ext cx="136800" cy="250560"/>
          </a:xfrm>
          <a:custGeom>
            <a:avLst/>
            <a:gdLst/>
            <a:ahLst/>
            <a:rect l="l" t="t" r="r" b="b"/>
            <a:pathLst>
              <a:path w="110" h="211">
                <a:moveTo>
                  <a:pt x="110" y="211"/>
                </a:moveTo>
                <a:cubicBezTo>
                  <a:pt x="104" y="185"/>
                  <a:pt x="99" y="160"/>
                  <a:pt x="81" y="125"/>
                </a:cubicBezTo>
                <a:cubicBezTo>
                  <a:pt x="63" y="90"/>
                  <a:pt x="31" y="4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40520" y="1739880"/>
            <a:ext cx="5256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78320" y="155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13480" y="129060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81320" y="208440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6120" y="1219320"/>
            <a:ext cx="370836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roximation of smooth profiles :    E.g. Cylindrical Equilib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4760" y="4781520"/>
            <a:ext cx="867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t can be made arbitrarily close to a smooth function by letting number of steps go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tep height to 0. Not differentiable, b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 significant generality has been l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906640" y="1658880"/>
            <a:ext cx="4114800" cy="3000600"/>
            <a:chOff x="2906640" y="1658880"/>
            <a:chExt cx="4114800" cy="3000600"/>
          </a:xfrm>
        </p:grpSpPr>
        <p:pic>
          <p:nvPicPr>
            <p:cNvPr id="130" name="cylinder_barriers" descr=""/>
            <p:cNvPicPr/>
            <p:nvPr/>
          </p:nvPicPr>
          <p:blipFill>
            <a:blip r:embed="rId1"/>
            <a:srcRect l="9230" t="55760" r="33851" b="0"/>
            <a:stretch/>
          </p:blipFill>
          <p:spPr>
            <a:xfrm>
              <a:off x="2906640" y="1658880"/>
              <a:ext cx="4114800" cy="30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262400" y="1798920"/>
              <a:ext cx="2149560" cy="1046160"/>
            </a:xfrm>
            <a:custGeom>
              <a:avLst/>
              <a:gdLst/>
              <a:ahLst/>
              <a:rect l="l" t="t" r="r" b="b"/>
              <a:pathLst>
                <a:path w="1354" h="659">
                  <a:moveTo>
                    <a:pt x="0" y="645"/>
                  </a:moveTo>
                  <a:cubicBezTo>
                    <a:pt x="88" y="619"/>
                    <a:pt x="177" y="594"/>
                    <a:pt x="230" y="549"/>
                  </a:cubicBezTo>
                  <a:cubicBezTo>
                    <a:pt x="283" y="504"/>
                    <a:pt x="285" y="435"/>
                    <a:pt x="317" y="376"/>
                  </a:cubicBezTo>
                  <a:cubicBezTo>
                    <a:pt x="349" y="317"/>
                    <a:pt x="387" y="248"/>
                    <a:pt x="422" y="198"/>
                  </a:cubicBezTo>
                  <a:cubicBezTo>
                    <a:pt x="457" y="148"/>
                    <a:pt x="485" y="107"/>
                    <a:pt x="528" y="74"/>
                  </a:cubicBezTo>
                  <a:cubicBezTo>
                    <a:pt x="571" y="41"/>
                    <a:pt x="627" y="0"/>
                    <a:pt x="682" y="2"/>
                  </a:cubicBezTo>
                  <a:cubicBezTo>
                    <a:pt x="737" y="4"/>
                    <a:pt x="814" y="50"/>
                    <a:pt x="859" y="88"/>
                  </a:cubicBezTo>
                  <a:cubicBezTo>
                    <a:pt x="904" y="126"/>
                    <a:pt x="924" y="183"/>
                    <a:pt x="955" y="232"/>
                  </a:cubicBezTo>
                  <a:cubicBezTo>
                    <a:pt x="986" y="281"/>
                    <a:pt x="1012" y="326"/>
                    <a:pt x="1042" y="381"/>
                  </a:cubicBezTo>
                  <a:cubicBezTo>
                    <a:pt x="1072" y="436"/>
                    <a:pt x="1086" y="517"/>
                    <a:pt x="1138" y="563"/>
                  </a:cubicBezTo>
                  <a:cubicBezTo>
                    <a:pt x="1190" y="609"/>
                    <a:pt x="1317" y="645"/>
                    <a:pt x="1354" y="6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4238640" y="1762200"/>
              <a:ext cx="2221920" cy="1143000"/>
              <a:chOff x="4238640" y="1762200"/>
              <a:chExt cx="2221920" cy="114300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4238640" y="2759040"/>
                <a:ext cx="83520" cy="142920"/>
                <a:chOff x="4238640" y="2759040"/>
                <a:chExt cx="83520" cy="1429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250880" y="2800440"/>
                  <a:ext cx="5688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281120" y="275904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241520" y="290196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238640" y="275904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440240" y="2660760"/>
                <a:ext cx="83520" cy="142920"/>
                <a:chOff x="4440240" y="2660760"/>
                <a:chExt cx="83520" cy="1429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452480" y="2702160"/>
                  <a:ext cx="5688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482720" y="266076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443120" y="280368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440240" y="266076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4578120" y="2575080"/>
                <a:ext cx="84240" cy="142920"/>
                <a:chOff x="4578120" y="2575080"/>
                <a:chExt cx="84240" cy="1429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4590720" y="261648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620960" y="257508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581360" y="271800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578120" y="257508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659120" y="2475000"/>
                <a:ext cx="84240" cy="142920"/>
                <a:chOff x="4659120" y="2475000"/>
                <a:chExt cx="84240" cy="1429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671720" y="251640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701960" y="247500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662360" y="261792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659120" y="247500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727520" y="2311560"/>
                <a:ext cx="84240" cy="142920"/>
                <a:chOff x="4727520" y="2311560"/>
                <a:chExt cx="84240" cy="1429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740120" y="235296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770360" y="231156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730760" y="245448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727520" y="231156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798800" y="2165400"/>
                <a:ext cx="84240" cy="142920"/>
                <a:chOff x="4798800" y="2165400"/>
                <a:chExt cx="84240" cy="1429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811400" y="220680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841640" y="216540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802040" y="230832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798800" y="216540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4863960" y="2062440"/>
                <a:ext cx="84240" cy="142560"/>
                <a:chOff x="4863960" y="2062440"/>
                <a:chExt cx="84240" cy="1425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4876560" y="2103480"/>
                  <a:ext cx="57240" cy="58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906800" y="2062440"/>
                  <a:ext cx="0" cy="13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867200" y="220500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863960" y="206244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940280" y="1957680"/>
                <a:ext cx="83520" cy="142560"/>
                <a:chOff x="4940280" y="1957680"/>
                <a:chExt cx="83520" cy="1425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952520" y="1998720"/>
                  <a:ext cx="56880" cy="58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982760" y="1957680"/>
                  <a:ext cx="0" cy="13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43160" y="210024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940280" y="195768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016240" y="1865520"/>
                <a:ext cx="84240" cy="142920"/>
                <a:chOff x="5016240" y="1865520"/>
                <a:chExt cx="84240" cy="1429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028840" y="190692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59080" y="186552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019480" y="200844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016240" y="186552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5184720" y="1762200"/>
                <a:ext cx="84240" cy="142920"/>
                <a:chOff x="5184720" y="1762200"/>
                <a:chExt cx="84240" cy="1429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197320" y="180360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227560" y="176220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187960" y="190512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84720" y="176220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5413320" y="1762200"/>
                <a:ext cx="84240" cy="142920"/>
                <a:chOff x="5413320" y="1762200"/>
                <a:chExt cx="84240" cy="1429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425920" y="180360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456160" y="176220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416560" y="190512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413320" y="176220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580000" y="1857600"/>
                <a:ext cx="84240" cy="142920"/>
                <a:chOff x="5580000" y="1857600"/>
                <a:chExt cx="84240" cy="1429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592600" y="189900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622840" y="185760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583240" y="200052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80000" y="185760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654520" y="1963800"/>
                <a:ext cx="84240" cy="142920"/>
                <a:chOff x="5654520" y="1963800"/>
                <a:chExt cx="84240" cy="1429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667120" y="200520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697360" y="196380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657760" y="210672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654520" y="196380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734080" y="2070360"/>
                <a:ext cx="83520" cy="142560"/>
                <a:chOff x="5734080" y="2070360"/>
                <a:chExt cx="83520" cy="1425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746320" y="2111400"/>
                  <a:ext cx="56880" cy="58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776560" y="2070360"/>
                  <a:ext cx="0" cy="13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736960" y="221292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734080" y="207036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5797440" y="2163960"/>
                <a:ext cx="84240" cy="142920"/>
                <a:chOff x="5797440" y="2163960"/>
                <a:chExt cx="84240" cy="14292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5810040" y="220536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840280" y="216396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800680" y="230688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797440" y="216396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867280" y="2308320"/>
                <a:ext cx="84240" cy="142920"/>
                <a:chOff x="5867280" y="2308320"/>
                <a:chExt cx="84240" cy="1429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879880" y="234972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910120" y="230832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870520" y="245124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867280" y="230832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5943600" y="2478240"/>
                <a:ext cx="83520" cy="142920"/>
                <a:chOff x="5943600" y="2478240"/>
                <a:chExt cx="83520" cy="1429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955840" y="2519640"/>
                  <a:ext cx="5688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986080" y="247824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946480" y="262116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943600" y="247824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6014880" y="2584440"/>
                <a:ext cx="84240" cy="142920"/>
                <a:chOff x="6014880" y="2584440"/>
                <a:chExt cx="84240" cy="14292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027480" y="262584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057720" y="258444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018120" y="272736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014880" y="258444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6167160" y="2657520"/>
                <a:ext cx="84240" cy="142920"/>
                <a:chOff x="6167160" y="2657520"/>
                <a:chExt cx="84240" cy="1429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6179760" y="2698920"/>
                  <a:ext cx="5724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210000" y="265752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170400" y="280044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167160" y="2657520"/>
                  <a:ext cx="8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377040" y="2762280"/>
                <a:ext cx="83520" cy="142920"/>
                <a:chOff x="6377040" y="2762280"/>
                <a:chExt cx="83520" cy="1429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389280" y="2803680"/>
                  <a:ext cx="56880" cy="58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419520" y="276228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379920" y="290520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377040" y="276228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Project Aim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85800"/>
            <a:ext cx="89917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 convergent algorithm for constructing 3D equilibri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a 50-year old fundamental mathematical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fy relationship between magnitude of departure from axisymmetry and existence of 3D equilib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better computational tool for rapid design and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relationship between ideal MHD stability of multiple interface model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al transport barr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ITB_MAST" descr=""/>
          <p:cNvPicPr/>
          <p:nvPr/>
        </p:nvPicPr>
        <p:blipFill>
          <a:blip r:embed="rId1"/>
          <a:srcRect l="0" t="0" r="44707" b="37504"/>
          <a:stretch/>
        </p:blipFill>
        <p:spPr>
          <a:xfrm>
            <a:off x="5060880" y="4016520"/>
            <a:ext cx="4083120" cy="2493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650840" y="383220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AST …M. J. Ho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, PPCF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8840" y="394488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tesy JA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ITB_MAST" descr=""/>
          <p:cNvPicPr/>
          <p:nvPr/>
        </p:nvPicPr>
        <p:blipFill>
          <a:blip r:embed="rId2"/>
          <a:srcRect l="3323" t="85779" r="45475" b="2867"/>
          <a:stretch/>
        </p:blipFill>
        <p:spPr>
          <a:xfrm>
            <a:off x="5262480" y="6392880"/>
            <a:ext cx="3881520" cy="46512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0" y="4599000"/>
            <a:ext cx="2919240" cy="1968480"/>
            <a:chOff x="0" y="4599000"/>
            <a:chExt cx="2919240" cy="1968480"/>
          </a:xfrm>
        </p:grpSpPr>
        <p:pic>
          <p:nvPicPr>
            <p:cNvPr id="240" name="jaeri_itb" descr=""/>
            <p:cNvPicPr/>
            <p:nvPr/>
          </p:nvPicPr>
          <p:blipFill>
            <a:blip r:embed="rId3"/>
            <a:srcRect l="49538" t="0" r="0" b="55470"/>
            <a:stretch/>
          </p:blipFill>
          <p:spPr>
            <a:xfrm>
              <a:off x="0" y="4599000"/>
              <a:ext cx="2595600" cy="14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jaeri_itb" descr=""/>
            <p:cNvPicPr/>
            <p:nvPr/>
          </p:nvPicPr>
          <p:blipFill>
            <a:blip r:embed="rId4"/>
            <a:srcRect l="0" t="87044" r="46145" b="-5782"/>
            <a:stretch/>
          </p:blipFill>
          <p:spPr>
            <a:xfrm>
              <a:off x="149400" y="5956200"/>
              <a:ext cx="276984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"/>
          <p:cNvGrpSpPr/>
          <p:nvPr/>
        </p:nvGrpSpPr>
        <p:grpSpPr>
          <a:xfrm>
            <a:off x="2411280" y="4610160"/>
            <a:ext cx="2770200" cy="1979640"/>
            <a:chOff x="2411280" y="4610160"/>
            <a:chExt cx="2770200" cy="1979640"/>
          </a:xfrm>
        </p:grpSpPr>
        <p:pic>
          <p:nvPicPr>
            <p:cNvPr id="243" name="jaeri_itb" descr=""/>
            <p:cNvPicPr/>
            <p:nvPr/>
          </p:nvPicPr>
          <p:blipFill>
            <a:blip r:embed="rId5"/>
            <a:srcRect l="0" t="0" r="57996" b="55470"/>
            <a:stretch/>
          </p:blipFill>
          <p:spPr>
            <a:xfrm>
              <a:off x="2419200" y="4610160"/>
              <a:ext cx="2160720" cy="14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jaeri_itb" descr=""/>
            <p:cNvPicPr/>
            <p:nvPr/>
          </p:nvPicPr>
          <p:blipFill>
            <a:blip r:embed="rId6"/>
            <a:srcRect l="0" t="87044" r="46145" b="-5782"/>
            <a:stretch/>
          </p:blipFill>
          <p:spPr>
            <a:xfrm>
              <a:off x="2411280" y="5978520"/>
              <a:ext cx="2770200" cy="6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21:01:35Z</dcterms:created>
  <dc:creator>mhole</dc:creator>
  <dc:description/>
  <dc:language>en-US</dc:language>
  <cp:lastModifiedBy>Robert Dewar</cp:lastModifiedBy>
  <dcterms:modified xsi:type="dcterms:W3CDTF">2006-04-24T15:13:58Z</dcterms:modified>
  <cp:revision>491</cp:revision>
  <dc:subject/>
  <dc:title>Step</dc:title>
</cp:coreProperties>
</file>