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7C7-EDC0-48CF-9B77-17D3C833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D0E-5621-49D6-A71C-6AFA63A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C03-B5E7-4E93-ADBF-18E790E7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045-C2E7-4E3B-8E05-053F7C68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462-A8F2-4A4A-95D5-42F3B8B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743-8F05-4692-AA19-B7E1023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4C8-F499-4A55-989B-970F8C4C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DD6-3F60-4D8E-86C3-99107E1B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A6A-F28F-42F7-95EA-5451E42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6A7-C79C-4B34-B34A-81A6D34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F56-D260-4CD0-AA33-E41BA0EB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B08-1D63-403D-BBB3-E742D60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F81-90A5-4011-AE5B-6C8911B3F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9400" y="290160"/>
            <a:ext cx="86659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A model of ideal MHD equilibri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in non-symmetric geometr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epped pressure profile equilibri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via partial Taylor relaxa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S. R. Hudson, R.L. Dewar, M.J.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ppl_logo_pc" descr=""/>
          <p:cNvPicPr/>
          <p:nvPr/>
        </p:nvPicPr>
        <p:blipFill>
          <a:blip r:embed="rId1"/>
          <a:stretch/>
        </p:blipFill>
        <p:spPr>
          <a:xfrm>
            <a:off x="33480" y="6116760"/>
            <a:ext cx="1903320" cy="741240"/>
          </a:xfrm>
          <a:prstGeom prst="rect">
            <a:avLst/>
          </a:prstGeom>
          <a:ln w="0">
            <a:noFill/>
          </a:ln>
        </p:spPr>
      </p:pic>
      <p:pic>
        <p:nvPicPr>
          <p:cNvPr id="43" name="ANUlogo" descr=""/>
          <p:cNvPicPr/>
          <p:nvPr/>
        </p:nvPicPr>
        <p:blipFill>
          <a:blip r:embed="rId2"/>
          <a:srcRect l="14903" t="19496" r="8120" b="28508"/>
          <a:stretch/>
        </p:blipFill>
        <p:spPr>
          <a:xfrm>
            <a:off x="3871800" y="6130800"/>
            <a:ext cx="1406520" cy="7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ARC_stacked" descr=""/>
          <p:cNvPicPr/>
          <p:nvPr/>
        </p:nvPicPr>
        <p:blipFill>
          <a:blip r:embed="rId3"/>
          <a:stretch/>
        </p:blipFill>
        <p:spPr>
          <a:xfrm>
            <a:off x="7896240" y="6108840"/>
            <a:ext cx="12034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first step towards a general geometry equilibrium, the Beltrami field between arbitrary surfaces has been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2160" y="2128680"/>
          <a:ext cx="899784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2128680"/>
                    <a:ext cx="899784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trami fields in general geometry are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eltrami1" descr=""/>
          <p:cNvPicPr/>
          <p:nvPr/>
        </p:nvPicPr>
        <p:blipFill>
          <a:blip r:embed="rId1"/>
          <a:stretch/>
        </p:blipFill>
        <p:spPr>
          <a:xfrm>
            <a:off x="0" y="2678040"/>
            <a:ext cx="3929040" cy="4179960"/>
          </a:xfrm>
          <a:prstGeom prst="rect">
            <a:avLst/>
          </a:prstGeom>
          <a:ln w="0">
            <a:noFill/>
          </a:ln>
        </p:spPr>
      </p:pic>
      <p:pic>
        <p:nvPicPr>
          <p:cNvPr id="130" name="Beltrami2" descr=""/>
          <p:cNvPicPr/>
          <p:nvPr/>
        </p:nvPicPr>
        <p:blipFill>
          <a:blip r:embed="rId2"/>
          <a:stretch/>
        </p:blipFill>
        <p:spPr>
          <a:xfrm>
            <a:off x="5251320" y="2678040"/>
            <a:ext cx="3892680" cy="41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544680" y="1109520"/>
          <a:ext cx="720864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680" y="1109520"/>
                    <a:ext cx="72086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04840" y="2035080"/>
            <a:ext cx="8719920" cy="858960"/>
          </a:xfrm>
          <a:prstGeom prst="rightArrow">
            <a:avLst>
              <a:gd name="adj1" fmla="val 50000"/>
              <a:gd name="adj2" fmla="val 25379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=0.00027              increasing chaos                     k=0.00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1360" y="6235560"/>
            <a:ext cx="1760760" cy="355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flux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638440" y="5829480"/>
            <a:ext cx="860400" cy="59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49560" y="5645160"/>
            <a:ext cx="1760760" cy="355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cha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719680" y="5543640"/>
            <a:ext cx="736560" cy="27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xt step is to add additional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eltrami1" descr=""/>
          <p:cNvPicPr/>
          <p:nvPr/>
        </p:nvPicPr>
        <p:blipFill>
          <a:blip r:embed="rId1"/>
          <a:stretch/>
        </p:blipFill>
        <p:spPr>
          <a:xfrm>
            <a:off x="0" y="985680"/>
            <a:ext cx="5521320" cy="587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415120" y="2225520"/>
            <a:ext cx="36432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lux surfaces may be used as additional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robust KAM surfaces should probably be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jumps will be re-distributed, and the Beltrami fields in each region adjusted to match the new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 is ongo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462560" y="2592360"/>
            <a:ext cx="1379520" cy="15699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177480"/>
            <a:ext cx="8339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65160"/>
            <a:ext cx="9144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del of ideal MHD equilibria is considered that is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deal MH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chaotic structure of a general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has a stepped pressure pro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s in the pressure are placed at a set of KAM surfaces, B.n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se surfaces, the field satisf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of total pressure requires [[p+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]]=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odel has been implemented in cylindrical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rst step towards a general geometry construction has been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trami field between arbitrary tori solved using o.d.e.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77480"/>
            <a:ext cx="8339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65160"/>
            <a:ext cx="9144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ite-element construction of the Beltrami field in each region will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xpected to be a more efficient computational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 equilibrium code that can handle multiple interfaces in arbitrary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7840" y="1107720"/>
            <a:ext cx="877392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surfaces create a problem for MHD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ularity exists in the paralle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surfaces disintegrate into islands / cha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k an model of MHD equilibrium tha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sistent within the equations of ideal M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the chaotic structure of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epped pressure profile model is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is presented as a model of frustrated Taylor rel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al MHD gives a parallel current singular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rational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7320" y="1469880"/>
          <a:ext cx="88786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469880"/>
                    <a:ext cx="88786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, rational surfaces are destroy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non-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1571760"/>
          <a:ext cx="8880480" cy="42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71760"/>
                    <a:ext cx="888048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, we suggest a stepped pressur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1720" y="1077840"/>
            <a:ext cx="0" cy="54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00920"/>
            <a:ext cx="73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4120" y="11732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4560" y="6184800"/>
            <a:ext cx="840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8480" y="206856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1040" y="2978280"/>
            <a:ext cx="143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240" y="41162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3880" y="51800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2680" y="5591160"/>
            <a:ext cx="17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74920" y="2076480"/>
            <a:ext cx="0" cy="3998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4560" y="2987640"/>
            <a:ext cx="12960" cy="3125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65680" y="4111560"/>
            <a:ext cx="0" cy="197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1640" y="5613480"/>
            <a:ext cx="0" cy="50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8520" y="5189400"/>
            <a:ext cx="0" cy="9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10400" y="546084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-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040" y="954000"/>
            <a:ext cx="258840" cy="736560"/>
          </a:xfrm>
          <a:prstGeom prst="upArrow">
            <a:avLst>
              <a:gd name="adj1" fmla="val 50000"/>
              <a:gd name="adj2" fmla="val 711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7240" y="5954760"/>
            <a:ext cx="1377720" cy="272880"/>
          </a:xfrm>
          <a:prstGeom prst="rightArrow">
            <a:avLst>
              <a:gd name="adj1" fmla="val 50000"/>
              <a:gd name="adj2" fmla="val 1262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5160" y="1341360"/>
            <a:ext cx="4968720" cy="6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flat almost everywhe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 across all ration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2400" y="1646280"/>
            <a:ext cx="1349280" cy="128412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4400" y="2519280"/>
            <a:ext cx="650880" cy="3548160"/>
          </a:xfrm>
          <a:custGeom>
            <a:avLst/>
            <a:gdLst/>
            <a:ahLst/>
            <a:rect l="l" t="t" r="r" b="b"/>
            <a:pathLst>
              <a:path w="410" h="2235">
                <a:moveTo>
                  <a:pt x="26" y="2235"/>
                </a:moveTo>
                <a:cubicBezTo>
                  <a:pt x="89" y="2165"/>
                  <a:pt x="408" y="2000"/>
                  <a:pt x="404" y="1814"/>
                </a:cubicBezTo>
                <a:cubicBezTo>
                  <a:pt x="400" y="1628"/>
                  <a:pt x="0" y="1346"/>
                  <a:pt x="0" y="1118"/>
                </a:cubicBezTo>
                <a:cubicBezTo>
                  <a:pt x="0" y="890"/>
                  <a:pt x="398" y="633"/>
                  <a:pt x="404" y="447"/>
                </a:cubicBezTo>
                <a:cubicBezTo>
                  <a:pt x="410" y="261"/>
                  <a:pt x="112" y="93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9960" y="2519280"/>
            <a:ext cx="657000" cy="3562560"/>
          </a:xfrm>
          <a:custGeom>
            <a:avLst/>
            <a:gdLst/>
            <a:ahLst/>
            <a:rect l="l" t="t" r="r" b="b"/>
            <a:pathLst>
              <a:path w="414" h="2244">
                <a:moveTo>
                  <a:pt x="414" y="2244"/>
                </a:moveTo>
                <a:cubicBezTo>
                  <a:pt x="345" y="2171"/>
                  <a:pt x="4" y="1997"/>
                  <a:pt x="2" y="1806"/>
                </a:cubicBezTo>
                <a:cubicBezTo>
                  <a:pt x="0" y="1615"/>
                  <a:pt x="402" y="1324"/>
                  <a:pt x="403" y="1099"/>
                </a:cubicBezTo>
                <a:cubicBezTo>
                  <a:pt x="404" y="874"/>
                  <a:pt x="14" y="639"/>
                  <a:pt x="10" y="456"/>
                </a:cubicBezTo>
                <a:cubicBezTo>
                  <a:pt x="6" y="273"/>
                  <a:pt x="303" y="95"/>
                  <a:pt x="3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9800" y="3909960"/>
            <a:ext cx="465120" cy="763560"/>
          </a:xfrm>
          <a:custGeom>
            <a:avLst/>
            <a:gdLst/>
            <a:ahLst/>
            <a:rect l="l" t="t" r="r" b="b"/>
            <a:pathLst>
              <a:path w="293" h="481">
                <a:moveTo>
                  <a:pt x="155" y="4"/>
                </a:moveTo>
                <a:cubicBezTo>
                  <a:pt x="106" y="8"/>
                  <a:pt x="1" y="166"/>
                  <a:pt x="1" y="245"/>
                </a:cubicBezTo>
                <a:cubicBezTo>
                  <a:pt x="0" y="311"/>
                  <a:pt x="106" y="481"/>
                  <a:pt x="155" y="477"/>
                </a:cubicBezTo>
                <a:cubicBezTo>
                  <a:pt x="204" y="473"/>
                  <a:pt x="293" y="298"/>
                  <a:pt x="293" y="219"/>
                </a:cubicBezTo>
                <a:cubicBezTo>
                  <a:pt x="293" y="140"/>
                  <a:pt x="204" y="0"/>
                  <a:pt x="155" y="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1840" y="4079880"/>
            <a:ext cx="250920" cy="426960"/>
          </a:xfrm>
          <a:custGeom>
            <a:avLst/>
            <a:gdLst/>
            <a:ahLst/>
            <a:rect l="l" t="t" r="r" b="b"/>
            <a:pathLst>
              <a:path w="158" h="269">
                <a:moveTo>
                  <a:pt x="96" y="0"/>
                </a:moveTo>
                <a:cubicBezTo>
                  <a:pt x="65" y="4"/>
                  <a:pt x="3" y="93"/>
                  <a:pt x="2" y="137"/>
                </a:cubicBezTo>
                <a:cubicBezTo>
                  <a:pt x="0" y="192"/>
                  <a:pt x="61" y="269"/>
                  <a:pt x="87" y="266"/>
                </a:cubicBezTo>
                <a:cubicBezTo>
                  <a:pt x="113" y="263"/>
                  <a:pt x="156" y="165"/>
                  <a:pt x="157" y="121"/>
                </a:cubicBezTo>
                <a:cubicBezTo>
                  <a:pt x="158" y="77"/>
                  <a:pt x="109" y="25"/>
                  <a:pt x="96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99120" y="2451240"/>
            <a:ext cx="3700440" cy="6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jumps are located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rration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59200" y="2754360"/>
            <a:ext cx="2249280" cy="7794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7120" y="2840040"/>
            <a:ext cx="265320" cy="3247920"/>
          </a:xfrm>
          <a:custGeom>
            <a:avLst/>
            <a:gdLst/>
            <a:ahLst/>
            <a:rect l="l" t="t" r="r" b="b"/>
            <a:pathLst>
              <a:path w="167" h="2046">
                <a:moveTo>
                  <a:pt x="61" y="0"/>
                </a:moveTo>
                <a:cubicBezTo>
                  <a:pt x="77" y="40"/>
                  <a:pt x="156" y="146"/>
                  <a:pt x="156" y="240"/>
                </a:cubicBezTo>
                <a:cubicBezTo>
                  <a:pt x="156" y="334"/>
                  <a:pt x="62" y="454"/>
                  <a:pt x="61" y="567"/>
                </a:cubicBezTo>
                <a:cubicBezTo>
                  <a:pt x="60" y="680"/>
                  <a:pt x="157" y="800"/>
                  <a:pt x="147" y="919"/>
                </a:cubicBezTo>
                <a:cubicBezTo>
                  <a:pt x="137" y="1038"/>
                  <a:pt x="0" y="1164"/>
                  <a:pt x="1" y="1281"/>
                </a:cubicBezTo>
                <a:cubicBezTo>
                  <a:pt x="2" y="1398"/>
                  <a:pt x="145" y="1525"/>
                  <a:pt x="156" y="1624"/>
                </a:cubicBezTo>
                <a:cubicBezTo>
                  <a:pt x="167" y="1723"/>
                  <a:pt x="71" y="1804"/>
                  <a:pt x="70" y="1874"/>
                </a:cubicBezTo>
                <a:cubicBezTo>
                  <a:pt x="69" y="1944"/>
                  <a:pt x="134" y="2017"/>
                  <a:pt x="147" y="20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54360" y="2865600"/>
            <a:ext cx="122040" cy="3232080"/>
          </a:xfrm>
          <a:custGeom>
            <a:avLst/>
            <a:gdLst/>
            <a:ahLst/>
            <a:rect l="l" t="t" r="r" b="b"/>
            <a:pathLst>
              <a:path w="77" h="2036">
                <a:moveTo>
                  <a:pt x="27" y="0"/>
                </a:moveTo>
                <a:cubicBezTo>
                  <a:pt x="35" y="38"/>
                  <a:pt x="77" y="144"/>
                  <a:pt x="73" y="230"/>
                </a:cubicBezTo>
                <a:cubicBezTo>
                  <a:pt x="69" y="316"/>
                  <a:pt x="4" y="410"/>
                  <a:pt x="2" y="516"/>
                </a:cubicBezTo>
                <a:cubicBezTo>
                  <a:pt x="0" y="622"/>
                  <a:pt x="62" y="747"/>
                  <a:pt x="62" y="869"/>
                </a:cubicBezTo>
                <a:cubicBezTo>
                  <a:pt x="62" y="991"/>
                  <a:pt x="3" y="1120"/>
                  <a:pt x="2" y="1247"/>
                </a:cubicBezTo>
                <a:cubicBezTo>
                  <a:pt x="1" y="1374"/>
                  <a:pt x="50" y="1531"/>
                  <a:pt x="53" y="1634"/>
                </a:cubicBezTo>
                <a:cubicBezTo>
                  <a:pt x="56" y="1737"/>
                  <a:pt x="17" y="1799"/>
                  <a:pt x="19" y="1866"/>
                </a:cubicBezTo>
                <a:cubicBezTo>
                  <a:pt x="21" y="1933"/>
                  <a:pt x="55" y="2001"/>
                  <a:pt x="64" y="20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2496960"/>
            <a:ext cx="0" cy="36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now a finite annul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07320" y="2265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3120" y="1581120"/>
            <a:ext cx="2400480" cy="24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295280"/>
            <a:ext cx="3002040" cy="486000"/>
          </a:xfrm>
          <a:custGeom>
            <a:avLst/>
            <a:gdLst/>
            <a:ahLst/>
            <a:rect l="l" t="t" r="r" b="b"/>
            <a:pathLst>
              <a:path w="1891" h="306">
                <a:moveTo>
                  <a:pt x="1891" y="306"/>
                </a:moveTo>
                <a:cubicBezTo>
                  <a:pt x="1752" y="232"/>
                  <a:pt x="1614" y="158"/>
                  <a:pt x="1401" y="109"/>
                </a:cubicBezTo>
                <a:cubicBezTo>
                  <a:pt x="1188" y="60"/>
                  <a:pt x="843" y="28"/>
                  <a:pt x="610" y="14"/>
                </a:cubicBezTo>
                <a:cubicBezTo>
                  <a:pt x="377" y="0"/>
                  <a:pt x="188" y="11"/>
                  <a:pt x="0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0" y="3448080"/>
            <a:ext cx="3002040" cy="485640"/>
          </a:xfrm>
          <a:custGeom>
            <a:avLst/>
            <a:gdLst/>
            <a:ahLst/>
            <a:rect l="l" t="t" r="r" b="b"/>
            <a:pathLst>
              <a:path w="1891" h="306">
                <a:moveTo>
                  <a:pt x="1891" y="306"/>
                </a:moveTo>
                <a:cubicBezTo>
                  <a:pt x="1752" y="232"/>
                  <a:pt x="1614" y="158"/>
                  <a:pt x="1401" y="109"/>
                </a:cubicBezTo>
                <a:cubicBezTo>
                  <a:pt x="1188" y="60"/>
                  <a:pt x="843" y="28"/>
                  <a:pt x="610" y="14"/>
                </a:cubicBezTo>
                <a:cubicBezTo>
                  <a:pt x="377" y="0"/>
                  <a:pt x="188" y="11"/>
                  <a:pt x="0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53360" y="1951200"/>
            <a:ext cx="1160280" cy="382320"/>
          </a:xfrm>
          <a:custGeom>
            <a:avLst/>
            <a:gdLst/>
            <a:ahLst/>
            <a:rect l="l" t="t" r="r" b="b"/>
            <a:pathLst>
              <a:path w="731" h="241">
                <a:moveTo>
                  <a:pt x="731" y="241"/>
                </a:moveTo>
                <a:cubicBezTo>
                  <a:pt x="666" y="214"/>
                  <a:pt x="483" y="117"/>
                  <a:pt x="361" y="77"/>
                </a:cubicBezTo>
                <a:cubicBezTo>
                  <a:pt x="239" y="37"/>
                  <a:pt x="75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68960" y="2743200"/>
            <a:ext cx="871560" cy="318960"/>
          </a:xfrm>
          <a:custGeom>
            <a:avLst/>
            <a:gdLst/>
            <a:ahLst/>
            <a:rect l="l" t="t" r="r" b="b"/>
            <a:pathLst>
              <a:path w="549" h="201">
                <a:moveTo>
                  <a:pt x="549" y="201"/>
                </a:moveTo>
                <a:cubicBezTo>
                  <a:pt x="496" y="175"/>
                  <a:pt x="323" y="76"/>
                  <a:pt x="232" y="43"/>
                </a:cubicBezTo>
                <a:cubicBezTo>
                  <a:pt x="141" y="10"/>
                  <a:pt x="48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20640" y="4673520"/>
          <a:ext cx="82519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673520"/>
                    <a:ext cx="82519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99880" y="1574640"/>
            <a:ext cx="4340520" cy="79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ior and exterior surfa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hosen to be KAM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3280" y="1695600"/>
            <a:ext cx="2265480" cy="2426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38600" y="1933560"/>
            <a:ext cx="2360520" cy="42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3920" y="3284640"/>
            <a:ext cx="43401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nterior volume, we seek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-free fiel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473800" y="3558960"/>
            <a:ext cx="1758960" cy="1508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734080" y="4681440"/>
            <a:ext cx="1636560" cy="35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pply Taylor’s hypothesis to determine 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e representation for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27120" y="1300320"/>
          <a:ext cx="79642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300320"/>
                    <a:ext cx="79642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77840"/>
            <a:ext cx="83394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uggest a multiple interface model, with piecewise Taylor relax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680" y="1309680"/>
            <a:ext cx="833904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sidered by Bruno &amp; Lauren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. Pure Appl. Math 196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 showed that for small shaping, exact solutions to MHD equilibrium equation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tep model considered by Sp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. Plas.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9520" y="3014640"/>
          <a:ext cx="828828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3014640"/>
                    <a:ext cx="82882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model has been implemented in cylindric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5080" y="3036960"/>
            <a:ext cx="3644640" cy="3525840"/>
            <a:chOff x="235080" y="3036960"/>
            <a:chExt cx="3644640" cy="3525840"/>
          </a:xfrm>
        </p:grpSpPr>
        <p:sp>
          <p:nvSpPr>
            <p:cNvPr id="106" name=""/>
            <p:cNvSpPr/>
            <p:nvPr/>
          </p:nvSpPr>
          <p:spPr>
            <a:xfrm>
              <a:off x="572760" y="3360960"/>
              <a:ext cx="2978640" cy="294768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2040" y="3584520"/>
              <a:ext cx="2468520" cy="2481120"/>
            </a:xfrm>
            <a:prstGeom prst="ellipse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57360" y="4271400"/>
              <a:ext cx="1040760" cy="98460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08280" y="4514040"/>
              <a:ext cx="523440" cy="47736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5080" y="3036960"/>
              <a:ext cx="3644640" cy="3525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2720" y="44233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89160" y="423756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33040" y="3409920"/>
              <a:ext cx="35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0640" y="312084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9360" y="45982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0480" y="483444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03400" y="549252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9440" y="37152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59000" y="5676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47080" y="4646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649440" y="1222200"/>
          <a:ext cx="6689520" cy="12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222200"/>
                    <a:ext cx="668952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691520" y="2455920"/>
            <a:ext cx="4272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s at radial loca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esse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103640"/>
            <a:ext cx="33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must be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tisfy jump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21:01:35Z</dcterms:created>
  <dc:creator>mhole</dc:creator>
  <dc:description/>
  <dc:language>en-US</dc:language>
  <cp:lastModifiedBy>shudson</cp:lastModifiedBy>
  <dcterms:modified xsi:type="dcterms:W3CDTF">2006-06-29T19:04:25Z</dcterms:modified>
  <cp:revision>543</cp:revision>
  <dc:subject/>
  <dc:title>Step</dc:title>
</cp:coreProperties>
</file>