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31.wmf" ContentType="image/x-wmf"/>
  <Override PartName="/ppt/media/image11.png" ContentType="image/png"/>
  <Override PartName="/ppt/media/image33.wmf" ContentType="image/x-wmf"/>
  <Override PartName="/ppt/media/image13.png" ContentType="image/png"/>
  <Override PartName="/ppt/media/image34.png" ContentType="image/png"/>
  <Override PartName="/ppt/media/image9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36.wmf" ContentType="image/x-wmf"/>
  <Override PartName="/ppt/media/image16.png" ContentType="image/png"/>
  <Override PartName="/ppt/media/image37.wmf" ContentType="image/x-wmf"/>
  <Override PartName="/ppt/media/image17.png" ContentType="image/png"/>
  <Override PartName="/ppt/media/image6.png" ContentType="image/png"/>
  <Override PartName="/ppt/media/image32.wmf" ContentType="image/x-wmf"/>
  <Override PartName="/ppt/media/image29.png" ContentType="image/png"/>
  <Override PartName="/ppt/media/image5.jpeg" ContentType="image/jpeg"/>
  <Override PartName="/ppt/media/image8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7BB-64EB-47A8-B3A4-E285B08F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5B7-F265-4438-ABE3-D0820FF3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E4DF-B02B-4B21-9DD4-2FF23955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89C-ACB8-4E11-8BC0-0A8CD49C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E010-E188-422E-A8B3-6751AA03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82A-0491-4471-9DDB-0EC20316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71E-DC8B-4ADD-A70B-2767780D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0005-85E6-4538-9FFB-1FB2387C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AD5C-5E07-48FB-84D8-9AA101F9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293A-C877-41E3-8C7A-E305B329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C749-464D-4F4F-A9BD-5F8AF733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A59-FD66-4543-9672-3F3B196C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415C-61E8-44C3-8E7F-24C7FEF93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960" y="1351080"/>
            <a:ext cx="88772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tepped pressure profile model for internal transport barrier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7320" y="3019320"/>
            <a:ext cx="740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M. J. Hol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, S. R. Hudso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, R. L. Dewa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, M. McGan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and R. Miill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72080" y="100080"/>
            <a:ext cx="3432240" cy="1334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14903" t="19496" r="8120" b="28508"/>
          <a:stretch/>
        </p:blipFill>
        <p:spPr>
          <a:xfrm>
            <a:off x="30240" y="-11160"/>
            <a:ext cx="3263760" cy="1684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36720" y="3505320"/>
            <a:ext cx="7696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[1] Research School of Physical Sciences and Engineering, Australian  National University, ACT 0200,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[2] Princeton Plasma Physics Laboratory, New Jersey 08543, U.S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64960" y="6491160"/>
            <a:ext cx="63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pported by Australian Research Council Grant DP04527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6397560"/>
            <a:ext cx="1981080" cy="460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2040" y="5113440"/>
            <a:ext cx="80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knowledgements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ful discussion / input from Brian Taylor (FRS),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obert MacKay (FRS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Gimblett, Allan Boo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5480" y="-3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cap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3D Equilibrium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4880" y="934920"/>
            <a:ext cx="7772400" cy="32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In 3D plasmas, magnetic islands form on rational flux surfaces, destroying flux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is chaotic within magnetic islands, and ergodically fills island volu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tunately… not all flux surfaces are destr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3D MHD equilibria h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urrent singular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35080" y="4486320"/>
            <a:ext cx="8907840" cy="2062800"/>
            <a:chOff x="235080" y="4486320"/>
            <a:chExt cx="8907840" cy="2062800"/>
          </a:xfrm>
        </p:grpSpPr>
        <p:sp>
          <p:nvSpPr>
            <p:cNvPr id="150" name=""/>
            <p:cNvSpPr/>
            <p:nvPr/>
          </p:nvSpPr>
          <p:spPr>
            <a:xfrm>
              <a:off x="235080" y="4726080"/>
              <a:ext cx="841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302760" y="4923000"/>
              <a:ext cx="8840160" cy="1626120"/>
              <a:chOff x="302760" y="4923000"/>
              <a:chExt cx="8840160" cy="1626120"/>
            </a:xfrm>
          </p:grpSpPr>
          <p:sp>
            <p:nvSpPr>
              <p:cNvPr id="152" name=""/>
              <p:cNvSpPr/>
              <p:nvPr/>
            </p:nvSpPr>
            <p:spPr>
              <a:xfrm>
                <a:off x="471600" y="5357880"/>
                <a:ext cx="8610480" cy="119124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In order to have a static (3D) equilibrium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p’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) must be zero in the neighborhood of </a:t>
                </a:r>
                <a:r>
                  <a:rPr b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every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rational rotational transform, and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flux surfaces must be relinquished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”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2760" y="4923000"/>
                <a:ext cx="88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f. Grad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Toroidal Containment of plasma,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hys. Plas.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(1967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334800" y="4486320"/>
              <a:ext cx="305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blem B not new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0200" y="0"/>
            <a:ext cx="82170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solution: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epped-pressure Beltrami equilib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71080" y="3985920"/>
            <a:ext cx="8572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trami eqn. is a linear elliptic PDE, solvable by variety of methods even 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chaotic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lready been partially investigated mathematically [e.g. Bruno &amp; Laurence, Comm. Pure Appl. Math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LI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717 (1996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 profile not differentiable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approximate a smooth profile arbitrarily closely, limited only by existence of invariant to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1333440"/>
            <a:ext cx="5435640" cy="21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a mathematically well-defin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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s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over finite regi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ons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ltrami f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d by assum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nvariant t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32720" y="1736640"/>
            <a:ext cx="676080" cy="658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24640" y="1393920"/>
            <a:ext cx="1092240" cy="1344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56520" y="1047600"/>
            <a:ext cx="1404720" cy="2152800"/>
          </a:xfrm>
          <a:prstGeom prst="ellipse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61040" y="647640"/>
            <a:ext cx="1816200" cy="298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10400" y="331164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ach reg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969160" y="1828440"/>
            <a:ext cx="15490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299280" y="2120760"/>
            <a:ext cx="1409760" cy="127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502320" y="2502000"/>
            <a:ext cx="1257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ce balance on invariant t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44600" y="1218960"/>
            <a:ext cx="82296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discontinuous: [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 (where [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] is jump across an invariant torus), 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ssure, magnetic plus kinetic, is continuous: [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]]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unc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et curr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ntinuity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th magnitude &amp; dir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ing numb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 necessarily same on either side of invariant toru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ndard KAM probl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4840" y="6035760"/>
            <a:ext cx="806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nstructed as a variational problem, may have other applicati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9640" y="4835520"/>
            <a:ext cx="789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: Beltrami or force free field initially inspired by Astrophysical research, Chandrasekhar, Woltjer et 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1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l Transport B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826560"/>
            <a:ext cx="8621640" cy="31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s with radially localised regions of improved confinement with steep pressure gradien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ypicall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monotonic q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rationality plays a role (eg. appearance of q=2 can promote ITB formation in J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theoretical models rely on suppression of micro-instability induced transport by shear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lows.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e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offer an energetic reason for ITB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19183" t="11428" r="18154" b="51827"/>
          <a:stretch/>
        </p:blipFill>
        <p:spPr>
          <a:xfrm>
            <a:off x="1243080" y="4041720"/>
            <a:ext cx="5732280" cy="2522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119120" y="6521400"/>
            <a:ext cx="45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. W. Connor et al, Nuc. Fus. 44, R1-R49,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0" r="44707" b="37504"/>
          <a:stretch/>
        </p:blipFill>
        <p:spPr>
          <a:xfrm>
            <a:off x="2058840" y="1111320"/>
            <a:ext cx="4083120" cy="2493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73680" y="231840"/>
            <a:ext cx="44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in MAST 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. J. Hol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, PPCF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01880" y="4184640"/>
            <a:ext cx="4049280" cy="2444400"/>
            <a:chOff x="1901880" y="4184640"/>
            <a:chExt cx="4049280" cy="244440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rcRect l="0" t="0" r="0" b="40119"/>
            <a:stretch/>
          </p:blipFill>
          <p:spPr>
            <a:xfrm>
              <a:off x="1920960" y="4184640"/>
              <a:ext cx="4030200" cy="20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3"/>
            <a:srcRect l="0" t="89658" r="0" b="-221"/>
            <a:stretch/>
          </p:blipFill>
          <p:spPr>
            <a:xfrm>
              <a:off x="1901880" y="6269400"/>
              <a:ext cx="4030560" cy="35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" descr=""/>
          <p:cNvPicPr/>
          <p:nvPr/>
        </p:nvPicPr>
        <p:blipFill>
          <a:blip r:embed="rId4"/>
          <a:srcRect l="3323" t="85779" r="45475" b="2867"/>
          <a:stretch/>
        </p:blipFill>
        <p:spPr>
          <a:xfrm>
            <a:off x="2300400" y="3497400"/>
            <a:ext cx="3881160" cy="465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596640" y="118260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77080" y="811080"/>
            <a:ext cx="5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62440" y="1123920"/>
            <a:ext cx="133560" cy="5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752800" y="1533600"/>
            <a:ext cx="80964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5160" y="782640"/>
            <a:ext cx="20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7085 at 29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3200" y="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tional Model for ITB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haps a variational formulation (min. energy states) of a relaxed plasma-vacuum system may offer insight in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TB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19183" t="11428" r="18154" b="51827"/>
          <a:stretch/>
        </p:blipFill>
        <p:spPr>
          <a:xfrm>
            <a:off x="1192320" y="2352600"/>
            <a:ext cx="5732280" cy="2522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552920" y="3246480"/>
            <a:ext cx="1168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02400" y="3265560"/>
            <a:ext cx="0" cy="717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76840" y="3987720"/>
            <a:ext cx="698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75240" y="3986280"/>
            <a:ext cx="0" cy="496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17640" y="5537160"/>
            <a:ext cx="405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l pressure profile, field in each region Beltr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911760" y="3263400"/>
            <a:ext cx="825480" cy="22734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076640" y="3962160"/>
            <a:ext cx="1917720" cy="16254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s on recent variational models of  ETB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5680" y="1074600"/>
            <a:ext cx="840744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xed plasma-vacuum model has been recently applied to Edge Transport Barriers to describe the ELM cyc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rical geometry assu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oidal peeling modes initiate Taylor rela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ylor relaxation flattens torodial current profile, further destabilising peeling mod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sing edge skin current also formed by rela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between destabilising and stabilising terms determines width of the E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1800" y="6251400"/>
            <a:ext cx="4170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. G. Gimblett et al PRL, 035006, 96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Aim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038240"/>
            <a:ext cx="89917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 convergent algorithm for constructing 3D equilibri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a 50-year old fundamental mathematica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fy relationship between magnitude of departure from axisymmetry and existence of 3D equilib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better computational tool for rapid design an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5403960"/>
            <a:ext cx="88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 explore relationship between ideal MHD stability of multiple interface model and internal transport barrier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0200" y="3984480"/>
            <a:ext cx="836136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: Group is investigating different methods to construct 3D equilibri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al Approach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of lines/shooting metho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Hamilton–Jacobi equation f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magnetic potential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miltonian trial function. This talk will focus on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variational appro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200" y="6370560"/>
            <a:ext cx="70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.R. Hudson, M.J. Hole and R.L. Dewar, Phys. Plasma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052505 (200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1240" indent="-111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74, Taylor argued that turbulent plasmas with small resistivity, and viscosity relax to a Beltrami f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504040" y="6024600"/>
                <a:ext cx="1918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56840" y="4419720"/>
            <a:ext cx="50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solutions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=0 of functiona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486400" y="4495680"/>
                <a:ext cx="19051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33520" y="4952880"/>
                <a:ext cx="274320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:</m:t>
                              </m:r>
                            </m:e>
                            <m:e/>
                            <m:e/>
                          </m:mr>
                        </m:m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λB</m:t>
                        </m:r>
                      </m:e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:</m:t>
                              </m:r>
                            </m:e>
                            <m:e/>
                            <m:e/>
                          </m:mr>
                        </m:m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m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:</m:t>
                              </m:r>
                            </m:e>
                            <m:e/>
                            <m:e/>
                          </m:mr>
                        </m:m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959200" y="2471760"/>
                <a:ext cx="29098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sSup>
                          <m:e>
                            <m:r>
                              <m:t xml:space="preserve">dτ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407880" y="264780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energ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6040" y="3892680"/>
            <a:ext cx="66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ylor solved for minimu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bject to fix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9720" y="332100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Helicit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959200" y="3343320"/>
                <a:ext cx="1836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nary>
                    <m:r>
                      <m:t xml:space="preserve">)</m:t>
                    </m:r>
                    <m:sSup>
                      <m:e>
                        <m:r>
                          <m:t xml:space="preserve">dτ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7378560" y="2492280"/>
            <a:ext cx="1363680" cy="1201680"/>
          </a:xfrm>
          <a:custGeom>
            <a:avLst/>
            <a:gdLst/>
            <a:ahLst/>
            <a:rect l="l" t="t" r="r" b="b"/>
            <a:pathLst>
              <a:path w="859" h="757">
                <a:moveTo>
                  <a:pt x="110" y="521"/>
                </a:moveTo>
                <a:cubicBezTo>
                  <a:pt x="68" y="512"/>
                  <a:pt x="58" y="486"/>
                  <a:pt x="35" y="453"/>
                </a:cubicBezTo>
                <a:cubicBezTo>
                  <a:pt x="27" y="421"/>
                  <a:pt x="11" y="396"/>
                  <a:pt x="1" y="364"/>
                </a:cubicBezTo>
                <a:cubicBezTo>
                  <a:pt x="6" y="270"/>
                  <a:pt x="0" y="216"/>
                  <a:pt x="62" y="151"/>
                </a:cubicBezTo>
                <a:cubicBezTo>
                  <a:pt x="73" y="119"/>
                  <a:pt x="98" y="97"/>
                  <a:pt x="124" y="76"/>
                </a:cubicBezTo>
                <a:cubicBezTo>
                  <a:pt x="147" y="58"/>
                  <a:pt x="144" y="49"/>
                  <a:pt x="172" y="35"/>
                </a:cubicBezTo>
                <a:cubicBezTo>
                  <a:pt x="220" y="11"/>
                  <a:pt x="291" y="7"/>
                  <a:pt x="343" y="0"/>
                </a:cubicBezTo>
                <a:cubicBezTo>
                  <a:pt x="487" y="7"/>
                  <a:pt x="493" y="9"/>
                  <a:pt x="604" y="41"/>
                </a:cubicBezTo>
                <a:cubicBezTo>
                  <a:pt x="668" y="84"/>
                  <a:pt x="722" y="123"/>
                  <a:pt x="775" y="179"/>
                </a:cubicBezTo>
                <a:cubicBezTo>
                  <a:pt x="803" y="208"/>
                  <a:pt x="814" y="249"/>
                  <a:pt x="837" y="281"/>
                </a:cubicBezTo>
                <a:cubicBezTo>
                  <a:pt x="854" y="332"/>
                  <a:pt x="847" y="309"/>
                  <a:pt x="858" y="350"/>
                </a:cubicBezTo>
                <a:cubicBezTo>
                  <a:pt x="853" y="446"/>
                  <a:pt x="859" y="537"/>
                  <a:pt x="803" y="617"/>
                </a:cubicBezTo>
                <a:cubicBezTo>
                  <a:pt x="793" y="648"/>
                  <a:pt x="769" y="696"/>
                  <a:pt x="741" y="713"/>
                </a:cubicBezTo>
                <a:cubicBezTo>
                  <a:pt x="736" y="720"/>
                  <a:pt x="734" y="729"/>
                  <a:pt x="727" y="734"/>
                </a:cubicBezTo>
                <a:cubicBezTo>
                  <a:pt x="715" y="742"/>
                  <a:pt x="686" y="748"/>
                  <a:pt x="686" y="748"/>
                </a:cubicBezTo>
                <a:cubicBezTo>
                  <a:pt x="560" y="744"/>
                  <a:pt x="477" y="757"/>
                  <a:pt x="371" y="720"/>
                </a:cubicBezTo>
                <a:cubicBezTo>
                  <a:pt x="291" y="644"/>
                  <a:pt x="203" y="583"/>
                  <a:pt x="110" y="521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83480" y="2873520"/>
            <a:ext cx="757080" cy="446040"/>
          </a:xfrm>
          <a:custGeom>
            <a:avLst/>
            <a:gdLst/>
            <a:ahLst/>
            <a:rect l="l" t="t" r="r" b="b"/>
            <a:pathLst>
              <a:path w="477" h="281">
                <a:moveTo>
                  <a:pt x="233" y="281"/>
                </a:moveTo>
                <a:cubicBezTo>
                  <a:pt x="194" y="253"/>
                  <a:pt x="154" y="225"/>
                  <a:pt x="110" y="206"/>
                </a:cubicBezTo>
                <a:cubicBezTo>
                  <a:pt x="97" y="200"/>
                  <a:pt x="83" y="197"/>
                  <a:pt x="69" y="192"/>
                </a:cubicBezTo>
                <a:cubicBezTo>
                  <a:pt x="62" y="190"/>
                  <a:pt x="48" y="185"/>
                  <a:pt x="48" y="185"/>
                </a:cubicBezTo>
                <a:cubicBezTo>
                  <a:pt x="33" y="162"/>
                  <a:pt x="15" y="153"/>
                  <a:pt x="0" y="130"/>
                </a:cubicBezTo>
                <a:cubicBezTo>
                  <a:pt x="5" y="73"/>
                  <a:pt x="8" y="49"/>
                  <a:pt x="21" y="0"/>
                </a:cubicBezTo>
                <a:cubicBezTo>
                  <a:pt x="76" y="2"/>
                  <a:pt x="130" y="3"/>
                  <a:pt x="185" y="7"/>
                </a:cubicBezTo>
                <a:cubicBezTo>
                  <a:pt x="228" y="10"/>
                  <a:pt x="213" y="48"/>
                  <a:pt x="247" y="55"/>
                </a:cubicBezTo>
                <a:cubicBezTo>
                  <a:pt x="285" y="63"/>
                  <a:pt x="325" y="60"/>
                  <a:pt x="364" y="62"/>
                </a:cubicBezTo>
                <a:cubicBezTo>
                  <a:pt x="402" y="73"/>
                  <a:pt x="423" y="107"/>
                  <a:pt x="446" y="137"/>
                </a:cubicBezTo>
                <a:cubicBezTo>
                  <a:pt x="455" y="164"/>
                  <a:pt x="463" y="192"/>
                  <a:pt x="473" y="219"/>
                </a:cubicBezTo>
                <a:cubicBezTo>
                  <a:pt x="471" y="231"/>
                  <a:pt x="477" y="250"/>
                  <a:pt x="466" y="254"/>
                </a:cubicBezTo>
                <a:cubicBezTo>
                  <a:pt x="436" y="266"/>
                  <a:pt x="402" y="256"/>
                  <a:pt x="370" y="260"/>
                </a:cubicBezTo>
                <a:cubicBezTo>
                  <a:pt x="324" y="265"/>
                  <a:pt x="279" y="276"/>
                  <a:pt x="233" y="281"/>
                </a:cubicBezTo>
                <a:close/>
              </a:path>
            </a:pathLst>
          </a:cu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61240" y="38638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7912080" y="333036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913880" y="2949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13880" y="2492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9960" y="942840"/>
            <a:ext cx="88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pressure gradient region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ce-f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gnetic fiel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A Stepped Pressure Profil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54160" y="2543040"/>
            <a:ext cx="4390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ber of ideal-MHD constraint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li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al MHD where flux and entropy are “frozen in” to each fluid element —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in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. of constrain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constraints to b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l-MH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raints, so generated states are ideal equilib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81480" y="3162240"/>
            <a:ext cx="3594240" cy="2590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05720" y="3835440"/>
            <a:ext cx="1739880" cy="1041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70600" y="3884760"/>
            <a:ext cx="133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MHD: infinity of constrai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83360" y="3757680"/>
            <a:ext cx="178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xed MHD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. of constrai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65320" y="274644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s of allowed vari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592520" y="1843200"/>
                <a:ext cx="2791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41200" y="1971720"/>
            <a:ext cx="41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tremize total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27680" y="5845320"/>
            <a:ext cx="241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uskal–Kulsrud equilibria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ylo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70480" y="5629320"/>
            <a:ext cx="197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ed Taylor equilib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6607200">
            <a:off x="4914720" y="4927320"/>
            <a:ext cx="1003320" cy="380880"/>
          </a:xfrm>
          <a:prstGeom prst="rightArrow">
            <a:avLst>
              <a:gd name="adj1" fmla="val 50000"/>
              <a:gd name="adj2" fmla="val 6585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5380200">
            <a:off x="7117200" y="5199840"/>
            <a:ext cx="900360" cy="368280"/>
          </a:xfrm>
          <a:prstGeom prst="rightArrow">
            <a:avLst>
              <a:gd name="adj1" fmla="val 50000"/>
              <a:gd name="adj2" fmla="val 611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1960" y="939960"/>
            <a:ext cx="810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cf. A. Bhattacharjee and R.L. Dewar, Phys. Flui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, 887 (1982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Energy principle with global invari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0840" y="88920"/>
            <a:ext cx="82803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ised Taylor Relaxation 1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60240" y="901800"/>
            <a:ext cx="7772400" cy="54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0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HD equilibria in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0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oposed solution for 3D MHD equilibria: stepped Beltrami  equilib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0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odel applications to internal transport barr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0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oject a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al principle for a stepped pressure profile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0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quilib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0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sed Taylor cylindrical plas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quivalence to tearing mode treat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deal/Taylor cylindrical plas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del for internal transport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127400" y="4191120"/>
                <a:ext cx="26290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sSup>
                          <m:e>
                            <m:r>
                              <m:t xml:space="preserve">dτ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038480" y="5041800"/>
                <a:ext cx="39099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sSup>
                      <m:e>
                        <m:r>
                          <m:t xml:space="preserve">dτ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076640" y="5692680"/>
                <a:ext cx="168768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t xml:space="preserve">dτ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181440" y="437184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energy function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1800" y="505764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icity funct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9640" y="566748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function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8920" y="2006640"/>
            <a:ext cx="875016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ystem compri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sma reg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relaxed st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s separated by ideal MHD barri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losed by a vacuu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sed in a perfectly conducting w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515280" y="1917720"/>
            <a:ext cx="2463480" cy="2222640"/>
            <a:chOff x="6515280" y="1917720"/>
            <a:chExt cx="2463480" cy="2222640"/>
          </a:xfrm>
        </p:grpSpPr>
        <p:sp>
          <p:nvSpPr>
            <p:cNvPr id="243" name=""/>
            <p:cNvSpPr/>
            <p:nvPr/>
          </p:nvSpPr>
          <p:spPr>
            <a:xfrm>
              <a:off x="6515280" y="1917720"/>
              <a:ext cx="2463480" cy="2222640"/>
            </a:xfrm>
            <a:custGeom>
              <a:avLst/>
              <a:gdLst/>
              <a:ahLst/>
              <a:rect l="l" t="t" r="r" b="b"/>
              <a:pathLst>
                <a:path w="1766" h="1067">
                  <a:moveTo>
                    <a:pt x="183" y="811"/>
                  </a:moveTo>
                  <a:cubicBezTo>
                    <a:pt x="156" y="806"/>
                    <a:pt x="132" y="798"/>
                    <a:pt x="106" y="792"/>
                  </a:cubicBezTo>
                  <a:cubicBezTo>
                    <a:pt x="64" y="750"/>
                    <a:pt x="75" y="750"/>
                    <a:pt x="42" y="709"/>
                  </a:cubicBezTo>
                  <a:cubicBezTo>
                    <a:pt x="30" y="659"/>
                    <a:pt x="20" y="611"/>
                    <a:pt x="4" y="562"/>
                  </a:cubicBezTo>
                  <a:cubicBezTo>
                    <a:pt x="9" y="415"/>
                    <a:pt x="0" y="301"/>
                    <a:pt x="87" y="184"/>
                  </a:cubicBezTo>
                  <a:cubicBezTo>
                    <a:pt x="104" y="161"/>
                    <a:pt x="137" y="126"/>
                    <a:pt x="164" y="120"/>
                  </a:cubicBezTo>
                  <a:cubicBezTo>
                    <a:pt x="197" y="96"/>
                    <a:pt x="234" y="78"/>
                    <a:pt x="273" y="69"/>
                  </a:cubicBezTo>
                  <a:cubicBezTo>
                    <a:pt x="301" y="54"/>
                    <a:pt x="351" y="28"/>
                    <a:pt x="382" y="24"/>
                  </a:cubicBezTo>
                  <a:cubicBezTo>
                    <a:pt x="441" y="17"/>
                    <a:pt x="561" y="11"/>
                    <a:pt x="561" y="11"/>
                  </a:cubicBezTo>
                  <a:cubicBezTo>
                    <a:pt x="708" y="16"/>
                    <a:pt x="858" y="0"/>
                    <a:pt x="1002" y="30"/>
                  </a:cubicBezTo>
                  <a:cubicBezTo>
                    <a:pt x="1255" y="83"/>
                    <a:pt x="1399" y="171"/>
                    <a:pt x="1572" y="357"/>
                  </a:cubicBezTo>
                  <a:cubicBezTo>
                    <a:pt x="1608" y="396"/>
                    <a:pt x="1651" y="428"/>
                    <a:pt x="1681" y="472"/>
                  </a:cubicBezTo>
                  <a:cubicBezTo>
                    <a:pt x="1696" y="520"/>
                    <a:pt x="1720" y="566"/>
                    <a:pt x="1738" y="613"/>
                  </a:cubicBezTo>
                  <a:cubicBezTo>
                    <a:pt x="1748" y="666"/>
                    <a:pt x="1758" y="713"/>
                    <a:pt x="1764" y="766"/>
                  </a:cubicBezTo>
                  <a:cubicBezTo>
                    <a:pt x="1762" y="819"/>
                    <a:pt x="1766" y="873"/>
                    <a:pt x="1758" y="926"/>
                  </a:cubicBezTo>
                  <a:cubicBezTo>
                    <a:pt x="1753" y="958"/>
                    <a:pt x="1717" y="975"/>
                    <a:pt x="1694" y="990"/>
                  </a:cubicBezTo>
                  <a:cubicBezTo>
                    <a:pt x="1668" y="1007"/>
                    <a:pt x="1604" y="1016"/>
                    <a:pt x="1578" y="1022"/>
                  </a:cubicBezTo>
                  <a:cubicBezTo>
                    <a:pt x="1536" y="1032"/>
                    <a:pt x="1498" y="1054"/>
                    <a:pt x="1457" y="1067"/>
                  </a:cubicBezTo>
                  <a:cubicBezTo>
                    <a:pt x="1238" y="1063"/>
                    <a:pt x="1022" y="1053"/>
                    <a:pt x="804" y="1042"/>
                  </a:cubicBezTo>
                  <a:cubicBezTo>
                    <a:pt x="700" y="1023"/>
                    <a:pt x="601" y="981"/>
                    <a:pt x="497" y="965"/>
                  </a:cubicBezTo>
                  <a:cubicBezTo>
                    <a:pt x="478" y="952"/>
                    <a:pt x="459" y="950"/>
                    <a:pt x="439" y="939"/>
                  </a:cubicBezTo>
                  <a:cubicBezTo>
                    <a:pt x="388" y="910"/>
                    <a:pt x="342" y="874"/>
                    <a:pt x="286" y="856"/>
                  </a:cubicBezTo>
                  <a:cubicBezTo>
                    <a:pt x="255" y="826"/>
                    <a:pt x="227" y="811"/>
                    <a:pt x="183" y="811"/>
                  </a:cubicBez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48080" y="2299680"/>
              <a:ext cx="1031760" cy="1150200"/>
            </a:xfrm>
            <a:custGeom>
              <a:avLst/>
              <a:gdLst/>
              <a:ahLst/>
              <a:rect l="l" t="t" r="r" b="b"/>
              <a:pathLst>
                <a:path w="563" h="500">
                  <a:moveTo>
                    <a:pt x="121" y="396"/>
                  </a:moveTo>
                  <a:cubicBezTo>
                    <a:pt x="93" y="378"/>
                    <a:pt x="64" y="336"/>
                    <a:pt x="44" y="307"/>
                  </a:cubicBezTo>
                  <a:cubicBezTo>
                    <a:pt x="38" y="281"/>
                    <a:pt x="34" y="265"/>
                    <a:pt x="19" y="243"/>
                  </a:cubicBezTo>
                  <a:cubicBezTo>
                    <a:pt x="4" y="189"/>
                    <a:pt x="0" y="73"/>
                    <a:pt x="70" y="51"/>
                  </a:cubicBezTo>
                  <a:cubicBezTo>
                    <a:pt x="87" y="34"/>
                    <a:pt x="106" y="21"/>
                    <a:pt x="128" y="12"/>
                  </a:cubicBezTo>
                  <a:cubicBezTo>
                    <a:pt x="140" y="7"/>
                    <a:pt x="166" y="0"/>
                    <a:pt x="166" y="0"/>
                  </a:cubicBezTo>
                  <a:cubicBezTo>
                    <a:pt x="267" y="5"/>
                    <a:pt x="366" y="16"/>
                    <a:pt x="467" y="25"/>
                  </a:cubicBezTo>
                  <a:cubicBezTo>
                    <a:pt x="525" y="54"/>
                    <a:pt x="507" y="35"/>
                    <a:pt x="531" y="70"/>
                  </a:cubicBezTo>
                  <a:cubicBezTo>
                    <a:pt x="539" y="94"/>
                    <a:pt x="545" y="115"/>
                    <a:pt x="550" y="140"/>
                  </a:cubicBezTo>
                  <a:cubicBezTo>
                    <a:pt x="554" y="159"/>
                    <a:pt x="563" y="198"/>
                    <a:pt x="563" y="198"/>
                  </a:cubicBezTo>
                  <a:cubicBezTo>
                    <a:pt x="550" y="500"/>
                    <a:pt x="557" y="370"/>
                    <a:pt x="121" y="396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87000" y="2125800"/>
              <a:ext cx="1853280" cy="1578600"/>
            </a:xfrm>
            <a:custGeom>
              <a:avLst/>
              <a:gdLst/>
              <a:ahLst/>
              <a:rect l="l" t="t" r="r" b="b"/>
              <a:pathLst>
                <a:path w="1011" h="704">
                  <a:moveTo>
                    <a:pt x="180" y="487"/>
                  </a:moveTo>
                  <a:cubicBezTo>
                    <a:pt x="143" y="433"/>
                    <a:pt x="192" y="497"/>
                    <a:pt x="148" y="461"/>
                  </a:cubicBezTo>
                  <a:cubicBezTo>
                    <a:pt x="109" y="430"/>
                    <a:pt x="161" y="450"/>
                    <a:pt x="116" y="436"/>
                  </a:cubicBezTo>
                  <a:cubicBezTo>
                    <a:pt x="102" y="414"/>
                    <a:pt x="74" y="386"/>
                    <a:pt x="52" y="372"/>
                  </a:cubicBezTo>
                  <a:cubicBezTo>
                    <a:pt x="48" y="365"/>
                    <a:pt x="45" y="358"/>
                    <a:pt x="39" y="352"/>
                  </a:cubicBezTo>
                  <a:cubicBezTo>
                    <a:pt x="34" y="347"/>
                    <a:pt x="25" y="346"/>
                    <a:pt x="20" y="340"/>
                  </a:cubicBezTo>
                  <a:cubicBezTo>
                    <a:pt x="12" y="329"/>
                    <a:pt x="12" y="314"/>
                    <a:pt x="7" y="301"/>
                  </a:cubicBezTo>
                  <a:cubicBezTo>
                    <a:pt x="15" y="147"/>
                    <a:pt x="0" y="205"/>
                    <a:pt x="26" y="122"/>
                  </a:cubicBezTo>
                  <a:cubicBezTo>
                    <a:pt x="33" y="98"/>
                    <a:pt x="82" y="82"/>
                    <a:pt x="103" y="77"/>
                  </a:cubicBezTo>
                  <a:cubicBezTo>
                    <a:pt x="190" y="57"/>
                    <a:pt x="275" y="31"/>
                    <a:pt x="359" y="0"/>
                  </a:cubicBezTo>
                  <a:cubicBezTo>
                    <a:pt x="459" y="2"/>
                    <a:pt x="560" y="3"/>
                    <a:pt x="660" y="7"/>
                  </a:cubicBezTo>
                  <a:cubicBezTo>
                    <a:pt x="692" y="8"/>
                    <a:pt x="681" y="16"/>
                    <a:pt x="711" y="26"/>
                  </a:cubicBezTo>
                  <a:cubicBezTo>
                    <a:pt x="770" y="46"/>
                    <a:pt x="824" y="77"/>
                    <a:pt x="884" y="96"/>
                  </a:cubicBezTo>
                  <a:cubicBezTo>
                    <a:pt x="891" y="121"/>
                    <a:pt x="908" y="132"/>
                    <a:pt x="922" y="154"/>
                  </a:cubicBezTo>
                  <a:cubicBezTo>
                    <a:pt x="933" y="224"/>
                    <a:pt x="939" y="299"/>
                    <a:pt x="980" y="359"/>
                  </a:cubicBezTo>
                  <a:cubicBezTo>
                    <a:pt x="1011" y="458"/>
                    <a:pt x="997" y="420"/>
                    <a:pt x="986" y="615"/>
                  </a:cubicBezTo>
                  <a:cubicBezTo>
                    <a:pt x="984" y="646"/>
                    <a:pt x="962" y="669"/>
                    <a:pt x="935" y="679"/>
                  </a:cubicBezTo>
                  <a:cubicBezTo>
                    <a:pt x="910" y="704"/>
                    <a:pt x="918" y="704"/>
                    <a:pt x="871" y="704"/>
                  </a:cubicBezTo>
                  <a:cubicBezTo>
                    <a:pt x="764" y="704"/>
                    <a:pt x="658" y="700"/>
                    <a:pt x="551" y="698"/>
                  </a:cubicBezTo>
                  <a:cubicBezTo>
                    <a:pt x="532" y="692"/>
                    <a:pt x="513" y="685"/>
                    <a:pt x="494" y="679"/>
                  </a:cubicBezTo>
                  <a:cubicBezTo>
                    <a:pt x="481" y="675"/>
                    <a:pt x="455" y="666"/>
                    <a:pt x="455" y="666"/>
                  </a:cubicBezTo>
                  <a:cubicBezTo>
                    <a:pt x="434" y="652"/>
                    <a:pt x="422" y="636"/>
                    <a:pt x="398" y="628"/>
                  </a:cubicBezTo>
                  <a:cubicBezTo>
                    <a:pt x="367" y="604"/>
                    <a:pt x="326" y="582"/>
                    <a:pt x="289" y="570"/>
                  </a:cubicBezTo>
                  <a:cubicBezTo>
                    <a:pt x="266" y="547"/>
                    <a:pt x="243" y="529"/>
                    <a:pt x="212" y="519"/>
                  </a:cubicBezTo>
                  <a:cubicBezTo>
                    <a:pt x="199" y="510"/>
                    <a:pt x="187" y="502"/>
                    <a:pt x="174" y="493"/>
                  </a:cubicBezTo>
                  <a:cubicBezTo>
                    <a:pt x="148" y="476"/>
                    <a:pt x="145" y="477"/>
                    <a:pt x="180" y="487"/>
                  </a:cubicBez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48560" y="24732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47520" y="2473200"/>
              <a:ext cx="465840" cy="555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52880" y="268164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61120" y="2613600"/>
              <a:ext cx="46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ff3300"/>
                  </a:solidFill>
                  <a:latin typeface="Arial"/>
                </a:rPr>
                <a:t>n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52880" y="358452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16520" y="3237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53560" y="3237480"/>
              <a:ext cx="43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ff33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14120" y="2542680"/>
              <a:ext cx="3992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6375240" y="3670200"/>
            <a:ext cx="166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177840"/>
            <a:ext cx="82803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ised Taylor Relaxation 2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7200" y="6248520"/>
            <a:ext cx="535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oidal and poloidal fluxes: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96760"/>
            <a:ext cx="9399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each invariant tori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 as ideal MHD barriers to relaxation, so that Taylor constraints are localized to subreg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varia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relaxed” equilib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22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Function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809880" y="838080"/>
                <a:ext cx="29908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υ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457200" y="1447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 yiel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41440" y="2068560"/>
                <a:ext cx="3336840" cy="29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∇</m:t>
                          </m:r>
                          <m:r>
                            <m:t xml:space="preserve">×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B</m:t>
                          </m:r>
                        </m:e>
                      </m:mr>
                      <m:mr>
                        <m:e/>
                        <m:e/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stant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B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/>
                        <m:e>
                          <m:r>
                            <m:t xml:space="preserve">[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(</m:t>
                              </m:r>
                            </m:den>
                          </m:f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]</m:t>
                          </m:r>
                          <m:r>
                            <m:t xml:space="preserve">]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V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∇</m:t>
                          </m:r>
                          <m:r>
                            <m:t xml:space="preserve">×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/>
                        <m:e>
                          <m:r>
                            <m:t xml:space="preserve">∇</m:t>
                          </m:r>
                          <m:r>
                            <m:t xml:space="preserve">⋅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W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B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4776840" y="3276720"/>
            <a:ext cx="43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unit normal to interfa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4540320" y="3689280"/>
                <a:ext cx="22748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380880" y="5029200"/>
            <a:ext cx="854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oidal flux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p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roidal flux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ant during relax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33520" y="5638680"/>
                <a:ext cx="525276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sSup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stant</m:t>
                          </m:r>
                        </m:e>
                        <m:e/>
                      </m:mr>
                      <m:mr>
                        <m:e>
                          <m:r>
                            <m:t xml:space="preserve">V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stant, </m:t>
                          </m:r>
                        </m:e>
                        <m:e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ol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stant</m:t>
                          </m:r>
                        </m:e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varia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ble equilib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762120" y="3067200"/>
                <a:ext cx="2327040" cy="16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∇</m:t>
                          </m:r>
                          <m:r>
                            <m:t xml:space="preserve">×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b</m:t>
                          </m:r>
                        </m:e>
                      </m:mr>
                      <m:mr>
                        <m:e>
                          <m:r>
                            <m:t xml:space="preserve">V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∇</m:t>
                          </m:r>
                          <m:r>
                            <m:t xml:space="preserve">×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/>
                        <m:e>
                          <m:r>
                            <m:t xml:space="preserve">∇</m:t>
                          </m:r>
                          <m:r>
                            <m:t xml:space="preserve">⋅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W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B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57200" y="6172200"/>
            <a:ext cx="84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expressions for perturbed fluxes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p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ach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92960" y="2414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Y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1280" y="789120"/>
            <a:ext cx="85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t fixed constraint. Two possible choices a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762120" y="1447920"/>
                <a:ext cx="20541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∪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∪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∪</m:t>
                        </m:r>
                        <m:r>
                          <m:t xml:space="preserve">V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dτ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5410080" y="3048120"/>
            <a:ext cx="29718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interface displacement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724280" y="1371600"/>
                <a:ext cx="22226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dτ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/>
                                </m:sSup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459720" y="23907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solution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924280" y="2414520"/>
                <a:ext cx="10224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638600" y="2390760"/>
                <a:ext cx="1936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λ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3916800" y="23796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665280" y="4950000"/>
                <a:ext cx="6359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∇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∇</m:t>
                          </m:r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×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e>
                                <m:sup/>
                              </m:sSup>
                            </m:sub>
                          </m:sSub>
                          <m:d>
                            <m:dPr>
                              <m:begChr m:val="["/>
                              <m:endChr m:val="]"/>
                            </m:dPr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t xml:space="preserve">B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b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t xml:space="preserve">B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∇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B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λξ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31800" y="-360"/>
            <a:ext cx="764064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Generalized Taylor Relaxed Cylindrical Plas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2185920" y="-484200"/>
            <a:ext cx="3448080" cy="747720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15040" y="2224080"/>
            <a:ext cx="1108080" cy="1989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86440" y="1928880"/>
            <a:ext cx="1495440" cy="2620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27960" y="2906640"/>
            <a:ext cx="282600" cy="674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6130800" y="1929960"/>
            <a:ext cx="5716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122880" y="4549320"/>
            <a:ext cx="5716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6284880" y="2215800"/>
            <a:ext cx="5716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551280" y="2909880"/>
            <a:ext cx="24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21520" y="3059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570360" y="3583080"/>
            <a:ext cx="24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74880" y="5194440"/>
            <a:ext cx="5744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90840" y="519120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38120" y="1523880"/>
            <a:ext cx="37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1544760"/>
            <a:ext cx="663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11280" y="3176640"/>
            <a:ext cx="34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6346800" y="1647360"/>
            <a:ext cx="434880" cy="157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792840" y="1898280"/>
            <a:ext cx="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813720" y="2451240"/>
            <a:ext cx="295200" cy="76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781320" y="3265560"/>
            <a:ext cx="972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1520" y="2720880"/>
            <a:ext cx="53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8120" y="5873760"/>
            <a:ext cx="6930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g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Lagrange multipli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ressur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interfa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afety factor on inner and outer sides 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27600" y="3517920"/>
            <a:ext cx="3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26160" y="407988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18240" y="4432320"/>
            <a:ext cx="52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9920" y="0"/>
            <a:ext cx="869796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olutions produce eigenvalu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011240" y="3110040"/>
                <a:ext cx="68770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461960" y="1459080"/>
                <a:ext cx="60627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247760" y="5238720"/>
                <a:ext cx="12016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ι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33480" y="720720"/>
            <a:ext cx="8902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rical solutions are Bessel f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2116080"/>
            <a:ext cx="9144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nknowns: coeffs.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interface radi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vacuum fiel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N+1 unknowns can be cast as constraint s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75000" y="5653080"/>
            <a:ext cx="5769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n eigenvalu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blem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7200" y="541656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16240" y="6521400"/>
            <a:ext cx="68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. R. Hudson, M. J. Hole, R. L. Dewar Phys. Of Plas., 14, 052205, 200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771560" y="4343400"/>
                <a:ext cx="57596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sSubSup>
                          <m:e>
                            <m:r>
                              <m:t xml:space="preserve">,</m:t>
                            </m:r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ol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ol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289080" y="4006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140760"/>
            <a:ext cx="914400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genvalues for Beltrami multip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rcRect l="2918" t="3216" r="5628" b="0"/>
          <a:stretch/>
        </p:blipFill>
        <p:spPr>
          <a:xfrm>
            <a:off x="130320" y="1603440"/>
            <a:ext cx="4205160" cy="33526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rcRect l="1154" t="5217" r="7422" b="0"/>
          <a:stretch/>
        </p:blipFill>
        <p:spPr>
          <a:xfrm>
            <a:off x="4481640" y="1668600"/>
            <a:ext cx="4411440" cy="34448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99880" y="879480"/>
            <a:ext cx="8502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. Constra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.5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lutions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multi-valued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3814920" y="4354200"/>
            <a:ext cx="366480" cy="1165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57920" y="5394240"/>
            <a:ext cx="43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amental: continuou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r&lt;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28880" y="1360440"/>
            <a:ext cx="1800" cy="3505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65840" y="5873760"/>
            <a:ext cx="421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rmonic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) one pol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r&lt;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50200" y="6297480"/>
            <a:ext cx="4359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rmonic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) two pol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r&lt;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6200" y="1346040"/>
            <a:ext cx="262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values versu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98600" y="1327320"/>
            <a:ext cx="39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ional transform radial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3357720" y="3579840"/>
            <a:ext cx="790560" cy="2362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2943000" y="2709360"/>
            <a:ext cx="1096920" cy="3537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202280" y="2972880"/>
            <a:ext cx="1996920" cy="253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202280" y="4056120"/>
            <a:ext cx="1852560" cy="1874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062240" y="4062240"/>
            <a:ext cx="3289320" cy="2197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libria with positive shear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7040" y="1098720"/>
            <a:ext cx="43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. 5 layer equilibrium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10772" t="0" r="3078" b="44247"/>
          <a:stretch/>
        </p:blipFill>
        <p:spPr>
          <a:xfrm>
            <a:off x="0" y="2352600"/>
            <a:ext cx="4572000" cy="27766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28600" y="2048040"/>
            <a:ext cx="324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urs of poloidal flu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1480" y="5540400"/>
            <a:ext cx="725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file smooth in plasma reg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must have some reverse 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optimized to model tokamak-like equilib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rcRect l="9230" t="55760" r="33851" b="0"/>
          <a:stretch/>
        </p:blipFill>
        <p:spPr>
          <a:xfrm>
            <a:off x="4648320" y="2505240"/>
            <a:ext cx="4114800" cy="30002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62160" y="1508040"/>
            <a:ext cx="697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. J. Hole, S. R. Hudson and R. L. Dewar, J. Plasma Phys., 72, 1167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4228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roximating continuous pressure gradi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4560" y="1359000"/>
            <a:ext cx="36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. 5 layer equilibrium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10772" t="0" r="3078" b="44247"/>
          <a:stretch/>
        </p:blipFill>
        <p:spPr>
          <a:xfrm>
            <a:off x="0" y="1981080"/>
            <a:ext cx="4805280" cy="29178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28600" y="1676520"/>
            <a:ext cx="324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urs of poloidal flu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rcRect l="9230" t="55760" r="33851" b="0"/>
          <a:stretch/>
        </p:blipFill>
        <p:spPr>
          <a:xfrm>
            <a:off x="4846680" y="2039760"/>
            <a:ext cx="4114800" cy="30006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6202440" y="2179800"/>
            <a:ext cx="2149560" cy="1046160"/>
          </a:xfrm>
          <a:custGeom>
            <a:avLst/>
            <a:gdLst/>
            <a:ahLst/>
            <a:rect l="l" t="t" r="r" b="b"/>
            <a:pathLst>
              <a:path w="1354" h="659">
                <a:moveTo>
                  <a:pt x="0" y="645"/>
                </a:moveTo>
                <a:cubicBezTo>
                  <a:pt x="88" y="619"/>
                  <a:pt x="177" y="594"/>
                  <a:pt x="230" y="549"/>
                </a:cubicBezTo>
                <a:cubicBezTo>
                  <a:pt x="283" y="504"/>
                  <a:pt x="285" y="435"/>
                  <a:pt x="317" y="376"/>
                </a:cubicBezTo>
                <a:cubicBezTo>
                  <a:pt x="349" y="317"/>
                  <a:pt x="387" y="248"/>
                  <a:pt x="422" y="198"/>
                </a:cubicBezTo>
                <a:cubicBezTo>
                  <a:pt x="457" y="148"/>
                  <a:pt x="485" y="107"/>
                  <a:pt x="528" y="74"/>
                </a:cubicBezTo>
                <a:cubicBezTo>
                  <a:pt x="571" y="41"/>
                  <a:pt x="627" y="0"/>
                  <a:pt x="682" y="2"/>
                </a:cubicBezTo>
                <a:cubicBezTo>
                  <a:pt x="737" y="4"/>
                  <a:pt x="814" y="50"/>
                  <a:pt x="859" y="88"/>
                </a:cubicBezTo>
                <a:cubicBezTo>
                  <a:pt x="904" y="126"/>
                  <a:pt x="924" y="183"/>
                  <a:pt x="955" y="232"/>
                </a:cubicBezTo>
                <a:cubicBezTo>
                  <a:pt x="986" y="281"/>
                  <a:pt x="1012" y="326"/>
                  <a:pt x="1042" y="381"/>
                </a:cubicBezTo>
                <a:cubicBezTo>
                  <a:pt x="1072" y="436"/>
                  <a:pt x="1086" y="517"/>
                  <a:pt x="1138" y="563"/>
                </a:cubicBezTo>
                <a:cubicBezTo>
                  <a:pt x="1190" y="609"/>
                  <a:pt x="1317" y="645"/>
                  <a:pt x="1354" y="6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12920" y="2201760"/>
            <a:ext cx="8322840" cy="4361040"/>
            <a:chOff x="412920" y="2201760"/>
            <a:chExt cx="8322840" cy="4361040"/>
          </a:xfrm>
        </p:grpSpPr>
        <p:sp>
          <p:nvSpPr>
            <p:cNvPr id="346" name=""/>
            <p:cNvSpPr/>
            <p:nvPr/>
          </p:nvSpPr>
          <p:spPr>
            <a:xfrm>
              <a:off x="412920" y="5737320"/>
              <a:ext cx="832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rbitrary number of steps can be used to model “real” dat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3D proviso 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barriers located at irrational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205680" y="2201760"/>
              <a:ext cx="2151000" cy="2192400"/>
              <a:chOff x="6205680" y="2201760"/>
              <a:chExt cx="2151000" cy="2192400"/>
            </a:xfrm>
          </p:grpSpPr>
          <p:sp>
            <p:nvSpPr>
              <p:cNvPr id="348" name=""/>
              <p:cNvSpPr/>
              <p:nvPr/>
            </p:nvSpPr>
            <p:spPr>
              <a:xfrm>
                <a:off x="6205680" y="3218040"/>
                <a:ext cx="20628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6421320" y="3107880"/>
                <a:ext cx="0" cy="1285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410160" y="3110040"/>
                <a:ext cx="147600" cy="144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99280" y="2241720"/>
                <a:ext cx="4680" cy="21319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64240" y="2239920"/>
                <a:ext cx="4680" cy="2149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6562800" y="3033720"/>
                <a:ext cx="0" cy="712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553080" y="3032280"/>
                <a:ext cx="9540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6649920" y="2925720"/>
                <a:ext cx="0" cy="1015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638760" y="2925720"/>
                <a:ext cx="7488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6000" y="2768760"/>
                <a:ext cx="8568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>
                <a:off x="6702120" y="2769840"/>
                <a:ext cx="4680" cy="1573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6854760" y="2523960"/>
                <a:ext cx="1440" cy="8280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6778440" y="2629080"/>
                <a:ext cx="5040" cy="1396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72320" y="2619360"/>
                <a:ext cx="9504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707160" y="2260440"/>
                <a:ext cx="4680" cy="2125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634080" y="2255760"/>
                <a:ext cx="4680" cy="21337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777000" y="2224080"/>
                <a:ext cx="4680" cy="21668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846840" y="2268720"/>
                <a:ext cx="4680" cy="2111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408720" y="2259000"/>
                <a:ext cx="6480" cy="21207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851520" y="2522520"/>
                <a:ext cx="7776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6923160" y="2403360"/>
                <a:ext cx="4680" cy="12384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6999120" y="2332080"/>
                <a:ext cx="1800" cy="8424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929280" y="2413080"/>
                <a:ext cx="7956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7167600" y="2201760"/>
                <a:ext cx="0" cy="1144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6993000" y="2315880"/>
                <a:ext cx="171360" cy="324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65800" y="2206800"/>
                <a:ext cx="10800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19920" y="2254320"/>
                <a:ext cx="4680" cy="21304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93000" y="2249640"/>
                <a:ext cx="4680" cy="2138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164360" y="2236680"/>
                <a:ext cx="4680" cy="21481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8150040" y="3218040"/>
                <a:ext cx="20664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8140680" y="3107880"/>
                <a:ext cx="0" cy="1285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 flipV="1">
                <a:off x="7992720" y="3114720"/>
                <a:ext cx="150840" cy="144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8258040" y="2241720"/>
                <a:ext cx="5040" cy="21366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7992720" y="2239920"/>
                <a:ext cx="4680" cy="214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7999200" y="3033720"/>
                <a:ext cx="0" cy="712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7913160" y="3032280"/>
                <a:ext cx="8748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7912080" y="2925720"/>
                <a:ext cx="0" cy="1015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7848360" y="2925720"/>
                <a:ext cx="6660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7779960" y="2768760"/>
                <a:ext cx="6660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7854840" y="2769840"/>
                <a:ext cx="4680" cy="1573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flipV="1">
                <a:off x="7705800" y="2523960"/>
                <a:ext cx="1440" cy="8280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778880" y="2629080"/>
                <a:ext cx="4680" cy="1396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7691040" y="2619360"/>
                <a:ext cx="9828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7843680" y="2260440"/>
                <a:ext cx="5040" cy="21085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7922880" y="2255760"/>
                <a:ext cx="4680" cy="2136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7779960" y="2224080"/>
                <a:ext cx="4680" cy="21668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7710120" y="2268720"/>
                <a:ext cx="4680" cy="2116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8148240" y="2259000"/>
                <a:ext cx="4680" cy="21207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7627680" y="2522520"/>
                <a:ext cx="8244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 flipV="1">
                <a:off x="7633800" y="2403360"/>
                <a:ext cx="4680" cy="12384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>
                <a:off x="7560720" y="2332080"/>
                <a:ext cx="1800" cy="8424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7552800" y="2413080"/>
                <a:ext cx="7956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7394400" y="2201760"/>
                <a:ext cx="0" cy="1144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 flipV="1">
                <a:off x="7397640" y="2315880"/>
                <a:ext cx="171360" cy="324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7251480" y="2206800"/>
                <a:ext cx="14436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7637040" y="2254320"/>
                <a:ext cx="4680" cy="21319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7563960" y="2249640"/>
                <a:ext cx="4680" cy="21445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7392600" y="2236680"/>
                <a:ext cx="4680" cy="21542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6" name=""/>
          <p:cNvSpPr/>
          <p:nvPr/>
        </p:nvSpPr>
        <p:spPr>
          <a:xfrm>
            <a:off x="470880" y="5084640"/>
            <a:ext cx="35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piecewise smoo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6178680" y="2143080"/>
            <a:ext cx="2221920" cy="1143000"/>
            <a:chOff x="6178680" y="2143080"/>
            <a:chExt cx="2221920" cy="1143000"/>
          </a:xfrm>
        </p:grpSpPr>
        <p:grpSp>
          <p:nvGrpSpPr>
            <p:cNvPr id="408" name=""/>
            <p:cNvGrpSpPr/>
            <p:nvPr/>
          </p:nvGrpSpPr>
          <p:grpSpPr>
            <a:xfrm>
              <a:off x="6178680" y="3139920"/>
              <a:ext cx="83520" cy="142920"/>
              <a:chOff x="6178680" y="3139920"/>
              <a:chExt cx="83520" cy="142920"/>
            </a:xfrm>
          </p:grpSpPr>
          <p:sp>
            <p:nvSpPr>
              <p:cNvPr id="409" name=""/>
              <p:cNvSpPr/>
              <p:nvPr/>
            </p:nvSpPr>
            <p:spPr>
              <a:xfrm>
                <a:off x="6190920" y="3181320"/>
                <a:ext cx="5688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21160" y="313992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181560" y="32828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178680" y="313992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6380280" y="3041640"/>
              <a:ext cx="83520" cy="142920"/>
              <a:chOff x="6380280" y="3041640"/>
              <a:chExt cx="83520" cy="142920"/>
            </a:xfrm>
          </p:grpSpPr>
          <p:sp>
            <p:nvSpPr>
              <p:cNvPr id="414" name=""/>
              <p:cNvSpPr/>
              <p:nvPr/>
            </p:nvSpPr>
            <p:spPr>
              <a:xfrm>
                <a:off x="6392520" y="3083040"/>
                <a:ext cx="5688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422760" y="304164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83160" y="31845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0280" y="30416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6518160" y="2955960"/>
              <a:ext cx="84240" cy="142920"/>
              <a:chOff x="6518160" y="2955960"/>
              <a:chExt cx="84240" cy="142920"/>
            </a:xfrm>
          </p:grpSpPr>
          <p:sp>
            <p:nvSpPr>
              <p:cNvPr id="419" name=""/>
              <p:cNvSpPr/>
              <p:nvPr/>
            </p:nvSpPr>
            <p:spPr>
              <a:xfrm>
                <a:off x="6530760" y="299736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561000" y="295596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521400" y="309888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518160" y="295596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599160" y="2855880"/>
              <a:ext cx="84240" cy="142920"/>
              <a:chOff x="6599160" y="2855880"/>
              <a:chExt cx="84240" cy="142920"/>
            </a:xfrm>
          </p:grpSpPr>
          <p:sp>
            <p:nvSpPr>
              <p:cNvPr id="424" name=""/>
              <p:cNvSpPr/>
              <p:nvPr/>
            </p:nvSpPr>
            <p:spPr>
              <a:xfrm>
                <a:off x="6611760" y="289728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642000" y="285588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602400" y="29988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599160" y="285588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6667560" y="2692440"/>
              <a:ext cx="84240" cy="142920"/>
              <a:chOff x="6667560" y="2692440"/>
              <a:chExt cx="84240" cy="142920"/>
            </a:xfrm>
          </p:grpSpPr>
          <p:sp>
            <p:nvSpPr>
              <p:cNvPr id="429" name=""/>
              <p:cNvSpPr/>
              <p:nvPr/>
            </p:nvSpPr>
            <p:spPr>
              <a:xfrm>
                <a:off x="6680160" y="273384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710400" y="269244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70800" y="283536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667560" y="269244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6738840" y="2546280"/>
              <a:ext cx="84240" cy="142920"/>
              <a:chOff x="6738840" y="2546280"/>
              <a:chExt cx="84240" cy="142920"/>
            </a:xfrm>
          </p:grpSpPr>
          <p:sp>
            <p:nvSpPr>
              <p:cNvPr id="434" name=""/>
              <p:cNvSpPr/>
              <p:nvPr/>
            </p:nvSpPr>
            <p:spPr>
              <a:xfrm>
                <a:off x="6751440" y="258768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781680" y="254628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742080" y="26892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738840" y="254628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6804000" y="2443320"/>
              <a:ext cx="84240" cy="142560"/>
              <a:chOff x="6804000" y="2443320"/>
              <a:chExt cx="84240" cy="142560"/>
            </a:xfrm>
          </p:grpSpPr>
          <p:sp>
            <p:nvSpPr>
              <p:cNvPr id="439" name=""/>
              <p:cNvSpPr/>
              <p:nvPr/>
            </p:nvSpPr>
            <p:spPr>
              <a:xfrm>
                <a:off x="6816600" y="2484360"/>
                <a:ext cx="57240" cy="58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846840" y="2443320"/>
                <a:ext cx="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807240" y="258588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804000" y="244332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880320" y="2338560"/>
              <a:ext cx="83520" cy="142560"/>
              <a:chOff x="6880320" y="2338560"/>
              <a:chExt cx="83520" cy="142560"/>
            </a:xfrm>
          </p:grpSpPr>
          <p:sp>
            <p:nvSpPr>
              <p:cNvPr id="444" name=""/>
              <p:cNvSpPr/>
              <p:nvPr/>
            </p:nvSpPr>
            <p:spPr>
              <a:xfrm>
                <a:off x="6892560" y="2379600"/>
                <a:ext cx="56880" cy="58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922800" y="2338560"/>
                <a:ext cx="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883200" y="248112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880320" y="23385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6956280" y="2246400"/>
              <a:ext cx="84240" cy="142920"/>
              <a:chOff x="6956280" y="2246400"/>
              <a:chExt cx="84240" cy="142920"/>
            </a:xfrm>
          </p:grpSpPr>
          <p:sp>
            <p:nvSpPr>
              <p:cNvPr id="449" name=""/>
              <p:cNvSpPr/>
              <p:nvPr/>
            </p:nvSpPr>
            <p:spPr>
              <a:xfrm>
                <a:off x="6968880" y="228780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999120" y="224640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959520" y="238932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956280" y="22464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7124760" y="2143080"/>
              <a:ext cx="84240" cy="142920"/>
              <a:chOff x="7124760" y="2143080"/>
              <a:chExt cx="84240" cy="142920"/>
            </a:xfrm>
          </p:grpSpPr>
          <p:sp>
            <p:nvSpPr>
              <p:cNvPr id="454" name=""/>
              <p:cNvSpPr/>
              <p:nvPr/>
            </p:nvSpPr>
            <p:spPr>
              <a:xfrm>
                <a:off x="7137360" y="218448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167600" y="214308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128000" y="22860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124760" y="214308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353360" y="2143080"/>
              <a:ext cx="84240" cy="142920"/>
              <a:chOff x="7353360" y="2143080"/>
              <a:chExt cx="84240" cy="142920"/>
            </a:xfrm>
          </p:grpSpPr>
          <p:sp>
            <p:nvSpPr>
              <p:cNvPr id="459" name=""/>
              <p:cNvSpPr/>
              <p:nvPr/>
            </p:nvSpPr>
            <p:spPr>
              <a:xfrm>
                <a:off x="7365960" y="218448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396200" y="214308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356600" y="22860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53360" y="214308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7520040" y="2238480"/>
              <a:ext cx="84240" cy="142920"/>
              <a:chOff x="7520040" y="2238480"/>
              <a:chExt cx="84240" cy="142920"/>
            </a:xfrm>
          </p:grpSpPr>
          <p:sp>
            <p:nvSpPr>
              <p:cNvPr id="464" name=""/>
              <p:cNvSpPr/>
              <p:nvPr/>
            </p:nvSpPr>
            <p:spPr>
              <a:xfrm>
                <a:off x="7532640" y="227988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562880" y="223848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523280" y="23814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520040" y="223848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7594560" y="2344680"/>
              <a:ext cx="84240" cy="142920"/>
              <a:chOff x="7594560" y="2344680"/>
              <a:chExt cx="84240" cy="142920"/>
            </a:xfrm>
          </p:grpSpPr>
          <p:sp>
            <p:nvSpPr>
              <p:cNvPr id="469" name=""/>
              <p:cNvSpPr/>
              <p:nvPr/>
            </p:nvSpPr>
            <p:spPr>
              <a:xfrm>
                <a:off x="7607160" y="238608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637400" y="234468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597800" y="24876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594560" y="234468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7674120" y="2451240"/>
              <a:ext cx="83520" cy="142560"/>
              <a:chOff x="7674120" y="2451240"/>
              <a:chExt cx="83520" cy="142560"/>
            </a:xfrm>
          </p:grpSpPr>
          <p:sp>
            <p:nvSpPr>
              <p:cNvPr id="474" name=""/>
              <p:cNvSpPr/>
              <p:nvPr/>
            </p:nvSpPr>
            <p:spPr>
              <a:xfrm>
                <a:off x="7686360" y="2492280"/>
                <a:ext cx="56880" cy="58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716600" y="2451240"/>
                <a:ext cx="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677000" y="259380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674120" y="24512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7737480" y="2544840"/>
              <a:ext cx="84240" cy="142920"/>
              <a:chOff x="7737480" y="2544840"/>
              <a:chExt cx="84240" cy="142920"/>
            </a:xfrm>
          </p:grpSpPr>
          <p:sp>
            <p:nvSpPr>
              <p:cNvPr id="479" name=""/>
              <p:cNvSpPr/>
              <p:nvPr/>
            </p:nvSpPr>
            <p:spPr>
              <a:xfrm>
                <a:off x="7750080" y="258624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780320" y="254484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40720" y="268776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737480" y="254484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7807320" y="2689200"/>
              <a:ext cx="84240" cy="142920"/>
              <a:chOff x="7807320" y="2689200"/>
              <a:chExt cx="84240" cy="142920"/>
            </a:xfrm>
          </p:grpSpPr>
          <p:sp>
            <p:nvSpPr>
              <p:cNvPr id="484" name=""/>
              <p:cNvSpPr/>
              <p:nvPr/>
            </p:nvSpPr>
            <p:spPr>
              <a:xfrm>
                <a:off x="7819920" y="273060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850160" y="268920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10560" y="283212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07320" y="26892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7883640" y="2859120"/>
              <a:ext cx="83520" cy="142920"/>
              <a:chOff x="7883640" y="2859120"/>
              <a:chExt cx="83520" cy="142920"/>
            </a:xfrm>
          </p:grpSpPr>
          <p:sp>
            <p:nvSpPr>
              <p:cNvPr id="489" name=""/>
              <p:cNvSpPr/>
              <p:nvPr/>
            </p:nvSpPr>
            <p:spPr>
              <a:xfrm>
                <a:off x="7895880" y="2900520"/>
                <a:ext cx="5688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26120" y="285912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86520" y="30020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883640" y="285912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7954920" y="2965320"/>
              <a:ext cx="84240" cy="142920"/>
              <a:chOff x="7954920" y="2965320"/>
              <a:chExt cx="84240" cy="142920"/>
            </a:xfrm>
          </p:grpSpPr>
          <p:sp>
            <p:nvSpPr>
              <p:cNvPr id="494" name=""/>
              <p:cNvSpPr/>
              <p:nvPr/>
            </p:nvSpPr>
            <p:spPr>
              <a:xfrm>
                <a:off x="7967520" y="300672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997760" y="296532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958160" y="310824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954920" y="296532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8107200" y="3038400"/>
              <a:ext cx="84240" cy="142920"/>
              <a:chOff x="8107200" y="3038400"/>
              <a:chExt cx="84240" cy="142920"/>
            </a:xfrm>
          </p:grpSpPr>
          <p:sp>
            <p:nvSpPr>
              <p:cNvPr id="499" name=""/>
              <p:cNvSpPr/>
              <p:nvPr/>
            </p:nvSpPr>
            <p:spPr>
              <a:xfrm>
                <a:off x="8119800" y="307980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150040" y="303840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110440" y="318132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107200" y="30384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8317080" y="3143160"/>
              <a:ext cx="83520" cy="142920"/>
              <a:chOff x="8317080" y="3143160"/>
              <a:chExt cx="83520" cy="142920"/>
            </a:xfrm>
          </p:grpSpPr>
          <p:sp>
            <p:nvSpPr>
              <p:cNvPr id="504" name=""/>
              <p:cNvSpPr/>
              <p:nvPr/>
            </p:nvSpPr>
            <p:spPr>
              <a:xfrm>
                <a:off x="8329320" y="3184560"/>
                <a:ext cx="5688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359560" y="314316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319960" y="328608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317080" y="31431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tral Analysi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igenvalu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73040" y="1049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02680" indent="-20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ier decompose perturbed fiel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terfac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2255760" y="1490760"/>
                <a:ext cx="1981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b</m:t>
                        </m:r>
                      </m:e>
                    </m:acc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mθ</m:t>
                        </m:r>
                        <m:r>
                          <m:t xml:space="preserve">+</m:t>
                        </m:r>
                        <m:r>
                          <m:t xml:space="preserve">κz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4527720" y="1550880"/>
                <a:ext cx="1968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mθ</m:t>
                        </m:r>
                        <m:r>
                          <m:t xml:space="preserve">+</m:t>
                        </m:r>
                        <m:r>
                          <m:t xml:space="preserve">κz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12" name=""/>
          <p:cNvGrpSpPr/>
          <p:nvPr/>
        </p:nvGrpSpPr>
        <p:grpSpPr>
          <a:xfrm>
            <a:off x="731880" y="2041560"/>
            <a:ext cx="7772400" cy="838080"/>
            <a:chOff x="731880" y="2041560"/>
            <a:chExt cx="7772400" cy="838080"/>
          </a:xfrm>
        </p:grpSpPr>
        <p:sp>
          <p:nvSpPr>
            <p:cNvPr id="513" name=""/>
            <p:cNvSpPr/>
            <p:nvPr/>
          </p:nvSpPr>
          <p:spPr>
            <a:xfrm>
              <a:off x="731880" y="2041560"/>
              <a:ext cx="77724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3280" indent="-2332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re complex Fourier amplitu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Z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Z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/L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L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z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riodicity axial 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1036440" y="2041560"/>
                  <a:ext cx="60984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~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5" name=""/>
          <p:cNvSpPr/>
          <p:nvPr/>
        </p:nvSpPr>
        <p:spPr>
          <a:xfrm>
            <a:off x="521640" y="2800440"/>
            <a:ext cx="458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ODE’s solved: eg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5396040" y="2790720"/>
                <a:ext cx="2952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7" name=""/>
          <p:cNvSpPr/>
          <p:nvPr/>
        </p:nvSpPr>
        <p:spPr>
          <a:xfrm>
            <a:off x="533520" y="3282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(N + 1) unknown consta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,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371600" y="3711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C’s at wall and core eliminate 2 unknow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71600" y="409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pply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face condition 2N times (inside + outsid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1681200" y="4524480"/>
                <a:ext cx="53690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∇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533520" y="5159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 condition reduces to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6283440" y="5165640"/>
          <a:ext cx="1739880" cy="4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3440" y="5165640"/>
                    <a:ext cx="173988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1236960" y="5757840"/>
            <a:ext cx="5942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 of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shifted Alf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ontinuum t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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solutions for lambda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lindrical Example: St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79280" y="784080"/>
            <a:ext cx="69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 interfaces reduces to eigenvalue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993000" y="819000"/>
          <a:ext cx="1276200" cy="4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93000" y="819000"/>
                    <a:ext cx="127620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" descr=""/>
          <p:cNvPicPr/>
          <p:nvPr/>
        </p:nvPicPr>
        <p:blipFill>
          <a:blip r:embed="rId3"/>
          <a:srcRect l="11989" t="8823" r="5557" b="10593"/>
          <a:stretch/>
        </p:blipFill>
        <p:spPr>
          <a:xfrm>
            <a:off x="4789440" y="2824200"/>
            <a:ext cx="4213440" cy="30891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4"/>
          <a:srcRect l="11345" t="8246" r="8478" b="11354"/>
          <a:stretch/>
        </p:blipFill>
        <p:spPr>
          <a:xfrm>
            <a:off x="412920" y="2878200"/>
            <a:ext cx="4093920" cy="30798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0" y="1314360"/>
            <a:ext cx="868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=1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oduces calculations of Kaiser and Uecker, Q. Jl of Appl. Math. 57(1)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1360" y="248292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03920" y="249408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5280" y="2162160"/>
            <a:ext cx="60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inal stability boundaries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) for m=1 and m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87360" y="587520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16200000">
            <a:off x="-1712520" y="4202640"/>
            <a:ext cx="38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jump in pitch across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672240" y="577692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16200000">
            <a:off x="4431960" y="386208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4040" y="6418440"/>
            <a:ext cx="56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. J. Hole, S. R. Hudson, R. L. Dewar, Nuc. Fusion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62080" y="3430440"/>
            <a:ext cx="14590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ble region interior to loc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50000" y="393048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ble region exterior to loc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8128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Toroidal plasma equilibrium in 3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803760" y="2085840"/>
                <a:ext cx="15444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Ñ´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139680" y="669960"/>
            <a:ext cx="848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model for toroidal fusion plasma steady state is force balance for total pressu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bined with Am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re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 relating magnetic fiel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urrent dens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912960" y="2038320"/>
                <a:ext cx="16272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Ñp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´</m:t>
                    </m:r>
                    <m:r>
                      <m:t xml:space="preserve">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507000" y="2079720"/>
                <a:ext cx="12924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Ñ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4803840" y="3009960"/>
            <a:ext cx="43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okamaks,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D due to coil ripple or instabiliti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518080" y="3811680"/>
            <a:ext cx="3046320" cy="3046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7840" y="2986200"/>
            <a:ext cx="416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 Stellarators—intrinsically 3D, i.e. no continuous symmet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92280" y="4195800"/>
            <a:ext cx="3004920" cy="2349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6520" y="2509920"/>
            <a:ext cx="55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c fields are in general fully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rcRect l="2008" t="7116" r="6674" b="7084"/>
          <a:stretch/>
        </p:blipFill>
        <p:spPr>
          <a:xfrm>
            <a:off x="4208400" y="2179800"/>
            <a:ext cx="4705560" cy="44290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rcRect l="4231" t="7201" r="6121" b="4341"/>
          <a:stretch/>
        </p:blipFill>
        <p:spPr>
          <a:xfrm>
            <a:off x="338040" y="3666960"/>
            <a:ext cx="2946600" cy="237492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chmarking multi-interface s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09600" y="763560"/>
            <a:ext cx="5383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wo similar plasma regions,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2280" y="2068560"/>
            <a:ext cx="4191120" cy="15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rsion curves match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limit of vanishing interface separatio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=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326280" y="782640"/>
            <a:ext cx="1401840" cy="13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08880" y="1044720"/>
            <a:ext cx="801720" cy="784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783480" y="1206360"/>
            <a:ext cx="485640" cy="44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89040" y="1176480"/>
            <a:ext cx="34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946200" y="752400"/>
            <a:ext cx="34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7021440" y="1239840"/>
            <a:ext cx="1206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7021440" y="1066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6510240" y="1033560"/>
            <a:ext cx="51120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523920" y="741240"/>
            <a:ext cx="37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2680" y="623736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ble configuration stud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871560" y="4528800"/>
            <a:ext cx="1360440" cy="16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rot="16200000">
            <a:off x="3824640" y="4008960"/>
            <a:ext cx="941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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92840" y="5629320"/>
            <a:ext cx="833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2520" y="4548240"/>
            <a:ext cx="30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755720" y="5865840"/>
            <a:ext cx="320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718760" y="261468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4605480" y="3449520"/>
            <a:ext cx="4365360" cy="340848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162000" y="3659040"/>
            <a:ext cx="4000320" cy="301320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=2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bility differs i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even if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7600" y="955800"/>
            <a:ext cx="8996400" cy="25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vestigate stability of plasma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inuous across second plasma region (adjus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iminate singular current on interface (infinite current density) by removing jump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stable, whi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ble. Physically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requir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ew current sheet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757760" y="6248520"/>
            <a:ext cx="424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11680" y="3897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844600" y="3746520"/>
            <a:ext cx="64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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5703480" y="4038480"/>
            <a:ext cx="414360" cy="6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42560" y="3905280"/>
            <a:ext cx="356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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523400" y="5592600"/>
            <a:ext cx="356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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008080" y="4437000"/>
            <a:ext cx="39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179160" y="44038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35320" y="3646440"/>
            <a:ext cx="0" cy="283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510000" y="3665520"/>
            <a:ext cx="0" cy="283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959200" y="4938840"/>
            <a:ext cx="396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424320" y="4933800"/>
            <a:ext cx="396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lving the edge pressure (R. Mill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63440" y="687240"/>
            <a:ext cx="866952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is the effect of resolving edge pressure gradien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ke plasma ideal with nonzero ramp in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solve explicitly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),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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Euler-Lagrange equation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nances must be handled explicitl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4960" y="6570720"/>
            <a:ext cx="4376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comb, Annals of Phys. 10, 232-267, 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7840" y="5521320"/>
            <a:ext cx="8953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ylor-Taylor treatment allows resistive mode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ylor-ideal, and Taylor do no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517760" y="3112920"/>
          <a:ext cx="6935760" cy="1501560"/>
        </p:xfrm>
        <a:graphic>
          <a:graphicData uri="http://schemas.openxmlformats.org/drawingml/2006/table">
            <a:tbl>
              <a:tblPr/>
              <a:tblGrid>
                <a:gridCol w="1733760"/>
                <a:gridCol w="1734840"/>
                <a:gridCol w="1733760"/>
                <a:gridCol w="17334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n in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ylor-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ylor-Id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4" name=""/>
          <p:cNvSpPr/>
          <p:nvPr/>
        </p:nvSpPr>
        <p:spPr>
          <a:xfrm>
            <a:off x="1428840" y="4665600"/>
            <a:ext cx="718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: helicity per field line con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ylor: helicity in each volume con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7840" y="2948040"/>
            <a:ext cx="12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26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s of generalized Taylor relax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55680" y="1066680"/>
            <a:ext cx="87883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unstable modes allowed by these generalized Taylor st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odes of ideal MHD, current driven except at interfaces (where pressure driven modes can exi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aring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470480" y="2562120"/>
            <a:ext cx="4673520" cy="4107600"/>
            <a:chOff x="4470480" y="2562120"/>
            <a:chExt cx="4673520" cy="4107600"/>
          </a:xfrm>
        </p:grpSpPr>
        <p:sp>
          <p:nvSpPr>
            <p:cNvPr id="589" name=""/>
            <p:cNvSpPr/>
            <p:nvPr/>
          </p:nvSpPr>
          <p:spPr>
            <a:xfrm>
              <a:off x="5181840" y="2978280"/>
              <a:ext cx="3593880" cy="25905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705720" y="3651480"/>
              <a:ext cx="1739880" cy="104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70960" y="3700440"/>
              <a:ext cx="1339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eal MHD: infinity of constrain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83360" y="3573360"/>
              <a:ext cx="1784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laxed MHD: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ini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no. of constrain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767480" y="2562120"/>
              <a:ext cx="421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aces of allowed variations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728040" y="5661000"/>
              <a:ext cx="2415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ruskal–Kulsrud equilibria —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nclud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aylor st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470480" y="5445360"/>
              <a:ext cx="1971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neralized Taylor equilib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6607200">
              <a:off x="4914360" y="4743000"/>
              <a:ext cx="1003320" cy="381240"/>
            </a:xfrm>
            <a:prstGeom prst="rightArrow">
              <a:avLst>
                <a:gd name="adj1" fmla="val 50000"/>
                <a:gd name="adj2" fmla="val 6579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5380200">
              <a:off x="7117200" y="5015520"/>
              <a:ext cx="900000" cy="368280"/>
            </a:xfrm>
            <a:prstGeom prst="rightArrow">
              <a:avLst>
                <a:gd name="adj1" fmla="val 50000"/>
                <a:gd name="adj2" fmla="val 6109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266760" y="2828880"/>
            <a:ext cx="4419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work by Tass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vestigate tearing mode stability of force-free equilibr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ivation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HD activity often observed in RFP’s with well defined value of m/n, equal to central resonance (quasi-singular helicity states). Taylor’s theory suggests entire plasma should relax via modes with multiple-helicity (m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30120" y="6521400"/>
            <a:ext cx="535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ssi , Hastie and Porcelli  Phys. Plas., 14, 092109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26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ring modes of force-free equilib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1960" y="6521400"/>
            <a:ext cx="38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ssi et al Phys. Plas., 14, 092109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rcRect l="44525" t="19527" r="7144" b="29488"/>
          <a:stretch/>
        </p:blipFill>
        <p:spPr>
          <a:xfrm>
            <a:off x="355680" y="1027080"/>
            <a:ext cx="3962160" cy="313524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190440" y="5715000"/>
            <a:ext cx="8589960" cy="703800"/>
          </a:xfrm>
          <a:prstGeom prst="rect">
            <a:avLst/>
          </a:prstGeom>
          <a:solidFill>
            <a:srgbClr val="ff99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generalize model for multiple interfaces, inclusion of vacuum and to enable pressure jum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rcRect l="11311" t="26033" r="48692" b="28413"/>
          <a:stretch/>
        </p:blipFill>
        <p:spPr>
          <a:xfrm>
            <a:off x="4734000" y="1168560"/>
            <a:ext cx="3419280" cy="292068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190440" y="4322880"/>
            <a:ext cx="8674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ssi et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wo plasma regions, no vacuum, and no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de presence of downward step in q (lamda) destablises innermost mode, and suggest possible cyclic mechanism for QSH relax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ring mode vs. Taylor st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34520" y="696960"/>
            <a:ext cx="4343400" cy="21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e model for multiple interfaces, inclusion of vacuum and to enable pressure jum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earing mode and variational principle stability agree?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144360" y="3021120"/>
            <a:ext cx="4605480" cy="383688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4408560" y="3057480"/>
            <a:ext cx="4735440" cy="374508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284800" y="825480"/>
            <a:ext cx="3446280" cy="21240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5024520" y="1779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98320" y="21826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286600" y="1824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145480" y="8017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169480" y="2054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509320" y="2033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839480" y="2401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0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384280" y="3265560"/>
            <a:ext cx="11160" cy="32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714760" y="3273480"/>
            <a:ext cx="10800" cy="32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91960" y="28274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42840" y="3495600"/>
            <a:ext cx="16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al eigen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1414440" y="4081320"/>
            <a:ext cx="16344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92240" y="3700440"/>
            <a:ext cx="1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13560" y="582948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ring m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251520" y="339732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942320" y="360360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906640" y="59770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6595560" y="3308400"/>
            <a:ext cx="11160" cy="21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58160" y="3282840"/>
            <a:ext cx="10800" cy="323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413040" y="2847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94240" y="4143240"/>
            <a:ext cx="95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k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89920" y="5340240"/>
            <a:ext cx="95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k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6138720" y="3863880"/>
            <a:ext cx="34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 flipV="1">
            <a:off x="7140600" y="5203800"/>
            <a:ext cx="20808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216400" y="5591160"/>
                <a:ext cx="17100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04880" y="-36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odel for Internal Transport B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47840" y="914040"/>
            <a:ext cx="5086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 shear profile cylindrically periodic plasma assum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os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y computed for these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l to toroidal mode number discretisation to tune system to eliminate unstable mo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mit that 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ything stable left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over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e pressure profile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5699160" y="1195560"/>
            <a:ext cx="3444840" cy="4967280"/>
            <a:chOff x="5699160" y="1195560"/>
            <a:chExt cx="3444840" cy="4967280"/>
          </a:xfrm>
        </p:grpSpPr>
        <p:pic>
          <p:nvPicPr>
            <p:cNvPr id="639" name="" descr=""/>
            <p:cNvPicPr/>
            <p:nvPr/>
          </p:nvPicPr>
          <p:blipFill>
            <a:blip r:embed="rId1"/>
            <a:srcRect l="18589" t="0" r="34355" b="41422"/>
            <a:stretch/>
          </p:blipFill>
          <p:spPr>
            <a:xfrm>
              <a:off x="5699160" y="1195560"/>
              <a:ext cx="3444840" cy="32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2"/>
            <a:srcRect l="17851" t="57489" r="30494" b="0"/>
            <a:stretch/>
          </p:blipFill>
          <p:spPr>
            <a:xfrm>
              <a:off x="6113520" y="4386600"/>
              <a:ext cx="2876400" cy="17762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438360" y="5918040"/>
                <a:ext cx="264024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449280" y="59072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librium constraint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14212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progress: Exploration of ITB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47354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rcRect l="3069" t="0" r="6023" b="0"/>
          <a:stretch/>
        </p:blipFill>
        <p:spPr>
          <a:xfrm>
            <a:off x="0" y="841320"/>
            <a:ext cx="4888080" cy="432432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2"/>
          <a:srcRect l="0" t="56746" r="6226" b="0"/>
          <a:stretch/>
        </p:blipFill>
        <p:spPr>
          <a:xfrm>
            <a:off x="4861080" y="4875120"/>
            <a:ext cx="4282920" cy="148608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5445360" y="1128600"/>
            <a:ext cx="1901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&lt;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4 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3"/>
          <a:srcRect l="0" t="0" r="5883" b="49873"/>
          <a:stretch/>
        </p:blipFill>
        <p:spPr>
          <a:xfrm>
            <a:off x="4886280" y="3235320"/>
            <a:ext cx="4257720" cy="170640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 flipV="1">
            <a:off x="704880" y="3962520"/>
            <a:ext cx="66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60440" y="5202360"/>
            <a:ext cx="20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inal 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051680" y="252576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0440" y="646128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010280" y="2733840"/>
            <a:ext cx="478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7010280" y="5886360"/>
            <a:ext cx="123840" cy="6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7200" y="122076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-115920" y="-28440"/>
            <a:ext cx="93362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ther approaches to constructing 3D equilib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33000" y="903240"/>
            <a:ext cx="85057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iterative algorithms to solve Beltrami fields in 3D geometry (S.Huds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ing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eigenvalue, simultaneously solve fo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 (method of lines / shooting metho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djust interface to reduce force im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olve Beltrami fields in 3D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current equilibria formulation. (M. McGan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ze treatment of Kaiser and Salat Phys. Plasmas 1(2), 1994, wh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ise an interface surfa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 interior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terior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force balan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DE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for S which allow an analytic solution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method to construct toroidal flux surfaces, and establish robustness to pressure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Summary 1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33280" y="689040"/>
            <a:ext cx="8712360" cy="57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of proble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flux surfaces wanted for good con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n general, they are rare in 3D geomet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Project aim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sign a convergent algorithm for constructing 3D equilib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re ITB’s in a constrained minimum energy stat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Variational model developed – frustrated Taylor rela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 Analytic solutions presented for a 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quilibria with positive shear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tability: benchmarked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 stable configuration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1 exist without jump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appeal to discretis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eed to be careful with resonances if trying to construct jump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multi-interface with continuou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tability of variational problem in multi-interfaces can be reduced to   stability of tearing + ideal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5480" y="8208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D Equilibrium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1520" y="74448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In 3D plasmas, magnetic islands form on rational flux surfaces, destroying flux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is chaotic within magnetic islands, and ergodically fills island 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tunately… not all flux surfaces are destro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3D MHD equilibria h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urrent singular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-129600" y="3452760"/>
            <a:ext cx="8840160" cy="3237480"/>
            <a:chOff x="-129600" y="3452760"/>
            <a:chExt cx="8840160" cy="3237480"/>
          </a:xfrm>
        </p:grpSpPr>
        <p:sp>
          <p:nvSpPr>
            <p:cNvPr id="64" name=""/>
            <p:cNvSpPr/>
            <p:nvPr/>
          </p:nvSpPr>
          <p:spPr>
            <a:xfrm>
              <a:off x="298440" y="3452760"/>
              <a:ext cx="8412120" cy="1922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urrent 3D MHD solvers built on premise that volume is foliated with toroidal magnetic flux surfaces (eg. VMEC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), &amp;/or adapts magnetic grid to try to compensate (PIE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n not rigorously solve ideal MHD – error usually manifest as a lack of convergenc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3,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-129600" y="5622840"/>
              <a:ext cx="7974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S. P. Hirshman and Whitson, Phys. Fluids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3553 1983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A. H. Reiman and H. S. Greenside, J. Comput. Phys.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423 1988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H. J. Gardner and D. B. Blackwell, Nucl. Fus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2009 1992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S.R. Hudson, M.J. Hole and R.L. Dewar, Phys. Plasmas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052505 (200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Summary 2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33280" y="689040"/>
            <a:ext cx="871236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) Exploration of ITB-like configurations underway. Seeks to scan o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tilise toroidal/poloidal discretisation and determine whether any stable modes left in the limit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→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n →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6) Various algorithms to solve in arbitrary 3D geometry based on stepped pressure profile now being develop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27424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3D MHD field is, in general, chao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66560" y="1490760"/>
                <a:ext cx="4781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t xml:space="preserve">dζ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∇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∇</m:t>
                        </m:r>
                        <m:r>
                          <m:t xml:space="preserve">ζ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Φ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dΦ</m:t>
                        </m:r>
                      </m:num>
                      <m:den>
                        <m:r>
                          <m:t xml:space="preserve">dζ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∇</m:t>
                        </m:r>
                        <m:r>
                          <m:t xml:space="preserve">Φ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∇</m:t>
                        </m:r>
                        <m:r>
                          <m:t xml:space="preserve">ζ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98440" y="817560"/>
            <a:ext cx="9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lines can be described as a 1½ DOF Hamilton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69000" y="146844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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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t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  q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7440" y="250524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xisymmetric, Hamiltonian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tonom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e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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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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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6000" y="4840200"/>
            <a:ext cx="820728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n axis-symmetric , Hamiltononian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n-autonom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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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and the field is in general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non-integrabl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3200" indent="-16992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gnetic islands form at rational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, in which field is stochastic or chaotic, ergodically filling the island volu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3200" indent="-16992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finement lost in these is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3840" y="3440160"/>
            <a:ext cx="55227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irrational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godically passes through all points in magnetic surfa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ational (m/n) 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nes close on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9666" t="0" r="14729" b="0"/>
          <a:stretch/>
        </p:blipFill>
        <p:spPr>
          <a:xfrm>
            <a:off x="7569360" y="2487600"/>
            <a:ext cx="1361880" cy="1658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962680" y="4200480"/>
            <a:ext cx="315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c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ctions in H-1, courtesy S. Ku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2040" y="-36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sufficiently irrational magnetic flux surfaces survive 3D perturb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5960" y="1841400"/>
            <a:ext cx="83059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08080" indent="-208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rbs an integrable Hamiltonia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a torus (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lux surfac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a periodic functional perturba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0400" y="3060720"/>
            <a:ext cx="8813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3160" indent="-1731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M theory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lux surf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ufficiently far from resonance 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q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ufficiently irra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lux surfa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rvive fo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092240"/>
            <a:ext cx="7696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6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mogorov Arnold Moser (KAM) Theory (c. 196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368520" y="2552760"/>
                <a:ext cx="22082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εψ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228600" y="4809960"/>
            <a:ext cx="10202760" cy="2020680"/>
            <a:chOff x="228600" y="4809960"/>
            <a:chExt cx="10202760" cy="2020680"/>
          </a:xfrm>
        </p:grpSpPr>
        <p:sp>
          <p:nvSpPr>
            <p:cNvPr id="81" name=""/>
            <p:cNvSpPr/>
            <p:nvPr/>
          </p:nvSpPr>
          <p:spPr>
            <a:xfrm>
              <a:off x="228600" y="4809960"/>
              <a:ext cx="10202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ts val="4586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runo and Laurenc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. 1996, Comm. Pure Appl. Maths, XLIX, 717-764,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040" y="5267160"/>
              <a:ext cx="834084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rived existence theorems for sharp boundary solutions for tori for small departure from axisymmetr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6381720"/>
              <a:ext cx="7315200" cy="448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epped pressure profile solutions can exi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92280" y="3919680"/>
            <a:ext cx="8169120" cy="100872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ising number of good flux surfaces is the topic of advanced stellarator design S. R. Huds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hys. Rev. Lett. 89, 275003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54080" y="-360"/>
            <a:ext cx="94615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 map captures breakdown of su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63440"/>
            <a:ext cx="451800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of 3D field captured by standard 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3982" t="27477" r="53369" b="17358"/>
          <a:stretch/>
        </p:blipFill>
        <p:spPr>
          <a:xfrm>
            <a:off x="5067360" y="5113440"/>
            <a:ext cx="1703160" cy="165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1179360" y="2911320"/>
          <a:ext cx="2665440" cy="9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9360" y="2911320"/>
                    <a:ext cx="266544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97080" y="242100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’th toroidal orb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468520" y="3902040"/>
            <a:ext cx="27936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4720" y="4295880"/>
            <a:ext cx="323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 perturbation parame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10400" y="106524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068800" y="1319040"/>
            <a:ext cx="0" cy="167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91120" y="3000240"/>
            <a:ext cx="18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00480" y="276084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1320" y="201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083200" y="3224160"/>
            <a:ext cx="0" cy="167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6960" y="4905360"/>
            <a:ext cx="18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22800" y="5068800"/>
            <a:ext cx="0" cy="167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38640" y="6764400"/>
            <a:ext cx="181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53040" y="455148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91200" y="646128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9600" y="3500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9600" y="5192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94200" y="312264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=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94200" y="506556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=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05000" y="4976640"/>
            <a:ext cx="320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reasing destruction of flux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rcRect l="4751" t="42621" r="59764" b="9984"/>
          <a:stretch/>
        </p:blipFill>
        <p:spPr>
          <a:xfrm>
            <a:off x="5100480" y="3198960"/>
            <a:ext cx="1697040" cy="1699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rcRect l="4285" t="49528" r="67025" b="11271"/>
          <a:stretch/>
        </p:blipFill>
        <p:spPr>
          <a:xfrm>
            <a:off x="7445520" y="3262320"/>
            <a:ext cx="1698480" cy="1741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rcRect l="7144" t="51431" r="65359" b="11113"/>
          <a:stretch/>
        </p:blipFill>
        <p:spPr>
          <a:xfrm>
            <a:off x="7470720" y="5122800"/>
            <a:ext cx="1698840" cy="1735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rcRect l="7144" t="16670" r="68456" b="50162"/>
          <a:stretch/>
        </p:blipFill>
        <p:spPr>
          <a:xfrm>
            <a:off x="5097600" y="1305000"/>
            <a:ext cx="1658880" cy="1692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rcRect l="5477" t="54765" r="68335" b="12062"/>
          <a:stretch/>
        </p:blipFill>
        <p:spPr>
          <a:xfrm>
            <a:off x="7272360" y="1244520"/>
            <a:ext cx="1871640" cy="1778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H="1">
            <a:off x="4571640" y="1981080"/>
            <a:ext cx="12600" cy="387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880" y="6035760"/>
            <a:ext cx="453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k&gt;0.98 no surfaces (extending over a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4320" y="-360"/>
            <a:ext cx="8959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Current singularities exist in 3D equilib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400" y="762120"/>
            <a:ext cx="24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Ca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666880" y="762120"/>
                <a:ext cx="2743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∇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638680" y="838080"/>
                <a:ext cx="1143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666880" y="1390680"/>
                <a:ext cx="10764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397400" y="1382760"/>
                <a:ext cx="19303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J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839760" y="129528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568600"/>
            <a:ext cx="876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ationa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n 3D is a singular operator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|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move singular currents we requi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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303640" y="2003400"/>
                <a:ext cx="22968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∇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∇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J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83400" y="19303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8280" y="1981080"/>
            <a:ext cx="37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ant on field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2080" y="3451320"/>
            <a:ext cx="862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e singularity of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perator, Fourier expand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 magnetic coordinates (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440160" y="4264200"/>
            <a:ext cx="2057400" cy="2593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74600" y="4325760"/>
            <a:ext cx="33433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dial coordinate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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const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surfac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689360" y="4523760"/>
            <a:ext cx="1447920" cy="833400"/>
          </a:xfrm>
          <a:custGeom>
            <a:avLst/>
            <a:gdLst/>
            <a:ahLst/>
            <a:rect l="l" t="t" r="r" b="b"/>
            <a:pathLst>
              <a:path w="480" h="432">
                <a:moveTo>
                  <a:pt x="0" y="432"/>
                </a:moveTo>
                <a:lnTo>
                  <a:pt x="480" y="0"/>
                </a:lnTo>
              </a:path>
            </a:pathLst>
          </a:custGeom>
          <a:noFill/>
          <a:ln cap="sq"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21520" y="5641920"/>
            <a:ext cx="27414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roidal angle</a:t>
            </a:r>
            <a:r>
              <a:rPr b="0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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= const locus on constant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tor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4260960"/>
            <a:ext cx="2674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oloidal angle</a:t>
            </a:r>
            <a:r>
              <a:rPr b="0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= const locus on constant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tor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21080" y="4792680"/>
            <a:ext cx="1711080" cy="673200"/>
          </a:xfrm>
          <a:custGeom>
            <a:avLst/>
            <a:gdLst/>
            <a:ahLst/>
            <a:rect l="l" t="t" r="r" b="b"/>
            <a:pathLst>
              <a:path w="480" h="432">
                <a:moveTo>
                  <a:pt x="0" y="432"/>
                </a:moveTo>
                <a:lnTo>
                  <a:pt x="480" y="0"/>
                </a:lnTo>
              </a:path>
            </a:pathLst>
          </a:custGeom>
          <a:noFill/>
          <a:ln cap="sq"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043600" y="5746680"/>
            <a:ext cx="1110960" cy="100080"/>
          </a:xfrm>
          <a:custGeom>
            <a:avLst/>
            <a:gdLst/>
            <a:ahLst/>
            <a:rect l="l" t="t" r="r" b="b"/>
            <a:pathLst>
              <a:path w="480" h="432">
                <a:moveTo>
                  <a:pt x="0" y="432"/>
                </a:moveTo>
                <a:lnTo>
                  <a:pt x="480" y="0"/>
                </a:lnTo>
              </a:path>
            </a:pathLst>
          </a:custGeom>
          <a:noFill/>
          <a:ln cap="sq"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4600" y="5326200"/>
            <a:ext cx="324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toroidal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flux but field lines do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necessarily lie within this tor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9680" y="-360"/>
            <a:ext cx="88185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ularity of (B.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pera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136520" y="1544760"/>
                <a:ext cx="514836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∇</m:t>
                            </m:r>
                          </m:e>
                        </m:d>
                        <m:r>
                          <m:t xml:space="preserve">σ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∇</m:t>
                            </m:r>
                          </m:e>
                        </m:d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m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ζ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θ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t xml:space="preserve">i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ι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Φ</m:t>
                                    </m:r>
                                  </m:e>
                                </m:d>
                              </m:e>
                            </m:d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m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ζ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θ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271440" y="882720"/>
            <a:ext cx="85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ier expand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magnetic coordinates (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800" y="2808360"/>
            <a:ext cx="52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otational transform (=1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oloidal / toroidal transit of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160" y="4735440"/>
            <a:ext cx="55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n/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, and s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81200" y="5305320"/>
                <a:ext cx="63500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J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∇</m:t>
                        </m:r>
                      </m:e>
                    </m:d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∇</m:t>
                        </m:r>
                        <m:r>
                          <m:t xml:space="preserve">p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∇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71440" y="6016680"/>
            <a:ext cx="6078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qui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 for rational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ingularity remov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80920" y="3795840"/>
                <a:ext cx="33782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r>
                          <m:t xml:space="preserve">¥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f>
                          <m:num>
                            <m:r>
                              <m:t xml:space="preserve">dq</m:t>
                            </m:r>
                          </m:num>
                          <m:den>
                            <m:r>
                              <m:t xml:space="preserve">dz</m:t>
                            </m:r>
                          </m:den>
                        </m:f>
                      </m:e>
                    </m:nary>
                    <m:r>
                      <m:t xml:space="preserve">dzº</m:t>
                    </m:r>
                    <m:d>
                      <m:dPr>
                        <m:begChr m:val="⟨"/>
                        <m:endChr m:val="⟩"/>
                      </m:dPr>
                      <m:e>
                        <m:f>
                          <m:num>
                            <m:r>
                              <m:t xml:space="preserve">dq</m:t>
                            </m:r>
                          </m:num>
                          <m:den>
                            <m:r>
                              <m:t xml:space="preserve">dz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44" name="" descr=""/>
          <p:cNvPicPr/>
          <p:nvPr/>
        </p:nvPicPr>
        <p:blipFill>
          <a:blip r:embed="rId1"/>
          <a:srcRect l="9256" t="2332" r="8191" b="4665"/>
          <a:stretch/>
        </p:blipFill>
        <p:spPr>
          <a:xfrm>
            <a:off x="7311960" y="3370320"/>
            <a:ext cx="1832040" cy="1455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923880" y="483552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. ITER field li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18360" y="1430280"/>
            <a:ext cx="1620720" cy="19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: For a tokamak, onl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nzero, &amp; problem vanish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21:01:35Z</dcterms:created>
  <dc:creator>mhole</dc:creator>
  <dc:description/>
  <dc:language>en-US</dc:language>
  <cp:lastModifiedBy>Matthew Hole</cp:lastModifiedBy>
  <dcterms:modified xsi:type="dcterms:W3CDTF">2007-12-12T07:07:15Z</dcterms:modified>
  <cp:revision>662</cp:revision>
  <dc:subject/>
  <dc:title>Step</dc:title>
</cp:coreProperties>
</file>