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5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E92-9A6C-4F7B-AEBA-7A176F2A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A57-3D16-4D89-971F-0193762F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BB7-90AC-457D-92AC-E1931AA3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AF5-F4A8-4F81-BC6E-20F2C822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909-C581-49C0-8244-FEC10A4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A84-AAFB-488D-8E6E-E3C71B9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80A-8B4E-4261-B545-D6CDBAA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BD3-BFB2-441A-96B0-EB1CA7BB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217-7DE8-447B-BF57-12FAEFB8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CA4-DEFB-4FB1-8476-25635B2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654-969B-4312-9CF4-38B1343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34D-1025-4C7D-A734-0CBBE6E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524-8694-4089-9019-BE1A42216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960" y="1351080"/>
            <a:ext cx="88772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tepped pressure profile model for internal transport barrie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7320" y="3019320"/>
            <a:ext cx="740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M. J. Hol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S. R. Huds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R. L. Dewa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M. McGan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and R. Miill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72080" y="100080"/>
            <a:ext cx="3432240" cy="133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30240" y="-11160"/>
            <a:ext cx="3263760" cy="1684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36720" y="3505320"/>
            <a:ext cx="7696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1] Research School of Physical Sciences and Engineering, Australian  National University, ACT 0200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[2] Princeton Plasma Physics Laboratory, New Jersey 08543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64960" y="649116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ed by Australian Research Council Grant DP04527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397560"/>
            <a:ext cx="1981080" cy="46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040" y="5113440"/>
            <a:ext cx="80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knowledgements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ful discussion / input from Brian Taylor (FRS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obert MacKay (FRS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Gimblett, Allan Boo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ap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D Equilibrium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4880" y="934920"/>
            <a:ext cx="77724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3D plasmas, magnetic islands form on rational flux surfaces, destroying flux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is chaotic within magnetic islands, and ergodically fills island volu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… not all flux surfaces are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D MHD equilibria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t singu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35080" y="4486320"/>
            <a:ext cx="8907840" cy="2062800"/>
            <a:chOff x="235080" y="4486320"/>
            <a:chExt cx="8907840" cy="2062800"/>
          </a:xfrm>
        </p:grpSpPr>
        <p:sp>
          <p:nvSpPr>
            <p:cNvPr id="150" name=""/>
            <p:cNvSpPr/>
            <p:nvPr/>
          </p:nvSpPr>
          <p:spPr>
            <a:xfrm>
              <a:off x="235080" y="4726080"/>
              <a:ext cx="841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02760" y="4923000"/>
              <a:ext cx="8840160" cy="1626120"/>
              <a:chOff x="302760" y="4923000"/>
              <a:chExt cx="8840160" cy="1626120"/>
            </a:xfrm>
          </p:grpSpPr>
          <p:sp>
            <p:nvSpPr>
              <p:cNvPr id="152" name=""/>
              <p:cNvSpPr/>
              <p:nvPr/>
            </p:nvSpPr>
            <p:spPr>
              <a:xfrm>
                <a:off x="471600" y="5357880"/>
                <a:ext cx="8610480" cy="11912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 order to have a static (3D) equilibrium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’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) must be zero in the neighborhood of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ver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rational rotational transform,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flux surfaces must be relinquishe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2760" y="4923000"/>
                <a:ext cx="88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f. Grad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oroidal Containment of plasma,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hys. Plas.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(196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34800" y="4486320"/>
              <a:ext cx="30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blem B not new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0200" y="0"/>
            <a:ext cx="8217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olution: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ped-pressure Beltrami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1080" y="39859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rami eqn. is a linear elliptic PDE, solvable by variety of methods even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chaotic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been partially investigated mathematically [e.g. Bruno &amp; Laurence, Comm. Pure Appl. Math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L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17 (1996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profile not differentiabl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approximate a smooth profile arbitrarily closely, limited only by existence of invariant 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333440"/>
            <a:ext cx="54356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a mathematically well-defin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over finite reg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ns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ltrami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assum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variant 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720" y="1736640"/>
            <a:ext cx="676080" cy="658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4640" y="1393920"/>
            <a:ext cx="1092240" cy="13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56520" y="1047600"/>
            <a:ext cx="1404720" cy="2152800"/>
          </a:xfrm>
          <a:prstGeom prst="ellipse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1040" y="647640"/>
            <a:ext cx="1816200" cy="298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0400" y="33116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69160" y="1828440"/>
            <a:ext cx="1549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99280" y="2120760"/>
            <a:ext cx="1409760" cy="12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502320" y="2502000"/>
            <a:ext cx="1257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 balance on invariant 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discontinuous: [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(where 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] is jump across an invariant torus), 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ure, magnetic plus kinetic, is continuous: [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]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ity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h magnitude &amp;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ing numb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necessarily same on either side of invariant toru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 KAM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4840" y="6035760"/>
            <a:ext cx="806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structed as a variational problem, may have other applic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9640" y="4835520"/>
            <a:ext cx="789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Beltrami or force free field initially inspired by Astrophysical research, Chandrasekhar, Woltjer et 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ansport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26560"/>
            <a:ext cx="862164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s with radially localised regions of improved confinement with steep pressure gradie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ypical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notonic q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rationality plays a role (eg. appearance of q=2 can promote ITB formation in J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heoretical models rely on suppression of micro-instability induced transport by shea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s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offer an energetic reason for ITB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19183" t="11428" r="18154" b="51827"/>
          <a:stretch/>
        </p:blipFill>
        <p:spPr>
          <a:xfrm>
            <a:off x="1243080" y="4041720"/>
            <a:ext cx="5732280" cy="2522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19120" y="65214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. W. Connor et al, Nuc. Fus. 44, R1-R49,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4707" b="37504"/>
          <a:stretch/>
        </p:blipFill>
        <p:spPr>
          <a:xfrm>
            <a:off x="2058840" y="1111320"/>
            <a:ext cx="4083120" cy="249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3680" y="23184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MAST 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, PPCF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01880" y="4184640"/>
            <a:ext cx="4049280" cy="2444400"/>
            <a:chOff x="1901880" y="4184640"/>
            <a:chExt cx="4049280" cy="2444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rcRect l="0" t="0" r="0" b="40119"/>
            <a:stretch/>
          </p:blipFill>
          <p:spPr>
            <a:xfrm>
              <a:off x="1920960" y="4184640"/>
              <a:ext cx="4030200" cy="20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rcRect l="0" t="89658" r="0" b="-221"/>
            <a:stretch/>
          </p:blipFill>
          <p:spPr>
            <a:xfrm>
              <a:off x="1901880" y="6269400"/>
              <a:ext cx="4030560" cy="35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" descr=""/>
          <p:cNvPicPr/>
          <p:nvPr/>
        </p:nvPicPr>
        <p:blipFill>
          <a:blip r:embed="rId4"/>
          <a:srcRect l="3323" t="85779" r="45475" b="2867"/>
          <a:stretch/>
        </p:blipFill>
        <p:spPr>
          <a:xfrm>
            <a:off x="2300400" y="3497400"/>
            <a:ext cx="3881160" cy="46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96640" y="11826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77080" y="8110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2440" y="1123920"/>
            <a:ext cx="13356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752800" y="1533600"/>
            <a:ext cx="80964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160" y="78264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7085 at 29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al Model for ITB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haps a variational formulation (min. energy states) of a relaxed plasma-vacuum system may offer insight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T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9183" t="11428" r="18154" b="51827"/>
          <a:stretch/>
        </p:blipFill>
        <p:spPr>
          <a:xfrm>
            <a:off x="1192320" y="2352600"/>
            <a:ext cx="5732280" cy="252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52920" y="3246480"/>
            <a:ext cx="116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2400" y="3265560"/>
            <a:ext cx="0" cy="717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76840" y="3987720"/>
            <a:ext cx="698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5240" y="3986280"/>
            <a:ext cx="0" cy="496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7640" y="553716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l pressure profile, field in each region Beltr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11760" y="3263400"/>
            <a:ext cx="825480" cy="2273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76640" y="3962160"/>
            <a:ext cx="1917720" cy="1625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recent variational models of  ETB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680" y="1074600"/>
            <a:ext cx="840744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xed plasma-vacuum model has been recently applied to Edge Transport Barriers to describe the ELM cy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geometry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idal peeling modes initiate Taylor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relaxation flattens torodial current profile, further destabilising peeling mod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sing edge skin current also formed by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destabilising and stabilising terms determines width of the E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800" y="6251400"/>
            <a:ext cx="417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. G. Gimblett et al PRL, 035006, 96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im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03824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nvergent algorithm for constructing 3D equilib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50-year old fundamental mathematic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y relationship between magnitude of departure from axisymmetry and existence of 3D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better computational tool for rapid desig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40396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 explore relationship between ideal MHD stability of multiple interface model and internal transport barri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0200" y="3984480"/>
            <a:ext cx="8361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Group is investigating different methods to construct 3D equilibr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 Approach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of lines/shooting metho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Hamilton–Jacobi equation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agnetic potential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trial function. This talk will focus o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variational appro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00" y="6370560"/>
            <a:ext cx="70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.R. Hudson, M.J. Hole and R.L. Dewar, Phys. Plasm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052505 (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4, Taylor argued that turbulent plasmas with small resistivity, and viscosity relax to a Beltrami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504040" y="6024600"/>
                <a:ext cx="191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56840" y="4419720"/>
            <a:ext cx="50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olution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=0 of function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486400" y="4495680"/>
                <a:ext cx="1905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33520" y="4952880"/>
                <a:ext cx="2743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λB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</m:m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59200" y="2471760"/>
                <a:ext cx="290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07880" y="2647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er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6040" y="3892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 solved for minimu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fix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9720" y="33210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Helic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59200" y="3343320"/>
                <a:ext cx="183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τ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7378560" y="2492280"/>
            <a:ext cx="1363680" cy="1201680"/>
          </a:xfrm>
          <a:custGeom>
            <a:avLst/>
            <a:gdLst/>
            <a:ahLst/>
            <a:rect l="l" t="t" r="r" b="b"/>
            <a:pathLst>
              <a:path w="859" h="757">
                <a:moveTo>
                  <a:pt x="110" y="521"/>
                </a:moveTo>
                <a:cubicBezTo>
                  <a:pt x="68" y="512"/>
                  <a:pt x="58" y="486"/>
                  <a:pt x="35" y="453"/>
                </a:cubicBezTo>
                <a:cubicBezTo>
                  <a:pt x="27" y="421"/>
                  <a:pt x="11" y="396"/>
                  <a:pt x="1" y="364"/>
                </a:cubicBezTo>
                <a:cubicBezTo>
                  <a:pt x="6" y="270"/>
                  <a:pt x="0" y="216"/>
                  <a:pt x="62" y="151"/>
                </a:cubicBezTo>
                <a:cubicBezTo>
                  <a:pt x="73" y="119"/>
                  <a:pt x="98" y="97"/>
                  <a:pt x="124" y="76"/>
                </a:cubicBezTo>
                <a:cubicBezTo>
                  <a:pt x="147" y="58"/>
                  <a:pt x="144" y="49"/>
                  <a:pt x="172" y="35"/>
                </a:cubicBezTo>
                <a:cubicBezTo>
                  <a:pt x="220" y="11"/>
                  <a:pt x="291" y="7"/>
                  <a:pt x="343" y="0"/>
                </a:cubicBezTo>
                <a:cubicBezTo>
                  <a:pt x="487" y="7"/>
                  <a:pt x="493" y="9"/>
                  <a:pt x="604" y="41"/>
                </a:cubicBezTo>
                <a:cubicBezTo>
                  <a:pt x="668" y="84"/>
                  <a:pt x="722" y="123"/>
                  <a:pt x="775" y="179"/>
                </a:cubicBezTo>
                <a:cubicBezTo>
                  <a:pt x="803" y="208"/>
                  <a:pt x="814" y="249"/>
                  <a:pt x="837" y="281"/>
                </a:cubicBezTo>
                <a:cubicBezTo>
                  <a:pt x="854" y="332"/>
                  <a:pt x="847" y="309"/>
                  <a:pt x="858" y="350"/>
                </a:cubicBezTo>
                <a:cubicBezTo>
                  <a:pt x="853" y="446"/>
                  <a:pt x="859" y="537"/>
                  <a:pt x="803" y="617"/>
                </a:cubicBezTo>
                <a:cubicBezTo>
                  <a:pt x="793" y="648"/>
                  <a:pt x="769" y="696"/>
                  <a:pt x="741" y="713"/>
                </a:cubicBezTo>
                <a:cubicBezTo>
                  <a:pt x="736" y="720"/>
                  <a:pt x="734" y="729"/>
                  <a:pt x="727" y="734"/>
                </a:cubicBezTo>
                <a:cubicBezTo>
                  <a:pt x="715" y="742"/>
                  <a:pt x="686" y="748"/>
                  <a:pt x="686" y="748"/>
                </a:cubicBezTo>
                <a:cubicBezTo>
                  <a:pt x="560" y="744"/>
                  <a:pt x="477" y="757"/>
                  <a:pt x="371" y="720"/>
                </a:cubicBezTo>
                <a:cubicBezTo>
                  <a:pt x="291" y="644"/>
                  <a:pt x="203" y="583"/>
                  <a:pt x="110" y="521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3480" y="2873520"/>
            <a:ext cx="757080" cy="446040"/>
          </a:xfrm>
          <a:custGeom>
            <a:avLst/>
            <a:gdLst/>
            <a:ahLst/>
            <a:rect l="l" t="t" r="r" b="b"/>
            <a:pathLst>
              <a:path w="477" h="281">
                <a:moveTo>
                  <a:pt x="233" y="281"/>
                </a:moveTo>
                <a:cubicBezTo>
                  <a:pt x="194" y="253"/>
                  <a:pt x="154" y="225"/>
                  <a:pt x="110" y="206"/>
                </a:cubicBezTo>
                <a:cubicBezTo>
                  <a:pt x="97" y="200"/>
                  <a:pt x="83" y="197"/>
                  <a:pt x="69" y="192"/>
                </a:cubicBezTo>
                <a:cubicBezTo>
                  <a:pt x="62" y="190"/>
                  <a:pt x="48" y="185"/>
                  <a:pt x="48" y="185"/>
                </a:cubicBezTo>
                <a:cubicBezTo>
                  <a:pt x="33" y="162"/>
                  <a:pt x="15" y="153"/>
                  <a:pt x="0" y="130"/>
                </a:cubicBezTo>
                <a:cubicBezTo>
                  <a:pt x="5" y="73"/>
                  <a:pt x="8" y="49"/>
                  <a:pt x="21" y="0"/>
                </a:cubicBezTo>
                <a:cubicBezTo>
                  <a:pt x="76" y="2"/>
                  <a:pt x="130" y="3"/>
                  <a:pt x="185" y="7"/>
                </a:cubicBezTo>
                <a:cubicBezTo>
                  <a:pt x="228" y="10"/>
                  <a:pt x="213" y="48"/>
                  <a:pt x="247" y="55"/>
                </a:cubicBezTo>
                <a:cubicBezTo>
                  <a:pt x="285" y="63"/>
                  <a:pt x="325" y="60"/>
                  <a:pt x="364" y="62"/>
                </a:cubicBezTo>
                <a:cubicBezTo>
                  <a:pt x="402" y="73"/>
                  <a:pt x="423" y="107"/>
                  <a:pt x="446" y="137"/>
                </a:cubicBezTo>
                <a:cubicBezTo>
                  <a:pt x="455" y="164"/>
                  <a:pt x="463" y="192"/>
                  <a:pt x="473" y="219"/>
                </a:cubicBezTo>
                <a:cubicBezTo>
                  <a:pt x="471" y="231"/>
                  <a:pt x="477" y="250"/>
                  <a:pt x="466" y="254"/>
                </a:cubicBezTo>
                <a:cubicBezTo>
                  <a:pt x="436" y="266"/>
                  <a:pt x="402" y="256"/>
                  <a:pt x="370" y="260"/>
                </a:cubicBezTo>
                <a:cubicBezTo>
                  <a:pt x="324" y="265"/>
                  <a:pt x="279" y="276"/>
                  <a:pt x="233" y="281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61240" y="38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912080" y="33303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13880" y="294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13880" y="2492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9960" y="942840"/>
            <a:ext cx="88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pressure gradient regi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-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gnetic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 Stepped Pressure Profil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4160" y="2543040"/>
            <a:ext cx="439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ideal-MHD constrain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al MHD where flux and entropy are “frozen in” to each fluid element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. of constrai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constraints to b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-MH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aints, so generated states are ideal equilib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3162240"/>
            <a:ext cx="359424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3835440"/>
            <a:ext cx="1739880" cy="1041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0600" y="3884760"/>
            <a:ext cx="13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MHD: infinity of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3360" y="3757680"/>
            <a:ext cx="178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xed MHD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. of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5320" y="2746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s of allowed vari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92520" y="1843200"/>
                <a:ext cx="2791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41200" y="19717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remize tot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27680" y="584532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uskal–Kulsrud equilibria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ylo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70480" y="5629320"/>
            <a:ext cx="19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Taylor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6607200">
            <a:off x="4914720" y="4927320"/>
            <a:ext cx="1003320" cy="380880"/>
          </a:xfrm>
          <a:prstGeom prst="rightArrow">
            <a:avLst>
              <a:gd name="adj1" fmla="val 50000"/>
              <a:gd name="adj2" fmla="val 6585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380200">
            <a:off x="7117200" y="5199840"/>
            <a:ext cx="900360" cy="368280"/>
          </a:xfrm>
          <a:prstGeom prst="rightArrow">
            <a:avLst>
              <a:gd name="adj1" fmla="val 50000"/>
              <a:gd name="adj2" fmla="val 611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939960"/>
            <a:ext cx="81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cf. A. Bhattacharjee and R.L. Dewar, Phys. Flui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887 (1982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Energy principle with global in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0840" y="88920"/>
            <a:ext cx="8280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sed Taylor Relaxation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0240" y="901800"/>
            <a:ext cx="77724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HD equilibria in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posed solution for 3D MHD equilibria: stepped Beltrami 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odel applications to internal transport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ject 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al principle for a stepped pressure profil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ed Taylor cylindrical plas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valence to tearing mode trea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al/Taylor cylindrical 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internal transport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127400" y="4191120"/>
                <a:ext cx="26290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038480" y="5041800"/>
                <a:ext cx="3909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p>
                      <m:e>
                        <m:r>
                          <m:t xml:space="preserve">dτ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76640" y="5692680"/>
                <a:ext cx="16876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81440" y="43718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800" y="5057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ity func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9640" y="566748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unct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920" y="2006640"/>
            <a:ext cx="8750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ystem compr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sma reg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relaxed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separated by ideal MHD barri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ed by a vacu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sed in a perfectly conducting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515280" y="1917720"/>
            <a:ext cx="2463480" cy="2222640"/>
            <a:chOff x="6515280" y="1917720"/>
            <a:chExt cx="2463480" cy="2222640"/>
          </a:xfrm>
        </p:grpSpPr>
        <p:sp>
          <p:nvSpPr>
            <p:cNvPr id="243" name=""/>
            <p:cNvSpPr/>
            <p:nvPr/>
          </p:nvSpPr>
          <p:spPr>
            <a:xfrm>
              <a:off x="6515280" y="1917720"/>
              <a:ext cx="2463480" cy="2222640"/>
            </a:xfrm>
            <a:custGeom>
              <a:avLst/>
              <a:gdLst/>
              <a:ahLst/>
              <a:rect l="l" t="t" r="r" b="b"/>
              <a:pathLst>
                <a:path w="1766" h="1067">
                  <a:moveTo>
                    <a:pt x="183" y="811"/>
                  </a:moveTo>
                  <a:cubicBezTo>
                    <a:pt x="156" y="806"/>
                    <a:pt x="132" y="798"/>
                    <a:pt x="106" y="792"/>
                  </a:cubicBezTo>
                  <a:cubicBezTo>
                    <a:pt x="64" y="750"/>
                    <a:pt x="75" y="750"/>
                    <a:pt x="42" y="709"/>
                  </a:cubicBezTo>
                  <a:cubicBezTo>
                    <a:pt x="30" y="659"/>
                    <a:pt x="20" y="611"/>
                    <a:pt x="4" y="562"/>
                  </a:cubicBezTo>
                  <a:cubicBezTo>
                    <a:pt x="9" y="415"/>
                    <a:pt x="0" y="301"/>
                    <a:pt x="87" y="184"/>
                  </a:cubicBezTo>
                  <a:cubicBezTo>
                    <a:pt x="104" y="161"/>
                    <a:pt x="137" y="126"/>
                    <a:pt x="164" y="120"/>
                  </a:cubicBezTo>
                  <a:cubicBezTo>
                    <a:pt x="197" y="96"/>
                    <a:pt x="234" y="78"/>
                    <a:pt x="273" y="69"/>
                  </a:cubicBezTo>
                  <a:cubicBezTo>
                    <a:pt x="301" y="54"/>
                    <a:pt x="351" y="28"/>
                    <a:pt x="382" y="24"/>
                  </a:cubicBezTo>
                  <a:cubicBezTo>
                    <a:pt x="441" y="17"/>
                    <a:pt x="561" y="11"/>
                    <a:pt x="561" y="11"/>
                  </a:cubicBezTo>
                  <a:cubicBezTo>
                    <a:pt x="708" y="16"/>
                    <a:pt x="858" y="0"/>
                    <a:pt x="1002" y="30"/>
                  </a:cubicBezTo>
                  <a:cubicBezTo>
                    <a:pt x="1255" y="83"/>
                    <a:pt x="1399" y="171"/>
                    <a:pt x="1572" y="357"/>
                  </a:cubicBezTo>
                  <a:cubicBezTo>
                    <a:pt x="1608" y="396"/>
                    <a:pt x="1651" y="428"/>
                    <a:pt x="1681" y="472"/>
                  </a:cubicBezTo>
                  <a:cubicBezTo>
                    <a:pt x="1696" y="520"/>
                    <a:pt x="1720" y="566"/>
                    <a:pt x="1738" y="613"/>
                  </a:cubicBezTo>
                  <a:cubicBezTo>
                    <a:pt x="1748" y="666"/>
                    <a:pt x="1758" y="713"/>
                    <a:pt x="1764" y="766"/>
                  </a:cubicBezTo>
                  <a:cubicBezTo>
                    <a:pt x="1762" y="819"/>
                    <a:pt x="1766" y="873"/>
                    <a:pt x="1758" y="926"/>
                  </a:cubicBezTo>
                  <a:cubicBezTo>
                    <a:pt x="1753" y="958"/>
                    <a:pt x="1717" y="975"/>
                    <a:pt x="1694" y="990"/>
                  </a:cubicBezTo>
                  <a:cubicBezTo>
                    <a:pt x="1668" y="1007"/>
                    <a:pt x="1604" y="1016"/>
                    <a:pt x="1578" y="1022"/>
                  </a:cubicBezTo>
                  <a:cubicBezTo>
                    <a:pt x="1536" y="1032"/>
                    <a:pt x="1498" y="1054"/>
                    <a:pt x="1457" y="1067"/>
                  </a:cubicBezTo>
                  <a:cubicBezTo>
                    <a:pt x="1238" y="1063"/>
                    <a:pt x="1022" y="1053"/>
                    <a:pt x="804" y="1042"/>
                  </a:cubicBezTo>
                  <a:cubicBezTo>
                    <a:pt x="700" y="1023"/>
                    <a:pt x="601" y="981"/>
                    <a:pt x="497" y="965"/>
                  </a:cubicBezTo>
                  <a:cubicBezTo>
                    <a:pt x="478" y="952"/>
                    <a:pt x="459" y="950"/>
                    <a:pt x="439" y="939"/>
                  </a:cubicBezTo>
                  <a:cubicBezTo>
                    <a:pt x="388" y="910"/>
                    <a:pt x="342" y="874"/>
                    <a:pt x="286" y="856"/>
                  </a:cubicBezTo>
                  <a:cubicBezTo>
                    <a:pt x="255" y="826"/>
                    <a:pt x="227" y="811"/>
                    <a:pt x="183" y="811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48080" y="2299680"/>
              <a:ext cx="1031760" cy="1150200"/>
            </a:xfrm>
            <a:custGeom>
              <a:avLst/>
              <a:gdLst/>
              <a:ahLst/>
              <a:rect l="l" t="t" r="r" b="b"/>
              <a:pathLst>
                <a:path w="563" h="500">
                  <a:moveTo>
                    <a:pt x="121" y="396"/>
                  </a:moveTo>
                  <a:cubicBezTo>
                    <a:pt x="93" y="378"/>
                    <a:pt x="64" y="336"/>
                    <a:pt x="44" y="307"/>
                  </a:cubicBezTo>
                  <a:cubicBezTo>
                    <a:pt x="38" y="281"/>
                    <a:pt x="34" y="265"/>
                    <a:pt x="19" y="243"/>
                  </a:cubicBezTo>
                  <a:cubicBezTo>
                    <a:pt x="4" y="189"/>
                    <a:pt x="0" y="73"/>
                    <a:pt x="70" y="51"/>
                  </a:cubicBezTo>
                  <a:cubicBezTo>
                    <a:pt x="87" y="34"/>
                    <a:pt x="106" y="21"/>
                    <a:pt x="128" y="12"/>
                  </a:cubicBezTo>
                  <a:cubicBezTo>
                    <a:pt x="140" y="7"/>
                    <a:pt x="166" y="0"/>
                    <a:pt x="166" y="0"/>
                  </a:cubicBezTo>
                  <a:cubicBezTo>
                    <a:pt x="267" y="5"/>
                    <a:pt x="366" y="16"/>
                    <a:pt x="467" y="25"/>
                  </a:cubicBezTo>
                  <a:cubicBezTo>
                    <a:pt x="525" y="54"/>
                    <a:pt x="507" y="35"/>
                    <a:pt x="531" y="70"/>
                  </a:cubicBezTo>
                  <a:cubicBezTo>
                    <a:pt x="539" y="94"/>
                    <a:pt x="545" y="115"/>
                    <a:pt x="550" y="140"/>
                  </a:cubicBezTo>
                  <a:cubicBezTo>
                    <a:pt x="554" y="159"/>
                    <a:pt x="563" y="198"/>
                    <a:pt x="563" y="198"/>
                  </a:cubicBezTo>
                  <a:cubicBezTo>
                    <a:pt x="550" y="500"/>
                    <a:pt x="557" y="370"/>
                    <a:pt x="121" y="396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7000" y="2125800"/>
              <a:ext cx="1853280" cy="1578600"/>
            </a:xfrm>
            <a:custGeom>
              <a:avLst/>
              <a:gdLst/>
              <a:ahLst/>
              <a:rect l="l" t="t" r="r" b="b"/>
              <a:pathLst>
                <a:path w="1011" h="704">
                  <a:moveTo>
                    <a:pt x="180" y="487"/>
                  </a:moveTo>
                  <a:cubicBezTo>
                    <a:pt x="143" y="433"/>
                    <a:pt x="192" y="497"/>
                    <a:pt x="148" y="461"/>
                  </a:cubicBezTo>
                  <a:cubicBezTo>
                    <a:pt x="109" y="430"/>
                    <a:pt x="161" y="450"/>
                    <a:pt x="116" y="436"/>
                  </a:cubicBezTo>
                  <a:cubicBezTo>
                    <a:pt x="102" y="414"/>
                    <a:pt x="74" y="386"/>
                    <a:pt x="52" y="372"/>
                  </a:cubicBezTo>
                  <a:cubicBezTo>
                    <a:pt x="48" y="365"/>
                    <a:pt x="45" y="358"/>
                    <a:pt x="39" y="352"/>
                  </a:cubicBezTo>
                  <a:cubicBezTo>
                    <a:pt x="34" y="347"/>
                    <a:pt x="25" y="346"/>
                    <a:pt x="20" y="340"/>
                  </a:cubicBezTo>
                  <a:cubicBezTo>
                    <a:pt x="12" y="329"/>
                    <a:pt x="12" y="314"/>
                    <a:pt x="7" y="301"/>
                  </a:cubicBezTo>
                  <a:cubicBezTo>
                    <a:pt x="15" y="147"/>
                    <a:pt x="0" y="205"/>
                    <a:pt x="26" y="122"/>
                  </a:cubicBezTo>
                  <a:cubicBezTo>
                    <a:pt x="33" y="98"/>
                    <a:pt x="82" y="82"/>
                    <a:pt x="103" y="77"/>
                  </a:cubicBezTo>
                  <a:cubicBezTo>
                    <a:pt x="190" y="57"/>
                    <a:pt x="275" y="31"/>
                    <a:pt x="359" y="0"/>
                  </a:cubicBezTo>
                  <a:cubicBezTo>
                    <a:pt x="459" y="2"/>
                    <a:pt x="560" y="3"/>
                    <a:pt x="660" y="7"/>
                  </a:cubicBezTo>
                  <a:cubicBezTo>
                    <a:pt x="692" y="8"/>
                    <a:pt x="681" y="16"/>
                    <a:pt x="711" y="26"/>
                  </a:cubicBezTo>
                  <a:cubicBezTo>
                    <a:pt x="770" y="46"/>
                    <a:pt x="824" y="77"/>
                    <a:pt x="884" y="96"/>
                  </a:cubicBezTo>
                  <a:cubicBezTo>
                    <a:pt x="891" y="121"/>
                    <a:pt x="908" y="132"/>
                    <a:pt x="922" y="154"/>
                  </a:cubicBezTo>
                  <a:cubicBezTo>
                    <a:pt x="933" y="224"/>
                    <a:pt x="939" y="299"/>
                    <a:pt x="980" y="359"/>
                  </a:cubicBezTo>
                  <a:cubicBezTo>
                    <a:pt x="1011" y="458"/>
                    <a:pt x="997" y="420"/>
                    <a:pt x="986" y="615"/>
                  </a:cubicBezTo>
                  <a:cubicBezTo>
                    <a:pt x="984" y="646"/>
                    <a:pt x="962" y="669"/>
                    <a:pt x="935" y="679"/>
                  </a:cubicBezTo>
                  <a:cubicBezTo>
                    <a:pt x="910" y="704"/>
                    <a:pt x="918" y="704"/>
                    <a:pt x="871" y="704"/>
                  </a:cubicBezTo>
                  <a:cubicBezTo>
                    <a:pt x="764" y="704"/>
                    <a:pt x="658" y="700"/>
                    <a:pt x="551" y="698"/>
                  </a:cubicBezTo>
                  <a:cubicBezTo>
                    <a:pt x="532" y="692"/>
                    <a:pt x="513" y="685"/>
                    <a:pt x="494" y="679"/>
                  </a:cubicBezTo>
                  <a:cubicBezTo>
                    <a:pt x="481" y="675"/>
                    <a:pt x="455" y="666"/>
                    <a:pt x="455" y="666"/>
                  </a:cubicBezTo>
                  <a:cubicBezTo>
                    <a:pt x="434" y="652"/>
                    <a:pt x="422" y="636"/>
                    <a:pt x="398" y="628"/>
                  </a:cubicBezTo>
                  <a:cubicBezTo>
                    <a:pt x="367" y="604"/>
                    <a:pt x="326" y="582"/>
                    <a:pt x="289" y="570"/>
                  </a:cubicBezTo>
                  <a:cubicBezTo>
                    <a:pt x="266" y="547"/>
                    <a:pt x="243" y="529"/>
                    <a:pt x="212" y="519"/>
                  </a:cubicBezTo>
                  <a:cubicBezTo>
                    <a:pt x="199" y="510"/>
                    <a:pt x="187" y="502"/>
                    <a:pt x="174" y="493"/>
                  </a:cubicBezTo>
                  <a:cubicBezTo>
                    <a:pt x="148" y="476"/>
                    <a:pt x="145" y="477"/>
                    <a:pt x="180" y="48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48560" y="24732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47520" y="2473200"/>
              <a:ext cx="465840" cy="555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52880" y="268164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61120" y="261360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52880" y="35845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16520" y="323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53560" y="3237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4120" y="2542680"/>
              <a:ext cx="399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375240" y="3670200"/>
            <a:ext cx="16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177840"/>
            <a:ext cx="8280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sed Taylor Relaxation 2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200" y="6248520"/>
            <a:ext cx="53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idal and poloidal fluxes: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6760"/>
            <a:ext cx="939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each invariant tori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as ideal MHD barriers to relaxation, so that Taylor constraints are localized to subreg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relaxed”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22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unc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809880" y="838080"/>
                <a:ext cx="29908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57200" y="1447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y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41440" y="2068560"/>
                <a:ext cx="3336840" cy="29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[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776840" y="3276720"/>
            <a:ext cx="43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it normal to interfa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540320" y="3689280"/>
                <a:ext cx="2274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502920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roidal flu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during relax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33520" y="5638680"/>
                <a:ext cx="52527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  <m:e/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, </m:t>
                          </m:r>
                        </m:e>
                        <m:e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l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ant</m:t>
                          </m:r>
                        </m:e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ri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le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62120" y="3067200"/>
                <a:ext cx="232704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57200" y="617220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xpressions for perturbed flux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92960" y="2414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280" y="78912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t fixed constraint. Two possible choices a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1447920"/>
                <a:ext cx="2054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τ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5410080" y="3048120"/>
            <a:ext cx="2971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face displace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724280" y="1371600"/>
                <a:ext cx="2222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dτ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59720" y="23907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olu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924280" y="2414520"/>
                <a:ext cx="1022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638600" y="2390760"/>
                <a:ext cx="1936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916800" y="2379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65280" y="4950000"/>
                <a:ext cx="6359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: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∇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∇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e>
                                <m:sup/>
                              </m:sSup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∇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λξ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6406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Generalized Taylor Relaxed Cylindrical Plas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185920" y="-484200"/>
            <a:ext cx="3448080" cy="747720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15040" y="2224080"/>
            <a:ext cx="1108080" cy="198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86440" y="1928880"/>
            <a:ext cx="1495440" cy="2620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7960" y="2906640"/>
            <a:ext cx="282600" cy="67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30800" y="192996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122880" y="454932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284880" y="2215800"/>
            <a:ext cx="571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551280" y="29098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21520" y="305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70360" y="35830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4880" y="5194440"/>
            <a:ext cx="5744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519120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38120" y="1523880"/>
            <a:ext cx="3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1544760"/>
            <a:ext cx="66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11280" y="31766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6346800" y="1647360"/>
            <a:ext cx="434880" cy="157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792840" y="189828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813720" y="2451240"/>
            <a:ext cx="29520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781320" y="3265560"/>
            <a:ext cx="972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1520" y="272088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120" y="5873760"/>
            <a:ext cx="693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g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Lagrange multipli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essur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inte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afety factor on inner and outer sides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7600" y="35179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6160" y="407988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8240" y="443232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86979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lutions produce eigenvalu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11240" y="3110040"/>
                <a:ext cx="6877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461960" y="1459080"/>
                <a:ext cx="60627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247760" y="5238720"/>
                <a:ext cx="1201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3480" y="720720"/>
            <a:ext cx="8902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solutions are Bessel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116080"/>
            <a:ext cx="9144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nknowns: coeffs.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nterface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vacuum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N+1 unknowns can be cast as constraint s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75000" y="5653080"/>
            <a:ext cx="5769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igenvalu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7200" y="5416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16240" y="6521400"/>
            <a:ext cx="68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. R. Hudson, M. J. Hole, R. L. Dewar Phys. Of Plas., 14, 052205,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771560" y="4343400"/>
                <a:ext cx="5759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sSubSup>
                          <m:e>
                            <m:r>
                              <m:t xml:space="preserve">,</m:t>
                            </m:r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ol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ol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89080" y="4006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40760"/>
            <a:ext cx="914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envalues for Beltrami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2918" t="3216" r="5628" b="0"/>
          <a:stretch/>
        </p:blipFill>
        <p:spPr>
          <a:xfrm>
            <a:off x="130320" y="1603440"/>
            <a:ext cx="4205160" cy="3352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1154" t="5217" r="7422" b="0"/>
          <a:stretch/>
        </p:blipFill>
        <p:spPr>
          <a:xfrm>
            <a:off x="4481640" y="1668600"/>
            <a:ext cx="4411440" cy="3444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99880" y="879480"/>
            <a:ext cx="850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Constra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5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lti-valued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3814920" y="4354200"/>
            <a:ext cx="366480" cy="116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7920" y="5394240"/>
            <a:ext cx="43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: continuou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28880" y="1360440"/>
            <a:ext cx="1800" cy="350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65840" y="5873760"/>
            <a:ext cx="421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mon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 one po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0200" y="6297480"/>
            <a:ext cx="435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mon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 two po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r&lt;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200" y="1346040"/>
            <a:ext cx="262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versu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98600" y="132732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transform radial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357720" y="3579840"/>
            <a:ext cx="790560" cy="2362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2943000" y="2709360"/>
            <a:ext cx="1096920" cy="3537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02280" y="2972880"/>
            <a:ext cx="1996920" cy="253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02280" y="4056120"/>
            <a:ext cx="1852560" cy="187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062240" y="4062240"/>
            <a:ext cx="3289320" cy="2197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libria with positive shear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040" y="109872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5 layer equilibriu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2352600"/>
            <a:ext cx="4572000" cy="2776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8600" y="204804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1480" y="5540400"/>
            <a:ext cx="72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le smooth in plasma reg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must have some re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ptimized to model tokamak-like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648320" y="2505240"/>
            <a:ext cx="4114800" cy="3000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62160" y="1508040"/>
            <a:ext cx="69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, S. R. Hudson and R. L. Dewar, J. Plasma Phys., 72, 1167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422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ximating continuous pressure grad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560" y="135900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5 layer equilibriu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0772" t="0" r="3078" b="44247"/>
          <a:stretch/>
        </p:blipFill>
        <p:spPr>
          <a:xfrm>
            <a:off x="0" y="1981080"/>
            <a:ext cx="4805280" cy="2917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" y="1676520"/>
            <a:ext cx="324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s of poloidal flu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9230" t="55760" r="33851" b="0"/>
          <a:stretch/>
        </p:blipFill>
        <p:spPr>
          <a:xfrm>
            <a:off x="4846680" y="2039760"/>
            <a:ext cx="4114800" cy="3000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202440" y="2179800"/>
            <a:ext cx="2149560" cy="1046160"/>
          </a:xfrm>
          <a:custGeom>
            <a:avLst/>
            <a:gdLst/>
            <a:ahLst/>
            <a:rect l="l" t="t" r="r" b="b"/>
            <a:pathLst>
              <a:path w="1354" h="659">
                <a:moveTo>
                  <a:pt x="0" y="645"/>
                </a:moveTo>
                <a:cubicBezTo>
                  <a:pt x="88" y="619"/>
                  <a:pt x="177" y="594"/>
                  <a:pt x="230" y="549"/>
                </a:cubicBezTo>
                <a:cubicBezTo>
                  <a:pt x="283" y="504"/>
                  <a:pt x="285" y="435"/>
                  <a:pt x="317" y="376"/>
                </a:cubicBezTo>
                <a:cubicBezTo>
                  <a:pt x="349" y="317"/>
                  <a:pt x="387" y="248"/>
                  <a:pt x="422" y="198"/>
                </a:cubicBezTo>
                <a:cubicBezTo>
                  <a:pt x="457" y="148"/>
                  <a:pt x="485" y="107"/>
                  <a:pt x="528" y="74"/>
                </a:cubicBezTo>
                <a:cubicBezTo>
                  <a:pt x="571" y="41"/>
                  <a:pt x="627" y="0"/>
                  <a:pt x="682" y="2"/>
                </a:cubicBezTo>
                <a:cubicBezTo>
                  <a:pt x="737" y="4"/>
                  <a:pt x="814" y="50"/>
                  <a:pt x="859" y="88"/>
                </a:cubicBezTo>
                <a:cubicBezTo>
                  <a:pt x="904" y="126"/>
                  <a:pt x="924" y="183"/>
                  <a:pt x="955" y="232"/>
                </a:cubicBezTo>
                <a:cubicBezTo>
                  <a:pt x="986" y="281"/>
                  <a:pt x="1012" y="326"/>
                  <a:pt x="1042" y="381"/>
                </a:cubicBezTo>
                <a:cubicBezTo>
                  <a:pt x="1072" y="436"/>
                  <a:pt x="1086" y="517"/>
                  <a:pt x="1138" y="563"/>
                </a:cubicBezTo>
                <a:cubicBezTo>
                  <a:pt x="1190" y="609"/>
                  <a:pt x="1317" y="645"/>
                  <a:pt x="1354" y="6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12920" y="2201760"/>
            <a:ext cx="8322840" cy="4361040"/>
            <a:chOff x="412920" y="2201760"/>
            <a:chExt cx="8322840" cy="4361040"/>
          </a:xfrm>
        </p:grpSpPr>
        <p:sp>
          <p:nvSpPr>
            <p:cNvPr id="346" name=""/>
            <p:cNvSpPr/>
            <p:nvPr/>
          </p:nvSpPr>
          <p:spPr>
            <a:xfrm>
              <a:off x="412920" y="5737320"/>
              <a:ext cx="832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bitrary number of steps can be used to model “real” d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3D proviso 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arriers located at irrationa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205680" y="2201760"/>
              <a:ext cx="2151000" cy="2192400"/>
              <a:chOff x="6205680" y="2201760"/>
              <a:chExt cx="2151000" cy="2192400"/>
            </a:xfrm>
          </p:grpSpPr>
          <p:sp>
            <p:nvSpPr>
              <p:cNvPr id="348" name=""/>
              <p:cNvSpPr/>
              <p:nvPr/>
            </p:nvSpPr>
            <p:spPr>
              <a:xfrm>
                <a:off x="6205680" y="3218040"/>
                <a:ext cx="2062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421320" y="3107880"/>
                <a:ext cx="0" cy="128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10160" y="3110040"/>
                <a:ext cx="147600" cy="1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99280" y="2241720"/>
                <a:ext cx="4680" cy="2131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64240" y="2239920"/>
                <a:ext cx="4680" cy="2149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562800" y="3033720"/>
                <a:ext cx="0" cy="712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53080" y="3032280"/>
                <a:ext cx="954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649920" y="2925720"/>
                <a:ext cx="0" cy="101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38760" y="2925720"/>
                <a:ext cx="748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6000" y="2768760"/>
                <a:ext cx="856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6702120" y="2769840"/>
                <a:ext cx="4680" cy="1573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854760" y="2523960"/>
                <a:ext cx="1440" cy="8280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6778440" y="2629080"/>
                <a:ext cx="5040" cy="139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72320" y="2619360"/>
                <a:ext cx="950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07160" y="2260440"/>
                <a:ext cx="4680" cy="2125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34080" y="2255760"/>
                <a:ext cx="4680" cy="2133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77000" y="2224080"/>
                <a:ext cx="4680" cy="216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46840" y="2268720"/>
                <a:ext cx="4680" cy="2111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408720" y="2259000"/>
                <a:ext cx="6480" cy="2120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51520" y="2522520"/>
                <a:ext cx="777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923160" y="2403360"/>
                <a:ext cx="4680" cy="1238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999120" y="2332080"/>
                <a:ext cx="1800" cy="84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29280" y="2413080"/>
                <a:ext cx="795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167600" y="2201760"/>
                <a:ext cx="0" cy="1144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993000" y="2315880"/>
                <a:ext cx="171360" cy="3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65800" y="2206800"/>
                <a:ext cx="1080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19920" y="2254320"/>
                <a:ext cx="4680" cy="2130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93000" y="2249640"/>
                <a:ext cx="4680" cy="2138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64360" y="2236680"/>
                <a:ext cx="4680" cy="2148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8150040" y="3218040"/>
                <a:ext cx="2066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8140680" y="3107880"/>
                <a:ext cx="0" cy="128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7992720" y="3114720"/>
                <a:ext cx="150840" cy="1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8258040" y="2241720"/>
                <a:ext cx="5040" cy="2136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992720" y="2239920"/>
                <a:ext cx="4680" cy="214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999200" y="3033720"/>
                <a:ext cx="0" cy="712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913160" y="3032280"/>
                <a:ext cx="874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912080" y="2925720"/>
                <a:ext cx="0" cy="101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848360" y="2925720"/>
                <a:ext cx="666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779960" y="2768760"/>
                <a:ext cx="666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854840" y="2769840"/>
                <a:ext cx="4680" cy="1573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7705800" y="2523960"/>
                <a:ext cx="1440" cy="8280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778880" y="2629080"/>
                <a:ext cx="4680" cy="139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691040" y="2619360"/>
                <a:ext cx="9828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43680" y="2260440"/>
                <a:ext cx="5040" cy="2108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922880" y="2255760"/>
                <a:ext cx="4680" cy="2136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79960" y="2224080"/>
                <a:ext cx="4680" cy="216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710120" y="2268720"/>
                <a:ext cx="4680" cy="2116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148240" y="2259000"/>
                <a:ext cx="4680" cy="2120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627680" y="2522520"/>
                <a:ext cx="8244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7633800" y="2403360"/>
                <a:ext cx="4680" cy="1238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7560720" y="2332080"/>
                <a:ext cx="1800" cy="84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552800" y="2413080"/>
                <a:ext cx="795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394400" y="2201760"/>
                <a:ext cx="0" cy="1144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7397640" y="2315880"/>
                <a:ext cx="171360" cy="32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251480" y="2206800"/>
                <a:ext cx="14436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637040" y="2254320"/>
                <a:ext cx="4680" cy="2131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563960" y="2249640"/>
                <a:ext cx="4680" cy="2144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392600" y="2236680"/>
                <a:ext cx="4680" cy="215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470880" y="508464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iecewise smoo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178680" y="2143080"/>
            <a:ext cx="2221920" cy="1143000"/>
            <a:chOff x="6178680" y="2143080"/>
            <a:chExt cx="2221920" cy="1143000"/>
          </a:xfrm>
        </p:grpSpPr>
        <p:grpSp>
          <p:nvGrpSpPr>
            <p:cNvPr id="408" name=""/>
            <p:cNvGrpSpPr/>
            <p:nvPr/>
          </p:nvGrpSpPr>
          <p:grpSpPr>
            <a:xfrm>
              <a:off x="6178680" y="3139920"/>
              <a:ext cx="83520" cy="142920"/>
              <a:chOff x="6178680" y="3139920"/>
              <a:chExt cx="83520" cy="142920"/>
            </a:xfrm>
          </p:grpSpPr>
          <p:sp>
            <p:nvSpPr>
              <p:cNvPr id="409" name=""/>
              <p:cNvSpPr/>
              <p:nvPr/>
            </p:nvSpPr>
            <p:spPr>
              <a:xfrm>
                <a:off x="6190920" y="318132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21160" y="31399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81560" y="32828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8680" y="31399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380280" y="3041640"/>
              <a:ext cx="83520" cy="142920"/>
              <a:chOff x="6380280" y="3041640"/>
              <a:chExt cx="83520" cy="142920"/>
            </a:xfrm>
          </p:grpSpPr>
          <p:sp>
            <p:nvSpPr>
              <p:cNvPr id="414" name=""/>
              <p:cNvSpPr/>
              <p:nvPr/>
            </p:nvSpPr>
            <p:spPr>
              <a:xfrm>
                <a:off x="6392520" y="308304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22760" y="30416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83160" y="3184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0280" y="30416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518160" y="2955960"/>
              <a:ext cx="84240" cy="142920"/>
              <a:chOff x="6518160" y="2955960"/>
              <a:chExt cx="84240" cy="142920"/>
            </a:xfrm>
          </p:grpSpPr>
          <p:sp>
            <p:nvSpPr>
              <p:cNvPr id="419" name=""/>
              <p:cNvSpPr/>
              <p:nvPr/>
            </p:nvSpPr>
            <p:spPr>
              <a:xfrm>
                <a:off x="6530760" y="299736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61000" y="295596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21400" y="3098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18160" y="29559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599160" y="2855880"/>
              <a:ext cx="84240" cy="142920"/>
              <a:chOff x="6599160" y="2855880"/>
              <a:chExt cx="84240" cy="142920"/>
            </a:xfrm>
          </p:grpSpPr>
          <p:sp>
            <p:nvSpPr>
              <p:cNvPr id="424" name=""/>
              <p:cNvSpPr/>
              <p:nvPr/>
            </p:nvSpPr>
            <p:spPr>
              <a:xfrm>
                <a:off x="6611760" y="28972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2000" y="28558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02400" y="2998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99160" y="2855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667560" y="2692440"/>
              <a:ext cx="84240" cy="142920"/>
              <a:chOff x="6667560" y="2692440"/>
              <a:chExt cx="84240" cy="142920"/>
            </a:xfrm>
          </p:grpSpPr>
          <p:sp>
            <p:nvSpPr>
              <p:cNvPr id="429" name=""/>
              <p:cNvSpPr/>
              <p:nvPr/>
            </p:nvSpPr>
            <p:spPr>
              <a:xfrm>
                <a:off x="6680160" y="273384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10400" y="26924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70800" y="28353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67560" y="2692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738840" y="2546280"/>
              <a:ext cx="84240" cy="142920"/>
              <a:chOff x="6738840" y="2546280"/>
              <a:chExt cx="84240" cy="142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751440" y="25876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781680" y="25462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2080" y="26892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38840" y="25462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804000" y="2443320"/>
              <a:ext cx="84240" cy="142560"/>
              <a:chOff x="6804000" y="2443320"/>
              <a:chExt cx="84240" cy="142560"/>
            </a:xfrm>
          </p:grpSpPr>
          <p:sp>
            <p:nvSpPr>
              <p:cNvPr id="439" name=""/>
              <p:cNvSpPr/>
              <p:nvPr/>
            </p:nvSpPr>
            <p:spPr>
              <a:xfrm>
                <a:off x="6816600" y="2484360"/>
                <a:ext cx="5724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46840" y="244332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07240" y="25858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04000" y="2443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80320" y="2338560"/>
              <a:ext cx="83520" cy="142560"/>
              <a:chOff x="6880320" y="2338560"/>
              <a:chExt cx="83520" cy="142560"/>
            </a:xfrm>
          </p:grpSpPr>
          <p:sp>
            <p:nvSpPr>
              <p:cNvPr id="444" name=""/>
              <p:cNvSpPr/>
              <p:nvPr/>
            </p:nvSpPr>
            <p:spPr>
              <a:xfrm>
                <a:off x="6892560" y="2379600"/>
                <a:ext cx="568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22800" y="233856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83200" y="24811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80320" y="23385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6956280" y="2246400"/>
              <a:ext cx="84240" cy="142920"/>
              <a:chOff x="6956280" y="2246400"/>
              <a:chExt cx="84240" cy="142920"/>
            </a:xfrm>
          </p:grpSpPr>
          <p:sp>
            <p:nvSpPr>
              <p:cNvPr id="449" name=""/>
              <p:cNvSpPr/>
              <p:nvPr/>
            </p:nvSpPr>
            <p:spPr>
              <a:xfrm>
                <a:off x="6968880" y="22878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99120" y="22464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59520" y="2389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56280" y="2246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124760" y="2143080"/>
              <a:ext cx="84240" cy="142920"/>
              <a:chOff x="7124760" y="2143080"/>
              <a:chExt cx="84240" cy="142920"/>
            </a:xfrm>
          </p:grpSpPr>
          <p:sp>
            <p:nvSpPr>
              <p:cNvPr id="454" name=""/>
              <p:cNvSpPr/>
              <p:nvPr/>
            </p:nvSpPr>
            <p:spPr>
              <a:xfrm>
                <a:off x="7137360" y="21844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67600" y="21430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28000" y="22860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24760" y="21430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353360" y="2143080"/>
              <a:ext cx="84240" cy="142920"/>
              <a:chOff x="7353360" y="2143080"/>
              <a:chExt cx="84240" cy="142920"/>
            </a:xfrm>
          </p:grpSpPr>
          <p:sp>
            <p:nvSpPr>
              <p:cNvPr id="459" name=""/>
              <p:cNvSpPr/>
              <p:nvPr/>
            </p:nvSpPr>
            <p:spPr>
              <a:xfrm>
                <a:off x="7365960" y="21844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96200" y="21430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56600" y="22860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3360" y="21430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520040" y="2238480"/>
              <a:ext cx="84240" cy="142920"/>
              <a:chOff x="7520040" y="2238480"/>
              <a:chExt cx="84240" cy="142920"/>
            </a:xfrm>
          </p:grpSpPr>
          <p:sp>
            <p:nvSpPr>
              <p:cNvPr id="464" name=""/>
              <p:cNvSpPr/>
              <p:nvPr/>
            </p:nvSpPr>
            <p:spPr>
              <a:xfrm>
                <a:off x="7532640" y="22798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562880" y="22384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523280" y="2381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520040" y="22384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7594560" y="2344680"/>
              <a:ext cx="84240" cy="142920"/>
              <a:chOff x="7594560" y="2344680"/>
              <a:chExt cx="84240" cy="142920"/>
            </a:xfrm>
          </p:grpSpPr>
          <p:sp>
            <p:nvSpPr>
              <p:cNvPr id="469" name=""/>
              <p:cNvSpPr/>
              <p:nvPr/>
            </p:nvSpPr>
            <p:spPr>
              <a:xfrm>
                <a:off x="7607160" y="238608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37400" y="23446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97800" y="24876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94560" y="234468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674120" y="2451240"/>
              <a:ext cx="83520" cy="142560"/>
              <a:chOff x="7674120" y="2451240"/>
              <a:chExt cx="83520" cy="142560"/>
            </a:xfrm>
          </p:grpSpPr>
          <p:sp>
            <p:nvSpPr>
              <p:cNvPr id="474" name=""/>
              <p:cNvSpPr/>
              <p:nvPr/>
            </p:nvSpPr>
            <p:spPr>
              <a:xfrm>
                <a:off x="7686360" y="2492280"/>
                <a:ext cx="56880" cy="58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16600" y="24512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77000" y="259380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74120" y="24512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737480" y="2544840"/>
              <a:ext cx="84240" cy="142920"/>
              <a:chOff x="7737480" y="2544840"/>
              <a:chExt cx="84240" cy="142920"/>
            </a:xfrm>
          </p:grpSpPr>
          <p:sp>
            <p:nvSpPr>
              <p:cNvPr id="479" name=""/>
              <p:cNvSpPr/>
              <p:nvPr/>
            </p:nvSpPr>
            <p:spPr>
              <a:xfrm>
                <a:off x="7750080" y="258624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80320" y="25448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40720" y="268776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37480" y="25448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807320" y="2689200"/>
              <a:ext cx="84240" cy="142920"/>
              <a:chOff x="7807320" y="2689200"/>
              <a:chExt cx="84240" cy="142920"/>
            </a:xfrm>
          </p:grpSpPr>
          <p:sp>
            <p:nvSpPr>
              <p:cNvPr id="484" name=""/>
              <p:cNvSpPr/>
              <p:nvPr/>
            </p:nvSpPr>
            <p:spPr>
              <a:xfrm>
                <a:off x="7819920" y="27306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50160" y="26892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10560" y="28321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07320" y="26892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7883640" y="2859120"/>
              <a:ext cx="83520" cy="142920"/>
              <a:chOff x="7883640" y="2859120"/>
              <a:chExt cx="83520" cy="142920"/>
            </a:xfrm>
          </p:grpSpPr>
          <p:sp>
            <p:nvSpPr>
              <p:cNvPr id="489" name=""/>
              <p:cNvSpPr/>
              <p:nvPr/>
            </p:nvSpPr>
            <p:spPr>
              <a:xfrm>
                <a:off x="7895880" y="290052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26120" y="28591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86520" y="300204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83640" y="285912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954920" y="2965320"/>
              <a:ext cx="84240" cy="142920"/>
              <a:chOff x="7954920" y="2965320"/>
              <a:chExt cx="84240" cy="142920"/>
            </a:xfrm>
          </p:grpSpPr>
          <p:sp>
            <p:nvSpPr>
              <p:cNvPr id="494" name=""/>
              <p:cNvSpPr/>
              <p:nvPr/>
            </p:nvSpPr>
            <p:spPr>
              <a:xfrm>
                <a:off x="7967520" y="300672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97760" y="296532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58160" y="31082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54920" y="2965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107200" y="3038400"/>
              <a:ext cx="84240" cy="142920"/>
              <a:chOff x="8107200" y="3038400"/>
              <a:chExt cx="84240" cy="142920"/>
            </a:xfrm>
          </p:grpSpPr>
          <p:sp>
            <p:nvSpPr>
              <p:cNvPr id="499" name=""/>
              <p:cNvSpPr/>
              <p:nvPr/>
            </p:nvSpPr>
            <p:spPr>
              <a:xfrm>
                <a:off x="8119800" y="3079800"/>
                <a:ext cx="5724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50040" y="303840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10440" y="31813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07200" y="30384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317080" y="3143160"/>
              <a:ext cx="83520" cy="142920"/>
              <a:chOff x="8317080" y="3143160"/>
              <a:chExt cx="83520" cy="142920"/>
            </a:xfrm>
          </p:grpSpPr>
          <p:sp>
            <p:nvSpPr>
              <p:cNvPr id="504" name=""/>
              <p:cNvSpPr/>
              <p:nvPr/>
            </p:nvSpPr>
            <p:spPr>
              <a:xfrm>
                <a:off x="8329320" y="3184560"/>
                <a:ext cx="5688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359560" y="314316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319960" y="328608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17080" y="3143160"/>
                <a:ext cx="8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tral Analys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igenvalu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73040" y="1049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2680" indent="-20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decompose perturbed fie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terf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255760" y="1490760"/>
                <a:ext cx="1981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527720" y="1550880"/>
                <a:ext cx="1968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mθ</m:t>
                        </m:r>
                        <m:r>
                          <m:t xml:space="preserve">+</m:t>
                        </m:r>
                        <m:r>
                          <m:t xml:space="preserve">κz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731880" y="2041560"/>
            <a:ext cx="7772400" cy="838080"/>
            <a:chOff x="731880" y="2041560"/>
            <a:chExt cx="7772400" cy="838080"/>
          </a:xfrm>
        </p:grpSpPr>
        <p:sp>
          <p:nvSpPr>
            <p:cNvPr id="513" name=""/>
            <p:cNvSpPr/>
            <p:nvPr/>
          </p:nvSpPr>
          <p:spPr>
            <a:xfrm>
              <a:off x="731880" y="2041560"/>
              <a:ext cx="7772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e complex Fourier ampl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iodicity axial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1036440" y="2041560"/>
                  <a:ext cx="6098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" name=""/>
          <p:cNvSpPr/>
          <p:nvPr/>
        </p:nvSpPr>
        <p:spPr>
          <a:xfrm>
            <a:off x="521640" y="2800440"/>
            <a:ext cx="45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ODE’s solved: e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5396040" y="2790720"/>
                <a:ext cx="2952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533520" y="3282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(N + 1) unknown consta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,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371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C’s at wall and core eliminate 2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409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pp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 condition 2N times (inside + outsi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681200" y="4524480"/>
                <a:ext cx="5369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533520" y="5159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condition reduces to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283440" y="5165640"/>
          <a:ext cx="173988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5165640"/>
                    <a:ext cx="17398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236960" y="5757840"/>
            <a:ext cx="5942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shifted Alf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ontinuum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solutions for lambda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lindrical Example: St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784080"/>
            <a:ext cx="69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terfaces reduces to eigenvalu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93000" y="819000"/>
          <a:ext cx="1276200" cy="4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93000" y="819000"/>
                    <a:ext cx="1276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" descr=""/>
          <p:cNvPicPr/>
          <p:nvPr/>
        </p:nvPicPr>
        <p:blipFill>
          <a:blip r:embed="rId3"/>
          <a:srcRect l="11989" t="8823" r="5557" b="10593"/>
          <a:stretch/>
        </p:blipFill>
        <p:spPr>
          <a:xfrm>
            <a:off x="4789440" y="2824200"/>
            <a:ext cx="4213440" cy="3089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rcRect l="11345" t="8246" r="8478" b="11354"/>
          <a:stretch/>
        </p:blipFill>
        <p:spPr>
          <a:xfrm>
            <a:off x="412920" y="2878200"/>
            <a:ext cx="4093920" cy="3079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1314360"/>
            <a:ext cx="86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es calculations of Kaiser and Uecker, Q. Jl of Appl. Math. 57(1)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1360" y="24829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03920" y="2494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5280" y="21621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stability boundari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 for m=1 and 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87360" y="58752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-1712520" y="4202640"/>
            <a:ext cx="38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jump in pitch acros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72240" y="5776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4431960" y="386208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4040" y="6418440"/>
            <a:ext cx="56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J. Hole, S. R. Hudson, R. L. Dewar, Nuc. Fusion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62080" y="3430440"/>
            <a:ext cx="1459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le region interior to loc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50000" y="393048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le region exterior to loc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81280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oroidal plasma equilibrium in 3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3760" y="2085840"/>
                <a:ext cx="1544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Ñ´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39680" y="669960"/>
            <a:ext cx="848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del for toroidal fusion plasma steady state is force balance for total press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ed with A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re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relating magnetic fie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urrent dens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12960" y="2038320"/>
                <a:ext cx="1627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p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´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07000" y="2079720"/>
                <a:ext cx="1292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Ñ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803840" y="3009960"/>
            <a:ext cx="43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okamaks,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D due to coil ripple or instabiliti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18080" y="3811680"/>
            <a:ext cx="3046320" cy="304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7840" y="2986200"/>
            <a:ext cx="41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Stellarators—intrinsically 3D, i.e. no continuous symme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92280" y="4195800"/>
            <a:ext cx="3004920" cy="234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6520" y="250992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ields are in general fully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rcRect l="2008" t="7116" r="6674" b="7084"/>
          <a:stretch/>
        </p:blipFill>
        <p:spPr>
          <a:xfrm>
            <a:off x="4208400" y="2179800"/>
            <a:ext cx="4705560" cy="4429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rcRect l="4231" t="7201" r="6121" b="4341"/>
          <a:stretch/>
        </p:blipFill>
        <p:spPr>
          <a:xfrm>
            <a:off x="338040" y="3666960"/>
            <a:ext cx="2946600" cy="23749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chmarking multi-interface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9600" y="763560"/>
            <a:ext cx="538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wo similar plasma regions,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2280" y="2068560"/>
            <a:ext cx="419112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 curves match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imit of vanishing interface separ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26280" y="782640"/>
            <a:ext cx="1401840" cy="13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1044720"/>
            <a:ext cx="801720" cy="784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83480" y="1206360"/>
            <a:ext cx="485640" cy="44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89040" y="117648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46200" y="75240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021440" y="1239840"/>
            <a:ext cx="1206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021440" y="1066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510240" y="1033560"/>
            <a:ext cx="51120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23920" y="741240"/>
            <a:ext cx="3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2680" y="623736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 configuration stud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71560" y="4528800"/>
            <a:ext cx="1360440" cy="16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3824640" y="4008960"/>
            <a:ext cx="941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92840" y="5629320"/>
            <a:ext cx="833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520" y="4548240"/>
            <a:ext cx="30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5720" y="5865840"/>
            <a:ext cx="32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18760" y="26146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605480" y="3449520"/>
            <a:ext cx="4365360" cy="34084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62000" y="3659040"/>
            <a:ext cx="4000320" cy="30132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=2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 differs 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even i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00" y="955800"/>
            <a:ext cx="89964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stigate stability of plasma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ous across second plasma region (adjus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iminate singular current on interface (infinite current density) by removing jum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stable, 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ble. Physically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requir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w current shee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57760" y="6248520"/>
            <a:ext cx="424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11680" y="3897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44600" y="374652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703480" y="4038480"/>
            <a:ext cx="414360" cy="6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2560" y="3905280"/>
            <a:ext cx="35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23400" y="5592600"/>
            <a:ext cx="35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08080" y="4437000"/>
            <a:ext cx="3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79160" y="4403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35320" y="3646440"/>
            <a:ext cx="0" cy="28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10000" y="3665520"/>
            <a:ext cx="0" cy="28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59200" y="4938840"/>
            <a:ext cx="39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24320" y="4933800"/>
            <a:ext cx="39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ving the edge pressure (R. Mill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3440" y="687240"/>
            <a:ext cx="866952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the effect of resolving edge pressure gradi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plasma ideal with nonzero ramp in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olve explicitl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),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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Euler-Lagrange equation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nances must be handled explicitl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4960" y="6570720"/>
            <a:ext cx="4376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comb, Annals of Phys. 10, 232-267, 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7840" y="5521320"/>
            <a:ext cx="8953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-Taylor treatment allows resistive mod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ylor-ideal, and Taylor do no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17760" y="3112920"/>
          <a:ext cx="6935760" cy="1501560"/>
        </p:xfrm>
        <a:graphic>
          <a:graphicData uri="http://schemas.openxmlformats.org/drawingml/2006/table">
            <a:tbl>
              <a:tblPr/>
              <a:tblGrid>
                <a:gridCol w="1733760"/>
                <a:gridCol w="1734840"/>
                <a:gridCol w="1733760"/>
                <a:gridCol w="173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n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-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-Id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1428840" y="4665600"/>
            <a:ext cx="71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: helicity per field line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: helicity in each volume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7840" y="294804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6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 of generalized Taylor rel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5680" y="1066680"/>
            <a:ext cx="87883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unstable modes allowed by these generalized Taylor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des of ideal MHD, current driven except at interfaces (where pressure driven modes can ex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aring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470480" y="2562120"/>
            <a:ext cx="4673520" cy="4107600"/>
            <a:chOff x="4470480" y="2562120"/>
            <a:chExt cx="4673520" cy="4107600"/>
          </a:xfrm>
        </p:grpSpPr>
        <p:sp>
          <p:nvSpPr>
            <p:cNvPr id="589" name=""/>
            <p:cNvSpPr/>
            <p:nvPr/>
          </p:nvSpPr>
          <p:spPr>
            <a:xfrm>
              <a:off x="5181840" y="2978280"/>
              <a:ext cx="3593880" cy="25905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05720" y="3651480"/>
              <a:ext cx="1739880" cy="104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70960" y="3700440"/>
              <a:ext cx="133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al MHD: infinity of constra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83360" y="3573360"/>
              <a:ext cx="178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xed MHD: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ini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o. of constra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67480" y="2562120"/>
              <a:ext cx="42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aces of allowed variation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28040" y="5661000"/>
              <a:ext cx="2415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ruskal–Kulsrud equilibria —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nclud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aylor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70480" y="5445360"/>
              <a:ext cx="1971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lized Taylor equilib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6607200">
              <a:off x="4914360" y="4743000"/>
              <a:ext cx="1003320" cy="381240"/>
            </a:xfrm>
            <a:prstGeom prst="rightArrow">
              <a:avLst>
                <a:gd name="adj1" fmla="val 50000"/>
                <a:gd name="adj2" fmla="val 6579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380200">
              <a:off x="7117200" y="5015520"/>
              <a:ext cx="900000" cy="368280"/>
            </a:xfrm>
            <a:prstGeom prst="rightArrow">
              <a:avLst>
                <a:gd name="adj1" fmla="val 50000"/>
                <a:gd name="adj2" fmla="val 6109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66760" y="282888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work by Tass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estigate tearing mode stability of force-free equilib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D activity often observed in RFP’s with well defined value of m/n, equal to central resonance (quasi-singular helicity states). Taylor’s theory suggests entire plasma should relax via modes with multiple-helicity (m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0120" y="6521400"/>
            <a:ext cx="53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ssi , Hastie and Porcelli  Phys. Plas., 14, 092109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6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ring modes of force-free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1960" y="6521400"/>
            <a:ext cx="38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ssi et al Phys. Plas., 14, 092109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44525" t="19527" r="7144" b="29488"/>
          <a:stretch/>
        </p:blipFill>
        <p:spPr>
          <a:xfrm>
            <a:off x="355680" y="1027080"/>
            <a:ext cx="3962160" cy="31352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0440" y="5715000"/>
            <a:ext cx="8589960" cy="703800"/>
          </a:xfrm>
          <a:prstGeom prst="rect">
            <a:avLst/>
          </a:prstGeom>
          <a:solidFill>
            <a:srgbClr val="ff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generalize model for multiple interfaces, inclusion of vacuum and to enable pressure ju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rcRect l="11311" t="26033" r="48692" b="28413"/>
          <a:stretch/>
        </p:blipFill>
        <p:spPr>
          <a:xfrm>
            <a:off x="4734000" y="1168560"/>
            <a:ext cx="3419280" cy="29206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90440" y="4322880"/>
            <a:ext cx="867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si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wo plasma regions, no vacuum, and no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 presence of downward step in q (lamda) destablises innermost mode, and suggest possible cyclic mechanism for QSH relax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ring mode vs. Taylor 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4520" y="696960"/>
            <a:ext cx="434340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model for multiple interfaces, inclusion of vacuum and to enable pressure ju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earing mode and variational principle stability agree?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44360" y="3021120"/>
            <a:ext cx="4605480" cy="3836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4408560" y="3057480"/>
            <a:ext cx="4735440" cy="37450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284800" y="825480"/>
            <a:ext cx="3446280" cy="2124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5024520" y="177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98320" y="21826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86600" y="182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45480" y="801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169480" y="205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509320" y="2033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39480" y="2401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84280" y="3265560"/>
            <a:ext cx="11160" cy="32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14760" y="3273480"/>
            <a:ext cx="10800" cy="32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1960" y="2827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42840" y="349560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al eigen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414440" y="4081320"/>
            <a:ext cx="1634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92240" y="3700440"/>
            <a:ext cx="1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3560" y="58294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ring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51520" y="33973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942320" y="36036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06640" y="5977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595560" y="3308400"/>
            <a:ext cx="1116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58160" y="3282840"/>
            <a:ext cx="10800" cy="323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13040" y="2847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94240" y="414324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k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89920" y="534024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k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138720" y="3863880"/>
            <a:ext cx="34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7140600" y="5203800"/>
            <a:ext cx="20808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16400" y="5591160"/>
                <a:ext cx="1710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del for Internal Transport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47840" y="914040"/>
            <a:ext cx="5086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shear profile cylindrically periodic plasma assum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s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 computed for these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to toroidal mode number discretisation to tune system to eliminate unstable m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mit that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thing stable lef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over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pressure profil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699160" y="1195560"/>
            <a:ext cx="3444840" cy="4967280"/>
            <a:chOff x="5699160" y="1195560"/>
            <a:chExt cx="3444840" cy="496728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rcRect l="18589" t="0" r="34355" b="41422"/>
            <a:stretch/>
          </p:blipFill>
          <p:spPr>
            <a:xfrm>
              <a:off x="5699160" y="1195560"/>
              <a:ext cx="3444840" cy="32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"/>
            <a:srcRect l="17851" t="57489" r="30494" b="0"/>
            <a:stretch/>
          </p:blipFill>
          <p:spPr>
            <a:xfrm>
              <a:off x="6113520" y="4386600"/>
              <a:ext cx="2876400" cy="1776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38360" y="5918040"/>
                <a:ext cx="264024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449280" y="59072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 constrain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1421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rogress: Exploration of ITB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4735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rcRect l="3069" t="0" r="6023" b="0"/>
          <a:stretch/>
        </p:blipFill>
        <p:spPr>
          <a:xfrm>
            <a:off x="0" y="841320"/>
            <a:ext cx="4888080" cy="43243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rcRect l="0" t="56746" r="6226" b="0"/>
          <a:stretch/>
        </p:blipFill>
        <p:spPr>
          <a:xfrm>
            <a:off x="4861080" y="4875120"/>
            <a:ext cx="4282920" cy="14860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5445360" y="1128600"/>
            <a:ext cx="1901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&lt;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rcRect l="0" t="0" r="5883" b="49873"/>
          <a:stretch/>
        </p:blipFill>
        <p:spPr>
          <a:xfrm>
            <a:off x="4886280" y="3235320"/>
            <a:ext cx="4257720" cy="17064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 flipV="1">
            <a:off x="704880" y="3962520"/>
            <a:ext cx="66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0440" y="520236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51680" y="252576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0440" y="6461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0280" y="2733840"/>
            <a:ext cx="478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010280" y="5886360"/>
            <a:ext cx="12384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7200" y="1220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115920" y="-28440"/>
            <a:ext cx="93362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ther approaches to constructing 3D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33000" y="903240"/>
            <a:ext cx="85057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iterative algorithms to solve Beltrami fields in 3D geometry (S.Hud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eigenvalue, simultaneously solve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 (method of lines / shooting metho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just interface to reduce force im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lve Beltrami fields in 3D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urrent equilibria formulation. (M. McG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 treatment of Kaiser and Salat Phys. Plasmas 1(2), 1994, w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se an interface su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 interior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ior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force bal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DE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S which allow an analytic solution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method to construct toroidal flux surfaces, and establish robustness to pressur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3280" y="689040"/>
            <a:ext cx="871236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of proble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lux surfaces wanted for good con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 general, they are rare in 3D geo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Project 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sign a convergent algorithm for constructing 3D equilib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 ITB’s in a constrained minimum energy st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Variational model developed – frustrated Taylor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Analytic solutions presented for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ilibria with positive shear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: benchmarke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stable configuration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exist without jump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ppeal to discret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ed to be careful with resonances if trying to construct jump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multi-interface with continuo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bility of variational problem in multi-interfaces can be reduced to   stability of tearing + ideal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5480" y="820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 Equilibrium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744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3D plasmas, magnetic islands form on rational flux surfaces, destroying flux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is chaotic within magnetic islands, and ergodically fills island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unately… not all flux surfaces are destr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3D MHD equilibria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t singu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29600" y="3452760"/>
            <a:ext cx="8840160" cy="3237480"/>
            <a:chOff x="-129600" y="3452760"/>
            <a:chExt cx="8840160" cy="3237480"/>
          </a:xfrm>
        </p:grpSpPr>
        <p:sp>
          <p:nvSpPr>
            <p:cNvPr id="64" name=""/>
            <p:cNvSpPr/>
            <p:nvPr/>
          </p:nvSpPr>
          <p:spPr>
            <a:xfrm>
              <a:off x="298440" y="3452760"/>
              <a:ext cx="8412120" cy="192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urrent 3D MHD solvers built on premise that volume is foliated with toroidal magnetic flux surfaces (eg. VME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), &amp;/or adapts magnetic grid to try to compensate (PIE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n not rigorously solve ideal MHD – error usually manifest as a lack of convergenc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,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129600" y="5622840"/>
              <a:ext cx="7974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. P. Hirshman and Whitson, Phys. Fluid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3553 198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. H. Reiman and H. S. Greenside, J. Comput. Phys.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423 1988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H. J. Gardner and D. B. Blackwell, Nucl. Fus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2009 199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.R. Hudson, M.J. Hole and R.L. Dewar, Phys. Plasma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052505 (200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Summary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3280" y="689040"/>
            <a:ext cx="87123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 Exploration of ITB-like configurations underway. Seeks to scan 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tilise toroidal/poloidal discretisation and determine whether any stable modes left in the limit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 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6) Various algorithms to solve in arbitrary 3D geometry based on stepped pressure profile now being develo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2742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3D MHD field is, in general, cha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6560" y="1490760"/>
                <a:ext cx="4781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t xml:space="preserve">dζ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ζ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98440" y="817560"/>
            <a:ext cx="9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lines can be described as a 1½ DOF Hamil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9000" y="146844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q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440" y="25052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xisymmetric, Hamiltonia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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4840200"/>
            <a:ext cx="8207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n axis-symmetric , Hamiltononia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-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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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the field is in gener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n-integrabl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699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gnetic islands form at rational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, in which field is stochastic or chaotic, ergodically filling the island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699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finement lost in these is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440160"/>
            <a:ext cx="55227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rrational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odically passes through all points in magnetic surf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ational (m/n) 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s close on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9666" t="0" r="14729" b="0"/>
          <a:stretch/>
        </p:blipFill>
        <p:spPr>
          <a:xfrm>
            <a:off x="7569360" y="2487600"/>
            <a:ext cx="1361880" cy="165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62680" y="4200480"/>
            <a:ext cx="31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ctions in H-1, courtesy S. Ku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sufficiently irrational magnetic flux surfaces survive 3D perturb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960" y="1841400"/>
            <a:ext cx="83059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08080" indent="-208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rbs an integrable Hamiltoni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torus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a periodic functional perturba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400" y="3060720"/>
            <a:ext cx="8813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M theory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ufficiently far from resonance 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fficiently irr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ux su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rvive fo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92240"/>
            <a:ext cx="76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mogorov Arnold Moser (KAM) Theory (c.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68520" y="2552760"/>
                <a:ext cx="2208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ψ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228600" y="4809960"/>
            <a:ext cx="10202760" cy="2020680"/>
            <a:chOff x="228600" y="4809960"/>
            <a:chExt cx="10202760" cy="2020680"/>
          </a:xfrm>
        </p:grpSpPr>
        <p:sp>
          <p:nvSpPr>
            <p:cNvPr id="81" name=""/>
            <p:cNvSpPr/>
            <p:nvPr/>
          </p:nvSpPr>
          <p:spPr>
            <a:xfrm>
              <a:off x="228600" y="4809960"/>
              <a:ext cx="10202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ts val="4586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uno and Laurenc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. 1996, Comm. Pure Appl. Maths, XLIX, 717-764,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040" y="5267160"/>
              <a:ext cx="834084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rived existence theorems for sharp boundary solutions for tori for small departure from axisymmet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6381720"/>
              <a:ext cx="7315200" cy="448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epped pressure profile solutions can exi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92280" y="3919680"/>
            <a:ext cx="8169120" cy="100872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sing number of good flux surfaces is the topic of advanced stellarator design S. R. Huds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s. Rev. Lett. 89, 275003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54080" y="-360"/>
            <a:ext cx="9461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map captures breakdown of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63440"/>
            <a:ext cx="4518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3D field captured by standard 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3982" t="27477" r="53369" b="17358"/>
          <a:stretch/>
        </p:blipFill>
        <p:spPr>
          <a:xfrm>
            <a:off x="5067360" y="5113440"/>
            <a:ext cx="1703160" cy="16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179360" y="2911320"/>
          <a:ext cx="2665440" cy="9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9360" y="2911320"/>
                    <a:ext cx="266544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7080" y="242100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’th toroidal orb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68520" y="3902040"/>
            <a:ext cx="27936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720" y="429588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perturbation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0400" y="106524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68800" y="131904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91120" y="3000240"/>
            <a:ext cx="18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00480" y="276084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1320" y="201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83200" y="322416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6960" y="4905360"/>
            <a:ext cx="18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22800" y="5068800"/>
            <a:ext cx="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38640" y="6764400"/>
            <a:ext cx="181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53040" y="45514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1200" y="64612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600" y="3500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9600" y="519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4200" y="312264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4200" y="50655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5000" y="4976640"/>
            <a:ext cx="320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reasing destruction of flux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rcRect l="4751" t="42621" r="59764" b="9984"/>
          <a:stretch/>
        </p:blipFill>
        <p:spPr>
          <a:xfrm>
            <a:off x="5100480" y="3198960"/>
            <a:ext cx="1697040" cy="169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4285" t="49528" r="67025" b="11271"/>
          <a:stretch/>
        </p:blipFill>
        <p:spPr>
          <a:xfrm>
            <a:off x="7445520" y="3262320"/>
            <a:ext cx="169848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rcRect l="7144" t="51431" r="65359" b="11113"/>
          <a:stretch/>
        </p:blipFill>
        <p:spPr>
          <a:xfrm>
            <a:off x="7470720" y="5122800"/>
            <a:ext cx="1698840" cy="173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rcRect l="7144" t="16670" r="68456" b="50162"/>
          <a:stretch/>
        </p:blipFill>
        <p:spPr>
          <a:xfrm>
            <a:off x="5097600" y="130500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rcRect l="5477" t="54765" r="68335" b="12062"/>
          <a:stretch/>
        </p:blipFill>
        <p:spPr>
          <a:xfrm>
            <a:off x="7272360" y="1244520"/>
            <a:ext cx="1871640" cy="177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1640" y="1981080"/>
            <a:ext cx="12600" cy="387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880" y="6035760"/>
            <a:ext cx="45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&gt;0.98 no surfaces (extending over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320" y="-360"/>
            <a:ext cx="8959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Current singularities exist in 3D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400" y="762120"/>
            <a:ext cx="24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66880" y="762120"/>
                <a:ext cx="2743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∇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38680" y="838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66880" y="1390680"/>
                <a:ext cx="1076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97400" y="1382760"/>
                <a:ext cx="1930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39760" y="12952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6860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tion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3D is a singular operat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move singular currents we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03640" y="2003400"/>
                <a:ext cx="2296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3400" y="1930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8280" y="198108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 on field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080" y="3451320"/>
            <a:ext cx="862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singularity of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or, Fourier exp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magnetic coordinates (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40160" y="4264200"/>
            <a:ext cx="205740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4600" y="4325760"/>
            <a:ext cx="3343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l coordinate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ons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surfa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689360" y="4523760"/>
            <a:ext cx="1447920" cy="8334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1520" y="5641920"/>
            <a:ext cx="27414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roidal angle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onst locus on constan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or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4260960"/>
            <a:ext cx="2674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loidal angle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onst locus on constan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or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21080" y="4792680"/>
            <a:ext cx="1711080" cy="6732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43600" y="5746680"/>
            <a:ext cx="1110960" cy="10008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0"/>
                </a:lnTo>
              </a:path>
            </a:pathLst>
          </a:custGeom>
          <a:noFill/>
          <a:ln cap="sq"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600" y="5326200"/>
            <a:ext cx="324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oroidal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flux but field lines do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necessarily lie within this tor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9680" y="-360"/>
            <a:ext cx="8818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ularity of (B.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36520" y="1544760"/>
                <a:ext cx="51483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ζ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θ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ι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Φ</m:t>
                                    </m:r>
                                  </m:e>
                                </m:d>
                              </m:e>
                            </m: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ζ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θ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71440" y="882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exp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agnetic coordinates (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" y="2808360"/>
            <a:ext cx="52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otational transform (=1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oloidal / toroidal transit of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160" y="473544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n/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 and s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81200" y="5305320"/>
                <a:ext cx="6350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</m:e>
                    </m:d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71440" y="6016680"/>
            <a:ext cx="6078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qui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for rational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gularity remo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80920" y="3795840"/>
                <a:ext cx="3378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dz</m:t>
                            </m:r>
                          </m:den>
                        </m:f>
                      </m:e>
                    </m:nary>
                    <m:r>
                      <m:t xml:space="preserve">dzº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1"/>
          <a:srcRect l="9256" t="2332" r="8191" b="4665"/>
          <a:stretch/>
        </p:blipFill>
        <p:spPr>
          <a:xfrm>
            <a:off x="7311960" y="3370320"/>
            <a:ext cx="1832040" cy="1455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23880" y="483552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. ITER field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18360" y="1430280"/>
            <a:ext cx="162072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For a tokamak, o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zero, &amp; problem vanis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Matthew Hole</cp:lastModifiedBy>
  <dcterms:modified xsi:type="dcterms:W3CDTF">2007-12-12T07:07:15Z</dcterms:modified>
  <cp:revision>662</cp:revision>
  <dc:subject/>
  <dc:title>Step</dc:title>
</cp:coreProperties>
</file>