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7114-9A68-482B-BE1C-92CF52416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747D-C8ED-43FF-830E-6D90C4C06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AD2A-A2B4-483C-8943-665BDA9B1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6086-19C3-4ACC-914E-096DAB898A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05BD-8763-4C83-B1B7-1CA61AA09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79F4-0A79-44D5-8408-E964588A3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38D0-0D3B-4A57-8C57-E352A5A87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1B38-83DA-4A57-AE40-C95D0E84C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BD60-B7DC-4504-B549-A126C260A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5F1C-1012-4730-A17E-F350583E2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E858-4003-47E1-A956-9CAA4B318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8E99-596D-4C91-AF6C-20B6F861E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EDFA-6DD5-4FD1-8BC3-94D795911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ield aligned coordina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(for integrable and chaotic fields)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tuart Hud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304812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 aligned coordinates can increase the numerical accuracy when treating strongly anisotropic quantities; however, toroidicity and chaos can create problem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brief introduction to these matters will be given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irst an integrable magnetic fiel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74720" y="1227240"/>
          <a:ext cx="7899480" cy="50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227240"/>
                    <a:ext cx="789948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ield goes chaotic the continuous magnetic coordinates are broken, but isolated KAM surfaces still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1066680"/>
          <a:ext cx="843264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43264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an also construct “pseudo-magnetic-coordinates”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12880" y="988920"/>
          <a:ext cx="708660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988920"/>
                    <a:ext cx="708660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80880" y="3962520"/>
            <a:ext cx="2057400" cy="457200"/>
          </a:xfrm>
          <a:prstGeom prst="wedgeRectCallout">
            <a:avLst>
              <a:gd name="adj1" fmla="val 56481"/>
              <a:gd name="adj2" fmla="val -21458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nimize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3962520"/>
            <a:ext cx="2743200" cy="685800"/>
          </a:xfrm>
          <a:prstGeom prst="wedgeRectCallout">
            <a:avLst>
              <a:gd name="adj1" fmla="val -61055"/>
              <a:gd name="adj2" fmla="val -15648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lide periodic curve from O curve to X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: construction of nearby integrable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37200" cy="5638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6920" y="1066680"/>
            <a:ext cx="3657600" cy="914400"/>
          </a:xfrm>
          <a:prstGeom prst="wedgeRectCallout">
            <a:avLst>
              <a:gd name="adj1" fmla="val -61935"/>
              <a:gd name="adj2" fmla="val 1001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care plot shown in background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181480"/>
            <a:ext cx="3657600" cy="1295640"/>
          </a:xfrm>
          <a:prstGeom prst="wedgeRectCallout">
            <a:avLst>
              <a:gd name="adj1" fmla="val -66708"/>
              <a:gd name="adj2" fmla="val -821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care plot shown in nearby-integrable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666880"/>
            <a:ext cx="3657600" cy="914400"/>
          </a:xfrm>
          <a:prstGeom prst="wedgeRectCallout">
            <a:avLst>
              <a:gd name="adj1" fmla="val -61935"/>
              <a:gd name="adj2" fmla="val 1001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gnetic field for JT60U calculated by 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72120" y="990720"/>
            <a:ext cx="479556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ostcurves do not intersect, and may b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form a chaotic coordinate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298520"/>
            <a:ext cx="87631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fferent ghostcurves don’t 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eful selection of (p,q)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construct “chaotic-coordinat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ordinates cannot straighten chaos,                                                                                                  -- but coordinates that capture the                                                                                                                  invariant periodic sets come clo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419360" y="3657600"/>
            <a:ext cx="335268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772040" y="3886200"/>
            <a:ext cx="304920" cy="2819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695720" y="3657600"/>
            <a:ext cx="38124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8480" y="4113360"/>
            <a:ext cx="3691080" cy="2592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 work : can chaotic-ghost-coordinates simplify description of chaotic fiel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55680" y="1066680"/>
          <a:ext cx="77976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066680"/>
                    <a:ext cx="77976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48120" y="1828800"/>
            <a:ext cx="5133960" cy="4276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638440" y="2057400"/>
            <a:ext cx="5133960" cy="427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209680" y="2266920"/>
            <a:ext cx="5133960" cy="4286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828800" y="2581200"/>
            <a:ext cx="5133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4479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) A variety of magnetic / pseudo-magnetic coordinates for integrable, slightly perturbed and strongly chaotic fields are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) The invariant structures at the heart of these coordinates (ie. invariant flux/KAM surfaces, periodic orbits, cantori) are all very quick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) It is likely that field adapted coordinates may be very useful for numerical simulation; which type of coordinates depends on the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7-03-20T11:01:37Z</dcterms:modified>
  <cp:revision>563</cp:revision>
  <dc:subject/>
  <dc:title>Direct calculation of   using eigenvalue perturbation theory   S.R.Hudson  </dc:title>
</cp:coreProperties>
</file>