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4BDF-7281-4B5A-BE16-922399283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F66B-B8D6-4B33-B6E0-099C8A0E5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9062-88D1-4E1B-99AA-F4CEDA7E4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8199-44B8-424D-BC23-4D91257FF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879D-EADC-4C33-841F-CBD464B1F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5727-8860-4703-AF03-FA100E5B4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C92D-A7C5-407F-85AE-E5421A35F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E626-F1EB-4E40-A965-8451F0A09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27D0-3168-4599-BC04-C394E382C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9406-7CC5-4BF5-B9A0-9E6DB2D8C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9895-0CCF-4839-B68D-859D27C0E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F0D7-4D2A-4E19-9DF6-D48D57DE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52B-41D4-4A11-89BD-92C440A40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ield aligned coordin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(for integrable and chaotic fields)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Hu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304812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 aligned coordinates can increase the numerical accuracy when treating strongly anisotropic quantities; however, toroidicity and chaos can create problem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brief introduction to these matters will be given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irst an integrable magnetic fiel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74720" y="1227240"/>
          <a:ext cx="7899480" cy="50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227240"/>
                    <a:ext cx="789948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eld goes chaotic the continuous magnetic coordinates are broken, but isolated KAM surfaces still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066680"/>
          <a:ext cx="843264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43264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also construct “pseudo-magnetic-coordinates”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12880" y="988920"/>
          <a:ext cx="708660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988920"/>
                    <a:ext cx="708660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0880" y="3962520"/>
            <a:ext cx="2057400" cy="457200"/>
          </a:xfrm>
          <a:prstGeom prst="wedgeRectCallout">
            <a:avLst>
              <a:gd name="adj1" fmla="val 56481"/>
              <a:gd name="adj2" fmla="val -2145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imize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962520"/>
            <a:ext cx="2743200" cy="685800"/>
          </a:xfrm>
          <a:prstGeom prst="wedgeRectCallout">
            <a:avLst>
              <a:gd name="adj1" fmla="val -61055"/>
              <a:gd name="adj2" fmla="val -15648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lide periodic curve from O curve to X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: construction of nearby integrable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37200" cy="5638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1066680"/>
            <a:ext cx="3657600" cy="914400"/>
          </a:xfrm>
          <a:prstGeom prst="wedgeRectCallout">
            <a:avLst>
              <a:gd name="adj1" fmla="val -61935"/>
              <a:gd name="adj2" fmla="val 1001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care plot shown in background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3657600" cy="1295640"/>
          </a:xfrm>
          <a:prstGeom prst="wedgeRectCallout">
            <a:avLst>
              <a:gd name="adj1" fmla="val -66708"/>
              <a:gd name="adj2" fmla="val -821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care plot shown in nearby-integrabl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666880"/>
            <a:ext cx="3657600" cy="914400"/>
          </a:xfrm>
          <a:prstGeom prst="wedgeRectCallout">
            <a:avLst>
              <a:gd name="adj1" fmla="val -61935"/>
              <a:gd name="adj2" fmla="val 1001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gnetic field for JT60U calculated by 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72120" y="990720"/>
            <a:ext cx="479556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curves do not intersect, and may b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form a chaotic coordinat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298520"/>
            <a:ext cx="87631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fferent ghostcurves don’t 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eful selection of (p,q)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construct “chaotic-coordina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ordinates cannot straighten chaos,                                                                                                  -- but coordinates that capture the                                                                                                                  invariant periodic sets come cl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19360" y="3657600"/>
            <a:ext cx="335268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772040" y="3886200"/>
            <a:ext cx="304920" cy="2819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95720" y="3657600"/>
            <a:ext cx="38124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4113360"/>
            <a:ext cx="3691080" cy="2592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 : can chaotic-ghost-coordinates simplify description of chaotic fie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5680" y="1066680"/>
          <a:ext cx="7797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066680"/>
                    <a:ext cx="7797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8120" y="1828800"/>
            <a:ext cx="5133960" cy="4276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638440" y="2057400"/>
            <a:ext cx="5133960" cy="42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209680" y="2266920"/>
            <a:ext cx="513396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828800" y="2581200"/>
            <a:ext cx="5133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4479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) A variety of magnetic / pseudo-magnetic coordinates for integrable, slightly perturbed and strongly chaotic fields are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) The invariant structures at the heart of these coordinates (ie. invariant flux/KAM surfaces, periodic orbits, cantori) are all very quick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) It is likely that field adapted coordinates may be very useful for numerical simulation; which type of coordinates depends on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7-03-20T11:01:37Z</dcterms:modified>
  <cp:revision>563</cp:revision>
  <dc:subject/>
  <dc:title>Direct calculation of   using eigenvalue perturbation theory   S.R.Hudson  </dc:title>
</cp:coreProperties>
</file>