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3.wmf" ContentType="image/x-wmf"/>
  <Override PartName="/ppt/media/image8.jpeg" ContentType="image/jpeg"/>
  <Override PartName="/ppt/media/image10.wmf" ContentType="image/x-wmf"/>
  <Override PartName="/ppt/media/image2.png" ContentType="image/png"/>
  <Override PartName="/ppt/media/image12.wmf" ContentType="image/x-wmf"/>
  <Override PartName="/ppt/media/image17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3.jpeg" ContentType="image/jpeg"/>
  <Override PartName="/ppt/media/image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B765-8935-4BF1-B98B-3DA8A497E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21A7-8E07-445D-8A7B-EDF287A14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D776-D191-4E76-A39C-5BD8708CA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9951-5BEE-4208-8B6B-3A10E030A4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B189-52B6-404E-9043-DA66E86B8F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21AB-CD70-4EDC-96B9-EBE6C3235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86C2-9261-47D5-AAED-C87FBE5B2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FB63-041E-4799-AD02-FBBA84CE8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7075-B7D8-4F2B-B415-065C6EC46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3D6D-C148-46B4-8288-2D35B2806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A5A2-1CDD-4BBC-9EC2-3164CDB77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EFA3-CDFE-4A43-AFA1-5D2321042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EBDD-AA2B-4BCE-B9AD-992E384A2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emperature Gradients are supported by Cantori in Chaotic Magnetic Fields</a:t>
            </a:r>
            <a:br>
              <a:rPr sz="3200"/>
            </a:br>
            <a:br>
              <a:rPr sz="16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r. Stuart Hud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nd Dr. J. Breslau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inceton Plasma Physics Laboratory</a:t>
            </a: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2nd IAEA Fusion Energy Conference, 13-18 October 2008, Geneva, Switzer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228600" y="2705040"/>
          <a:ext cx="501984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05040"/>
                    <a:ext cx="501984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040440" y="2666880"/>
            <a:ext cx="2798640" cy="3824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19920" y="6400800"/>
            <a:ext cx="304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g. M3D simulation of CDX-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eld line transport is restricted by irrational field-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43600" y="2819520"/>
            <a:ext cx="3566880" cy="3581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86400" y="23623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incar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é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lot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(model field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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 next 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647712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oidal angl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7010280" y="4419360"/>
            <a:ext cx="3581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 coordin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85800"/>
            <a:ext cx="88394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irrational KAM surfaces disintegrate into invariant irrational se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ntor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hich continue to restrict field line transport even after the onset of cha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81480" y="2849400"/>
          <a:ext cx="1640160" cy="3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849400"/>
                    <a:ext cx="16401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715000" y="6019920"/>
          <a:ext cx="1639800" cy="35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6019920"/>
                    <a:ext cx="163980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724280" y="449568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43434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nobl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an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black do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1523880" y="1469880"/>
            <a:ext cx="5929560" cy="81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05320" y="16002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delete middle thi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761760" y="1066680"/>
            <a:ext cx="380880" cy="1143000"/>
          </a:xfrm>
          <a:prstGeom prst="downArrow">
            <a:avLst>
              <a:gd name="adj1" fmla="val 50000"/>
              <a:gd name="adj2" fmla="val 750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AM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761760" y="1599840"/>
            <a:ext cx="381240" cy="1143000"/>
          </a:xfrm>
          <a:prstGeom prst="downArrow">
            <a:avLst>
              <a:gd name="adj1" fmla="val 50000"/>
              <a:gd name="adj2" fmla="val 74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antor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0120" y="1447920"/>
            <a:ext cx="1447560" cy="380880"/>
          </a:xfrm>
          <a:prstGeom prst="leftArrow">
            <a:avLst>
              <a:gd name="adj1" fmla="val 50000"/>
              <a:gd name="adj2" fmla="val 950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lete b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981080"/>
            <a:ext cx="1447560" cy="381240"/>
          </a:xfrm>
          <a:prstGeom prst="leftArrow">
            <a:avLst>
              <a:gd name="adj1" fmla="val 50000"/>
              <a:gd name="adj2" fmla="val 949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ial b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8862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32767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35053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39625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42670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5812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32004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40384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39625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35812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36576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38098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51055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5029200"/>
            <a:ext cx="75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502920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4724280"/>
            <a:ext cx="152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457200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487692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4267080"/>
            <a:ext cx="15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5720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87692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50292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352680"/>
            <a:ext cx="3429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M surface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l field line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KAM surfac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≡can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stop, but do slow dow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adial field line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ori are approximated by high-order periodic orbit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914400"/>
            <a:ext cx="8839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igh-order (minimizing) periodic orbits are located using variational method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84320" y="1839960"/>
          <a:ext cx="8316720" cy="45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839960"/>
                    <a:ext cx="831672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host-surfaces constructed via action-gradient flow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tween the stable &amp; unstable periodic orbi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99072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Golé, J. Differ. Equation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140 1992., R. S. MacKay and M. R. Muldoon, Phys. Lett.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45, 199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1893960"/>
          <a:ext cx="8799480" cy="24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93960"/>
                    <a:ext cx="879948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7848720" cy="1523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4876920"/>
            <a:ext cx="990720" cy="838080"/>
          </a:xfrm>
          <a:prstGeom prst="wedgeRectCallout">
            <a:avLst>
              <a:gd name="adj1" fmla="val 183333"/>
              <a:gd name="adj2" fmla="val 7367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ni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r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867280"/>
            <a:ext cx="1143000" cy="762120"/>
          </a:xfrm>
          <a:prstGeom prst="wedgeRectCallout">
            <a:avLst>
              <a:gd name="adj1" fmla="val -153055"/>
              <a:gd name="adj2" fmla="val -2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nim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r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6095880"/>
            <a:ext cx="15242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5943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94360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943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981080" y="4648320"/>
          <a:ext cx="3054600" cy="62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648320"/>
                    <a:ext cx="30546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 flipH="1">
            <a:off x="914040" y="6095880"/>
            <a:ext cx="15238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eady state temperature is solved numerically;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sotherms coincide with ghost-surfa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 for high order periodic orbits “fill in the gaps” in the irrational canto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523880"/>
            <a:ext cx="883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s and isotherms are almost indistinguishab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3160" y="2646360"/>
          <a:ext cx="4327560" cy="37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2646360"/>
                    <a:ext cx="4327560" cy="37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00600" y="2619360"/>
            <a:ext cx="4162320" cy="41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848720" y="2973240"/>
          <a:ext cx="930240" cy="30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5">
                    <a:alphaModFix amt="75000"/>
                  </a:blip>
                  <a:stretch/>
                </p:blipFill>
                <p:spPr>
                  <a:xfrm>
                    <a:off x="7848720" y="2973240"/>
                    <a:ext cx="93024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257800" y="2666880"/>
            <a:ext cx="36576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2743200"/>
            <a:ext cx="914400" cy="304920"/>
          </a:xfrm>
          <a:prstGeom prst="wedgeRectCallout">
            <a:avLst>
              <a:gd name="adj1" fmla="val 18231"/>
              <a:gd name="adj2" fmla="val 11093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soth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82760" y="6324480"/>
            <a:ext cx="2599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oidal angl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6400800"/>
            <a:ext cx="3733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781000" y="4304880"/>
            <a:ext cx="3962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 coordin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610480" y="6477120"/>
            <a:ext cx="457200" cy="304560"/>
          </a:xfrm>
          <a:prstGeom prst="wedgeRectCallout">
            <a:avLst>
              <a:gd name="adj1" fmla="val -102430"/>
              <a:gd name="adj2" fmla="val -80731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629400" y="5792760"/>
          <a:ext cx="911160" cy="30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>
                    <a:alphaModFix amt="75000"/>
                  </a:blip>
                  <a:stretch/>
                </p:blipFill>
                <p:spPr>
                  <a:xfrm>
                    <a:off x="6629400" y="5792760"/>
                    <a:ext cx="91116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8610480" y="2209680"/>
            <a:ext cx="457200" cy="304920"/>
          </a:xfrm>
          <a:prstGeom prst="wedgeRectCallout">
            <a:avLst>
              <a:gd name="adj1" fmla="val -120138"/>
              <a:gd name="adj2" fmla="val 78648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3048120"/>
            <a:ext cx="1371600" cy="304560"/>
          </a:xfrm>
          <a:prstGeom prst="wedgeRectCallout">
            <a:avLst>
              <a:gd name="adj1" fmla="val -32986"/>
              <a:gd name="adj2" fmla="val 11145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host-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3048120"/>
            <a:ext cx="1371600" cy="304560"/>
          </a:xfrm>
          <a:prstGeom prst="wedgeRectCallout">
            <a:avLst>
              <a:gd name="adj1" fmla="val 110879"/>
              <a:gd name="adj2" fmla="val 106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host-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66880" y="3890880"/>
            <a:ext cx="5943600" cy="289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-coordinates simplifies temperature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685800"/>
            <a:ext cx="88394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s can be used as radial coordinate surfac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haotic-coordinates (s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3733920"/>
            <a:ext cx="15242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01760" y="1519200"/>
          <a:ext cx="830412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1760" y="1519200"/>
                    <a:ext cx="83041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28600" y="3854520"/>
          <a:ext cx="2514600" cy="86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854520"/>
                    <a:ext cx="251460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7162920" y="3863880"/>
          <a:ext cx="1523880" cy="4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2920" y="3863880"/>
                    <a:ext cx="15238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213080" y="3886200"/>
          <a:ext cx="1425600" cy="282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3080" y="3886200"/>
                    <a:ext cx="14256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914400"/>
            <a:ext cx="8839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haotic fields, anisotropic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heat transport is restric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irrational field lines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≡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 can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3733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447920"/>
            <a:ext cx="8839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polating a suitable selection of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ghost-surfaces allows chaotic-magnetic-coordina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e constru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2057400"/>
            <a:ext cx="8839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temperature takes the form </a:t>
            </a:r>
            <a:r>
              <a:rPr b="0" i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T=T(s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here s labels the chaotic coordinate surfac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n expression for the temperature gradient is deri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2895480"/>
            <a:ext cx="88394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a practical implementation of this theory, eg. in MHD codes, the following po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t be address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hat is the best selection of rational p/q ghost-surfaces for a given chaotic field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ow does the best selection of ghost-surfaces depend on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i="1" lang="el-GR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┴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ow should the ghost-surfaces be interpolated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5334120"/>
            <a:ext cx="88394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R. Hudson and J. Breslau, Phys. Rev. Lett.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095001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R. Hudson, Phys. Rev. E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056203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L. Dewar and A.B. Khorev, Physica D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66, 199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S. MacKay and M. R. Muldoon, Phys. Lett.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45, 199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Golé, J. Differ. Equation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140 199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R.S. MacKay, J. D. Meiss, and I. C. Percival, Physica D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 198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hudson</cp:lastModifiedBy>
  <dcterms:modified xsi:type="dcterms:W3CDTF">2008-10-10T13:00:48Z</dcterms:modified>
  <cp:revision>781</cp:revision>
  <dc:subject/>
  <dc:title>Direct calculation of   using eigenvalue perturbation theory   S.R.Hudson  </dc:title>
</cp:coreProperties>
</file>