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8.jpeg" ContentType="image/jpeg"/>
  <Override PartName="/ppt/media/image10.wmf" ContentType="image/x-wmf"/>
  <Override PartName="/ppt/media/image2.png" ContentType="image/png"/>
  <Override PartName="/ppt/media/image12.wmf" ContentType="image/x-wmf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3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BC09-22FD-4FD5-AEFA-21BA20F76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E678-BEDB-432E-92C9-1AA30093B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C873-C26F-4BE5-95EE-E1B466709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7EB5-71E7-4694-B082-A6B9DF517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FB1F-AB89-48AA-8E6B-C393F62AC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4968-0D03-4211-833F-3678FE77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A19C-3631-4EAF-AA95-B66BD910D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9189-C96A-4592-A254-3D2496B5C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2B85-6C28-48F3-958E-065560956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6875-170B-4400-BFA3-FD60DC1AA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0389-C894-4B47-8E25-D0ACE4110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948D-5850-4000-8BEE-75F7D2420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AC9-9CAD-4AFD-BD7A-968C0496F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Gradients are supported by Cantori in Chaotic Magnetic Fields</a:t>
            </a:r>
            <a:br>
              <a:rPr sz="3200"/>
            </a:br>
            <a:br>
              <a:rPr sz="1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tuart Hud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r. J. Breslau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2nd IAEA Fusion Energy Conference, 13-18 October 2008, Geneva, Switzer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28600" y="2705040"/>
          <a:ext cx="5019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05040"/>
                    <a:ext cx="5019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40440" y="2666880"/>
            <a:ext cx="2798640" cy="38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19920" y="6400800"/>
            <a:ext cx="304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g. M3D simulation of CDX-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eld line transport is restricted by irrational field-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23623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 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5268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ori are approximated by high-order periodic orbi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14400"/>
            <a:ext cx="8839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-order (minimizing) periodic orbits are located using variational metho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4320" y="1839960"/>
          <a:ext cx="831672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839960"/>
                    <a:ext cx="831672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893960"/>
          <a:ext cx="879948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93960"/>
                    <a:ext cx="879948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ady state temperature is solv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therms coincide with ghost-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 for high order periodic orbits “fill in the gaps” in the irrational canto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23880"/>
            <a:ext cx="883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3160" y="2646360"/>
          <a:ext cx="432756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646360"/>
                    <a:ext cx="432756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00600" y="261936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848720" y="2973240"/>
          <a:ext cx="9302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7848720" y="2973240"/>
                    <a:ext cx="9302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57800" y="266688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2743200"/>
            <a:ext cx="914400" cy="30492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82760" y="6324480"/>
            <a:ext cx="259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6400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781000" y="430488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6477120"/>
            <a:ext cx="457200" cy="304560"/>
          </a:xfrm>
          <a:prstGeom prst="wedgeRectCallout">
            <a:avLst>
              <a:gd name="adj1" fmla="val -102430"/>
              <a:gd name="adj2" fmla="val -8073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629400" y="5792760"/>
          <a:ext cx="91116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>
                    <a:alphaModFix amt="75000"/>
                  </a:blip>
                  <a:stretch/>
                </p:blipFill>
                <p:spPr>
                  <a:xfrm>
                    <a:off x="6629400" y="579276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610480" y="2209680"/>
            <a:ext cx="457200" cy="304920"/>
          </a:xfrm>
          <a:prstGeom prst="wedgeRectCallout">
            <a:avLst>
              <a:gd name="adj1" fmla="val -120138"/>
              <a:gd name="adj2" fmla="val 78648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048120"/>
            <a:ext cx="1371600" cy="30456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162920" y="3863880"/>
          <a:ext cx="15238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3863880"/>
                    <a:ext cx="15238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91440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haotic fields, anisotropic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eat transport is restri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rrational field lines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≡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733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44792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ng a suitable selection of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ghost-surfaces allows chaotic-magnetic-coordin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constru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057400"/>
            <a:ext cx="8839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emperature takes the form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=T(s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ere s labels the chaotic coordinate surfa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n expression for the temperature gradient is deri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895480"/>
            <a:ext cx="88394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practical implementation of this theory, eg. in MHD codes, the following po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be addres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hat is the best selection of rational p/q ghost-surfaces for a given chaotic fiel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does the best selection of ghost-surfaces depend o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┴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should the ghost-surfaces be interpola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334120"/>
            <a:ext cx="88394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 and J. Breslau, Phys. Rev. Lett.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95001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Phys. Rev. E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56203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L. Dewar and A.B. Khorev, Physica D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6, 19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R.S. MacKay, J. D. Meiss, and I. C. Percival, Physica D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 198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8-10-10T13:00:48Z</dcterms:modified>
  <cp:revision>781</cp:revision>
  <dc:subject/>
  <dc:title>Direct calculation of   using eigenvalue perturbation theory   S.R.Hudson  </dc:title>
</cp:coreProperties>
</file>