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1953-1953-4878-8FC4-7F4DA8638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CE1A-5629-4DA6-A6F1-33951C266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4FBB-BDDB-416C-9A7B-697A3B16D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056B-BF13-468A-8D54-91C9AE0982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29E0-B074-48BA-B025-6343F83DD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E403-B80C-429F-88FD-630447651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ED84-F17C-450D-B11C-E0616CB31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E6AD-B9CA-4532-A731-CE90762C8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0DE6-88E2-4ED4-A398-899AA0495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2C28-9303-4496-963B-70C842B1F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AC58-8CE4-453D-B303-6CD7E1406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1A74-35B9-469D-9B20-1A59BEFFA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DB0A-CAEF-4597-A69A-136184E35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 Gradients are supported by Cantori in Chaotic Magnetic Fields</a:t>
            </a:r>
            <a:br>
              <a:rPr sz="4800"/>
            </a:br>
            <a:br>
              <a:rPr sz="4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ing of Plasma Effects of Applied Resonant Magnetic Perturbations</a:t>
            </a:r>
            <a:br>
              <a:rPr sz="24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n Diego, CA, August 25-26, 2008.</a:t>
            </a:r>
            <a:br>
              <a:rPr sz="20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tuart Hu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33520" y="42670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estruction of the KAM surfaces, the cantori severely inhibit field line flow, and thus present barriers to heat transport in chaotic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otic magnetic coordinates may be adapted to the cant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otic coordinates recover a simple description of heat transport in chaotic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676520"/>
          <a:ext cx="727884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2788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sotropic transport is dominated by structure of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 adapted to the structure of the magnetic field, magnetic coordinates, provide elegant description of plasma dynamics and can enhance numerical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etic coordinates can be constructed globally when the field lines lie on nested toroidal surf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mperature takes the simple form T=T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bels flux surfa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fields, non-axisymmetry, instabilities . . . result in partially chaotic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mperature takes the general form T=T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haotic field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to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oken KAM surfaces) play an important role in restricting heat trans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tori are invariant sets, with irrational transform; cantorus = KAM surface with gaps/hole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tori are approximated by high-order minimizing periodic orbi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 adapted to the cantori, called chaotic coordinates, recover a simple description of th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s), where s labels chaotic coordina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tori restrict transport in chaotic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14600" y="725400"/>
            <a:ext cx="3657600" cy="798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533520"/>
            <a:ext cx="1828800" cy="609480"/>
          </a:xfrm>
          <a:prstGeom prst="wedgeRectCallout">
            <a:avLst>
              <a:gd name="adj1" fmla="val 77430"/>
              <a:gd name="adj2" fmla="val -135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AM t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complete b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838080"/>
            <a:ext cx="2514600" cy="609840"/>
          </a:xfrm>
          <a:prstGeom prst="wedgeRectCallout">
            <a:avLst>
              <a:gd name="adj1" fmla="val -66731"/>
              <a:gd name="adj2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+torus=cant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partial b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3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tori are leaky, but can severely restrict transpo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932360" cy="495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8277"/>
              <a:gd name="adj2" fmla="val -20520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895480"/>
            <a:ext cx="1752480" cy="533520"/>
          </a:xfrm>
          <a:prstGeom prst="wedgeRectCallout">
            <a:avLst>
              <a:gd name="adj1" fmla="val 80074"/>
              <a:gd name="adj2" fmla="val -2976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e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3296"/>
              <a:gd name="adj2" fmla="val -7031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5560"/>
              <a:gd name="adj2" fmla="val -23541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3023"/>
              <a:gd name="adj2" fmla="val -36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304920"/>
          </a:xfrm>
          <a:prstGeom prst="wedgeRectCallout">
            <a:avLst>
              <a:gd name="adj1" fmla="val -92606"/>
              <a:gd name="adj2" fmla="val -9062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97180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3048120"/>
            <a:ext cx="1219320" cy="190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nected cha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 K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ntori restrict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905120"/>
            <a:ext cx="4800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 Poincare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286000"/>
            <a:ext cx="1676520" cy="304920"/>
          </a:xfrm>
          <a:prstGeom prst="wedgeRectCallout">
            <a:avLst>
              <a:gd name="adj1" fmla="val -63449"/>
              <a:gd name="adj2" fmla="val 13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943600"/>
            <a:ext cx="2057400" cy="762120"/>
          </a:xfrm>
          <a:prstGeom prst="wedgeRectCallout">
            <a:avLst>
              <a:gd name="adj1" fmla="val 88657"/>
              <a:gd name="adj2" fmla="val -525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at flow restricted across 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 lines (in particular the cantori), are determined from Lagrangian variational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1398600"/>
          <a:ext cx="693108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98600"/>
                    <a:ext cx="69310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st representation of a trial curve is piecewise-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347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705720" y="82368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23888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77240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30592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83908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05720" y="189072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238880" y="166176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772400" y="1052280"/>
            <a:ext cx="5335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05920" y="823680"/>
            <a:ext cx="5331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781680" y="762120"/>
          <a:ext cx="21744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762120"/>
                    <a:ext cx="2174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839080" y="2043000"/>
          <a:ext cx="1954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2043000"/>
                    <a:ext cx="19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2280" y="833400"/>
          <a:ext cx="8183520" cy="595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833400"/>
                    <a:ext cx="818352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600200" y="1905120"/>
            <a:ext cx="3962520" cy="304560"/>
          </a:xfrm>
          <a:prstGeom prst="wedgeRectCallout">
            <a:avLst>
              <a:gd name="adj1" fmla="val 30087"/>
              <a:gd name="adj2" fmla="val 16354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tion integral integrated piecewise analy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343400"/>
            <a:ext cx="2133720" cy="914400"/>
          </a:xfrm>
          <a:prstGeom prst="wedgeRectCallout">
            <a:avLst>
              <a:gd name="adj1" fmla="val -96875"/>
              <a:gd name="adj2" fmla="val -3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essian cyclic tridiag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asily inverted O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itial guess by trackin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order convergen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8880" y="1066320"/>
            <a:ext cx="533520" cy="838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066680"/>
            <a:ext cx="5335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772400" y="1143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47640" y="3581280"/>
            <a:ext cx="784872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71600" y="5791320"/>
            <a:ext cx="2133720" cy="609480"/>
          </a:xfrm>
          <a:prstGeom prst="wedgeRectCallout">
            <a:avLst>
              <a:gd name="adj1" fmla="val 99106"/>
              <a:gd name="adj2" fmla="val -13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stable X curv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tion minim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2578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276720"/>
            <a:ext cx="2133720" cy="609480"/>
          </a:xfrm>
          <a:prstGeom prst="wedgeRectCallout">
            <a:avLst>
              <a:gd name="adj1" fmla="val -43305"/>
              <a:gd name="adj2" fmla="val 26666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ble O curv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tion mini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ost surfaces are constructed by deforming the stable periodic orbit into the unstable periodic or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447920"/>
          <a:ext cx="8696160" cy="21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69616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dy state heat transport is solved numer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52480" y="1295280"/>
          <a:ext cx="76849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295280"/>
                    <a:ext cx="76849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29560" cy="682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5448240"/>
            <a:ext cx="2438640" cy="800280"/>
          </a:xfrm>
          <a:prstGeom prst="borderCallout1">
            <a:avLst>
              <a:gd name="adj1" fmla="val 18750"/>
              <a:gd name="adj2" fmla="val -8333"/>
              <a:gd name="adj3" fmla="val -45041"/>
              <a:gd name="adj4" fmla="val 13730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 line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os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152960"/>
            <a:ext cx="2438640" cy="799920"/>
          </a:xfrm>
          <a:prstGeom prst="borderCallout1">
            <a:avLst>
              <a:gd name="adj1" fmla="val 18750"/>
              <a:gd name="adj2" fmla="val -8333"/>
              <a:gd name="adj3" fmla="val 21231"/>
              <a:gd name="adj4" fmla="val 133138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ck dot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19040"/>
            <a:ext cx="2438280" cy="800280"/>
          </a:xfrm>
          <a:prstGeom prst="borderCallout1">
            <a:avLst>
              <a:gd name="adj1" fmla="val 18750"/>
              <a:gd name="adj2" fmla="val -8333"/>
              <a:gd name="adj3" fmla="val 139879"/>
              <a:gd name="adj4" fmla="val 13808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ck line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280" y="917640"/>
          <a:ext cx="244476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7640"/>
                    <a:ext cx="24447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6248520"/>
            <a:ext cx="6095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76320"/>
            <a:ext cx="60958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257800" y="5486400"/>
          <a:ext cx="160020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5257800" y="5486400"/>
                    <a:ext cx="1600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221600" y="380880"/>
          <a:ext cx="163332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>
                    <a:alphaModFix amt="50000"/>
                  </a:blip>
                  <a:stretch/>
                </p:blipFill>
                <p:spPr>
                  <a:xfrm>
                    <a:off x="7221600" y="380880"/>
                    <a:ext cx="163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48120" y="6324480"/>
            <a:ext cx="6095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52280"/>
            <a:ext cx="60958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6400800"/>
            <a:ext cx="761760" cy="380880"/>
          </a:xfrm>
          <a:prstGeom prst="wedgeRectCallout">
            <a:avLst>
              <a:gd name="adj1" fmla="val 183333"/>
              <a:gd name="adj2" fmla="val -8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8600"/>
            <a:ext cx="762120" cy="380880"/>
          </a:xfrm>
          <a:prstGeom prst="wedgeRectCallout">
            <a:avLst>
              <a:gd name="adj1" fmla="val 183333"/>
              <a:gd name="adj2" fmla="val -82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38680" y="2573280"/>
          <a:ext cx="990720" cy="32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>
                    <a:alphaModFix amt="50000"/>
                  </a:blip>
                  <a:stretch/>
                </p:blipFill>
                <p:spPr>
                  <a:xfrm>
                    <a:off x="5638680" y="257328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mperature profile is a smoothed devils staircase for strongly anisotropic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38760" y="990720"/>
            <a:ext cx="4000320" cy="2597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3992400"/>
            <a:ext cx="8610480" cy="286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81160" y="1436760"/>
          <a:ext cx="3174840" cy="24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" y="1436760"/>
                    <a:ext cx="31748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581280" y="1600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19920"/>
            <a:ext cx="11430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=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6019920"/>
            <a:ext cx="11430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=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6019920"/>
            <a:ext cx="18288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tor’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886200"/>
            <a:ext cx="2286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4120" y="2611440"/>
          <a:ext cx="114300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61144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8-08-21T17:22:29Z</dcterms:modified>
  <cp:revision>605</cp:revision>
  <dc:subject/>
  <dc:title>Direct calculation of   using eigenvalue perturbation theory   S.R.Hudson  </dc:title>
</cp:coreProperties>
</file>