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10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14.wmf" ContentType="image/x-wmf"/>
  <Override PartName="/ppt/media/image27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20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media/image25.wmf" ContentType="image/x-wmf"/>
  <Override PartName="/ppt/media/image23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2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EF4B-96DB-4E73-A543-9445990EE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D45F-2E00-4DDA-AF1B-D0D65BCF0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7742-AD5B-42AD-BD2B-C8A490B14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E13B-F5AD-47B9-A8BC-59073969A8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6AAF-FE34-4B1D-BCC9-7D519C1040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FD5A-CA34-4E7B-BCFD-A611D4CCC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2400-A420-4110-9AD1-DD41C78FE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F023-FA72-46BE-A589-16771AD59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4ABCC-3421-419D-B382-58EE9C91F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A4CE-23DA-490A-B62C-6F11EB93F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6E9A-BD1B-4D5F-AB42-69801628A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FF20-453F-4E1D-B3A5-C1EC546EF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3F0E-A2AC-4364-9A49-F1E538A7C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ing Chaos Via Constructing Almost Invariant Surfa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9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r. Stuart Hud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d  Prof. R.L. Dewar</a:t>
            </a:r>
            <a:br>
              <a:rPr sz="20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Dewar Symposium on (Equilibrium, ) Stability and Nonlinear dynamics of plasmas, 31 October 2009, Atlanta, GA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838080" y="1763640"/>
          <a:ext cx="7467840" cy="50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63640"/>
                    <a:ext cx="746784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1676520"/>
            <a:ext cx="89154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ing almost-invariant surfaces is useful for understanding chaotic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.g. for constructing nearby integrable fields, understanding transport through cha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otic magnetic coordinates show the promise of (approximatel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ing the simplicity of action-angle coordinates to chaotic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.g. the temperature becomes a surface function T=T(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host-surfaces have desirable properties (non-intersecting . . 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are very similar to quadratic-flux minimzing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t QFMin surfaces are much easier to constr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adratic-flux minimizing (QFMin) surfaces are a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tural extension of flux surfaces, defined for chao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war &amp; Meiss, Physica D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476 (1992); Dewar, Hudson &amp; Price, Phys. Lett. A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49 (1994)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war &amp; Khorev, Physica D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66 (199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udson &amp; Dewar, J. Plasma Phys.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361 (1996); Hudson &amp; Dewar, Phys. Lett. A (20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93680" y="1219320"/>
          <a:ext cx="879804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19320"/>
                    <a:ext cx="879804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4114800" y="5638680"/>
            <a:ext cx="4952880" cy="762120"/>
          </a:xfrm>
          <a:prstGeom prst="wedgeRoundRectCallout">
            <a:avLst>
              <a:gd name="adj1" fmla="val -24486"/>
              <a:gd name="adj2" fmla="val -7458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) normal-field, 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stant along pseudo-field lin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) rational surface = family of periodic pseudo-field lin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3) o.d.e. integration suitable for low-order periodic surfac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4038480"/>
            <a:ext cx="2819160" cy="533520"/>
          </a:xfrm>
          <a:prstGeom prst="wedgeRoundRectCallout">
            <a:avLst>
              <a:gd name="adj1" fmla="val -93976"/>
              <a:gd name="adj2" fmla="val -1934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t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oordinate dependenc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 Jacobian factor 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amily of low-order QFMin surfaces defines the </a:t>
            </a:r>
            <a:br>
              <a:rPr sz="2400"/>
            </a:b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est,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smooth, nearby-integrabl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3354480"/>
          <a:ext cx="7391520" cy="68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4480"/>
                    <a:ext cx="73915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52280" y="4135320"/>
            <a:ext cx="3200400" cy="226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943600" y="1266840"/>
            <a:ext cx="2895480" cy="1933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62120" y="1643040"/>
            <a:ext cx="3047760" cy="1023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87520" y="1633680"/>
            <a:ext cx="1620720" cy="118800"/>
          </a:xfrm>
          <a:custGeom>
            <a:avLst/>
            <a:gdLst/>
            <a:ahLst/>
            <a:rect l="l" t="t" r="r" b="b"/>
            <a:pathLst>
              <a:path w="1021" h="75">
                <a:moveTo>
                  <a:pt x="0" y="0"/>
                </a:moveTo>
                <a:cubicBezTo>
                  <a:pt x="35" y="9"/>
                  <a:pt x="152" y="40"/>
                  <a:pt x="215" y="52"/>
                </a:cubicBezTo>
                <a:cubicBezTo>
                  <a:pt x="278" y="64"/>
                  <a:pt x="324" y="69"/>
                  <a:pt x="377" y="72"/>
                </a:cubicBezTo>
                <a:cubicBezTo>
                  <a:pt x="430" y="75"/>
                  <a:pt x="476" y="74"/>
                  <a:pt x="534" y="72"/>
                </a:cubicBezTo>
                <a:cubicBezTo>
                  <a:pt x="592" y="70"/>
                  <a:pt x="666" y="66"/>
                  <a:pt x="723" y="61"/>
                </a:cubicBezTo>
                <a:cubicBezTo>
                  <a:pt x="780" y="56"/>
                  <a:pt x="825" y="49"/>
                  <a:pt x="875" y="40"/>
                </a:cubicBezTo>
                <a:cubicBezTo>
                  <a:pt x="925" y="31"/>
                  <a:pt x="991" y="11"/>
                  <a:pt x="1021" y="4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3716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oinca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514600"/>
            <a:ext cx="2895840" cy="457200"/>
          </a:xfrm>
          <a:prstGeom prst="leftRightArrow">
            <a:avLst>
              <a:gd name="adj1" fmla="val 55204"/>
              <a:gd name="adj2" fmla="val 5210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riginal a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2819520"/>
            <a:ext cx="2895480" cy="457200"/>
          </a:xfrm>
          <a:prstGeom prst="leftRightArrow">
            <a:avLst>
              <a:gd name="adj1" fmla="val 55204"/>
              <a:gd name="adj2" fmla="val 5210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raight pseudo-field a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75600" y="1828440"/>
            <a:ext cx="990360" cy="685800"/>
          </a:xfrm>
          <a:prstGeom prst="leftRightArrow">
            <a:avLst>
              <a:gd name="adj1" fmla="val 59037"/>
              <a:gd name="adj2" fmla="val 2660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ad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1371600"/>
            <a:ext cx="1523880" cy="762120"/>
          </a:xfrm>
          <a:prstGeom prst="wedgeRoundRectCallout">
            <a:avLst>
              <a:gd name="adj1" fmla="val -78856"/>
              <a:gd name="adj2" fmla="val -3562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it “coordina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FMin-surfa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rough is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6400800"/>
            <a:ext cx="3200400" cy="457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sland-phase control in H1 stell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udson &amp; Dewar, Phys. Lett. A 226,85 (199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5943600" y="4016520"/>
            <a:ext cx="3200400" cy="238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9920" y="6400800"/>
            <a:ext cx="3124080" cy="457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sland-healing in NCS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udson et al., Phys. Rev. Lett. 89,275003 (2002)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4038480"/>
            <a:ext cx="2133720" cy="304920"/>
          </a:xfrm>
          <a:prstGeom prst="wedgeRoundRectCallout">
            <a:avLst>
              <a:gd name="adj1" fmla="val -25148"/>
              <a:gd name="adj2" fmla="val 11041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ealed” equilibr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6019920"/>
            <a:ext cx="1828800" cy="304560"/>
          </a:xfrm>
          <a:prstGeom prst="wedgeRoundRectCallout">
            <a:avLst>
              <a:gd name="adj1" fmla="val 25523"/>
              <a:gd name="adj2" fmla="val -12135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riginal equilibr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14400" y="846000"/>
          <a:ext cx="7238880" cy="37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846000"/>
                    <a:ext cx="723888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eld-line transport is restricted by irrational field-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43600" y="2819520"/>
            <a:ext cx="3566880" cy="3581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05520" y="2362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incar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é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lot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(model fie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647712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oidal angl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7010280" y="4419360"/>
            <a:ext cx="3581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 coordin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685800"/>
            <a:ext cx="88394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irrational KAM surfaces disintegrate into invariant irrational se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ntor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hich continue to restrict field-line transport even after the onset of cha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181480" y="2849400"/>
          <a:ext cx="1640160" cy="3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849400"/>
                    <a:ext cx="16401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715000" y="6019920"/>
          <a:ext cx="1639800" cy="35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6019920"/>
                    <a:ext cx="163980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724280" y="449568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43434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nobl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an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black do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1523880" y="1469880"/>
            <a:ext cx="5929560" cy="816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505320" y="16002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delete middle thi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761760" y="1066680"/>
            <a:ext cx="380880" cy="1143000"/>
          </a:xfrm>
          <a:prstGeom prst="downArrow">
            <a:avLst>
              <a:gd name="adj1" fmla="val 50000"/>
              <a:gd name="adj2" fmla="val 750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AM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761760" y="1599840"/>
            <a:ext cx="381240" cy="1143000"/>
          </a:xfrm>
          <a:prstGeom prst="downArrow">
            <a:avLst>
              <a:gd name="adj1" fmla="val 50000"/>
              <a:gd name="adj2" fmla="val 74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antor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1447920"/>
            <a:ext cx="1447560" cy="380880"/>
          </a:xfrm>
          <a:prstGeom prst="leftArrow">
            <a:avLst>
              <a:gd name="adj1" fmla="val 50000"/>
              <a:gd name="adj2" fmla="val 950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lete b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1981080"/>
            <a:ext cx="1447560" cy="381240"/>
          </a:xfrm>
          <a:prstGeom prst="leftArrow">
            <a:avLst>
              <a:gd name="adj1" fmla="val 50000"/>
              <a:gd name="adj2" fmla="val 949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ial b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38862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32767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35053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39625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42670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35812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2004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40384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96252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35812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36576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38098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51055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5029200"/>
            <a:ext cx="75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502920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4724280"/>
            <a:ext cx="152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457200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487692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267080"/>
            <a:ext cx="15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5720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487692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50292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2666880"/>
            <a:ext cx="4647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M surface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al field-line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KAM surfac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≡can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stop, but do slow dow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adial field-line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ntori are approximated by high-ord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stable, periodic-orbi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haotic-coordinates are fit to the cantori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e need to (i) locate the can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ii) fill-in-the-gaps to make su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2362320"/>
            <a:ext cx="1752840" cy="75960"/>
          </a:xfrm>
          <a:prstGeom prst="leftRightArrow">
            <a:avLst>
              <a:gd name="adj1" fmla="val 57815"/>
              <a:gd name="adj2" fmla="val 13792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2362320"/>
            <a:ext cx="533520" cy="75960"/>
          </a:xfrm>
          <a:prstGeom prst="leftRightArrow">
            <a:avLst>
              <a:gd name="adj1" fmla="val 55204"/>
              <a:gd name="adj2" fmla="val 5560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ternative construction of QFMin surfaces employs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trained action-integr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6320" y="795240"/>
          <a:ext cx="876276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95240"/>
                    <a:ext cx="876276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04920" y="4495680"/>
            <a:ext cx="20574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56272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3120" y="4869000"/>
            <a:ext cx="2059200" cy="1760400"/>
          </a:xfrm>
          <a:custGeom>
            <a:avLst/>
            <a:gdLst/>
            <a:ahLst/>
            <a:rect l="l" t="t" r="r" b="b"/>
            <a:pathLst>
              <a:path w="1297" h="1109">
                <a:moveTo>
                  <a:pt x="0" y="1109"/>
                </a:moveTo>
                <a:lnTo>
                  <a:pt x="27" y="1039"/>
                </a:lnTo>
                <a:cubicBezTo>
                  <a:pt x="48" y="1008"/>
                  <a:pt x="45" y="983"/>
                  <a:pt x="128" y="921"/>
                </a:cubicBezTo>
                <a:cubicBezTo>
                  <a:pt x="211" y="859"/>
                  <a:pt x="431" y="765"/>
                  <a:pt x="527" y="668"/>
                </a:cubicBezTo>
                <a:cubicBezTo>
                  <a:pt x="623" y="571"/>
                  <a:pt x="612" y="417"/>
                  <a:pt x="704" y="339"/>
                </a:cubicBezTo>
                <a:cubicBezTo>
                  <a:pt x="796" y="261"/>
                  <a:pt x="984" y="246"/>
                  <a:pt x="1076" y="199"/>
                </a:cubicBezTo>
                <a:cubicBezTo>
                  <a:pt x="1168" y="152"/>
                  <a:pt x="1222" y="87"/>
                  <a:pt x="1259" y="54"/>
                </a:cubicBezTo>
                <a:lnTo>
                  <a:pt x="1297" y="0"/>
                </a:lnTo>
                <a:lnTo>
                  <a:pt x="1297" y="1109"/>
                </a:lnTo>
                <a:lnTo>
                  <a:pt x="0" y="1109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43000" y="6070680"/>
          <a:ext cx="1219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6070680"/>
                    <a:ext cx="1219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04920" y="4572000"/>
            <a:ext cx="2058840" cy="1760400"/>
          </a:xfrm>
          <a:custGeom>
            <a:avLst/>
            <a:gdLst/>
            <a:ahLst/>
            <a:rect l="l" t="t" r="r" b="b"/>
            <a:pathLst>
              <a:path w="1297" h="1109">
                <a:moveTo>
                  <a:pt x="0" y="1109"/>
                </a:moveTo>
                <a:lnTo>
                  <a:pt x="27" y="1039"/>
                </a:lnTo>
                <a:cubicBezTo>
                  <a:pt x="48" y="1008"/>
                  <a:pt x="45" y="983"/>
                  <a:pt x="128" y="921"/>
                </a:cubicBezTo>
                <a:cubicBezTo>
                  <a:pt x="211" y="859"/>
                  <a:pt x="431" y="765"/>
                  <a:pt x="527" y="668"/>
                </a:cubicBezTo>
                <a:cubicBezTo>
                  <a:pt x="623" y="571"/>
                  <a:pt x="612" y="417"/>
                  <a:pt x="704" y="339"/>
                </a:cubicBezTo>
                <a:cubicBezTo>
                  <a:pt x="796" y="261"/>
                  <a:pt x="984" y="246"/>
                  <a:pt x="1076" y="199"/>
                </a:cubicBezTo>
                <a:cubicBezTo>
                  <a:pt x="1168" y="152"/>
                  <a:pt x="1222" y="87"/>
                  <a:pt x="1259" y="54"/>
                </a:cubicBezTo>
                <a:lnTo>
                  <a:pt x="1297" y="0"/>
                </a:lnTo>
                <a:lnTo>
                  <a:pt x="1297" y="110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4343400"/>
            <a:ext cx="6781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area constraint gives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amily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of periodic pseudo-curv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5486400"/>
            <a:ext cx="5410440" cy="990720"/>
          </a:xfrm>
          <a:prstGeom prst="wedgeRoundRectCallout">
            <a:avLst>
              <a:gd name="adj1" fmla="val -35152"/>
              <a:gd name="adj2" fmla="val -8301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agrangian variational methods suitable for high-order periodic orbits (q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10,000)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 strongly chaotic field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igh-order periodic orbits approximate KAM surfaces and broken KAM surfaces (cantori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724280"/>
            <a:ext cx="2058840" cy="1760760"/>
          </a:xfrm>
          <a:custGeom>
            <a:avLst/>
            <a:gdLst/>
            <a:ahLst/>
            <a:rect l="l" t="t" r="r" b="b"/>
            <a:pathLst>
              <a:path w="1297" h="1109">
                <a:moveTo>
                  <a:pt x="0" y="1109"/>
                </a:moveTo>
                <a:lnTo>
                  <a:pt x="27" y="1039"/>
                </a:lnTo>
                <a:cubicBezTo>
                  <a:pt x="48" y="1008"/>
                  <a:pt x="45" y="983"/>
                  <a:pt x="128" y="921"/>
                </a:cubicBezTo>
                <a:cubicBezTo>
                  <a:pt x="211" y="859"/>
                  <a:pt x="431" y="765"/>
                  <a:pt x="527" y="668"/>
                </a:cubicBezTo>
                <a:cubicBezTo>
                  <a:pt x="623" y="571"/>
                  <a:pt x="612" y="417"/>
                  <a:pt x="704" y="339"/>
                </a:cubicBezTo>
                <a:cubicBezTo>
                  <a:pt x="796" y="261"/>
                  <a:pt x="984" y="246"/>
                  <a:pt x="1076" y="199"/>
                </a:cubicBezTo>
                <a:cubicBezTo>
                  <a:pt x="1168" y="152"/>
                  <a:pt x="1222" y="87"/>
                  <a:pt x="1259" y="54"/>
                </a:cubicBezTo>
                <a:lnTo>
                  <a:pt x="1297" y="0"/>
                </a:lnTo>
                <a:lnTo>
                  <a:pt x="1297" y="110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419720"/>
            <a:ext cx="2058840" cy="1760400"/>
          </a:xfrm>
          <a:custGeom>
            <a:avLst/>
            <a:gdLst/>
            <a:ahLst/>
            <a:rect l="l" t="t" r="r" b="b"/>
            <a:pathLst>
              <a:path w="1297" h="1109">
                <a:moveTo>
                  <a:pt x="0" y="1109"/>
                </a:moveTo>
                <a:lnTo>
                  <a:pt x="27" y="1039"/>
                </a:lnTo>
                <a:cubicBezTo>
                  <a:pt x="48" y="1008"/>
                  <a:pt x="45" y="983"/>
                  <a:pt x="128" y="921"/>
                </a:cubicBezTo>
                <a:cubicBezTo>
                  <a:pt x="211" y="859"/>
                  <a:pt x="431" y="765"/>
                  <a:pt x="527" y="668"/>
                </a:cubicBezTo>
                <a:cubicBezTo>
                  <a:pt x="623" y="571"/>
                  <a:pt x="612" y="417"/>
                  <a:pt x="704" y="339"/>
                </a:cubicBezTo>
                <a:cubicBezTo>
                  <a:pt x="796" y="261"/>
                  <a:pt x="984" y="246"/>
                  <a:pt x="1076" y="199"/>
                </a:cubicBezTo>
                <a:cubicBezTo>
                  <a:pt x="1168" y="152"/>
                  <a:pt x="1222" y="87"/>
                  <a:pt x="1259" y="54"/>
                </a:cubicBezTo>
                <a:lnTo>
                  <a:pt x="1297" y="0"/>
                </a:lnTo>
                <a:lnTo>
                  <a:pt x="1297" y="110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host-surfaces constructed via action-gradient flow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tween the stable &amp; unstable periodic orbi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99072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Golé, J. Differ. Equation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140 1992., R. S. MacKay and M. R. Muldoon, Phys. Lett.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45, 199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2280" y="1735200"/>
          <a:ext cx="8799480" cy="27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35200"/>
                    <a:ext cx="8799480" cy="27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7848720" cy="152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4876920"/>
            <a:ext cx="990720" cy="838080"/>
          </a:xfrm>
          <a:prstGeom prst="wedgeRectCallout">
            <a:avLst>
              <a:gd name="adj1" fmla="val 183333"/>
              <a:gd name="adj2" fmla="val 7367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ni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r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5867280"/>
            <a:ext cx="1143000" cy="762120"/>
          </a:xfrm>
          <a:prstGeom prst="wedgeRectCallout">
            <a:avLst>
              <a:gd name="adj1" fmla="val -153055"/>
              <a:gd name="adj2" fmla="val -2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nim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r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6095880"/>
            <a:ext cx="15242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943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94360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943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981080" y="4648320"/>
          <a:ext cx="3054600" cy="62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648320"/>
                    <a:ext cx="30546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>
            <a:off x="914040" y="6095880"/>
            <a:ext cx="15238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4800600"/>
            <a:ext cx="2514600" cy="457200"/>
          </a:xfrm>
          <a:prstGeom prst="wedgeRoundRectCallout">
            <a:avLst>
              <a:gd name="adj1" fmla="val -61680"/>
              <a:gd name="adj2" fmla="val -2152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: action-gradient flow is small near integrable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host-surfaces are almost identical to QFMin surfa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dson &amp; Dewar, Phys. Lett. A,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3320" y="2344680"/>
          <a:ext cx="4848120" cy="33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20" y="2344680"/>
                    <a:ext cx="4848120" cy="33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022720" y="2011320"/>
            <a:ext cx="4044960" cy="4237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477120" y="4221000"/>
            <a:ext cx="2590560" cy="533520"/>
          </a:xfrm>
          <a:prstGeom prst="wedgeRoundRectCallout">
            <a:avLst>
              <a:gd name="adj1" fmla="val -14888"/>
              <a:gd name="adj2" fmla="val -15356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in solid line      = ghost 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ick dashed line = QFMin 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5897520"/>
            <a:ext cx="2133720" cy="304920"/>
          </a:xfrm>
          <a:prstGeom prst="wedgeRoundRectCallout">
            <a:avLst>
              <a:gd name="adj1" fmla="val -78273"/>
              <a:gd name="adj2" fmla="val 1562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d dots=Poinca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p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85800"/>
            <a:ext cx="769608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‼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host surfaces are defined by action-gradient flow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FMin surfaces defined by minimizing quadratic-flu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bvious reason why these different definitions should give the same su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isotropic transport is solved by chaotic-coordina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762120"/>
            <a:ext cx="88394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s for high-order periodic orbits “fill-in-the-gaps” in the irrational canto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s and isotherms are almost indistinguishable; suggests T=T(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76920" y="2467080"/>
            <a:ext cx="4162320" cy="41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7924680" y="2820960"/>
          <a:ext cx="930240" cy="30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>
                    <a:alphaModFix amt="75000"/>
                  </a:blip>
                  <a:stretch/>
                </p:blipFill>
                <p:spPr>
                  <a:xfrm>
                    <a:off x="7924680" y="2820960"/>
                    <a:ext cx="9302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5334120" y="2514600"/>
            <a:ext cx="36576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2590920"/>
            <a:ext cx="914400" cy="304560"/>
          </a:xfrm>
          <a:prstGeom prst="wedgeRectCallout">
            <a:avLst>
              <a:gd name="adj1" fmla="val 18231"/>
              <a:gd name="adj2" fmla="val 11093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soth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56920" y="6172200"/>
            <a:ext cx="2308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oidal ang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6248520"/>
            <a:ext cx="3733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086280" y="4076640"/>
            <a:ext cx="3962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 coordin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5867280"/>
            <a:ext cx="457200" cy="228600"/>
          </a:xfrm>
          <a:prstGeom prst="wedgeRectCallout">
            <a:avLst>
              <a:gd name="adj1" fmla="val 20138"/>
              <a:gd name="adj2" fmla="val 1069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705720" y="5640480"/>
          <a:ext cx="911160" cy="30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>
                    <a:alphaModFix amt="75000"/>
                  </a:blip>
                  <a:stretch/>
                </p:blipFill>
                <p:spPr>
                  <a:xfrm>
                    <a:off x="6705720" y="5640480"/>
                    <a:ext cx="91116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562720" y="2666880"/>
            <a:ext cx="457200" cy="228600"/>
          </a:xfrm>
          <a:prstGeom prst="wedgeRectCallout">
            <a:avLst>
              <a:gd name="adj1" fmla="val -24305"/>
              <a:gd name="adj2" fmla="val -109722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2895480"/>
            <a:ext cx="1371600" cy="304920"/>
          </a:xfrm>
          <a:prstGeom prst="wedgeRectCallout">
            <a:avLst>
              <a:gd name="adj1" fmla="val -32986"/>
              <a:gd name="adj2" fmla="val 11145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host-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895480"/>
            <a:ext cx="1371600" cy="304920"/>
          </a:xfrm>
          <a:prstGeom prst="wedgeRectCallout">
            <a:avLst>
              <a:gd name="adj1" fmla="val 110879"/>
              <a:gd name="adj2" fmla="val 106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host-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1680" y="2625840"/>
          <a:ext cx="4768920" cy="385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680" y="2625840"/>
                    <a:ext cx="476892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dson &amp; Breslau, Phys. Rev. Lett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095001 (20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666880" y="3890880"/>
            <a:ext cx="5943600" cy="2890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-coordinates simplifies temperature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685800"/>
            <a:ext cx="88394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host-surfaces can be used as radial coordinate surfac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haotic-coordinates (s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3733920"/>
            <a:ext cx="15242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01760" y="1519200"/>
          <a:ext cx="830412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1760" y="1519200"/>
                    <a:ext cx="83041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28600" y="3854520"/>
          <a:ext cx="2514600" cy="86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854520"/>
                    <a:ext cx="251460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148520" y="3863880"/>
          <a:ext cx="1552680" cy="4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48520" y="3863880"/>
                    <a:ext cx="15526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213080" y="3886200"/>
          <a:ext cx="1425600" cy="282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3080" y="3886200"/>
                    <a:ext cx="14256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tuart Hudson</cp:lastModifiedBy>
  <dcterms:modified xsi:type="dcterms:W3CDTF">2009-10-28T13:34:02Z</dcterms:modified>
  <cp:revision>923</cp:revision>
  <dc:subject/>
  <dc:title>Direct calculation of   using eigenvalue perturbation theory   S.R.Hudson  </dc:title>
</cp:coreProperties>
</file>