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0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AAF8-FFB2-4E42-A40A-25F5DECFA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0251-695C-4762-83A0-2D320ACA1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B99E-F29A-4036-AD89-27B1EA3A3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69EA-BBEA-48AC-A1D5-5C0CD85A9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9357-EAA0-4DFD-ABD5-02BEA0872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A350-E72C-4CC9-8BA6-37FE74656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FE13-57DB-4768-A151-C613702BF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D7B2-F79C-4C3B-8CF3-0F729961C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A26D-BD47-4FA9-9A99-23EA853BD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1C54-B27E-47D4-B2BF-709E7D27D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C6A2-7386-459C-BF20-E3E2E1F63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75B2-32A3-47E4-8E21-1808F89CC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95DC-459E-43B4-A423-04799A80D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ing Chaos Via Constructing Almost Invariant Surfa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9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r. Stuart Hud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d  Prof. R.L. Dewar</a:t>
            </a:r>
            <a:br>
              <a:rPr sz="20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Dewar Symposium on (Equilibrium, ) Stability and Nonlinear dynamics of plasmas, 31 October 2009, Atlanta, GA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838080" y="1763640"/>
          <a:ext cx="746784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63640"/>
                    <a:ext cx="746784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676520"/>
            <a:ext cx="89154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ng almost-invariant surfaces is useful for understanding chaoti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.g. for constructing nearby integrable fields, understanding transport through cha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otic magnetic coordinates show the promise of (approximatel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ing the simplicity of action-angle coordinates to chaotic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.g. the temperature becomes a surface function T=T(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-surfaces have desirable properties (non-intersecting . . 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re very similar to quadratic-flux minimzing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t QFMin surfaces are much easier to constr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dratic-flux minimizing (QFMin) surfaces are a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tural extension of flux surfaces, defined for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war &amp; Meiss, Physica D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76 (1992); Dewar, Hudson &amp; Price, Phys. Lett. A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9 (1994)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war &amp; Khorev, Physica D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66 (199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udson &amp; Dewar, J. Plasma Phys.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361 (1996); Hudson &amp; Dewar, Phys. Lett. A (20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3680" y="1219320"/>
          <a:ext cx="879804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19320"/>
                    <a:ext cx="879804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114800" y="5638680"/>
            <a:ext cx="4952880" cy="762120"/>
          </a:xfrm>
          <a:prstGeom prst="wedgeRoundRectCallout">
            <a:avLst>
              <a:gd name="adj1" fmla="val -24486"/>
              <a:gd name="adj2" fmla="val -745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) normal-field, 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stant along pseudo-field lin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) rational surface = family of periodic pseudo-field lin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3) o.d.e. integration suitable for low-order periodic surfac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4038480"/>
            <a:ext cx="2819160" cy="533520"/>
          </a:xfrm>
          <a:prstGeom prst="wedgeRoundRectCallout">
            <a:avLst>
              <a:gd name="adj1" fmla="val -93976"/>
              <a:gd name="adj2" fmla="val -1934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oordinate dependen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 Jacobian factor 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amily of low-order QFMin surfaces defines the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est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smooth, nearby-integrabl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3354480"/>
          <a:ext cx="73915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4480"/>
                    <a:ext cx="73915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2280" y="413532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3600" y="1266840"/>
            <a:ext cx="2895480" cy="1933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62120" y="1643040"/>
            <a:ext cx="3047760" cy="102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87520" y="1633680"/>
            <a:ext cx="1620720" cy="118800"/>
          </a:xfrm>
          <a:custGeom>
            <a:avLst/>
            <a:gdLst/>
            <a:ahLst/>
            <a:rect l="l" t="t" r="r" b="b"/>
            <a:pathLst>
              <a:path w="1021" h="75">
                <a:moveTo>
                  <a:pt x="0" y="0"/>
                </a:moveTo>
                <a:cubicBezTo>
                  <a:pt x="35" y="9"/>
                  <a:pt x="152" y="40"/>
                  <a:pt x="215" y="52"/>
                </a:cubicBezTo>
                <a:cubicBezTo>
                  <a:pt x="278" y="64"/>
                  <a:pt x="324" y="69"/>
                  <a:pt x="377" y="72"/>
                </a:cubicBezTo>
                <a:cubicBezTo>
                  <a:pt x="430" y="75"/>
                  <a:pt x="476" y="74"/>
                  <a:pt x="534" y="72"/>
                </a:cubicBezTo>
                <a:cubicBezTo>
                  <a:pt x="592" y="70"/>
                  <a:pt x="666" y="66"/>
                  <a:pt x="723" y="61"/>
                </a:cubicBezTo>
                <a:cubicBezTo>
                  <a:pt x="780" y="56"/>
                  <a:pt x="825" y="49"/>
                  <a:pt x="875" y="40"/>
                </a:cubicBezTo>
                <a:cubicBezTo>
                  <a:pt x="925" y="31"/>
                  <a:pt x="991" y="11"/>
                  <a:pt x="1021" y="4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3716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oinca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14600"/>
            <a:ext cx="2895840" cy="457200"/>
          </a:xfrm>
          <a:prstGeom prst="leftRightArrow">
            <a:avLst>
              <a:gd name="adj1" fmla="val 55204"/>
              <a:gd name="adj2" fmla="val 5210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iginal 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2819520"/>
            <a:ext cx="2895480" cy="457200"/>
          </a:xfrm>
          <a:prstGeom prst="leftRightArrow">
            <a:avLst>
              <a:gd name="adj1" fmla="val 55204"/>
              <a:gd name="adj2" fmla="val 5210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raight pseudo-field 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75600" y="1828440"/>
            <a:ext cx="990360" cy="685800"/>
          </a:xfrm>
          <a:prstGeom prst="leftRightArrow">
            <a:avLst>
              <a:gd name="adj1" fmla="val 59037"/>
              <a:gd name="adj2" fmla="val 2660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a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371600"/>
            <a:ext cx="1523880" cy="762120"/>
          </a:xfrm>
          <a:prstGeom prst="wedgeRoundRectCallout">
            <a:avLst>
              <a:gd name="adj1" fmla="val -78856"/>
              <a:gd name="adj2" fmla="val -3562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it “coordina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FMin-surfa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rough is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6400800"/>
            <a:ext cx="3200400" cy="457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land-phase control in H1 stell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udson &amp; Dewar, Phys. Lett. A 226,85 (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943600" y="4016520"/>
            <a:ext cx="3200400" cy="238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9920" y="6400800"/>
            <a:ext cx="3124080" cy="457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land-healing in NCS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udson et al., Phys. Rev. Lett. 89,275003 (2002)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4038480"/>
            <a:ext cx="2133720" cy="304920"/>
          </a:xfrm>
          <a:prstGeom prst="wedgeRoundRectCallout">
            <a:avLst>
              <a:gd name="adj1" fmla="val -25148"/>
              <a:gd name="adj2" fmla="val 110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ealed” equilib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6019920"/>
            <a:ext cx="1828800" cy="304560"/>
          </a:xfrm>
          <a:prstGeom prst="wedgeRoundRectCallout">
            <a:avLst>
              <a:gd name="adj1" fmla="val 25523"/>
              <a:gd name="adj2" fmla="val -12135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iginal equilib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846000"/>
          <a:ext cx="7238880" cy="37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846000"/>
                    <a:ext cx="72388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eld-line transport is restricted by irrational field-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43600" y="2819520"/>
            <a:ext cx="3566880" cy="3581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05520" y="2362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ca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lo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model f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64771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010280" y="4419360"/>
            <a:ext cx="3581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irrational KAM surfaces disintegrate into invariant irrational se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ich continue to restrict field-line transport even after the onset of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181480" y="2849400"/>
          <a:ext cx="1640160" cy="3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49400"/>
                    <a:ext cx="16401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715000" y="6019920"/>
          <a:ext cx="16398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6019920"/>
                    <a:ext cx="16398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724280" y="44956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43434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523880" y="1469880"/>
            <a:ext cx="5929560" cy="816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05320" y="16002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61760" y="10666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761760" y="15998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447920"/>
            <a:ext cx="1447560" cy="380880"/>
          </a:xfrm>
          <a:prstGeom prst="leftArrow">
            <a:avLst>
              <a:gd name="adj1" fmla="val 50000"/>
              <a:gd name="adj2" fmla="val 950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19810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38862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2767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5053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2670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3581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2004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0384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36576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502920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50292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48769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2670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572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48769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5029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2666880"/>
            <a:ext cx="4647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l field-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KAM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≡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p, but do slow dow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-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ntori are approximated by high-ord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stable, periodic-orbi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haotic-coordinates are fit to the cantor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e need to (i) locate the 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ii) fill-in-the-gaps to make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362320"/>
            <a:ext cx="1752840" cy="75960"/>
          </a:xfrm>
          <a:prstGeom prst="leftRightArrow">
            <a:avLst>
              <a:gd name="adj1" fmla="val 57815"/>
              <a:gd name="adj2" fmla="val 13792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362320"/>
            <a:ext cx="533520" cy="75960"/>
          </a:xfrm>
          <a:prstGeom prst="leftRightArrow">
            <a:avLst>
              <a:gd name="adj1" fmla="val 55204"/>
              <a:gd name="adj2" fmla="val 5560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e construction of QFMin surfaces employs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rained action-integr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320" y="795240"/>
          <a:ext cx="876276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95240"/>
                    <a:ext cx="876276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4495680"/>
            <a:ext cx="2057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5627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3120" y="4869000"/>
            <a:ext cx="2059200" cy="176040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  <a:lnTo>
                  <a:pt x="0" y="110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6070680"/>
          <a:ext cx="1219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6070680"/>
                    <a:ext cx="1219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04920" y="4572000"/>
            <a:ext cx="2058840" cy="176040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34340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area constraint gives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mily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of periodic pseudo-curv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486400"/>
            <a:ext cx="5410440" cy="990720"/>
          </a:xfrm>
          <a:prstGeom prst="wedgeRoundRectCallout">
            <a:avLst>
              <a:gd name="adj1" fmla="val -35152"/>
              <a:gd name="adj2" fmla="val -830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agrangian variational methods suitable for high-order periodic orbits (q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0,000)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 strongly chaotic fiel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igh-order periodic orbits approximate KAM surfaces and broken KAM surfaces (cantor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724280"/>
            <a:ext cx="2058840" cy="176076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419720"/>
            <a:ext cx="2058840" cy="176040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constructed via action-gradient flow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tween the stable &amp; unstable periodic or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99072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, R. 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280" y="1735200"/>
          <a:ext cx="8799480" cy="27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35200"/>
                    <a:ext cx="879948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4876920"/>
            <a:ext cx="990720" cy="838080"/>
          </a:xfrm>
          <a:prstGeom prst="wedgeRectCallout">
            <a:avLst>
              <a:gd name="adj1" fmla="val 183333"/>
              <a:gd name="adj2" fmla="val 73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5867280"/>
            <a:ext cx="1143000" cy="762120"/>
          </a:xfrm>
          <a:prstGeom prst="wedgeRectCallout">
            <a:avLst>
              <a:gd name="adj1" fmla="val -153055"/>
              <a:gd name="adj2" fmla="val -2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09588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94360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81080" y="4648320"/>
          <a:ext cx="3054600" cy="62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648320"/>
                    <a:ext cx="30546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>
            <a:off x="914040" y="609588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800600"/>
            <a:ext cx="2514600" cy="457200"/>
          </a:xfrm>
          <a:prstGeom prst="wedgeRoundRectCallout">
            <a:avLst>
              <a:gd name="adj1" fmla="val -61680"/>
              <a:gd name="adj2" fmla="val -2152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action-gradient flow is small near integrable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are almost identical to QFMin 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dson &amp; Dewar, Phys. Lett. A,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3320" y="2344680"/>
          <a:ext cx="4848120" cy="33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2344680"/>
                    <a:ext cx="484812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022720" y="2011320"/>
            <a:ext cx="4044960" cy="4237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77120" y="4221000"/>
            <a:ext cx="2590560" cy="533520"/>
          </a:xfrm>
          <a:prstGeom prst="wedgeRoundRectCallout">
            <a:avLst>
              <a:gd name="adj1" fmla="val -14888"/>
              <a:gd name="adj2" fmla="val -153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n solid line      = ghost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ck dashed line = QFMin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5897520"/>
            <a:ext cx="2133720" cy="304920"/>
          </a:xfrm>
          <a:prstGeom prst="wedgeRoundRectCallout">
            <a:avLst>
              <a:gd name="adj1" fmla="val -78273"/>
              <a:gd name="adj2" fmla="val 156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 dots=Poinca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85800"/>
            <a:ext cx="76960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‼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host surfaces are defined by action-gradient fl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FMin surfaces defined by minimizing quadratic-flu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vious reason why these different definitions should give the same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isotropic transport is solved by chaotic-coordin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762120"/>
            <a:ext cx="8839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for high-order periodic orbits “fill-in-the-gaps” in the irrational canto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and isotherms are almost indistinguishable; suggests T=T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2467080"/>
            <a:ext cx="4162320" cy="41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7924680" y="2820960"/>
          <a:ext cx="93024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>
                    <a:alphaModFix amt="75000"/>
                  </a:blip>
                  <a:stretch/>
                </p:blipFill>
                <p:spPr>
                  <a:xfrm>
                    <a:off x="7924680" y="2820960"/>
                    <a:ext cx="9302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334120" y="2514600"/>
            <a:ext cx="3657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2590920"/>
            <a:ext cx="914400" cy="304560"/>
          </a:xfrm>
          <a:prstGeom prst="wedgeRectCallout">
            <a:avLst>
              <a:gd name="adj1" fmla="val 18231"/>
              <a:gd name="adj2" fmla="val 11093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56920" y="6172200"/>
            <a:ext cx="2308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248520"/>
            <a:ext cx="3733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086280" y="4076640"/>
            <a:ext cx="3962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5867280"/>
            <a:ext cx="457200" cy="228600"/>
          </a:xfrm>
          <a:prstGeom prst="wedgeRectCallout">
            <a:avLst>
              <a:gd name="adj1" fmla="val 20138"/>
              <a:gd name="adj2" fmla="val 1069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705720" y="5640480"/>
          <a:ext cx="911160" cy="30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>
                    <a:alphaModFix amt="75000"/>
                  </a:blip>
                  <a:stretch/>
                </p:blipFill>
                <p:spPr>
                  <a:xfrm>
                    <a:off x="6705720" y="5640480"/>
                    <a:ext cx="911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62720" y="2666880"/>
            <a:ext cx="457200" cy="228600"/>
          </a:xfrm>
          <a:prstGeom prst="wedgeRectCallout">
            <a:avLst>
              <a:gd name="adj1" fmla="val -24305"/>
              <a:gd name="adj2" fmla="val -10972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2895480"/>
            <a:ext cx="1371600" cy="304920"/>
          </a:xfrm>
          <a:prstGeom prst="wedgeRectCallout">
            <a:avLst>
              <a:gd name="adj1" fmla="val -32986"/>
              <a:gd name="adj2" fmla="val 11145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895480"/>
            <a:ext cx="1371600" cy="304920"/>
          </a:xfrm>
          <a:prstGeom prst="wedgeRectCallout">
            <a:avLst>
              <a:gd name="adj1" fmla="val 110879"/>
              <a:gd name="adj2" fmla="val 106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1680" y="2625840"/>
          <a:ext cx="4768920" cy="385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80" y="2625840"/>
                    <a:ext cx="476892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dson &amp; Breslau, Phys. Rev. Lett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95001 (20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66880" y="3890880"/>
            <a:ext cx="5943600" cy="2890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-coordinates simplifies temperatur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can be used as radial coordinate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haotic-coordinates (s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37339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01760" y="1519200"/>
          <a:ext cx="83041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519200"/>
                    <a:ext cx="83041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28600" y="3854520"/>
          <a:ext cx="2514600" cy="86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854520"/>
                    <a:ext cx="2514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148520" y="3863880"/>
          <a:ext cx="1552680" cy="4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8520" y="3863880"/>
                    <a:ext cx="1552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213080" y="3886200"/>
          <a:ext cx="1425600" cy="28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3080" y="3886200"/>
                    <a:ext cx="1425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tuart Hudson</cp:lastModifiedBy>
  <dcterms:modified xsi:type="dcterms:W3CDTF">2009-10-28T13:34:02Z</dcterms:modified>
  <cp:revision>923</cp:revision>
  <dc:subject/>
  <dc:title>Direct calculation of   using eigenvalue perturbation theory   S.R.Hudson  </dc:title>
</cp:coreProperties>
</file>