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10.jpeg" ContentType="image/jpeg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4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6B6C-4345-4345-8B10-BAC013E7D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D060-169B-4827-B872-34068CFEB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CEDE-AA65-46B1-B260-3DB9C97B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99EC-04D9-459F-A4F4-2CCC5DBCA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CE69-9CF1-411A-A15F-2197B8672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41F6-1712-4452-80EA-3BDB018B0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53E9-77CD-4ACB-B39F-033E1CE2D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DA18-D494-4C34-A3A8-4840AFFD2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6EEF-48CD-4A0B-ABF6-73A995917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EE03-96A1-403F-91E8-BC58CC100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7A6E-18CC-4D8F-9B68-FF3DBBBC5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9709-6F3D-4E1A-8312-66EBBE89C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2C63-32D0-4552-B9E6-16401491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haotic fields, pressure, and MHD equilibria</a:t>
            </a:r>
            <a:br>
              <a:rPr sz="2800"/>
            </a:br>
            <a:br>
              <a:rPr sz="1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. S. Hud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 Prof. N. Nakajima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, U.S.A.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Institute for Fusion Sciences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1089000" y="2209680"/>
          <a:ext cx="759780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209680"/>
                    <a:ext cx="75978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 Magnetic Fields are Frac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79520" y="914400"/>
          <a:ext cx="6966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914400"/>
                    <a:ext cx="6966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486400" y="5334120"/>
            <a:ext cx="83808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00800" y="5526000"/>
          <a:ext cx="274320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5526000"/>
                    <a:ext cx="2743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HINT code seeks approximation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MHD equilib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295280"/>
          <a:ext cx="685800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858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438280"/>
            <a:ext cx="8534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incare 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rror vs grid resol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ing islands, chaos and pressure;                             err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solution to anisotropic diffusion almost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914400"/>
            <a:ext cx="8534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ield aligned grid is constructed by following fiel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to existing HINT algorithm for pressure relaxation but faster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order finite-difference solution has been implemented (for a toy fie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pected convergence is obtain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419720" cy="367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3108240"/>
            <a:ext cx="441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4920" y="1768320"/>
          <a:ext cx="830556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68320"/>
                    <a:ext cx="83055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r. Stuart Hud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838080"/>
            <a:ext cx="83818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.D.             Australian National University                (with Prof. Dewa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1998 : Postdoc         JAERI                                                       (with Prof. Toku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 – 2000 : Postdoc         University of Wisconsin                           (with Prof. Heg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 –          :                       Princeton Plasma Physics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 interest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aot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coordinates for chaot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t transport, transport barriers in chaot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stability in stell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looning stability in stell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ginal stability diagrams for stell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um calcula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of NCS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nd healing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 1 : Review of Recen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371600"/>
            <a:ext cx="88394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llowing slides I will try to show tha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otic fields are not random; near critical fields most releva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flux surfaces may still exist (KAM surfaces)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line transpo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tructures exist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ri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 line transport  e.g. canto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-surfaces are almost invariant surfaces = replacement KAM surfa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chaotic magnetic coordinates for chaotic field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eat transport in chaotic fields, temperature becomes a surface fun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analytic expression for temperature gradient can be deriv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chaotic fields, field line transport is restricted by can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3600" y="2819520"/>
            <a:ext cx="356688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23623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ca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l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model field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next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64771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7010280" y="4419360"/>
            <a:ext cx="3581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irrational KAM surfaces disintegrate into invariant irrational se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ich continue to restrict field line transport even after the onset of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181480" y="2849400"/>
          <a:ext cx="164016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49400"/>
                    <a:ext cx="16401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715000" y="6019920"/>
          <a:ext cx="16398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6019920"/>
                    <a:ext cx="16398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724280" y="4495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3434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523880" y="1469880"/>
            <a:ext cx="5929560" cy="816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5320" y="1600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761760" y="1066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61760" y="15998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447920"/>
            <a:ext cx="1447560" cy="380880"/>
          </a:xfrm>
          <a:prstGeom prst="leftArrow">
            <a:avLst>
              <a:gd name="adj1" fmla="val 50000"/>
              <a:gd name="adj2" fmla="val 950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19810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38862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2767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5053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2670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3581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0384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6576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502920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02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8769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2670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572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48769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029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35268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KAM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≡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p, but do slow dow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95880"/>
            <a:ext cx="3352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dson, Phys. Rev. E.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ori are approximated by high-order periodic orbi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14400"/>
            <a:ext cx="8839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gh-order (minimizing) periodic orbits are located using variational method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4320" y="1839960"/>
          <a:ext cx="831672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839960"/>
                    <a:ext cx="831672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constructed via action-gradient flow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tween the stable &amp; unstable periodic or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99072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, R. 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1893960"/>
          <a:ext cx="879948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93960"/>
                    <a:ext cx="879948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4876920"/>
            <a:ext cx="990720" cy="838080"/>
          </a:xfrm>
          <a:prstGeom prst="wedgeRectCallout">
            <a:avLst>
              <a:gd name="adj1" fmla="val 183333"/>
              <a:gd name="adj2" fmla="val 73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5867280"/>
            <a:ext cx="1143000" cy="762120"/>
          </a:xfrm>
          <a:prstGeom prst="wedgeRectCallout">
            <a:avLst>
              <a:gd name="adj1" fmla="val -153055"/>
              <a:gd name="adj2" fmla="val -2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609588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59436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81080" y="4648320"/>
          <a:ext cx="305460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648320"/>
                    <a:ext cx="3054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H="1">
            <a:off x="914040" y="609588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6200000">
            <a:off x="6972120" y="430488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ady state temperature is solv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otherms coincide with ghost-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“fill in the gaps” in the irrational cantori; quasi-KAM surfaces for chao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523880"/>
            <a:ext cx="883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and isotherms are almost indistinguish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133720"/>
          <a:ext cx="346536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4653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53080" y="2619360"/>
            <a:ext cx="4162320" cy="41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7848720" y="2973240"/>
          <a:ext cx="9302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>
                    <a:alphaModFix amt="75000"/>
                  </a:blip>
                  <a:stretch/>
                </p:blipFill>
                <p:spPr>
                  <a:xfrm>
                    <a:off x="7848720" y="2973240"/>
                    <a:ext cx="9302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257800" y="2666880"/>
            <a:ext cx="3657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743200"/>
            <a:ext cx="914400" cy="304920"/>
          </a:xfrm>
          <a:prstGeom prst="wedgeRectCallout">
            <a:avLst>
              <a:gd name="adj1" fmla="val 18231"/>
              <a:gd name="adj2" fmla="val 1109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82760" y="6324480"/>
            <a:ext cx="259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640080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6477120"/>
            <a:ext cx="457200" cy="304560"/>
          </a:xfrm>
          <a:prstGeom prst="wedgeRectCallout">
            <a:avLst>
              <a:gd name="adj1" fmla="val -102430"/>
              <a:gd name="adj2" fmla="val -8073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629400" y="5792760"/>
          <a:ext cx="91116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7">
                    <a:alphaModFix amt="75000"/>
                  </a:blip>
                  <a:stretch/>
                </p:blipFill>
                <p:spPr>
                  <a:xfrm>
                    <a:off x="6629400" y="5792760"/>
                    <a:ext cx="911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610480" y="2209680"/>
            <a:ext cx="457200" cy="304920"/>
          </a:xfrm>
          <a:prstGeom prst="wedgeRectCallout">
            <a:avLst>
              <a:gd name="adj1" fmla="val -120138"/>
              <a:gd name="adj2" fmla="val 78648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-32986"/>
              <a:gd name="adj2" fmla="val 1114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110879"/>
              <a:gd name="adj2" fmla="val 106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958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dson &amp; Breslau, Phys. Rev. Lett.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124080"/>
            <a:ext cx="2057400" cy="381240"/>
          </a:xfrm>
          <a:prstGeom prst="wedgeRectCallout">
            <a:avLst>
              <a:gd name="adj1" fmla="val -48842"/>
              <a:gd name="adj2" fmla="val 17416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eld lin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3890880"/>
            <a:ext cx="5943600" cy="2890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-coordinates simplifies temperatur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can be used as radial coordinate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haotic-coordinates (s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7339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01760" y="1519200"/>
          <a:ext cx="83041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519200"/>
                    <a:ext cx="83041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28600" y="3854520"/>
          <a:ext cx="25146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8545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48520" y="3863880"/>
          <a:ext cx="155268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8520" y="3863880"/>
                    <a:ext cx="1552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13080" y="3886200"/>
          <a:ext cx="1425600" cy="28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3080" y="3886200"/>
                    <a:ext cx="1425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6320" y="62485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dson, Phys. Plasmas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 2 : Outline of work at N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968480"/>
          <a:ext cx="8562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68480"/>
                    <a:ext cx="8562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tuart Hudson</cp:lastModifiedBy>
  <dcterms:modified xsi:type="dcterms:W3CDTF">2009-09-10T00:33:14Z</dcterms:modified>
  <cp:revision>842</cp:revision>
  <dc:subject/>
  <dc:title>Direct calculation of   using eigenvalue perturbation theory   S.R.Hudson  </dc:title>
</cp:coreProperties>
</file>