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10.jpeg" ContentType="image/jpeg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4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BF00-9E17-41DC-B09B-967350EAD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7019-5276-4F14-BF0B-0E6A8C870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35DC-4097-49A7-87ED-8D6BF7BC3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FD71-B316-411E-A93D-F1D8FBF29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DC5E-EAEB-491B-BB4F-A435D0FAF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0196-3087-4E77-956B-948DE2AC4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B066-6E57-485F-90C1-1650B9ACC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8B65-AACD-486A-BA24-166AF094A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DF9C-67A4-4F25-9050-CAAA83D94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11F9-DCF3-4010-82C3-2BAB0AA46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E4F1-53AE-4E7F-BB10-3D7903778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225C-4A2F-4DFF-BAA4-5218FDC71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E54-2D25-4D68-A88D-82B31025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aotic fields, pressure, and MHD equilibria</a:t>
            </a:r>
            <a:br>
              <a:rPr sz="2800"/>
            </a:br>
            <a:br>
              <a:rPr sz="1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. 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 Prof. N. Nakajima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, U.S.A.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Institute for Fusion Sciences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1089000" y="2209680"/>
          <a:ext cx="759780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209680"/>
                    <a:ext cx="75978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 Magnetic Fields are Frac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79520" y="914400"/>
          <a:ext cx="6966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914400"/>
                    <a:ext cx="6966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486400" y="5334120"/>
            <a:ext cx="83808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00800" y="5526000"/>
          <a:ext cx="274320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5526000"/>
                    <a:ext cx="2743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HINT code seeks approximation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MHD equilib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295280"/>
          <a:ext cx="685800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858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438280"/>
            <a:ext cx="8534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incare 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rror vs grid res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ing islands, chaos and pressure;                             err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solution to anisotropic diffusion almost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914400"/>
            <a:ext cx="8534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ield aligned grid is constructed by following fiel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to existing HINT algorithm for pressure relaxation but faster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order finite-difference solution has been implemented (for a toy fie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pected convergence is obtain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419720" cy="367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3108240"/>
            <a:ext cx="441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4920" y="1768320"/>
          <a:ext cx="8305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68320"/>
                    <a:ext cx="8305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r. Stuart Hud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838080"/>
            <a:ext cx="83818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.D.             Australian National University                (with Prof. Dewa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1998 : Postdoc         JAERI                                                       (with Prof. Toku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 – 2000 : Postdoc         University of Wisconsin                           (with Prof. Heg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 –          :                       Princeton Plasma Physics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 interest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coordinates for 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t transport, transport barriers in 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stability in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stability in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ginal stability diagrams for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um calcula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of NC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nd healing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 1 : Review of Recen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371600"/>
            <a:ext cx="88394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llowing slides I will try to show tha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otic fields are not random; near critical fields most releva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lux surfaces may still exist (KAM surfaces)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line transpo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tructures exist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ri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 line transport  e.g. canto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-surfaces are almost invariant surfaces = replacement KAM surfa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chaotic magnetic coordinates for chaotic fiel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eat transport in chaotic fields, temperature becomes a surface fun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analytic expression for temperature gradient can be deriv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chaotic fields, field line transport is restricted by can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23623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 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35268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95880"/>
            <a:ext cx="3352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, Phys. Rev. E.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ori are approximated by high-order periodic orbi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14400"/>
            <a:ext cx="8839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-order (minimizing) periodic orbits are located using variational metho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4320" y="1839960"/>
          <a:ext cx="831672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839960"/>
                    <a:ext cx="831672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1893960"/>
          <a:ext cx="879948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93960"/>
                    <a:ext cx="879948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6200000">
            <a:off x="6972120" y="430488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ady state temperature is solv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therms coincide with ghost-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“fill in the gaps” in the irrational cantori; quasi-KAM surfaces for cha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523880"/>
            <a:ext cx="883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133720"/>
          <a:ext cx="346536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4653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53080" y="261936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7848720" y="2973240"/>
          <a:ext cx="9302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7848720" y="2973240"/>
                    <a:ext cx="9302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257800" y="266688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743200"/>
            <a:ext cx="914400" cy="30492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82760" y="6324480"/>
            <a:ext cx="259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6400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6477120"/>
            <a:ext cx="457200" cy="304560"/>
          </a:xfrm>
          <a:prstGeom prst="wedgeRectCallout">
            <a:avLst>
              <a:gd name="adj1" fmla="val -102430"/>
              <a:gd name="adj2" fmla="val -8073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629400" y="5792760"/>
          <a:ext cx="91116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>
                    <a:alphaModFix amt="75000"/>
                  </a:blip>
                  <a:stretch/>
                </p:blipFill>
                <p:spPr>
                  <a:xfrm>
                    <a:off x="6629400" y="579276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610480" y="2209680"/>
            <a:ext cx="457200" cy="304920"/>
          </a:xfrm>
          <a:prstGeom prst="wedgeRectCallout">
            <a:avLst>
              <a:gd name="adj1" fmla="val -120138"/>
              <a:gd name="adj2" fmla="val 78648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58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 &amp; Breslau, Phys. Rev. Lett.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124080"/>
            <a:ext cx="2057400" cy="381240"/>
          </a:xfrm>
          <a:prstGeom prst="wedgeRectCallout">
            <a:avLst>
              <a:gd name="adj1" fmla="val -48842"/>
              <a:gd name="adj2" fmla="val 174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eld lin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48520" y="3863880"/>
          <a:ext cx="15526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8520" y="3863880"/>
                    <a:ext cx="1552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6320" y="62485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, Phys. Plasmas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 2 : Outline of work at N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968480"/>
          <a:ext cx="8562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68480"/>
                    <a:ext cx="8562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tuart Hudson</cp:lastModifiedBy>
  <dcterms:modified xsi:type="dcterms:W3CDTF">2009-09-10T00:33:14Z</dcterms:modified>
  <cp:revision>842</cp:revision>
  <dc:subject/>
  <dc:title>Direct calculation of   using eigenvalue perturbation theory   S.R.Hudson  </dc:title>
</cp:coreProperties>
</file>