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2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3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43.wmf" ContentType="image/x-wmf"/>
  <Override PartName="/ppt/media/image44.png" ContentType="image/png"/>
  <Override PartName="/ppt/media/image4.wmf" ContentType="image/x-wmf"/>
  <Override PartName="/ppt/media/image34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5.wmf" ContentType="image/x-wmf"/>
  <Override PartName="/ppt/media/image8.png" ContentType="image/png"/>
  <Override PartName="/ppt/media/image41.wmf" ContentType="image/x-wmf"/>
  <Override PartName="/ppt/media/image38.png" ContentType="image/png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EEB7-D836-4B1A-B8B6-E568B72BB45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338-8364-4EFC-9779-C863563AF7A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E15E-A648-4679-B19F-5D4482E1AC7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FF5-6663-495C-9EA3-566438A3E73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207-28F3-4EC7-A697-85702462618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80D-031C-4666-A18F-E858A76EF63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29BD-905F-465B-B983-FE5BC561328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6FFE-6EB8-4B6A-83F8-369B1D24505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BBF-9CD0-436D-BE4C-A2E1D5A350F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8C7-D55A-4DE1-B57D-3AE13D946B0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B33-62D5-4EDE-A968-271A4941745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EDE-8010-468F-A9D9-484D75A9FD4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9DA-BACA-4CE4-87E1-63EB13BC610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CBE9-8048-480A-B040-159EE9745F4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8020-A2B4-4284-BCBE-C680158F68B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9C4-244E-4383-9C53-D9371425DA7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0AA-056F-4D62-A5D6-9B92C91DD69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A729-9055-48BC-B094-62068C245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15A6-8714-4810-83DF-F103DBFF5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1826-C025-4E16-88AB-BC1487CD3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DC05-0F43-4122-837A-E359825C5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8BC8-671F-490D-8D09-2575FE478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1DC2-27EF-4ED7-9328-C4FB8D6E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357F-0C1F-4AA7-8FB1-B7F0A260D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3974-526A-4C90-BC33-6A9787AE1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377F-B27E-4883-B955-DAC21982C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F0D6-A309-4D62-8D25-A0A5B2AD4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0C3F-3800-4855-8EFC-6DC810ADD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1879-2D8D-46AC-B583-251604422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069-CB29-4FBB-B65C-01F7BE6B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y and numerics of partially-relaxed, topologically-constrain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HD equilibria with chaotic magnetic fields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br>
              <a:rPr sz="9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.L. Dewar, M.J. Hole &amp; M. McGan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nternational Toki Conference, 7-10 December 2010, Toki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59092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&amp; Outli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 balance in toroidal plasma confinement with arbitrary geometry is magnetohydrodynamics (MHD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oroidal magnetic fields are analogous to 1-1/2 Hamiltonians, and are generally chaotic, we need an MHD equilibrium code that allows for chaotic field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sting ideal MHD equilibrium codes with chaotic fields fail to accommodate the fractal structure of Hamiltonian chaos. This leads to an ill-posed numerical algorithm for computing numerically-intractable, pathological equilibria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partially-relaxed, topologically-constrained MHD equilibrium model is described and implemented numerically. Results demonstrating convergence tests, benchmarks, and non-trivial solutions are present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(i) perturbed boundary→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(ii) pressure are computed 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703840" y="1523880"/>
          <a:ext cx="33638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523880"/>
                    <a:ext cx="33638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2892600" y="145728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228600" y="144792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ero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1" descr="zerobetaislands.png"/>
          <p:cNvPicPr/>
          <p:nvPr/>
        </p:nvPicPr>
        <p:blipFill>
          <a:blip r:embed="rId3"/>
          <a:stretch/>
        </p:blipFill>
        <p:spPr>
          <a:xfrm>
            <a:off x="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highbetaislands.png"/>
          <p:cNvPicPr/>
          <p:nvPr/>
        </p:nvPicPr>
        <p:blipFill>
          <a:blip r:embed="rId4"/>
          <a:stretch/>
        </p:blipFill>
        <p:spPr>
          <a:xfrm>
            <a:off x="274320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islandconvergence.png"/>
          <p:cNvPicPr/>
          <p:nvPr/>
        </p:nvPicPr>
        <p:blipFill>
          <a:blip r:embed="rId5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7"/>
          <p:cNvSpPr/>
          <p:nvPr/>
        </p:nvSpPr>
        <p:spPr>
          <a:xfrm>
            <a:off x="6172200" y="383688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with Fourier resolution for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2286000" y="22096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Straight Arrow Connector 33"/>
          <p:cNvCxnSpPr/>
          <p:nvPr/>
        </p:nvCxnSpPr>
        <p:spPr>
          <a:xfrm>
            <a:off x="3124080" y="24606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TextBox 37"/>
          <p:cNvSpPr/>
          <p:nvPr/>
        </p:nvSpPr>
        <p:spPr>
          <a:xfrm>
            <a:off x="2286000" y="41148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Straight Arrow Connector 39"/>
          <p:cNvCxnSpPr/>
          <p:nvPr/>
        </p:nvCxnSpPr>
        <p:spPr>
          <a:xfrm flipH="1">
            <a:off x="1828440" y="23612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Straight Arrow Connector 41"/>
          <p:cNvCxnSpPr/>
          <p:nvPr/>
        </p:nvCxnSpPr>
        <p:spPr>
          <a:xfrm flipV="1">
            <a:off x="2895480" y="35046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9" name="Picture 26" descr="qfmsiswidths.png"/>
          <p:cNvPicPr/>
          <p:nvPr/>
        </p:nvPicPr>
        <p:blipFill>
          <a:blip r:embed="rId6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37"/>
          <p:cNvSpPr/>
          <p:nvPr/>
        </p:nvSpPr>
        <p:spPr>
          <a:xfrm>
            <a:off x="2362320" y="5257800"/>
            <a:ext cx="327636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sland widths estimated by fitting quasi-rational surface through island chai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0" y="76212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presented for MHD equilibria with chaotic fields and non-trivial (i.e. non-constant) pressu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been implemen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 optimal (i.e. spectrally condensed)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Newton’s method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uitively, the equilibrium model is an extension of Taylor relaxation to multiple volum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a sound theoretical founda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olutions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erical method is computationally trac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invert singular operator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struggle to resolve fractal structure of chao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at the island widths converge with Fourier resolution has been confirmed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36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equence of equilibria with increasing pressure and perturbed boundary are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G.mpg" descr=""/>
          <p:cNvPicPr/>
          <p:nvPr/>
        </p:nvPicPr>
        <p:blipFill>
          <a:blip r:embed="rId1"/>
          <a:stretch/>
        </p:blipFill>
        <p:spPr>
          <a:xfrm>
            <a:off x="0" y="3162240"/>
            <a:ext cx="38098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8"/>
          <p:cNvGraphicFramePr/>
          <p:nvPr/>
        </p:nvGraphicFramePr>
        <p:xfrm>
          <a:off x="4133880" y="4100400"/>
          <a:ext cx="475920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33880" y="4100400"/>
                    <a:ext cx="4759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TextBox 37"/>
          <p:cNvSpPr/>
          <p:nvPr/>
        </p:nvSpPr>
        <p:spPr>
          <a:xfrm>
            <a:off x="0" y="2895480"/>
            <a:ext cx="38098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ovie of sequence of equilibria with increasing pressur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5" descr="diophantinerenorm.png"/>
          <p:cNvPicPr/>
          <p:nvPr/>
        </p:nvPicPr>
        <p:blipFill>
          <a:blip r:embed="rId1"/>
          <a:stretch/>
        </p:blipFill>
        <p:spPr>
          <a:xfrm>
            <a:off x="5791320" y="3562200"/>
            <a:ext cx="3276360" cy="24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0"/>
          <p:cNvGraphicFramePr/>
          <p:nvPr/>
        </p:nvGraphicFramePr>
        <p:xfrm>
          <a:off x="76320" y="533520"/>
          <a:ext cx="8937360" cy="62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33520"/>
                    <a:ext cx="893736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6383160" y="3408480"/>
          <a:ext cx="276084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383160" y="3408480"/>
                    <a:ext cx="2760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-force-balance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is patholog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781680" y="2819520"/>
            <a:ext cx="213372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019920" y="893880"/>
            <a:ext cx="304776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exactly to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209680" y="4572000"/>
            <a:ext cx="32767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annot be inverted to obtain parallel curre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27"/>
          <p:cNvCxnSpPr/>
          <p:nvPr/>
        </p:nvCxnSpPr>
        <p:spPr>
          <a:xfrm flipH="1" flipV="1">
            <a:off x="7085880" y="4876200"/>
            <a:ext cx="6865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29"/>
          <p:cNvCxnSpPr/>
          <p:nvPr/>
        </p:nvCxnSpPr>
        <p:spPr>
          <a:xfrm flipH="1">
            <a:off x="7085880" y="5180400"/>
            <a:ext cx="686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77" name="Object 5"/>
          <p:cNvGraphicFramePr/>
          <p:nvPr/>
        </p:nvGraphicFramePr>
        <p:xfrm>
          <a:off x="6095880" y="4700520"/>
          <a:ext cx="1182960" cy="1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7">
                    <a:alphaModFix amt="0"/>
                  </a:blip>
                  <a:stretch/>
                </p:blipFill>
                <p:spPr>
                  <a:xfrm>
                    <a:off x="6095880" y="4700520"/>
                    <a:ext cx="118296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13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135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152280" y="1488960"/>
          <a:ext cx="883440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88960"/>
                    <a:ext cx="883440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4800600" y="2260440"/>
            <a:ext cx="42670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4114800" y="2895480"/>
            <a:ext cx="49528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stract.png"/>
          <p:cNvPicPr/>
          <p:nvPr/>
        </p:nvPicPr>
        <p:blipFill>
          <a:blip r:embed="rId1"/>
          <a:stretch/>
        </p:blipFill>
        <p:spPr>
          <a:xfrm>
            <a:off x="171360" y="22096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Existence.png"/>
          <p:cNvPicPr/>
          <p:nvPr/>
        </p:nvPicPr>
        <p:blipFill>
          <a:blip r:embed="rId2"/>
          <a:stretch/>
        </p:blipFill>
        <p:spPr>
          <a:xfrm>
            <a:off x="985680" y="76320"/>
            <a:ext cx="7172640" cy="857160"/>
          </a:xfrm>
          <a:prstGeom prst="rect">
            <a:avLst/>
          </a:prstGeom>
          <a:ln w="0">
            <a:noFill/>
          </a:ln>
        </p:spPr>
      </p:pic>
      <p:sp>
        <p:nvSpPr>
          <p:cNvPr id="15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Bruno.png"/>
          <p:cNvPicPr/>
          <p:nvPr/>
        </p:nvPicPr>
        <p:blipFill>
          <a:blip r:embed="rId3"/>
          <a:stretch/>
        </p:blipFill>
        <p:spPr>
          <a:xfrm>
            <a:off x="1143000" y="1219320"/>
            <a:ext cx="3448080" cy="6760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26684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70844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8"/>
          <p:cNvSpPr/>
          <p:nvPr/>
        </p:nvSpPr>
        <p:spPr>
          <a:xfrm>
            <a:off x="2057400" y="248616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10"/>
          <p:cNvSpPr/>
          <p:nvPr/>
        </p:nvSpPr>
        <p:spPr>
          <a:xfrm>
            <a:off x="685800" y="378144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0" y="5559480"/>
            <a:ext cx="9144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. . . .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3200400" y="42670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10"/>
          <p:cNvSpPr/>
          <p:nvPr/>
        </p:nvSpPr>
        <p:spPr>
          <a:xfrm>
            <a:off x="5638680" y="37339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304920" y="40384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10"/>
          <p:cNvGraphicFramePr/>
          <p:nvPr/>
        </p:nvGraphicFramePr>
        <p:xfrm>
          <a:off x="154080" y="1066680"/>
          <a:ext cx="883764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066680"/>
                    <a:ext cx="883764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4114800" y="2717640"/>
            <a:ext cx="26668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5715000" y="5918040"/>
            <a:ext cx="29718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086600" y="3352680"/>
            <a:ext cx="20574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5334120" y="4317840"/>
            <a:ext cx="32004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5029200" y="6280200"/>
            <a:ext cx="41148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uture work . .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pproximate derivative matrix ~ 2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variation of energy func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lement pre-conditioner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08000" y="571680"/>
          <a:ext cx="72835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71680"/>
                    <a:ext cx="7283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curlerror.png"/>
          <p:cNvPicPr/>
          <p:nvPr/>
        </p:nvPicPr>
        <p:blipFill>
          <a:blip r:embed="rId3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BeltramiA.png"/>
          <p:cNvPicPr/>
          <p:nvPr/>
        </p:nvPicPr>
        <p:blipFill>
          <a:blip r:embed="rId4"/>
          <a:stretch/>
        </p:blipFill>
        <p:spPr>
          <a:xfrm>
            <a:off x="3124080" y="4343400"/>
            <a:ext cx="31338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3962520" y="421956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24"/>
          <p:cNvSpPr/>
          <p:nvPr/>
        </p:nvSpPr>
        <p:spPr>
          <a:xfrm>
            <a:off x="1752480" y="533412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26"/>
          <p:cNvCxnSpPr/>
          <p:nvPr/>
        </p:nvCxnSpPr>
        <p:spPr>
          <a:xfrm flipV="1">
            <a:off x="3048120" y="5028840"/>
            <a:ext cx="9151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28"/>
          <p:cNvCxnSpPr/>
          <p:nvPr/>
        </p:nvCxnSpPr>
        <p:spPr>
          <a:xfrm>
            <a:off x="3048120" y="5638320"/>
            <a:ext cx="381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31"/>
          <p:cNvCxnSpPr/>
          <p:nvPr/>
        </p:nvCxnSpPr>
        <p:spPr>
          <a:xfrm>
            <a:off x="3048120" y="5791320"/>
            <a:ext cx="7624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320" y="4854600"/>
          <a:ext cx="2814480" cy="19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54600"/>
                    <a:ext cx="28144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0" y="4191120"/>
            <a:ext cx="3886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7" descr="BeltramiC.png"/>
          <p:cNvPicPr/>
          <p:nvPr/>
        </p:nvPicPr>
        <p:blipFill>
          <a:blip r:embed="rId13"/>
          <a:stretch/>
        </p:blipFill>
        <p:spPr>
          <a:xfrm>
            <a:off x="6259680" y="4343400"/>
            <a:ext cx="2884320" cy="25146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2"/>
          <p:cNvSpPr/>
          <p:nvPr/>
        </p:nvSpPr>
        <p:spPr>
          <a:xfrm>
            <a:off x="7086600" y="4267080"/>
            <a:ext cx="1447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49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57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77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7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99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0-12-03T14:41:52Z</dcterms:modified>
  <cp:revision>1788</cp:revision>
  <dc:subject/>
  <dc:title>Direct calculation of   using eigenvalue perturbation theory   S.R.Hudson  </dc:title>
</cp:coreProperties>
</file>