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81.wmf" ContentType="image/x-wmf"/>
  <Override PartName="/ppt/media/image55.png" ContentType="image/png"/>
  <Override PartName="/ppt/media/image12.wmf" ContentType="image/x-wmf"/>
  <Override PartName="/ppt/media/image54.wmf" ContentType="image/x-wmf"/>
  <Override PartName="/ppt/media/image53.wmf" ContentType="image/x-wmf"/>
  <Override PartName="/ppt/media/image50.png" ContentType="image/png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png" ContentType="image/png"/>
  <Override PartName="/ppt/media/image43.png" ContentType="image/png"/>
  <Override PartName="/ppt/media/image41.png" ContentType="image/png"/>
  <Override PartName="/ppt/media/image35.png" ContentType="image/png"/>
  <Override PartName="/ppt/media/image34.wmf" ContentType="image/x-wmf"/>
  <Override PartName="/ppt/media/image77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17.wmf" ContentType="image/x-wmf"/>
  <Override PartName="/ppt/media/image82.wmf" ContentType="image/x-wmf"/>
  <Override PartName="/ppt/media/image52.png" ContentType="image/png"/>
  <Override PartName="/ppt/media/image24.png" ContentType="image/png"/>
  <Override PartName="/ppt/media/image60.png" ContentType="image/png"/>
  <Override PartName="/ppt/media/image19.wmf" ContentType="image/x-wmf"/>
  <Override PartName="/ppt/media/image84.wmf" ContentType="image/x-wmf"/>
  <Override PartName="/ppt/media/image21.wmf" ContentType="image/x-wmf"/>
  <Override PartName="/ppt/media/image64.png" ContentType="image/png"/>
  <Override PartName="/ppt/media/image27.wmf" ContentType="image/x-wmf"/>
  <Override PartName="/ppt/media/image66.png" ContentType="image/png"/>
  <Override PartName="/ppt/media/image23.png" ContentType="image/png"/>
  <Override PartName="/ppt/media/image62.wmf" ContentType="image/x-wmf"/>
  <Override PartName="/ppt/media/image65.wmf" ContentType="image/x-wmf"/>
  <Override PartName="/ppt/media/image25.png" ContentType="image/png"/>
  <Override PartName="/ppt/media/image26.png" ContentType="image/png"/>
  <Override PartName="/ppt/media/image83.wmf" ContentType="image/x-wmf"/>
  <Override PartName="/ppt/media/image63.png" ContentType="image/png"/>
  <Override PartName="/ppt/media/image20.wmf" ContentType="image/x-wmf"/>
  <Override PartName="/ppt/media/image57.wmf" ContentType="image/x-wmf"/>
  <Override PartName="/ppt/media/image72.png" ContentType="image/png"/>
  <Override PartName="/ppt/media/image78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75.wmf" ContentType="image/x-wmf"/>
  <Override PartName="/ppt/media/image22.wmf" ContentType="image/x-wmf"/>
  <Override PartName="/ppt/media/image74.png" ContentType="image/png"/>
  <Override PartName="/ppt/media/image16.png" ContentType="image/png"/>
  <Override PartName="/ppt/media/image73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67.png" ContentType="image/png"/>
  <Override PartName="/ppt/media/image40.png" ContentType="image/png"/>
  <Override PartName="/ppt/media/image2.wmf" ContentType="image/x-wmf"/>
  <Override PartName="/ppt/media/image14.wmf" ContentType="image/x-wmf"/>
  <Override PartName="/ppt/media/image9.png" ContentType="image/png"/>
  <Override PartName="/ppt/media/image61.wmf" ContentType="image/x-wmf"/>
  <Override PartName="/ppt/media/image39.png" ContentType="image/png"/>
  <Override PartName="/ppt/media/image79.wmf" ContentType="image/x-wmf"/>
  <Override PartName="/ppt/media/image11.png" ContentType="image/png"/>
  <Override PartName="/ppt/media/image58.png" ContentType="image/png"/>
  <Override PartName="/ppt/media/image3.wmf" ContentType="image/x-wmf"/>
  <Override PartName="/ppt/media/image80.wmf" ContentType="image/x-wmf"/>
  <Override PartName="/ppt/media/image15.wmf" ContentType="image/x-wmf"/>
  <Override PartName="/ppt/media/image7.png" ContentType="image/png"/>
  <Override PartName="/ppt/media/image37.png" ContentType="image/png"/>
  <Override PartName="/ppt/media/image38.png" ContentType="image/png"/>
  <Override PartName="/ppt/media/image42.wmf" ContentType="image/x-wmf"/>
  <Override PartName="/ppt/media/image8.png" ContentType="image/png"/>
  <Override PartName="/ppt/media/image49.wmf" ContentType="image/x-wmf"/>
  <Override PartName="/ppt/media/image4.jpeg" ContentType="image/jpeg"/>
  <Override PartName="/ppt/media/image51.png" ContentType="image/png"/>
  <Override PartName="/ppt/media/image56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5E10-FEE2-4FFA-92D4-B6D07DDC503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B66D-2F4E-4C58-9BBA-081F62FECF0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389-7866-4089-9C65-954B8683158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175C-E068-4994-A419-2DB7622D93C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8503-4BF4-404B-91E3-79997DC6980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971-1B57-4AA4-87F8-A698077C518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303-D077-4789-A3B6-3DFA4D6DCF0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2CDF-8C93-4D06-BB94-45008E86363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58BB-BB9C-4432-AC6A-A173451B27C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8091-6FBF-4541-B979-02E8339CE5B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A3A3-809D-43B5-99F0-89846A874F0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6C21-8429-4926-9A93-73DF5EEDB08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E43F-34CC-4410-B703-19E2A7DEA2C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13C7-279A-4740-8C51-13F701C4DE5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3D0B-942E-43EA-9B48-1DA49E0315F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1AEA-DECF-492F-8D87-B6E04C440BF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5D5A-DE1C-427D-BF00-6589D1E41CA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9B29-1620-4068-96D3-532EAE66FD8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CFBD-5105-4956-A1D2-9C1358DE1BF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A4C1-1E93-4FBA-9513-8944560FA99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0011-3231-4668-B3CD-364A0D70FF1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EF2C-DB9A-4056-AD0A-FD5DF2FB6B8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1325-BA81-45F9-AC54-FF8346B3CE8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91BC-C07D-4816-AA22-D32631F20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4CDC-2A48-4E9C-A61A-019157CFF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A744-6CF6-4C90-8860-73CB29646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B7FC-1C2A-4BF4-A23A-0CD10D96B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8873-845E-49AE-9429-51F8154DD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A0BD-5315-4240-AB6E-0D7A78A35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D149-9B27-4032-BAA2-B8B966101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96E3-9113-49CE-9F87-3559F902B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5214-ABD7-41FC-95C4-CFF447C9A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AFA7-DEBA-44A9-B51D-121608B80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625B-A20A-4A74-86C0-A3FCE0516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0029-586D-4F7A-8998-D1AA14341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DEB2-CC35-4D00-AA02-48A80451D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9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3.wmf"/><Relationship Id="rId11" Type="http://schemas.openxmlformats.org/officeDocument/2006/relationships/image" Target="../media/image74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5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0" y="210492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implest model of approximating global, macroscopic force-balance in toroidal plasma confinement with arbitrary geometry is magnetohydrodynamics (MHD)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-axisymmetric magnetic fields generally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ve a nested family of smooth flux surfaces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deal surface currents are allowed at the rational surface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field is non-integrable (chaotic, fractal phase space), then any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ssure that satisfi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=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st have a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finitely discontinuous gradient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ead, solutions with stepped-pressure profiles are guaranteed to exist. A partially-relaxed, topologically-constrained, MHD energy principle is describ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ium solutions are calculated numerically. Results demonstrating convergence tests, benchmarks, and non-trivial solutions are present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straints of ideal MHD may be applied at the rational surfaces, in which case surface curre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 the formation of islands. Or, these constraints may be relaxed in the vicinity of the ratio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rfaces, in which case magnetic islands will open if resonant perturbations are applied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0" y="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ly-relaxed, partially-constrained MHD equilibria</a:t>
            </a:r>
            <a:br>
              <a:rPr sz="1000"/>
            </a:br>
            <a:br>
              <a:rPr sz="800"/>
            </a:br>
            <a:br>
              <a:rPr sz="8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Huds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,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  R.L. Dewar,  M.J. Hole  &amp;  M. McGan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PPL                             Australian National University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5" descr="evolvestart.png"/>
          <p:cNvPicPr/>
          <p:nvPr/>
        </p:nvPicPr>
        <p:blipFill>
          <a:blip r:embed="rId1"/>
          <a:stretch/>
        </p:blipFill>
        <p:spPr>
          <a:xfrm>
            <a:off x="135000" y="1717560"/>
            <a:ext cx="2286000" cy="3057480"/>
          </a:xfrm>
          <a:prstGeom prst="rect">
            <a:avLst/>
          </a:prstGeom>
          <a:ln w="0">
            <a:noFill/>
          </a:ln>
        </p:spPr>
      </p:pic>
      <p:pic>
        <p:nvPicPr>
          <p:cNvPr id="301" name="2011May13185631.mpeg" descr=""/>
          <p:cNvPicPr/>
          <p:nvPr/>
        </p:nvPicPr>
        <p:blipFill>
          <a:blip r:embed="rId2"/>
          <a:stretch/>
        </p:blipFill>
        <p:spPr>
          <a:xfrm>
            <a:off x="2496960" y="1704960"/>
            <a:ext cx="2379960" cy="3070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8" descr="epsresonantfields.png"/>
          <p:cNvPicPr/>
          <p:nvPr/>
        </p:nvPicPr>
        <p:blipFill>
          <a:blip r:embed="rId3"/>
          <a:stretch/>
        </p:blipFill>
        <p:spPr>
          <a:xfrm>
            <a:off x="5029200" y="4876920"/>
            <a:ext cx="4114800" cy="179208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18"/>
          <p:cNvGraphicFramePr/>
          <p:nvPr/>
        </p:nvGraphicFramePr>
        <p:xfrm>
          <a:off x="1582560" y="1679400"/>
          <a:ext cx="82584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2560" y="1679400"/>
                    <a:ext cx="8258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Box 27"/>
          <p:cNvSpPr/>
          <p:nvPr/>
        </p:nvSpPr>
        <p:spPr>
          <a:xfrm rot="16200000">
            <a:off x="4099680" y="5485320"/>
            <a:ext cx="1676160" cy="4590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   normal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rror   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6" descr="evolvefinish.png"/>
          <p:cNvPicPr/>
          <p:nvPr/>
        </p:nvPicPr>
        <p:blipFill>
          <a:blip r:embed="rId6"/>
          <a:stretch/>
        </p:blipFill>
        <p:spPr>
          <a:xfrm>
            <a:off x="4782960" y="172728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9" descr="evolveresolution.png"/>
          <p:cNvPicPr/>
          <p:nvPr/>
        </p:nvPicPr>
        <p:blipFill>
          <a:blip r:embed="rId7"/>
          <a:stretch/>
        </p:blipFill>
        <p:spPr>
          <a:xfrm>
            <a:off x="0" y="5203800"/>
            <a:ext cx="3733920" cy="165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26"/>
          <p:cNvGraphicFramePr/>
          <p:nvPr/>
        </p:nvGraphicFramePr>
        <p:xfrm>
          <a:off x="3352680" y="4800600"/>
          <a:ext cx="1219320" cy="100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4800600"/>
                    <a:ext cx="12193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Object 17"/>
          <p:cNvGraphicFramePr/>
          <p:nvPr/>
        </p:nvGraphicFramePr>
        <p:xfrm>
          <a:off x="6167520" y="1679400"/>
          <a:ext cx="825480" cy="35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67520" y="167940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0"/>
          <p:cNvGraphicFramePr/>
          <p:nvPr/>
        </p:nvGraphicFramePr>
        <p:xfrm>
          <a:off x="320760" y="838080"/>
          <a:ext cx="6319800" cy="797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7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760" y="838080"/>
                    <a:ext cx="63198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Box 37"/>
          <p:cNvSpPr/>
          <p:nvPr/>
        </p:nvSpPr>
        <p:spPr>
          <a:xfrm>
            <a:off x="6705720" y="423396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37"/>
          <p:cNvSpPr/>
          <p:nvPr/>
        </p:nvSpPr>
        <p:spPr>
          <a:xfrm>
            <a:off x="6400800" y="453852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Straight Arrow Connector 33"/>
          <p:cNvCxnSpPr/>
          <p:nvPr/>
        </p:nvCxnSpPr>
        <p:spPr>
          <a:xfrm flipH="1" flipV="1">
            <a:off x="5790960" y="4114080"/>
            <a:ext cx="91512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Straight Arrow Connector 33"/>
          <p:cNvCxnSpPr/>
          <p:nvPr/>
        </p:nvCxnSpPr>
        <p:spPr>
          <a:xfrm flipH="1" flipV="1">
            <a:off x="5790600" y="4494960"/>
            <a:ext cx="61020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32" name="Object 6"/>
          <p:cNvGraphicFramePr/>
          <p:nvPr/>
        </p:nvGraphicFramePr>
        <p:xfrm>
          <a:off x="8439120" y="4888080"/>
          <a:ext cx="316080" cy="301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3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39120" y="4888080"/>
                    <a:ext cx="31608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27"/>
          <p:cNvGraphicFramePr/>
          <p:nvPr/>
        </p:nvGraphicFramePr>
        <p:xfrm>
          <a:off x="7924680" y="5867280"/>
          <a:ext cx="316080" cy="301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5" name="Object 2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867280"/>
                    <a:ext cx="3160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4" descr="npecpoincare.png"/>
          <p:cNvPicPr/>
          <p:nvPr/>
        </p:nvPicPr>
        <p:blipFill>
          <a:blip r:embed="rId1"/>
          <a:stretch/>
        </p:blipFill>
        <p:spPr>
          <a:xfrm>
            <a:off x="4834080" y="1905120"/>
            <a:ext cx="4233600" cy="4724280"/>
          </a:xfrm>
          <a:prstGeom prst="rect">
            <a:avLst/>
          </a:prstGeom>
          <a:ln w="0">
            <a:noFill/>
          </a:ln>
        </p:spPr>
      </p:pic>
      <p:sp>
        <p:nvSpPr>
          <p:cNvPr id="33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 ideal constraint applied at rational surfaces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 shielding currents prevent island form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25"/>
          <p:cNvSpPr/>
          <p:nvPr/>
        </p:nvSpPr>
        <p:spPr>
          <a:xfrm>
            <a:off x="4876920" y="6477120"/>
            <a:ext cx="4190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27"/>
          <p:cNvSpPr/>
          <p:nvPr/>
        </p:nvSpPr>
        <p:spPr>
          <a:xfrm rot="16200000">
            <a:off x="7263720" y="3961080"/>
            <a:ext cx="3504960" cy="30708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7"/>
          <p:cNvSpPr/>
          <p:nvPr/>
        </p:nvSpPr>
        <p:spPr>
          <a:xfrm>
            <a:off x="6400800" y="2557440"/>
            <a:ext cx="26668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n-linear IPEC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Straight Arrow Connector 33"/>
          <p:cNvCxnSpPr/>
          <p:nvPr/>
        </p:nvCxnSpPr>
        <p:spPr>
          <a:xfrm flipH="1">
            <a:off x="5714280" y="2666880"/>
            <a:ext cx="686520" cy="262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4" name="TextBox 37"/>
          <p:cNvSpPr/>
          <p:nvPr/>
        </p:nvSpPr>
        <p:spPr>
          <a:xfrm>
            <a:off x="5943600" y="4648320"/>
            <a:ext cx="289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thout rational ideal interfa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=1/2 island open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Straight Arrow Connector 33"/>
          <p:cNvCxnSpPr/>
          <p:nvPr/>
        </p:nvCxnSpPr>
        <p:spPr>
          <a:xfrm flipH="1">
            <a:off x="6248160" y="5256720"/>
            <a:ext cx="915120" cy="610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56" name="Picture 35" descr="npecpressure.png"/>
          <p:cNvPicPr/>
          <p:nvPr/>
        </p:nvPicPr>
        <p:blipFill>
          <a:blip r:embed="rId2"/>
          <a:stretch/>
        </p:blipFill>
        <p:spPr>
          <a:xfrm>
            <a:off x="304920" y="4173480"/>
            <a:ext cx="3504960" cy="26082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7"/>
          <p:cNvSpPr/>
          <p:nvPr/>
        </p:nvSpPr>
        <p:spPr>
          <a:xfrm rot="16200000">
            <a:off x="-733320" y="5302080"/>
            <a:ext cx="198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Box 37"/>
          <p:cNvSpPr/>
          <p:nvPr/>
        </p:nvSpPr>
        <p:spPr>
          <a:xfrm>
            <a:off x="2057400" y="46483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ressure gradients coincide with irrational interfaces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Straight Arrow Connector 33"/>
          <p:cNvCxnSpPr>
            <a:stCxn id="358" idx="2"/>
          </p:cNvCxnSpPr>
          <p:nvPr/>
        </p:nvCxnSpPr>
        <p:spPr>
          <a:xfrm flipH="1">
            <a:off x="3429000" y="5231880"/>
            <a:ext cx="7668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0" name="Straight Arrow Connector 33"/>
          <p:cNvCxnSpPr/>
          <p:nvPr/>
        </p:nvCxnSpPr>
        <p:spPr>
          <a:xfrm>
            <a:off x="3505320" y="5257440"/>
            <a:ext cx="1829520" cy="153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1" name="Straight Arrow Connector 33"/>
          <p:cNvCxnSpPr/>
          <p:nvPr/>
        </p:nvCxnSpPr>
        <p:spPr>
          <a:xfrm flipH="1">
            <a:off x="2818800" y="5257800"/>
            <a:ext cx="686520" cy="45792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62" name="Straight Arrow Connector 33"/>
          <p:cNvCxnSpPr/>
          <p:nvPr/>
        </p:nvCxnSpPr>
        <p:spPr>
          <a:xfrm flipV="1">
            <a:off x="3505320" y="4723920"/>
            <a:ext cx="2134080" cy="5342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pic>
        <p:nvPicPr>
          <p:cNvPr id="363" name="Picture 36" descr="npectransform.png"/>
          <p:cNvPicPr/>
          <p:nvPr/>
        </p:nvPicPr>
        <p:blipFill>
          <a:blip r:embed="rId3"/>
          <a:stretch/>
        </p:blipFill>
        <p:spPr>
          <a:xfrm>
            <a:off x="228600" y="1676520"/>
            <a:ext cx="3581280" cy="25621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7"/>
          <p:cNvSpPr/>
          <p:nvPr/>
        </p:nvSpPr>
        <p:spPr>
          <a:xfrm rot="16200000">
            <a:off x="-783720" y="2698200"/>
            <a:ext cx="19814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otational 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Object 10"/>
          <p:cNvGraphicFramePr/>
          <p:nvPr/>
        </p:nvGraphicFramePr>
        <p:xfrm>
          <a:off x="2773440" y="990720"/>
          <a:ext cx="6294240" cy="105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3440" y="990720"/>
                    <a:ext cx="62942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0" y="646200"/>
            <a:ext cx="91440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tially-relaxed, topologically-constrained energy principle has been described and the equilibrium solutions constructed numericall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using a high-order (piecewise quintic) radial discretization, and a spectrally condensed Fourier represent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workload distrubuted across multiple cpu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trema located using standard numerical methods (NAG): modified Newton’s method, with quadratic-convergen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non-axisymmetric solutions with chaotic fields and non-trivial pressure guaranteed to exist (under certain condition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 the profiles discretely is a practical means of retaining some control 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s, while making minimal assumptions regarding the topology of the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it is only assumed tha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ux surfaces exis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pressure gradients coincide with strongly irrational flux su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studies have been performe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expected error scaling with radial resolution confirm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tailed benchmark with axisymmetric equilibria (with smooth profiles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emonstrated convergence of island widths with Fourier resolution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enforcing the ideal constraint at the rational surfaces, the formation of magnetic islands is prohibited by the formation of surface “shielding” current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imilar to non-linear generalization of IPEC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relaxing ideal constraint at rational surfaces allows islands to ope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 balance condition at interfaces gives rise to auxilliary pressure-jump Hamiltonian syste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Object 10"/>
          <p:cNvGraphicFramePr/>
          <p:nvPr/>
        </p:nvGraphicFramePr>
        <p:xfrm>
          <a:off x="98280" y="1066680"/>
          <a:ext cx="889344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066680"/>
                    <a:ext cx="889344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31"/>
          <p:cNvSpPr/>
          <p:nvPr/>
        </p:nvSpPr>
        <p:spPr>
          <a:xfrm>
            <a:off x="0" y="60278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milton-Jacobi theory for continuation of magnetic field across a toroidal surface supporting a plasma pressure discontinuity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. McGann, S.R.Hudson, R.L. Dewar and G. von Nessi, Physics Letters A, 374(33):3308, 2010 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SFP_11_resonantfields_dshape.png"/>
          <p:cNvPicPr/>
          <p:nvPr/>
        </p:nvPicPr>
        <p:blipFill>
          <a:blip r:embed="rId1"/>
          <a:stretch/>
        </p:blipFill>
        <p:spPr>
          <a:xfrm>
            <a:off x="5095800" y="5014800"/>
            <a:ext cx="4048200" cy="1766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5" descr="SFP11_Poincare_dshape_zerobeta.png"/>
          <p:cNvPicPr/>
          <p:nvPr/>
        </p:nvPicPr>
        <p:blipFill>
          <a:blip r:embed="rId2"/>
          <a:stretch/>
        </p:blipFill>
        <p:spPr>
          <a:xfrm>
            <a:off x="216000" y="1676520"/>
            <a:ext cx="2450880" cy="3276360"/>
          </a:xfrm>
          <a:prstGeom prst="rect">
            <a:avLst/>
          </a:prstGeom>
          <a:ln w="0">
            <a:noFill/>
          </a:ln>
        </p:spPr>
      </p:pic>
      <p:sp>
        <p:nvSpPr>
          <p:cNvPr id="411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Object 10"/>
          <p:cNvGraphicFramePr/>
          <p:nvPr/>
        </p:nvGraphicFramePr>
        <p:xfrm>
          <a:off x="320760" y="838080"/>
          <a:ext cx="631980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760" y="838080"/>
                    <a:ext cx="63198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TextBox 27"/>
          <p:cNvSpPr/>
          <p:nvPr/>
        </p:nvSpPr>
        <p:spPr>
          <a:xfrm rot="16200000">
            <a:off x="4291200" y="5843520"/>
            <a:ext cx="144792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error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2011Apr8104520.mpeg" descr=""/>
          <p:cNvPicPr/>
          <p:nvPr/>
        </p:nvPicPr>
        <p:blipFill>
          <a:blip r:embed="rId5"/>
          <a:stretch/>
        </p:blipFill>
        <p:spPr>
          <a:xfrm>
            <a:off x="2610000" y="1676520"/>
            <a:ext cx="2495520" cy="3219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7" descr="SFP11_Poincare_dshape_highbeta.png"/>
          <p:cNvPicPr/>
          <p:nvPr/>
        </p:nvPicPr>
        <p:blipFill>
          <a:blip r:embed="rId6"/>
          <a:stretch/>
        </p:blipFill>
        <p:spPr>
          <a:xfrm>
            <a:off x="5016600" y="1676520"/>
            <a:ext cx="2450880" cy="3276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9" descr="SFP11_gridprofiles_dshape.png"/>
          <p:cNvPicPr/>
          <p:nvPr/>
        </p:nvPicPr>
        <p:blipFill>
          <a:blip r:embed="rId7"/>
          <a:stretch/>
        </p:blipFill>
        <p:spPr>
          <a:xfrm>
            <a:off x="0" y="4830840"/>
            <a:ext cx="4572000" cy="20271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Object 17"/>
          <p:cNvGraphicFramePr/>
          <p:nvPr/>
        </p:nvGraphicFramePr>
        <p:xfrm>
          <a:off x="6629400" y="1752480"/>
          <a:ext cx="74628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2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29400" y="1752480"/>
                    <a:ext cx="74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7"/>
          <p:cNvGraphicFramePr/>
          <p:nvPr/>
        </p:nvGraphicFramePr>
        <p:xfrm>
          <a:off x="1828800" y="1704960"/>
          <a:ext cx="746280" cy="35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4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1704960"/>
                    <a:ext cx="74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1" descr="SFP_11_resonantfields.png"/>
          <p:cNvPicPr/>
          <p:nvPr/>
        </p:nvPicPr>
        <p:blipFill>
          <a:blip r:embed="rId1"/>
          <a:stretch/>
        </p:blipFill>
        <p:spPr>
          <a:xfrm>
            <a:off x="3276720" y="4952880"/>
            <a:ext cx="5189400" cy="1905120"/>
          </a:xfrm>
          <a:prstGeom prst="rect">
            <a:avLst/>
          </a:prstGeom>
          <a:ln w="0">
            <a:noFill/>
          </a:ln>
        </p:spPr>
      </p:pic>
      <p:sp>
        <p:nvSpPr>
          <p:cNvPr id="436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15" descr="SFP11_Poincare_circle_zerobeta.png"/>
          <p:cNvPicPr/>
          <p:nvPr/>
        </p:nvPicPr>
        <p:blipFill>
          <a:blip r:embed="rId2"/>
          <a:stretch/>
        </p:blipFill>
        <p:spPr>
          <a:xfrm>
            <a:off x="0" y="1981080"/>
            <a:ext cx="3603600" cy="3276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increasing pressure show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sm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have significant response to external perturb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10"/>
          <p:cNvGraphicFramePr/>
          <p:nvPr/>
        </p:nvGraphicFramePr>
        <p:xfrm>
          <a:off x="76320" y="909720"/>
          <a:ext cx="474480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909720"/>
                    <a:ext cx="47448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Picture 19" descr="SFP_11_resolution.png"/>
          <p:cNvPicPr/>
          <p:nvPr/>
        </p:nvPicPr>
        <p:blipFill>
          <a:blip r:embed="rId5"/>
          <a:stretch/>
        </p:blipFill>
        <p:spPr>
          <a:xfrm>
            <a:off x="4724280" y="826920"/>
            <a:ext cx="4419720" cy="1230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1" descr="SFP_11_Poincare_elcric.png"/>
          <p:cNvPicPr/>
          <p:nvPr/>
        </p:nvPicPr>
        <p:blipFill>
          <a:blip r:embed="rId6"/>
          <a:stretch/>
        </p:blipFill>
        <p:spPr>
          <a:xfrm>
            <a:off x="6229440" y="2057400"/>
            <a:ext cx="2914560" cy="2743200"/>
          </a:xfrm>
          <a:prstGeom prst="rect">
            <a:avLst/>
          </a:prstGeom>
          <a:ln w="0">
            <a:noFill/>
          </a:ln>
        </p:spPr>
      </p:pic>
      <p:sp>
        <p:nvSpPr>
          <p:cNvPr id="454" name="TextBox 37"/>
          <p:cNvSpPr/>
          <p:nvPr/>
        </p:nvSpPr>
        <p:spPr>
          <a:xfrm>
            <a:off x="6248520" y="5056200"/>
            <a:ext cx="289548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esonant radial field at rational surface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n=1,2,3 stability from PES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2011Mar30142036.mpeg" descr=""/>
          <p:cNvPicPr/>
          <p:nvPr/>
        </p:nvPicPr>
        <p:blipFill>
          <a:blip r:embed="rId7"/>
          <a:stretch/>
        </p:blipFill>
        <p:spPr>
          <a:xfrm>
            <a:off x="3497400" y="2057400"/>
            <a:ext cx="282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8" descr="Poincare000069.png"/>
          <p:cNvPicPr/>
          <p:nvPr/>
        </p:nvPicPr>
        <p:blipFill>
          <a:blip r:embed="rId1"/>
          <a:stretch/>
        </p:blipFill>
        <p:spPr>
          <a:xfrm>
            <a:off x="5286240" y="1676520"/>
            <a:ext cx="2791080" cy="3733560"/>
          </a:xfrm>
          <a:prstGeom prst="rect">
            <a:avLst/>
          </a:prstGeom>
          <a:ln w="0">
            <a:noFill/>
          </a:ln>
        </p:spPr>
      </p:pic>
      <p:pic>
        <p:nvPicPr>
          <p:cNvPr id="457" name="2011Mar17185436evolveisM=06N=03gap=04vec=1.mpg" descr=""/>
          <p:cNvPicPr/>
          <p:nvPr/>
        </p:nvPicPr>
        <p:blipFill>
          <a:blip r:embed="rId2"/>
          <a:stretch/>
        </p:blipFill>
        <p:spPr>
          <a:xfrm>
            <a:off x="2611440" y="1687680"/>
            <a:ext cx="2874960" cy="3722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3" descr="resonantfields.png"/>
          <p:cNvPicPr/>
          <p:nvPr/>
        </p:nvPicPr>
        <p:blipFill>
          <a:blip r:embed="rId3"/>
          <a:stretch/>
        </p:blipFill>
        <p:spPr>
          <a:xfrm>
            <a:off x="5181480" y="5257800"/>
            <a:ext cx="3814920" cy="1447920"/>
          </a:xfrm>
          <a:prstGeom prst="rect">
            <a:avLst/>
          </a:prstGeom>
          <a:ln w="0">
            <a:noFill/>
          </a:ln>
        </p:spPr>
      </p:pic>
      <p:sp>
        <p:nvSpPr>
          <p:cNvPr id="459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 of equilibria with slowly increasing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Poincare000002.png"/>
          <p:cNvPicPr/>
          <p:nvPr/>
        </p:nvPicPr>
        <p:blipFill>
          <a:blip r:embed="rId4"/>
          <a:stretch/>
        </p:blipFill>
        <p:spPr>
          <a:xfrm>
            <a:off x="0" y="1676520"/>
            <a:ext cx="2790720" cy="37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Object 17"/>
          <p:cNvGraphicFramePr/>
          <p:nvPr/>
        </p:nvGraphicFramePr>
        <p:xfrm>
          <a:off x="7251840" y="2009880"/>
          <a:ext cx="82548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1840" y="200988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18"/>
          <p:cNvGraphicFramePr/>
          <p:nvPr/>
        </p:nvGraphicFramePr>
        <p:xfrm>
          <a:off x="1841400" y="2009880"/>
          <a:ext cx="82548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1400" y="2009880"/>
                    <a:ext cx="825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10"/>
          <p:cNvGraphicFramePr/>
          <p:nvPr/>
        </p:nvGraphicFramePr>
        <p:xfrm>
          <a:off x="3429000" y="685800"/>
          <a:ext cx="4876920" cy="105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685800"/>
                    <a:ext cx="48769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9" name="Picture 35" descr="resolution.png"/>
          <p:cNvPicPr/>
          <p:nvPr/>
        </p:nvPicPr>
        <p:blipFill>
          <a:blip r:embed="rId11"/>
          <a:stretch/>
        </p:blipFill>
        <p:spPr>
          <a:xfrm>
            <a:off x="0" y="5234040"/>
            <a:ext cx="3352680" cy="16081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27"/>
          <p:cNvSpPr/>
          <p:nvPr/>
        </p:nvSpPr>
        <p:spPr>
          <a:xfrm rot="16200000">
            <a:off x="4291200" y="5843520"/>
            <a:ext cx="144792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sonant error fiel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626160" y="6581880"/>
            <a:ext cx="145116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5"/>
          <p:cNvGraphicFramePr/>
          <p:nvPr/>
        </p:nvGraphicFramePr>
        <p:xfrm>
          <a:off x="3505320" y="6248520"/>
          <a:ext cx="68580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05320" y="6248520"/>
                    <a:ext cx="685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Object 10"/>
          <p:cNvGraphicFramePr/>
          <p:nvPr/>
        </p:nvGraphicFramePr>
        <p:xfrm>
          <a:off x="239760" y="533520"/>
          <a:ext cx="87519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533520"/>
                    <a:ext cx="87519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Straight Connector 5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29" descr="fieldlines.png"/>
          <p:cNvPicPr/>
          <p:nvPr/>
        </p:nvPicPr>
        <p:blipFill>
          <a:blip r:embed="rId3"/>
          <a:stretch/>
        </p:blipFill>
        <p:spPr>
          <a:xfrm>
            <a:off x="6611760" y="2590920"/>
            <a:ext cx="2532240" cy="40384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roidal magnetic confinement depends on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21" descr="iter_mag_field_only"/>
          <p:cNvPicPr/>
          <p:nvPr/>
        </p:nvPicPr>
        <p:blipFill>
          <a:blip r:embed="rId4"/>
          <a:srcRect l="9256" t="2332" r="8191" b="4665"/>
          <a:stretch/>
        </p:blipFill>
        <p:spPr>
          <a:xfrm>
            <a:off x="2703600" y="3352680"/>
            <a:ext cx="3163680" cy="2514600"/>
          </a:xfrm>
          <a:prstGeom prst="rect">
            <a:avLst/>
          </a:prstGeom>
          <a:ln w="0">
            <a:noFill/>
          </a:ln>
        </p:spPr>
      </p:pic>
      <p:sp>
        <p:nvSpPr>
          <p:cNvPr id="493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2438280" y="2870280"/>
            <a:ext cx="335304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lines wrap around toroidal “flux”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eft Brace 13"/>
          <p:cNvSpPr/>
          <p:nvPr/>
        </p:nvSpPr>
        <p:spPr>
          <a:xfrm>
            <a:off x="5867280" y="2666880"/>
            <a:ext cx="304920" cy="3733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8720 h 3733920"/>
              <a:gd name="textAreaBottom" fmla="*/ 3625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8"/>
                  <a:pt x="10800" y="2015"/>
                </a:cubicBezTo>
                <a:lnTo>
                  <a:pt x="10800" y="8711"/>
                </a:lnTo>
                <a:cubicBezTo>
                  <a:pt x="10800" y="9719"/>
                  <a:pt x="5400" y="10726"/>
                  <a:pt x="0" y="10726"/>
                </a:cubicBezTo>
                <a:cubicBezTo>
                  <a:pt x="5400" y="10726"/>
                  <a:pt x="10800" y="11734"/>
                  <a:pt x="10800" y="12741"/>
                </a:cubicBezTo>
                <a:lnTo>
                  <a:pt x="10800" y="19585"/>
                </a:lnTo>
                <a:cubicBezTo>
                  <a:pt x="10800" y="2059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Box 19"/>
          <p:cNvSpPr/>
          <p:nvPr/>
        </p:nvSpPr>
        <p:spPr>
          <a:xfrm>
            <a:off x="6781680" y="2336760"/>
            <a:ext cx="236232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333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26"/>
          <p:cNvSpPr/>
          <p:nvPr/>
        </p:nvSpPr>
        <p:spPr>
          <a:xfrm>
            <a:off x="6781680" y="4495680"/>
            <a:ext cx="2286000" cy="246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rrational field-line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0.3819…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27"/>
          <p:cNvSpPr/>
          <p:nvPr/>
        </p:nvSpPr>
        <p:spPr>
          <a:xfrm rot="16200000">
            <a:off x="5388480" y="54316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Box 21"/>
          <p:cNvSpPr/>
          <p:nvPr/>
        </p:nvSpPr>
        <p:spPr>
          <a:xfrm>
            <a:off x="6629400" y="6400800"/>
            <a:ext cx="2514600" cy="3373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tor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4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Object 3"/>
          <p:cNvGraphicFramePr/>
          <p:nvPr/>
        </p:nvGraphicFramePr>
        <p:xfrm>
          <a:off x="160200" y="5029200"/>
          <a:ext cx="448308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200" y="5029200"/>
                    <a:ext cx="4483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3"/>
          <p:cNvSpPr/>
          <p:nvPr/>
        </p:nvSpPr>
        <p:spPr>
          <a:xfrm>
            <a:off x="4038480" y="2057400"/>
            <a:ext cx="28195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mily of periodic orbits ≡ rational flux surf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15"/>
          <p:cNvSpPr/>
          <p:nvPr/>
        </p:nvSpPr>
        <p:spPr>
          <a:xfrm>
            <a:off x="1219320" y="1752480"/>
            <a:ext cx="205740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agnetic field is called integrab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27"/>
          <p:cNvSpPr/>
          <p:nvPr/>
        </p:nvSpPr>
        <p:spPr>
          <a:xfrm rot="16200000">
            <a:off x="5312160" y="3374280"/>
            <a:ext cx="1904760" cy="3373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eriodic poloidal angle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56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al MHD equilibria are extrema of energy fun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Object 10"/>
          <p:cNvGraphicFramePr/>
          <p:nvPr/>
        </p:nvGraphicFramePr>
        <p:xfrm>
          <a:off x="214200" y="558720"/>
          <a:ext cx="816768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58720"/>
                    <a:ext cx="816768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6"/>
          <p:cNvSpPr/>
          <p:nvPr/>
        </p:nvSpPr>
        <p:spPr>
          <a:xfrm>
            <a:off x="0" y="3962520"/>
            <a:ext cx="9144000" cy="9763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       →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wo surface functions, e.g. the pressure,  p(s) , and rotational-transform ≡ inverse-safety-factor,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s) ,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  → a boundary surface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 . .  for fixed boundary equilibria . . .   )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itute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“boundary-conditions” 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be provided to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niquely defin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 equilibrium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 . . . . . The computational task is to compute the magnetic field that is consistent with the given boundary conditions . . 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7"/>
          <p:cNvSpPr/>
          <p:nvPr/>
        </p:nvSpPr>
        <p:spPr>
          <a:xfrm>
            <a:off x="2743200" y="1066680"/>
            <a:ext cx="1676520" cy="246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 ≡ global plasma volum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0" y="6172200"/>
            <a:ext cx="5029200" cy="763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differential equations are singular at rational surfaces (periodic orbits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-driven “Pfirsch-Schlüter currents” have 1/ x type singularity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- function singular currents shield out island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8"/>
          <p:cNvGraphicFramePr/>
          <p:nvPr/>
        </p:nvGraphicFramePr>
        <p:xfrm>
          <a:off x="3067200" y="3352680"/>
          <a:ext cx="47815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Object 8" descr=""/>
                  <p:cNvPicPr/>
                  <p:nvPr/>
                </p:nvPicPr>
                <p:blipFill>
                  <a:blip r:embed="rId4">
                    <a:alphaModFix amt="25000"/>
                  </a:blip>
                  <a:stretch/>
                </p:blipFill>
                <p:spPr>
                  <a:xfrm>
                    <a:off x="3067200" y="3352680"/>
                    <a:ext cx="47815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4572000" y="2641680"/>
            <a:ext cx="4572000" cy="307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deal variation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allow field topology to change “frozen-flux”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8"/>
          <p:cNvSpPr/>
          <p:nvPr/>
        </p:nvSpPr>
        <p:spPr>
          <a:xfrm>
            <a:off x="6095880" y="817560"/>
            <a:ext cx="3048120" cy="55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port of pressure along field is “infinitely” fast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o scale length in ideal MH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 adapts to fractal structure of phase spac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5" descr="diophantinerenorm.png"/>
          <p:cNvPicPr/>
          <p:nvPr/>
        </p:nvPicPr>
        <p:blipFill>
          <a:blip r:embed="rId1"/>
          <a:stretch/>
        </p:blipFill>
        <p:spPr>
          <a:xfrm>
            <a:off x="5867280" y="3505320"/>
            <a:ext cx="3276720" cy="23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0"/>
          <p:cNvGraphicFramePr/>
          <p:nvPr/>
        </p:nvGraphicFramePr>
        <p:xfrm>
          <a:off x="76320" y="831960"/>
          <a:ext cx="9016920" cy="602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831960"/>
                    <a:ext cx="901692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6585120" y="3276720"/>
          <a:ext cx="2482560" cy="12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5">
                    <a:alphaModFix amt="0"/>
                  </a:blip>
                  <a:stretch/>
                </p:blipFill>
                <p:spPr>
                  <a:xfrm>
                    <a:off x="6585120" y="3276720"/>
                    <a:ext cx="248256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 ideal equilibrium with non-integrabl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otic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ield 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ressure,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initely disconti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Straight Arrow Connector 27"/>
          <p:cNvCxnSpPr/>
          <p:nvPr/>
        </p:nvCxnSpPr>
        <p:spPr>
          <a:xfrm flipH="1" flipV="1">
            <a:off x="7162200" y="47239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29"/>
          <p:cNvCxnSpPr/>
          <p:nvPr/>
        </p:nvCxnSpPr>
        <p:spPr>
          <a:xfrm flipH="1">
            <a:off x="7162200" y="5029200"/>
            <a:ext cx="686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4"/>
          <p:cNvSpPr/>
          <p:nvPr/>
        </p:nvSpPr>
        <p:spPr>
          <a:xfrm>
            <a:off x="6019920" y="57150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dial coordinate≡transfor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7"/>
          <p:cNvSpPr/>
          <p:nvPr/>
        </p:nvSpPr>
        <p:spPr>
          <a:xfrm rot="16200000">
            <a:off x="5371920" y="445716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162920" y="2590920"/>
            <a:ext cx="1904760" cy="398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ophantine Condi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Kolmogorov, Arnold and Mos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ological constraints :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sure gradients coincide with flux su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10"/>
          <p:cNvGraphicFramePr/>
          <p:nvPr/>
        </p:nvGraphicFramePr>
        <p:xfrm>
          <a:off x="219240" y="1066680"/>
          <a:ext cx="883440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066680"/>
                    <a:ext cx="883440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Box 10"/>
          <p:cNvSpPr/>
          <p:nvPr/>
        </p:nvSpPr>
        <p:spPr>
          <a:xfrm>
            <a:off x="6477120" y="1538280"/>
            <a:ext cx="2590560" cy="85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ructure of B and structure of the pressure are intimately connected;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annot apriori specify pressure without apriori constraining structure of the field;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5562720" y="3200400"/>
            <a:ext cx="350496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here there are significant pressure gradients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here can be no islands or chaotic regions with width  &gt; ∆w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traight Connector 26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ylor relaxation:   a weakly resistive plasma will relax, 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ject to single constrai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 conserved heli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Object 10"/>
          <p:cNvGraphicFramePr/>
          <p:nvPr/>
        </p:nvGraphicFramePr>
        <p:xfrm>
          <a:off x="237960" y="838080"/>
          <a:ext cx="806796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838080"/>
                    <a:ext cx="806796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3"/>
          <p:cNvSpPr/>
          <p:nvPr/>
        </p:nvSpPr>
        <p:spPr>
          <a:xfrm>
            <a:off x="0" y="4025880"/>
            <a:ext cx="91440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MHD equilibria and Taylor-relaxed equilibria are at opposite extremes . . . 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-MHD             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of ideal MHD constrain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trivial pressure profiles, but structure of field i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v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relax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 imposition of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nstraint of conserved global helicit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 of field is not-constrained, but pressure profile is trivial, i.e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nder-constrained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76320" y="6172200"/>
            <a:ext cx="8991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 need something in between .  .  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 .  .  perhaps an equilibrium model with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ite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many ideal constraints,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Taylor relaxation?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6553080" y="289548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force-free field ≡ Beltrami fiel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0" y="3505320"/>
            <a:ext cx="914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t, . . .Taylor relaxed fields have no pressure gradi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traight Connector 2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traight Connector 48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6"/>
          <p:cNvSpPr/>
          <p:nvPr/>
        </p:nvSpPr>
        <p:spPr>
          <a:xfrm>
            <a:off x="6324480" y="1600200"/>
            <a:ext cx="2743200" cy="2743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5"/>
          <p:cNvSpPr/>
          <p:nvPr/>
        </p:nvSpPr>
        <p:spPr>
          <a:xfrm>
            <a:off x="6934320" y="1981080"/>
            <a:ext cx="2057400" cy="205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traight Connector 2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7391520" y="2286000"/>
            <a:ext cx="144756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             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multi-volume, partially-relaxed model of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HD equilibria with topological constrai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10"/>
          <p:cNvGraphicFramePr/>
          <p:nvPr/>
        </p:nvGraphicFramePr>
        <p:xfrm>
          <a:off x="119160" y="1079640"/>
          <a:ext cx="8872560" cy="55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079640"/>
                    <a:ext cx="887256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"/>
          <p:cNvSpPr/>
          <p:nvPr/>
        </p:nvSpPr>
        <p:spPr>
          <a:xfrm>
            <a:off x="7848720" y="2666880"/>
            <a:ext cx="6858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rc 13"/>
          <p:cNvSpPr/>
          <p:nvPr/>
        </p:nvSpPr>
        <p:spPr>
          <a:xfrm>
            <a:off x="5257800" y="1523880"/>
            <a:ext cx="3124080" cy="685800"/>
          </a:xfrm>
          <a:custGeom>
            <a:avLst/>
            <a:gdLst>
              <a:gd name="textAreaLeft" fmla="*/ 1192320 w 3124080"/>
              <a:gd name="textAreaRight" fmla="*/ 2673000 w 3124080"/>
              <a:gd name="textAreaTop" fmla="*/ 0 h 685800"/>
              <a:gd name="textAreaBottom" fmla="*/ 10188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  <a:lnTo>
                  <a:pt x="1562100" y="342900"/>
                </a:lnTo>
                <a:close/>
              </a:path>
              <a:path fill="none" w="3124200" h="685800">
                <a:moveTo>
                  <a:pt x="1192260" y="9749"/>
                </a:moveTo>
                <a:lnTo>
                  <a:pt x="1192260" y="9749"/>
                </a:lnTo>
                <a:arcTo wR="1562100" hR="342900" stAng="-8279253" swAng="754462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rc 14"/>
          <p:cNvSpPr/>
          <p:nvPr/>
        </p:nvSpPr>
        <p:spPr>
          <a:xfrm>
            <a:off x="5562720" y="1905120"/>
            <a:ext cx="3124080" cy="685800"/>
          </a:xfrm>
          <a:custGeom>
            <a:avLst/>
            <a:gdLst>
              <a:gd name="textAreaLeft" fmla="*/ 1290240 w 3124080"/>
              <a:gd name="textAreaRight" fmla="*/ 2615400 w 3124080"/>
              <a:gd name="textAreaTop" fmla="*/ 0 h 685800"/>
              <a:gd name="textAreaBottom" fmla="*/ 8964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  <a:lnTo>
                  <a:pt x="1562100" y="342900"/>
                </a:lnTo>
                <a:close/>
              </a:path>
              <a:path fill="none" w="3124200" h="685800">
                <a:moveTo>
                  <a:pt x="1290215" y="5234"/>
                </a:moveTo>
                <a:lnTo>
                  <a:pt x="1290215" y="5234"/>
                </a:lnTo>
                <a:arcTo wR="1562100" hR="342900" stAng="-7730438" swAng="6919469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rc 15"/>
          <p:cNvSpPr/>
          <p:nvPr/>
        </p:nvSpPr>
        <p:spPr>
          <a:xfrm>
            <a:off x="5638680" y="2209680"/>
            <a:ext cx="3124440" cy="685800"/>
          </a:xfrm>
          <a:custGeom>
            <a:avLst/>
            <a:gdLst>
              <a:gd name="textAreaLeft" fmla="*/ 1676880 w 3124440"/>
              <a:gd name="textAreaRight" fmla="*/ 2561040 w 3124440"/>
              <a:gd name="textAreaTop" fmla="*/ 7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  <a:lnTo>
                  <a:pt x="1562100" y="342900"/>
                </a:lnTo>
                <a:close/>
              </a:path>
              <a:path fill="none" w="3124200" h="685800">
                <a:moveTo>
                  <a:pt x="1676818" y="926"/>
                </a:moveTo>
                <a:lnTo>
                  <a:pt x="1676818" y="926"/>
                </a:lnTo>
                <a:arcTo wR="1562100" hR="342900" stAng="-4287333" swAng="340006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rc 17"/>
          <p:cNvSpPr/>
          <p:nvPr/>
        </p:nvSpPr>
        <p:spPr>
          <a:xfrm>
            <a:off x="5715000" y="2590920"/>
            <a:ext cx="3124080" cy="685800"/>
          </a:xfrm>
          <a:custGeom>
            <a:avLst/>
            <a:gdLst>
              <a:gd name="textAreaLeft" fmla="*/ 1808280 w 3124080"/>
              <a:gd name="textAreaRight" fmla="*/ 2561040 w 3124080"/>
              <a:gd name="textAreaTop" fmla="*/ 396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  <a:lnTo>
                  <a:pt x="1562100" y="342900"/>
                </a:lnTo>
                <a:close/>
              </a:path>
              <a:path fill="none" w="3124200" h="685800">
                <a:moveTo>
                  <a:pt x="1808300" y="4286"/>
                </a:moveTo>
                <a:lnTo>
                  <a:pt x="1808300" y="4286"/>
                </a:lnTo>
                <a:arcTo wR="1562100" hR="342900" stAng="-3238787" swAng="2351517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rc 18"/>
          <p:cNvSpPr/>
          <p:nvPr/>
        </p:nvSpPr>
        <p:spPr>
          <a:xfrm>
            <a:off x="5638680" y="3276720"/>
            <a:ext cx="3124440" cy="685800"/>
          </a:xfrm>
          <a:custGeom>
            <a:avLst/>
            <a:gdLst>
              <a:gd name="textAreaLeft" fmla="*/ 1816560 w 3124440"/>
              <a:gd name="textAreaRight" fmla="*/ 2561040 w 3124440"/>
              <a:gd name="textAreaTop" fmla="*/ 4320 h 685800"/>
              <a:gd name="textAreaBottom" fmla="*/ 7920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  <a:lnTo>
                  <a:pt x="1562100" y="342900"/>
                </a:lnTo>
                <a:close/>
              </a:path>
              <a:path fill="none" w="3124200" h="685800">
                <a:moveTo>
                  <a:pt x="1816385" y="4574"/>
                </a:moveTo>
                <a:lnTo>
                  <a:pt x="1816385" y="4574"/>
                </a:lnTo>
                <a:arcTo wR="1562100" hR="342900" stAng="-3184294" swAng="229702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rc 19"/>
          <p:cNvSpPr/>
          <p:nvPr/>
        </p:nvSpPr>
        <p:spPr>
          <a:xfrm>
            <a:off x="5562720" y="3657600"/>
            <a:ext cx="3124080" cy="685800"/>
          </a:xfrm>
          <a:custGeom>
            <a:avLst/>
            <a:gdLst>
              <a:gd name="textAreaLeft" fmla="*/ 1636200 w 3124080"/>
              <a:gd name="textAreaRight" fmla="*/ 2433960 w 3124080"/>
              <a:gd name="textAreaTop" fmla="*/ 36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  <a:lnTo>
                  <a:pt x="1562100" y="342900"/>
                </a:lnTo>
                <a:close/>
              </a:path>
              <a:path fill="none" w="3124200" h="685800">
                <a:moveTo>
                  <a:pt x="1636137" y="385"/>
                </a:moveTo>
                <a:lnTo>
                  <a:pt x="1636137" y="385"/>
                </a:lnTo>
                <a:arcTo wR="1562100" hR="342900" stAng="-4668166" swAng="358398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rc 16"/>
          <p:cNvSpPr/>
          <p:nvPr/>
        </p:nvSpPr>
        <p:spPr>
          <a:xfrm>
            <a:off x="5334120" y="3962520"/>
            <a:ext cx="3124080" cy="685800"/>
          </a:xfrm>
          <a:custGeom>
            <a:avLst/>
            <a:gdLst>
              <a:gd name="textAreaLeft" fmla="*/ 1431720 w 3124080"/>
              <a:gd name="textAreaRight" fmla="*/ 2433960 w 3124080"/>
              <a:gd name="textAreaTop" fmla="*/ 0 h 685800"/>
              <a:gd name="textAreaBottom" fmla="*/ 58320 h 685800"/>
            </a:gdLst>
            <a:ahLst/>
            <a:rect l="textAreaLeft" t="textAreaTop" r="textAreaRight" b="textAreaBottom"/>
            <a:pathLst>
              <a:path stroke="0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  <a:lnTo>
                  <a:pt x="1562100" y="342900"/>
                </a:lnTo>
                <a:close/>
              </a:path>
              <a:path fill="none" w="3124200" h="685800">
                <a:moveTo>
                  <a:pt x="1431798" y="1195"/>
                </a:moveTo>
                <a:lnTo>
                  <a:pt x="1431798" y="1195"/>
                </a:lnTo>
                <a:arcTo wR="1562100" hR="342900" stAng="-6652398" swAng="556821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traight Connector 3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21"/>
          <p:cNvSpPr/>
          <p:nvPr/>
        </p:nvSpPr>
        <p:spPr>
          <a:xfrm>
            <a:off x="6172200" y="6553080"/>
            <a:ext cx="28954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deal interfaces coincide with KAM su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Box 22"/>
          <p:cNvSpPr/>
          <p:nvPr/>
        </p:nvSpPr>
        <p:spPr>
          <a:xfrm>
            <a:off x="6629400" y="4572000"/>
            <a:ext cx="25146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ield remains tangential to interface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 finite number of ideal constraints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mposed topologically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Elbow Connector 30"/>
          <p:cNvCxnSpPr/>
          <p:nvPr/>
        </p:nvCxnSpPr>
        <p:spPr>
          <a:xfrm>
            <a:off x="5028840" y="3580920"/>
            <a:ext cx="1600920" cy="1220040"/>
          </a:xfrm>
          <a:prstGeom prst="bentConnector3">
            <a:avLst>
              <a:gd name="adj1" fmla="val 77013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1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Elbow Connector 34"/>
          <p:cNvCxnSpPr/>
          <p:nvPr/>
        </p:nvCxnSpPr>
        <p:spPr>
          <a:xfrm>
            <a:off x="5866920" y="4800600"/>
            <a:ext cx="762840" cy="2160"/>
          </a:xfrm>
          <a:prstGeom prst="bentConnector3">
            <a:avLst>
              <a:gd name="adj1" fmla="val 50000"/>
            </a:avLst>
          </a:prstGeom>
          <a:ln w="22320">
            <a:solidFill>
              <a:srgbClr val="ffc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12" name="Straight Connector 47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13"/>
          <p:cNvGrpSpPr/>
          <p:nvPr/>
        </p:nvGrpSpPr>
        <p:grpSpPr>
          <a:xfrm>
            <a:off x="7086600" y="990720"/>
            <a:ext cx="1905120" cy="1598400"/>
            <a:chOff x="7086600" y="990720"/>
            <a:chExt cx="1905120" cy="1598400"/>
          </a:xfrm>
        </p:grpSpPr>
        <p:pic>
          <p:nvPicPr>
            <p:cNvPr id="80" name="Picture 60" descr="F:\fusion_talks\flux_surfaces 001.jpg"/>
            <p:cNvPicPr/>
            <p:nvPr/>
          </p:nvPicPr>
          <p:blipFill>
            <a:blip r:embed="rId1"/>
            <a:srcRect l="20182" t="16861" r="0" b="20641"/>
            <a:stretch/>
          </p:blipFill>
          <p:spPr>
            <a:xfrm>
              <a:off x="7086600" y="990720"/>
              <a:ext cx="1905120" cy="15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reeform 67"/>
            <p:cNvSpPr/>
            <p:nvPr/>
          </p:nvSpPr>
          <p:spPr>
            <a:xfrm>
              <a:off x="7991640" y="1388520"/>
              <a:ext cx="73080" cy="137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" h="57">
                  <a:moveTo>
                    <a:pt x="32" y="57"/>
                  </a:moveTo>
                  <a:cubicBezTo>
                    <a:pt x="31" y="46"/>
                    <a:pt x="30" y="35"/>
                    <a:pt x="25" y="25"/>
                  </a:cubicBezTo>
                  <a:cubicBezTo>
                    <a:pt x="20" y="15"/>
                    <a:pt x="10" y="7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8"/>
            <p:cNvSpPr/>
            <p:nvPr/>
          </p:nvSpPr>
          <p:spPr>
            <a:xfrm>
              <a:off x="7907400" y="1575720"/>
              <a:ext cx="189360" cy="730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0" h="38">
                  <a:moveTo>
                    <a:pt x="70" y="38"/>
                  </a:moveTo>
                  <a:cubicBezTo>
                    <a:pt x="58" y="25"/>
                    <a:pt x="47" y="12"/>
                    <a:pt x="35" y="6"/>
                  </a:cubicBezTo>
                  <a:cubicBezTo>
                    <a:pt x="23" y="0"/>
                    <a:pt x="6" y="1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9"/>
            <p:cNvSpPr/>
            <p:nvPr/>
          </p:nvSpPr>
          <p:spPr>
            <a:xfrm>
              <a:off x="7915680" y="1772640"/>
              <a:ext cx="191880" cy="54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05" h="31">
                  <a:moveTo>
                    <a:pt x="205" y="18"/>
                  </a:moveTo>
                  <a:cubicBezTo>
                    <a:pt x="162" y="9"/>
                    <a:pt x="120" y="0"/>
                    <a:pt x="86" y="2"/>
                  </a:cubicBezTo>
                  <a:cubicBezTo>
                    <a:pt x="52" y="4"/>
                    <a:pt x="26" y="17"/>
                    <a:pt x="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1"/>
            <p:cNvSpPr/>
            <p:nvPr/>
          </p:nvSpPr>
          <p:spPr>
            <a:xfrm>
              <a:off x="8669160" y="1644840"/>
              <a:ext cx="72000" cy="511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61" h="432">
                  <a:moveTo>
                    <a:pt x="32" y="432"/>
                  </a:moveTo>
                  <a:cubicBezTo>
                    <a:pt x="46" y="352"/>
                    <a:pt x="61" y="272"/>
                    <a:pt x="56" y="200"/>
                  </a:cubicBezTo>
                  <a:cubicBezTo>
                    <a:pt x="51" y="128"/>
                    <a:pt x="11" y="3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72"/>
            <p:cNvSpPr/>
            <p:nvPr/>
          </p:nvSpPr>
          <p:spPr>
            <a:xfrm>
              <a:off x="7351560" y="1000080"/>
              <a:ext cx="180000" cy="50220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48" h="704">
                  <a:moveTo>
                    <a:pt x="248" y="704"/>
                  </a:moveTo>
                  <a:cubicBezTo>
                    <a:pt x="220" y="562"/>
                    <a:pt x="193" y="421"/>
                    <a:pt x="152" y="304"/>
                  </a:cubicBezTo>
                  <a:cubicBezTo>
                    <a:pt x="111" y="187"/>
                    <a:pt x="55" y="93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3"/>
            <p:cNvSpPr/>
            <p:nvPr/>
          </p:nvSpPr>
          <p:spPr>
            <a:xfrm>
              <a:off x="8695080" y="1802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74"/>
            <p:cNvSpPr/>
            <p:nvPr/>
          </p:nvSpPr>
          <p:spPr>
            <a:xfrm>
              <a:off x="7526160" y="1040400"/>
              <a:ext cx="2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" name="Object 10"/>
          <p:cNvGraphicFramePr/>
          <p:nvPr/>
        </p:nvGraphicFramePr>
        <p:xfrm>
          <a:off x="122400" y="933480"/>
          <a:ext cx="8861400" cy="58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400" y="933480"/>
                    <a:ext cx="886140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ead, a multi-region, relaxed energy principle for MHD equilibria with non-trivial pressure and chao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26"/>
          <p:cNvSpPr/>
          <p:nvPr/>
        </p:nvSpPr>
        <p:spPr>
          <a:xfrm>
            <a:off x="0" y="68580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11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bstract.png"/>
          <p:cNvPicPr/>
          <p:nvPr/>
        </p:nvPicPr>
        <p:blipFill>
          <a:blip r:embed="rId1"/>
          <a:stretch/>
        </p:blipFill>
        <p:spPr>
          <a:xfrm>
            <a:off x="171360" y="1981080"/>
            <a:ext cx="8801280" cy="21052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2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Existence.png"/>
          <p:cNvPicPr/>
          <p:nvPr/>
        </p:nvPicPr>
        <p:blipFill>
          <a:blip r:embed="rId2"/>
          <a:stretch/>
        </p:blipFill>
        <p:spPr>
          <a:xfrm>
            <a:off x="985680" y="152280"/>
            <a:ext cx="7172640" cy="85752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13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Bruno.png"/>
          <p:cNvPicPr/>
          <p:nvPr/>
        </p:nvPicPr>
        <p:blipFill>
          <a:blip r:embed="rId3"/>
          <a:stretch/>
        </p:blipFill>
        <p:spPr>
          <a:xfrm>
            <a:off x="1143000" y="1143000"/>
            <a:ext cx="3448080" cy="67644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1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Laurence.png"/>
          <p:cNvPicPr/>
          <p:nvPr/>
        </p:nvPicPr>
        <p:blipFill>
          <a:blip r:embed="rId4"/>
          <a:stretch/>
        </p:blipFill>
        <p:spPr>
          <a:xfrm>
            <a:off x="4800600" y="1190520"/>
            <a:ext cx="338148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15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citation.png"/>
          <p:cNvPicPr/>
          <p:nvPr/>
        </p:nvPicPr>
        <p:blipFill>
          <a:blip r:embed="rId5"/>
          <a:stretch/>
        </p:blipFill>
        <p:spPr>
          <a:xfrm>
            <a:off x="533520" y="4343400"/>
            <a:ext cx="8001000" cy="24444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16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8"/>
          <p:cNvSpPr/>
          <p:nvPr/>
        </p:nvSpPr>
        <p:spPr>
          <a:xfrm>
            <a:off x="2057400" y="220968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10"/>
          <p:cNvSpPr/>
          <p:nvPr/>
        </p:nvSpPr>
        <p:spPr>
          <a:xfrm>
            <a:off x="68580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18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9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20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24"/>
          <p:cNvSpPr/>
          <p:nvPr/>
        </p:nvSpPr>
        <p:spPr>
          <a:xfrm>
            <a:off x="0" y="68580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152280" y="5505480"/>
            <a:ext cx="8839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is was a strong motivation for pursuing the stepped-pressure equilibrium mode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ow large the “sufficiently small” departure from axisymmetry can be needs to be explored numerically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25"/>
          <p:cNvSpPr/>
          <p:nvPr/>
        </p:nvSpPr>
        <p:spPr>
          <a:xfrm>
            <a:off x="0" y="68580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0"/>
          <p:cNvSpPr/>
          <p:nvPr/>
        </p:nvSpPr>
        <p:spPr>
          <a:xfrm>
            <a:off x="3200400" y="403848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0"/>
          <p:cNvSpPr/>
          <p:nvPr/>
        </p:nvSpPr>
        <p:spPr>
          <a:xfrm>
            <a:off x="5638680" y="3505320"/>
            <a:ext cx="3200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10"/>
          <p:cNvSpPr/>
          <p:nvPr/>
        </p:nvSpPr>
        <p:spPr>
          <a:xfrm>
            <a:off x="304920" y="3809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SFP_11_FareyTree.png"/>
          <p:cNvPicPr/>
          <p:nvPr/>
        </p:nvPicPr>
        <p:blipFill>
          <a:blip r:embed="rId1"/>
          <a:stretch/>
        </p:blipFill>
        <p:spPr>
          <a:xfrm>
            <a:off x="4191120" y="4572000"/>
            <a:ext cx="4952880" cy="2158920"/>
          </a:xfrm>
          <a:prstGeom prst="rect">
            <a:avLst/>
          </a:prstGeom>
          <a:ln w="0">
            <a:noFill/>
          </a:ln>
        </p:spPr>
      </p:pic>
      <p:sp>
        <p:nvSpPr>
          <p:cNvPr id="123" name="Straight Connector 15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y definition, an equilibrium code must constrain topology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111240" y="685800"/>
          <a:ext cx="8956440" cy="38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240" y="685800"/>
                    <a:ext cx="895644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traight Connector 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4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7848720" y="4800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1"/>
          <p:cNvGraphicFramePr/>
          <p:nvPr/>
        </p:nvGraphicFramePr>
        <p:xfrm>
          <a:off x="76320" y="5052960"/>
          <a:ext cx="4635360" cy="17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76320" y="5052960"/>
                    <a:ext cx="4635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40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trema of energy functional obtained numerically;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ing the Stepped Pressure Equilibrium Code (SP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1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76320" y="1168560"/>
          <a:ext cx="8837640" cy="56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68560"/>
                    <a:ext cx="8837640" cy="56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1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114800" y="279396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iecewise cubic or quintic basis polynomial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1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6095880" y="614664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inimal spectral width [Hirshman, VMEC]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086600" y="3581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olved using sparse linear solve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2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334120" y="4495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djusted so interface transform is strongly irrational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3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6121440" y="330192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1440" y="3301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Straight Connector 3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39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4" descr="BeltramiPoincare.png"/>
          <p:cNvPicPr/>
          <p:nvPr/>
        </p:nvPicPr>
        <p:blipFill>
          <a:blip r:embed="rId1"/>
          <a:stretch/>
        </p:blipFill>
        <p:spPr>
          <a:xfrm>
            <a:off x="36576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161" name="Straight Connector 62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10"/>
          <p:cNvGraphicFramePr/>
          <p:nvPr/>
        </p:nvGraphicFramePr>
        <p:xfrm>
          <a:off x="98280" y="571680"/>
          <a:ext cx="7304400" cy="35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280" y="571680"/>
                    <a:ext cx="7304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merical error in Beltrami field scales as exp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2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curlerror.png"/>
          <p:cNvPicPr/>
          <p:nvPr/>
        </p:nvPicPr>
        <p:blipFill>
          <a:blip r:embed="rId4"/>
          <a:stretch/>
        </p:blipFill>
        <p:spPr>
          <a:xfrm>
            <a:off x="3429000" y="1965240"/>
            <a:ext cx="5715000" cy="1920960"/>
          </a:xfrm>
          <a:prstGeom prst="rect">
            <a:avLst/>
          </a:prstGeom>
          <a:ln w="0">
            <a:noFill/>
          </a:ln>
        </p:spPr>
      </p:pic>
      <p:sp>
        <p:nvSpPr>
          <p:cNvPr id="169" name="Straight Connector 2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2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676520" y="1447920"/>
            <a:ext cx="175248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h = radial grid size = 1 / 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= order of polynomial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3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3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3962520" y="4038480"/>
            <a:ext cx="14475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incaré plot,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4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1981080" y="5257800"/>
            <a:ext cx="12956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m,n)=(3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+ (m,n)=(2,1) island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=                     chao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Straight Arrow Connector 26"/>
          <p:cNvCxnSpPr/>
          <p:nvPr/>
        </p:nvCxnSpPr>
        <p:spPr>
          <a:xfrm flipV="1">
            <a:off x="3276360" y="4723920"/>
            <a:ext cx="106740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Straight Arrow Connector 28"/>
          <p:cNvCxnSpPr>
            <a:stCxn id="181" idx="3"/>
          </p:cNvCxnSpPr>
          <p:nvPr/>
        </p:nvCxnSpPr>
        <p:spPr>
          <a:xfrm flipV="1">
            <a:off x="3276360" y="5487480"/>
            <a:ext cx="991080" cy="59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Straight Arrow Connector 31"/>
          <p:cNvCxnSpPr/>
          <p:nvPr/>
        </p:nvCxnSpPr>
        <p:spPr>
          <a:xfrm flipV="1">
            <a:off x="3276360" y="5638680"/>
            <a:ext cx="6865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76320" y="5014800"/>
          <a:ext cx="2814480" cy="16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014800"/>
                    <a:ext cx="28144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ight Arrow 41"/>
          <p:cNvSpPr/>
          <p:nvPr/>
        </p:nvSpPr>
        <p:spPr>
          <a:xfrm rot="1909800">
            <a:off x="5867280" y="2692080"/>
            <a:ext cx="1051200" cy="3016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quintic, n=5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ight Arrow 42"/>
          <p:cNvSpPr/>
          <p:nvPr/>
        </p:nvSpPr>
        <p:spPr>
          <a:xfrm rot="1014000">
            <a:off x="6090840" y="2209680"/>
            <a:ext cx="1050840" cy="30024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ffffcc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bic, n=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7"/>
          <p:cNvGraphicFramePr/>
          <p:nvPr/>
        </p:nvGraphicFramePr>
        <p:xfrm>
          <a:off x="7696080" y="3657600"/>
          <a:ext cx="1128960" cy="2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3657600"/>
                    <a:ext cx="11289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8"/>
          <p:cNvGraphicFramePr/>
          <p:nvPr/>
        </p:nvGraphicFramePr>
        <p:xfrm>
          <a:off x="7237440" y="1828800"/>
          <a:ext cx="11494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7440" y="1828800"/>
                    <a:ext cx="114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Straight Connector 5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3657600" y="1676520"/>
          <a:ext cx="54864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1676520"/>
                    <a:ext cx="5486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Straight Connector 5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traight Connector 6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traight Connector 61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0" y="41911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of chaotic Beltrami fiel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single given annulus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6" descr="BeltramiSubgrid.png"/>
          <p:cNvPicPr/>
          <p:nvPr/>
        </p:nvPicPr>
        <p:blipFill>
          <a:blip r:embed="rId13"/>
          <a:stretch/>
        </p:blipFill>
        <p:spPr>
          <a:xfrm>
            <a:off x="6400800" y="4073400"/>
            <a:ext cx="2743200" cy="27846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1"/>
          <p:cNvSpPr/>
          <p:nvPr/>
        </p:nvSpPr>
        <p:spPr>
          <a:xfrm>
            <a:off x="6400800" y="4038480"/>
            <a:ext cx="1676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ub-radial grid, N=1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5" descr="transformhigh.png"/>
          <p:cNvPicPr/>
          <p:nvPr/>
        </p:nvPicPr>
        <p:blipFill>
          <a:blip r:embed="rId1"/>
          <a:stretch/>
        </p:blipFill>
        <p:spPr>
          <a:xfrm>
            <a:off x="7015320" y="5257800"/>
            <a:ext cx="2128680" cy="1600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5" descr="transformlow.png"/>
          <p:cNvPicPr/>
          <p:nvPr/>
        </p:nvPicPr>
        <p:blipFill>
          <a:blip r:embed="rId2"/>
          <a:stretch/>
        </p:blipFill>
        <p:spPr>
          <a:xfrm>
            <a:off x="4952880" y="5257800"/>
            <a:ext cx="2125800" cy="1600200"/>
          </a:xfrm>
          <a:prstGeom prst="rect">
            <a:avLst/>
          </a:prstGeom>
          <a:ln w="0">
            <a:noFill/>
          </a:ln>
        </p:spPr>
      </p:pic>
      <p:sp>
        <p:nvSpPr>
          <p:cNvPr id="212" name="Straight Connector 79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2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5"/>
          <p:cNvSpPr/>
          <p:nvPr/>
        </p:nvSpPr>
        <p:spPr>
          <a:xfrm rot="16200000">
            <a:off x="-397440" y="1590840"/>
            <a:ext cx="19047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3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2590920" y="449568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3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9" descr="vmeczerobeta.png"/>
          <p:cNvPicPr/>
          <p:nvPr/>
        </p:nvPicPr>
        <p:blipFill>
          <a:blip r:embed="rId3"/>
          <a:stretch/>
        </p:blipFill>
        <p:spPr>
          <a:xfrm>
            <a:off x="685800" y="762120"/>
            <a:ext cx="1905120" cy="190800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3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epped-pressure equilibria accurately approximat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ooth-pressu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symmetr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4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10"/>
          <p:cNvGraphicFramePr/>
          <p:nvPr/>
        </p:nvGraphicFramePr>
        <p:xfrm>
          <a:off x="4952880" y="896760"/>
          <a:ext cx="4013280" cy="17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896760"/>
                    <a:ext cx="40132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Straight Connector 4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6"/>
          <p:cNvSpPr/>
          <p:nvPr/>
        </p:nvSpPr>
        <p:spPr>
          <a:xfrm>
            <a:off x="685800" y="449568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R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27"/>
          <p:cNvSpPr/>
          <p:nvPr/>
        </p:nvSpPr>
        <p:spPr>
          <a:xfrm rot="16200000">
            <a:off x="-397440" y="3496320"/>
            <a:ext cx="190512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ylindrical Z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eft Arrow 31"/>
          <p:cNvSpPr/>
          <p:nvPr/>
        </p:nvSpPr>
        <p:spPr>
          <a:xfrm>
            <a:off x="2590920" y="18288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wer half = SPEC interfac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eft Arrow 32"/>
          <p:cNvSpPr/>
          <p:nvPr/>
        </p:nvSpPr>
        <p:spPr>
          <a:xfrm>
            <a:off x="2590920" y="91440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pper half = SPEC &amp; VMEC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eft Arrow 25"/>
          <p:cNvSpPr/>
          <p:nvPr/>
        </p:nvSpPr>
        <p:spPr>
          <a:xfrm rot="16200000">
            <a:off x="-1599840" y="2437920"/>
            <a:ext cx="3809880" cy="4572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5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ight Arrow 28"/>
          <p:cNvSpPr/>
          <p:nvPr/>
        </p:nvSpPr>
        <p:spPr>
          <a:xfrm>
            <a:off x="533520" y="4673520"/>
            <a:ext cx="4114800" cy="3812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reasing pressure resolution ≡ number of interfac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traight Connector 5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0" descr="vmechighbeta.png"/>
          <p:cNvPicPr/>
          <p:nvPr/>
        </p:nvPicPr>
        <p:blipFill>
          <a:blip r:embed="rId6"/>
          <a:stretch/>
        </p:blipFill>
        <p:spPr>
          <a:xfrm>
            <a:off x="685800" y="2666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0" name="Straight Connector 5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5" descr="specraxis.png"/>
          <p:cNvPicPr/>
          <p:nvPr/>
        </p:nvPicPr>
        <p:blipFill>
          <a:blip r:embed="rId7"/>
          <a:stretch/>
        </p:blipFill>
        <p:spPr>
          <a:xfrm>
            <a:off x="5029200" y="2784600"/>
            <a:ext cx="3657600" cy="2058840"/>
          </a:xfrm>
          <a:prstGeom prst="rect">
            <a:avLst/>
          </a:prstGeom>
          <a:ln w="0">
            <a:noFill/>
          </a:ln>
        </p:spPr>
      </p:pic>
      <p:sp>
        <p:nvSpPr>
          <p:cNvPr id="242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5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6"/>
          <p:cNvSpPr/>
          <p:nvPr/>
        </p:nvSpPr>
        <p:spPr>
          <a:xfrm>
            <a:off x="6172200" y="4842000"/>
            <a:ext cx="2514600" cy="2462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  ≡ finite-element resolution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6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37"/>
          <p:cNvSpPr/>
          <p:nvPr/>
        </p:nvSpPr>
        <p:spPr>
          <a:xfrm>
            <a:off x="6477120" y="2666880"/>
            <a:ext cx="2361960" cy="6728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agnetic axis vs. radial resolution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using quintic-radial finite-element basis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for high pressure equilibrium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(dotted line indicates VMEC result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6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6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2"/>
          <p:cNvSpPr/>
          <p:nvPr/>
        </p:nvSpPr>
        <p:spPr>
          <a:xfrm>
            <a:off x="609480" y="6477120"/>
            <a:ext cx="19051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6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23"/>
          <p:cNvSpPr/>
          <p:nvPr/>
        </p:nvSpPr>
        <p:spPr>
          <a:xfrm rot="16200000">
            <a:off x="-143280" y="5705640"/>
            <a:ext cx="144756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Pressure, p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6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11" descr="vmechighbetaN.png"/>
          <p:cNvPicPr/>
          <p:nvPr/>
        </p:nvPicPr>
        <p:blipFill>
          <a:blip r:embed="rId8"/>
          <a:stretch/>
        </p:blipFill>
        <p:spPr>
          <a:xfrm>
            <a:off x="259092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55" name="Straight Connector 7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7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2590920" y="6477120"/>
            <a:ext cx="19047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oroidal flux </a:t>
            </a:r>
            <a:r>
              <a:rPr b="1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7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85800" y="492768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stepped-profile approximation to smooth profil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7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0" descr="steppedprofilelow.png"/>
          <p:cNvPicPr/>
          <p:nvPr/>
        </p:nvPicPr>
        <p:blipFill>
          <a:blip r:embed="rId9"/>
          <a:stretch/>
        </p:blipFill>
        <p:spPr>
          <a:xfrm>
            <a:off x="685800" y="5133960"/>
            <a:ext cx="1905120" cy="141912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7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1" descr="steppedprofilehigh.png"/>
          <p:cNvPicPr/>
          <p:nvPr/>
        </p:nvPicPr>
        <p:blipFill>
          <a:blip r:embed="rId10"/>
          <a:stretch/>
        </p:blipFill>
        <p:spPr>
          <a:xfrm>
            <a:off x="2590920" y="513396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264" name="Straight Connector 78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4"/>
          <p:cNvSpPr/>
          <p:nvPr/>
        </p:nvSpPr>
        <p:spPr>
          <a:xfrm rot="16200000">
            <a:off x="4250520" y="5782320"/>
            <a:ext cx="1295280" cy="24624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3" descr="SFP_11_pressureprofile.png"/>
          <p:cNvPicPr/>
          <p:nvPr/>
        </p:nvPicPr>
        <p:blipFill>
          <a:blip r:embed="rId1"/>
          <a:stretch/>
        </p:blipFill>
        <p:spPr>
          <a:xfrm>
            <a:off x="2819520" y="4952880"/>
            <a:ext cx="2993760" cy="1881360"/>
          </a:xfrm>
          <a:prstGeom prst="rect">
            <a:avLst/>
          </a:prstGeom>
          <a:ln w="0">
            <a:noFill/>
          </a:ln>
        </p:spPr>
      </p:pic>
      <p:sp>
        <p:nvSpPr>
          <p:cNvPr id="267" name="Straight Connector 61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4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a with       (i) perturbed boundary &amp; chaotic fields,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      (ii) pressure are computed   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traight Connector 4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10"/>
          <p:cNvGraphicFramePr/>
          <p:nvPr/>
        </p:nvGraphicFramePr>
        <p:xfrm>
          <a:off x="5703840" y="1143000"/>
          <a:ext cx="336384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3840" y="1143000"/>
                    <a:ext cx="336384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Straight Connector 4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traight Connector 47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traight Connector 4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traight Connector 4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5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37"/>
          <p:cNvSpPr/>
          <p:nvPr/>
        </p:nvSpPr>
        <p:spPr>
          <a:xfrm>
            <a:off x="2892600" y="914400"/>
            <a:ext cx="2361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5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5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7"/>
          <p:cNvSpPr/>
          <p:nvPr/>
        </p:nvSpPr>
        <p:spPr>
          <a:xfrm>
            <a:off x="228600" y="914400"/>
            <a:ext cx="2362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cylindric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0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5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60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1" descr="zerobetaislands.png"/>
          <p:cNvPicPr/>
          <p:nvPr/>
        </p:nvPicPr>
        <p:blipFill>
          <a:blip r:embed="rId4"/>
          <a:stretch/>
        </p:blipFill>
        <p:spPr>
          <a:xfrm>
            <a:off x="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2" descr="highbetaislands.png"/>
          <p:cNvPicPr/>
          <p:nvPr/>
        </p:nvPicPr>
        <p:blipFill>
          <a:blip r:embed="rId5"/>
          <a:stretch/>
        </p:blipFill>
        <p:spPr>
          <a:xfrm>
            <a:off x="2743200" y="1447920"/>
            <a:ext cx="2739960" cy="2743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3" descr="islandconvergence.png"/>
          <p:cNvPicPr/>
          <p:nvPr/>
        </p:nvPicPr>
        <p:blipFill>
          <a:blip r:embed="rId6"/>
          <a:stretch/>
        </p:blipFill>
        <p:spPr>
          <a:xfrm>
            <a:off x="5619600" y="43434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37"/>
          <p:cNvSpPr/>
          <p:nvPr/>
        </p:nvSpPr>
        <p:spPr>
          <a:xfrm>
            <a:off x="5334120" y="3962520"/>
            <a:ext cx="3733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vergence of (2,1) &amp; (3,1) island widths .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ith Fourier resolution, </a:t>
            </a: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 cas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oloidal resolution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M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roidal resolution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37"/>
          <p:cNvSpPr/>
          <p:nvPr/>
        </p:nvSpPr>
        <p:spPr>
          <a:xfrm>
            <a:off x="2286000" y="175248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2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Straight Arrow Connector 33"/>
          <p:cNvCxnSpPr/>
          <p:nvPr/>
        </p:nvCxnSpPr>
        <p:spPr>
          <a:xfrm>
            <a:off x="3124080" y="2003400"/>
            <a:ext cx="457920" cy="51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TextBox 37"/>
          <p:cNvSpPr/>
          <p:nvPr/>
        </p:nvSpPr>
        <p:spPr>
          <a:xfrm>
            <a:off x="2286000" y="3657600"/>
            <a:ext cx="838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3,1) isl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Straight Arrow Connector 39"/>
          <p:cNvCxnSpPr/>
          <p:nvPr/>
        </p:nvCxnSpPr>
        <p:spPr>
          <a:xfrm flipH="1">
            <a:off x="1828440" y="1904040"/>
            <a:ext cx="45792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Straight Arrow Connector 41"/>
          <p:cNvCxnSpPr/>
          <p:nvPr/>
        </p:nvCxnSpPr>
        <p:spPr>
          <a:xfrm flipV="1">
            <a:off x="2895480" y="3047400"/>
            <a:ext cx="153360" cy="63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3" name="Picture 26" descr="qfmsiswidths.png"/>
          <p:cNvPicPr/>
          <p:nvPr/>
        </p:nvPicPr>
        <p:blipFill>
          <a:blip r:embed="rId7"/>
          <a:stretch/>
        </p:blipFill>
        <p:spPr>
          <a:xfrm>
            <a:off x="109440" y="4648320"/>
            <a:ext cx="2100240" cy="19810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37"/>
          <p:cNvSpPr/>
          <p:nvPr/>
        </p:nvSpPr>
        <p:spPr>
          <a:xfrm>
            <a:off x="76320" y="6519960"/>
            <a:ext cx="21333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oloidal ang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37"/>
          <p:cNvSpPr/>
          <p:nvPr/>
        </p:nvSpPr>
        <p:spPr>
          <a:xfrm rot="16200000">
            <a:off x="-783360" y="5507640"/>
            <a:ext cx="198108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dial coordinat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37"/>
          <p:cNvSpPr/>
          <p:nvPr/>
        </p:nvSpPr>
        <p:spPr>
          <a:xfrm>
            <a:off x="3886200" y="4952880"/>
            <a:ext cx="137160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sure profile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31"/>
          <p:cNvSpPr/>
          <p:nvPr/>
        </p:nvSpPr>
        <p:spPr>
          <a:xfrm>
            <a:off x="5562720" y="2590920"/>
            <a:ext cx="35049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onstrated Convergenc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f high-pressure equilibrium with islands,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th Fourier Resolution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76320" y="4200480"/>
            <a:ext cx="2133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caré plot (toroida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4%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37"/>
          <p:cNvSpPr/>
          <p:nvPr/>
        </p:nvSpPr>
        <p:spPr>
          <a:xfrm rot="16200000">
            <a:off x="1883160" y="5279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cp:lastPrinted>2010-10-19T22:35:21Z</cp:lastPrinted>
  <dcterms:modified xsi:type="dcterms:W3CDTF">2011-06-27T14:27:23Z</dcterms:modified>
  <cp:revision>2163</cp:revision>
  <dc:subject/>
  <dc:title>Direct calculation of   using eigenvalue perturbation theory   S.R.Hudson  </dc:title>
</cp:coreProperties>
</file>