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59.png" ContentType="image/png"/>
  <Override PartName="/ppt/media/image16.wmf" ContentType="image/x-wmf"/>
  <Override PartName="/ppt/media/image56.png" ContentType="image/png"/>
  <Override PartName="/ppt/media/image13.wmf" ContentType="image/x-wmf"/>
  <Override PartName="/ppt/media/image1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47.wmf" ContentType="image/x-wmf"/>
  <Override PartName="/ppt/media/image46.png" ContentType="image/png"/>
  <Override PartName="/ppt/media/image6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4.wmf" ContentType="image/x-wmf"/>
  <Override PartName="/ppt/media/image40.png" ContentType="image/png"/>
  <Override PartName="/ppt/media/image4.jpeg" ContentType="image/jpeg"/>
  <Override PartName="/ppt/media/image32.png" ContentType="image/png"/>
  <Override PartName="/ppt/media/image69.png" ContentType="image/png"/>
  <Override PartName="/ppt/media/image2.png" ContentType="image/png"/>
  <Override PartName="/ppt/media/image19.wmf" ContentType="image/x-wmf"/>
  <Override PartName="/ppt/media/image21.wmf" ContentType="image/x-wmf"/>
  <Override PartName="/ppt/media/image64.png" ContentType="image/png"/>
  <Override PartName="/ppt/media/image17.png" ContentType="image/png"/>
  <Override PartName="/ppt/media/image57.wmf" ContentType="image/x-wmf"/>
  <Override PartName="/ppt/media/image68.wmf" ContentType="image/x-wmf"/>
  <Override PartName="/ppt/media/image67.wmf" ContentType="image/x-wmf"/>
  <Override PartName="/ppt/media/image11.png" ContentType="image/png"/>
  <Override PartName="/ppt/media/image66.wmf" ContentType="image/x-wmf"/>
  <Override PartName="/ppt/media/image26.png" ContentType="image/png"/>
  <Override PartName="/ppt/media/image25.png" ContentType="image/png"/>
  <Override PartName="/ppt/media/image62.png" ContentType="image/png"/>
  <Override PartName="/ppt/media/image27.wmf" ContentType="image/x-wmf"/>
  <Override PartName="/ppt/media/image20.wmf" ContentType="image/x-wmf"/>
  <Override PartName="/ppt/media/image63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65.png" ContentType="image/png"/>
  <Override PartName="/ppt/media/image48.png" ContentType="image/png"/>
  <Override PartName="/ppt/media/image70.wmf" ContentType="image/x-wmf"/>
  <Override PartName="/ppt/media/image30.png" ContentType="image/png"/>
  <Override PartName="/ppt/media/image51.wmf" ContentType="image/x-wmf"/>
  <Override PartName="/ppt/media/image29.png" ContentType="image/png"/>
  <Override PartName="/ppt/media/image58.png" ContentType="image/png"/>
  <Override PartName="/ppt/media/image3.wmf" ContentType="image/x-wmf"/>
  <Override PartName="/ppt/media/image15.wmf" ContentType="image/x-wmf"/>
  <Override PartName="/ppt/media/image37.png" ContentType="image/png"/>
  <Override PartName="/ppt/media/image8.png" ContentType="image/png"/>
  <Override PartName="/ppt/media/image38.png" ContentType="image/png"/>
  <Override PartName="/ppt/media/image7.png" ContentType="image/png"/>
  <Override PartName="/ppt/media/image41.wmf" ContentType="image/x-wmf"/>
  <Override PartName="/ppt/media/image55.png" ContentType="image/png"/>
  <Override PartName="/ppt/media/image12.wmf" ContentType="image/x-wmf"/>
  <Override PartName="/ppt/media/image9.png" ContentType="image/png"/>
  <Override PartName="/ppt/media/image61.wmf" ContentType="image/x-wmf"/>
  <Override PartName="/ppt/media/image39.png" ContentType="image/png"/>
  <Override PartName="/ppt/media/image5.wmf" ContentType="image/x-wmf"/>
  <Override PartName="/ppt/media/image10.png" ContentType="image/png"/>
  <Override PartName="/ppt/media/image28.png" ContentType="image/png"/>
  <Override PartName="/ppt/media/image50.wmf" ContentType="image/x-wmf"/>
  <Override PartName="/ppt/media/image31.png" ContentType="image/png"/>
  <Override PartName="/ppt/media/image33.png" ContentType="image/png"/>
  <Override PartName="/ppt/media/image34.wmf" ContentType="image/x-wmf"/>
  <Override PartName="/ppt/media/image35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B833-2301-46FE-B07F-36993B7512C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9683-A9B4-43BB-A963-FA98755753D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6E51-39D9-4AFE-AF14-22B1F79906B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67C5-28D0-4A6F-81C9-6CD869711F9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4ABC-BC78-4846-858F-E9817443569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0F44-40E6-425F-8DB8-ED68E9AA382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8279-107C-41B5-99ED-FB635DF135B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E061-3A44-484E-8242-5FAD6531B02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3295-57C1-41A5-BF6C-887BD837E17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0E33-B6F8-4F0E-82E0-B9DA93EC58B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7AA6-F7E1-4F82-A103-EE8D4D6F22A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212F-14AD-442D-84DA-7A55A41FF7B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5DD3-B6B9-46AF-9A8D-860B9069951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2E31-5466-40DD-AAA7-C7D005CE3BD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9D78-B562-4E27-B3C4-96C434FEAAF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89CD-2A4D-4F9C-A11E-39F766CEE0B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7714-91FD-4D77-9E0F-ECED3531A23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28B6-2825-417C-B5D2-7B1B4DF13C0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269D-D3AB-4106-A408-A8689D763BB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549A-8110-466E-89B9-CA814B6F578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54F9-43BE-4990-AFF1-A7286F60E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21B0-B5EA-4AE5-B338-9B8402ADE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9E59-50F8-4692-B698-C06F41DA3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0C26-B126-4414-A134-BCCF9F1944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71D7-A525-40EF-974C-6EC14C69CF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C3E4-46FC-4844-AE29-CEA6A87B2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FCEA-DE19-46A0-BA29-94D433529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A2CD-0FAF-4758-B23D-D07929765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482F-4BBD-401D-A212-5546613DA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919C-7AB1-4FBE-B87A-B847C0D23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4339-209C-4A1E-A62C-247CF76A3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2D40-03C2-422C-BAFD-43FD4CEF1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9EC3-93DA-4646-92E1-406E6AD41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5.wmf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8.wmf"/><Relationship Id="rId11" Type="http://schemas.openxmlformats.org/officeDocument/2006/relationships/image" Target="../media/image69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tially-relaxed, topologically-constrain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HD equilibria with chaotic fields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tuart Hudson</a:t>
            </a:r>
            <a:br>
              <a:rPr sz="9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inceton Plasma Physics Laboratory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.L. Dewar, M.J. Hole &amp; M. McGann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ustralian National University</a:t>
            </a:r>
            <a:br>
              <a:rPr sz="900"/>
            </a:br>
            <a:br>
              <a:rPr sz="9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International Workshop on Stochasticity in Fusion Plasmas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ülic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Germany, 1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-1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April 2011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vation and Outlin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implest model of approximating global, macroscopic force balance in toroidal plasma confinement with arbitrary geometry is magnetohydrodynamics (MHD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roidal magnetic fields are analogous to 1-1/2 Hamiltonians, are generally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liated by continuous family of flux surfaces, so we need an MHD equilibrium code that allows 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n-integr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ield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al MHD equilibria with non-integrable magnetic fields (i.e. fractal phase space) are infinitely discontinuous. This leads to an ill-posed numerical algorithm for computing numerically-intractable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thologica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ia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partially-relaxed, topologically-constrained MHD equilibrium model is described and implemented numerically. Results demonstrating convergence tests, benchmarks, and non-trivial solutions are presente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8" descr="SFP_11_resonantfields_dshape.png"/>
          <p:cNvPicPr/>
          <p:nvPr/>
        </p:nvPicPr>
        <p:blipFill>
          <a:blip r:embed="rId1"/>
          <a:stretch/>
        </p:blipFill>
        <p:spPr>
          <a:xfrm>
            <a:off x="5095800" y="5014800"/>
            <a:ext cx="4048200" cy="1766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5" descr="SFP11_Poincare_dshape_zerobeta.png"/>
          <p:cNvPicPr/>
          <p:nvPr/>
        </p:nvPicPr>
        <p:blipFill>
          <a:blip r:embed="rId2"/>
          <a:stretch/>
        </p:blipFill>
        <p:spPr>
          <a:xfrm>
            <a:off x="216000" y="1676520"/>
            <a:ext cx="2450880" cy="3276360"/>
          </a:xfrm>
          <a:prstGeom prst="rect">
            <a:avLst/>
          </a:prstGeom>
          <a:ln w="0">
            <a:noFill/>
          </a:ln>
        </p:spPr>
      </p:pic>
      <p:sp>
        <p:nvSpPr>
          <p:cNvPr id="298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Object 10"/>
          <p:cNvGraphicFramePr/>
          <p:nvPr/>
        </p:nvGraphicFramePr>
        <p:xfrm>
          <a:off x="320760" y="838080"/>
          <a:ext cx="631980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760" y="838080"/>
                    <a:ext cx="631980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TextBox 27"/>
          <p:cNvSpPr/>
          <p:nvPr/>
        </p:nvSpPr>
        <p:spPr>
          <a:xfrm rot="16200000">
            <a:off x="4291200" y="5843520"/>
            <a:ext cx="144792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sonant error field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27"/>
          <p:cNvSpPr/>
          <p:nvPr/>
        </p:nvSpPr>
        <p:spPr>
          <a:xfrm>
            <a:off x="6626160" y="6581880"/>
            <a:ext cx="145116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7" descr="SFP11_Poincare_dshape_highbeta.png"/>
          <p:cNvPicPr/>
          <p:nvPr/>
        </p:nvPicPr>
        <p:blipFill>
          <a:blip r:embed="rId5"/>
          <a:stretch/>
        </p:blipFill>
        <p:spPr>
          <a:xfrm>
            <a:off x="5016600" y="1676520"/>
            <a:ext cx="2450880" cy="3276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9" descr="SFP11_gridprofiles_dshape.png"/>
          <p:cNvPicPr/>
          <p:nvPr/>
        </p:nvPicPr>
        <p:blipFill>
          <a:blip r:embed="rId6"/>
          <a:stretch/>
        </p:blipFill>
        <p:spPr>
          <a:xfrm>
            <a:off x="0" y="4830840"/>
            <a:ext cx="4572000" cy="202716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increasing pressure shows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sm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have significant response to external perturba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Object 17"/>
          <p:cNvGraphicFramePr/>
          <p:nvPr/>
        </p:nvGraphicFramePr>
        <p:xfrm>
          <a:off x="6629400" y="1752480"/>
          <a:ext cx="746280" cy="35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8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1752480"/>
                    <a:ext cx="746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7"/>
          <p:cNvGraphicFramePr/>
          <p:nvPr/>
        </p:nvGraphicFramePr>
        <p:xfrm>
          <a:off x="1828800" y="1704960"/>
          <a:ext cx="746280" cy="35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800" y="1704960"/>
                    <a:ext cx="746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1" name="2011Apr8104520.mpeg" descr=""/>
          <p:cNvPicPr/>
          <p:nvPr/>
        </p:nvPicPr>
        <p:blipFill>
          <a:blip r:embed="rId11"/>
          <a:stretch/>
        </p:blipFill>
        <p:spPr>
          <a:xfrm>
            <a:off x="2631960" y="1687680"/>
            <a:ext cx="24735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0" y="762120"/>
            <a:ext cx="91440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rtially-relaxed, topologically-constrained energy principle has been presented for MHD equilibria with chaotic fields and non-trivial (i.e. non-constant) pressu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del has been implemented numericall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using a high-order (piecewise quintic) radial discretiza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an optimal (i.e. spectrally condensed) Fourier representa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workload distrubuted across multiple cpus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extrema located using Newton’s method with quadratic-convergen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uitively, the equilibrium model is an extension of Taylor relaxation to multiple volum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del has a sound theoretical foundati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solutions guaranteed to exist (under certain conditions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merical method is computationally tractab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oes not invert singular operator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oes not struggle to resolve fractal structure of chao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studies have been performe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expected error scaling with radial resolution confirm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etailed benchmark with axisymmetric equilibria (with smooth profiles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that the island widths converge with Fourier resolution has been confirmed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Object 10"/>
          <p:cNvGraphicFramePr/>
          <p:nvPr/>
        </p:nvGraphicFramePr>
        <p:xfrm>
          <a:off x="239760" y="533520"/>
          <a:ext cx="875196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533520"/>
                    <a:ext cx="875196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Straight Connector 5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9" descr="fieldlines.png"/>
          <p:cNvPicPr/>
          <p:nvPr/>
        </p:nvPicPr>
        <p:blipFill>
          <a:blip r:embed="rId3"/>
          <a:stretch/>
        </p:blipFill>
        <p:spPr>
          <a:xfrm>
            <a:off x="6611760" y="2590920"/>
            <a:ext cx="2532240" cy="4038480"/>
          </a:xfrm>
          <a:prstGeom prst="rect">
            <a:avLst/>
          </a:prstGeom>
          <a:ln w="0">
            <a:noFill/>
          </a:ln>
        </p:spPr>
      </p:pic>
      <p:sp>
        <p:nvSpPr>
          <p:cNvPr id="353" name="Straight Connector 1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roidal magnetic confinement depends on flux surfa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21" descr="iter_mag_field_only"/>
          <p:cNvPicPr/>
          <p:nvPr/>
        </p:nvPicPr>
        <p:blipFill>
          <a:blip r:embed="rId4"/>
          <a:srcRect l="9256" t="2332" r="8191" b="4665"/>
          <a:stretch/>
        </p:blipFill>
        <p:spPr>
          <a:xfrm>
            <a:off x="2703600" y="3352680"/>
            <a:ext cx="3163680" cy="2514600"/>
          </a:xfrm>
          <a:prstGeom prst="rect">
            <a:avLst/>
          </a:prstGeom>
          <a:ln w="0">
            <a:noFill/>
          </a:ln>
        </p:spPr>
      </p:pic>
      <p:sp>
        <p:nvSpPr>
          <p:cNvPr id="357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2438280" y="2870280"/>
            <a:ext cx="335304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gnetic field lines wrap around toroidal “flux” su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eft Brace 13"/>
          <p:cNvSpPr/>
          <p:nvPr/>
        </p:nvSpPr>
        <p:spPr>
          <a:xfrm>
            <a:off x="5867280" y="2666880"/>
            <a:ext cx="304920" cy="3733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8720 h 3733920"/>
              <a:gd name="textAreaBottom" fmla="*/ 362520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8"/>
                  <a:pt x="10800" y="2015"/>
                </a:cubicBezTo>
                <a:lnTo>
                  <a:pt x="10800" y="8711"/>
                </a:lnTo>
                <a:cubicBezTo>
                  <a:pt x="10800" y="9719"/>
                  <a:pt x="5400" y="10726"/>
                  <a:pt x="0" y="10726"/>
                </a:cubicBezTo>
                <a:cubicBezTo>
                  <a:pt x="5400" y="10726"/>
                  <a:pt x="10800" y="11734"/>
                  <a:pt x="10800" y="12741"/>
                </a:cubicBezTo>
                <a:lnTo>
                  <a:pt x="10800" y="19585"/>
                </a:lnTo>
                <a:cubicBezTo>
                  <a:pt x="10800" y="2059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19"/>
          <p:cNvSpPr/>
          <p:nvPr/>
        </p:nvSpPr>
        <p:spPr>
          <a:xfrm>
            <a:off x="6781680" y="2336760"/>
            <a:ext cx="236232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rational field-line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= 0.3333…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26"/>
          <p:cNvSpPr/>
          <p:nvPr/>
        </p:nvSpPr>
        <p:spPr>
          <a:xfrm>
            <a:off x="6781680" y="4495680"/>
            <a:ext cx="228600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rrational field-line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= 0.3819…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27"/>
          <p:cNvSpPr/>
          <p:nvPr/>
        </p:nvSpPr>
        <p:spPr>
          <a:xfrm rot="16200000">
            <a:off x="5388480" y="5431680"/>
            <a:ext cx="1904760" cy="33732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pol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21"/>
          <p:cNvSpPr/>
          <p:nvPr/>
        </p:nvSpPr>
        <p:spPr>
          <a:xfrm>
            <a:off x="6629400" y="6400800"/>
            <a:ext cx="2514600" cy="33732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tor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traight Connector 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3"/>
          <p:cNvGraphicFramePr/>
          <p:nvPr/>
        </p:nvGraphicFramePr>
        <p:xfrm>
          <a:off x="160200" y="5029200"/>
          <a:ext cx="448308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200" y="5029200"/>
                    <a:ext cx="44830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4038480" y="2057400"/>
            <a:ext cx="281952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amily of periodic orbits ≡ rational flux surfac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15"/>
          <p:cNvSpPr/>
          <p:nvPr/>
        </p:nvSpPr>
        <p:spPr>
          <a:xfrm>
            <a:off x="1219320" y="1752480"/>
            <a:ext cx="205740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gnetic field is called integrabl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27"/>
          <p:cNvSpPr/>
          <p:nvPr/>
        </p:nvSpPr>
        <p:spPr>
          <a:xfrm rot="16200000">
            <a:off x="5312160" y="3374280"/>
            <a:ext cx="1904760" cy="33732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pol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traight Connector 56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al MHD equilibria are extrema of energy func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Object 10"/>
          <p:cNvGraphicFramePr/>
          <p:nvPr/>
        </p:nvGraphicFramePr>
        <p:xfrm>
          <a:off x="214200" y="558720"/>
          <a:ext cx="8167680" cy="60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58720"/>
                    <a:ext cx="8167680" cy="60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6"/>
          <p:cNvSpPr/>
          <p:nvPr/>
        </p:nvSpPr>
        <p:spPr>
          <a:xfrm>
            <a:off x="0" y="3962520"/>
            <a:ext cx="9144000" cy="9763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               →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wo surface functions, e.g. the pressure,  p(s) , and rotational-transform ≡ inverse-safety-factor, 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(s) ,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        → a boundary surface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 . .  for fixed boundary equilibria . . .   )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stitute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“boundary-conditions”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be provided to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niquely define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 equilibrium solu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 . . . . . The computational task is to compute the magnetic field that is consistent with the given boundary conditions . . 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7"/>
          <p:cNvSpPr/>
          <p:nvPr/>
        </p:nvSpPr>
        <p:spPr>
          <a:xfrm>
            <a:off x="2743200" y="1066680"/>
            <a:ext cx="1676520" cy="2462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 ≡ global plasma volum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Box 8"/>
          <p:cNvSpPr/>
          <p:nvPr/>
        </p:nvSpPr>
        <p:spPr>
          <a:xfrm>
            <a:off x="0" y="6172200"/>
            <a:ext cx="5029200" cy="7635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agnetic differential equations are singular at rational surfaces (periodic orbits)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sure-driven “Pfirsch-Schlüter currents” have 1/ x type singularity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- function singular currents shield out islands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Object 8"/>
          <p:cNvGraphicFramePr/>
          <p:nvPr/>
        </p:nvGraphicFramePr>
        <p:xfrm>
          <a:off x="3067200" y="3352680"/>
          <a:ext cx="478152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3" name="Object 8" descr=""/>
                  <p:cNvPicPr/>
                  <p:nvPr/>
                </p:nvPicPr>
                <p:blipFill>
                  <a:blip r:embed="rId4">
                    <a:alphaModFix amt="25000"/>
                  </a:blip>
                  <a:stretch/>
                </p:blipFill>
                <p:spPr>
                  <a:xfrm>
                    <a:off x="3067200" y="3352680"/>
                    <a:ext cx="47815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Box 8"/>
          <p:cNvSpPr/>
          <p:nvPr/>
        </p:nvSpPr>
        <p:spPr>
          <a:xfrm>
            <a:off x="4572000" y="2641680"/>
            <a:ext cx="4572000" cy="3070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deal variation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allow field topology to change “frozen-flux”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pological constraints :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sure gradients coincide with flux surfa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Object 10"/>
          <p:cNvGraphicFramePr/>
          <p:nvPr/>
        </p:nvGraphicFramePr>
        <p:xfrm>
          <a:off x="219240" y="1066680"/>
          <a:ext cx="8834400" cy="57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066680"/>
                    <a:ext cx="883440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10"/>
          <p:cNvSpPr/>
          <p:nvPr/>
        </p:nvSpPr>
        <p:spPr>
          <a:xfrm>
            <a:off x="6477120" y="1538280"/>
            <a:ext cx="2590560" cy="85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ructure of B and structure of the pressure are intimately connected;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annot apriori specify pressure without apriori constraining structure of the field;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11"/>
          <p:cNvSpPr/>
          <p:nvPr/>
        </p:nvSpPr>
        <p:spPr>
          <a:xfrm>
            <a:off x="5562720" y="3200400"/>
            <a:ext cx="350496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where there are significant pressure gradients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here can be no islands or chaotic regions with width  &gt; ∆w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traight Connector 26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ylor relaxation:   a weakly resistive plasma will relax, </a:t>
            </a:r>
            <a:br>
              <a:rPr sz="2800"/>
            </a:b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ject to single constrai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f conserved helic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Object 10"/>
          <p:cNvGraphicFramePr/>
          <p:nvPr/>
        </p:nvGraphicFramePr>
        <p:xfrm>
          <a:off x="237960" y="838080"/>
          <a:ext cx="8067960" cy="21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838080"/>
                    <a:ext cx="806796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Box 3"/>
          <p:cNvSpPr/>
          <p:nvPr/>
        </p:nvSpPr>
        <p:spPr>
          <a:xfrm>
            <a:off x="0" y="4025880"/>
            <a:ext cx="91440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MHD equilibria and Taylor-relaxed equilibria are at opposite extremes . . . 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al-MHD             → imposition of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of ideal MHD constraint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trivial pressure profiles, but structure of field i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ver-constrain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ylor relax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imposition of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nstraint of conserved global helicity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cture of field is not-constrained, but pressure profile is trivial, i.e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nder-constrain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76320" y="6172200"/>
            <a:ext cx="8991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 need something in between .  .  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 .  .  perhaps an equilibrium model with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nitel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many ideal constraints, 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artia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Taylor relaxation?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8"/>
          <p:cNvSpPr/>
          <p:nvPr/>
        </p:nvSpPr>
        <p:spPr>
          <a:xfrm>
            <a:off x="6553080" y="2895480"/>
            <a:ext cx="25146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force-free field ≡ Beltrami fiel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Box 8"/>
          <p:cNvSpPr/>
          <p:nvPr/>
        </p:nvSpPr>
        <p:spPr>
          <a:xfrm>
            <a:off x="0" y="3505320"/>
            <a:ext cx="9144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ut, . . .Taylor relaxed fields have no pressure gradien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traight Connector 2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1" descr="SFP_11_resonantfields.png"/>
          <p:cNvPicPr/>
          <p:nvPr/>
        </p:nvPicPr>
        <p:blipFill>
          <a:blip r:embed="rId1"/>
          <a:stretch/>
        </p:blipFill>
        <p:spPr>
          <a:xfrm>
            <a:off x="3276720" y="4952880"/>
            <a:ext cx="5189400" cy="1905120"/>
          </a:xfrm>
          <a:prstGeom prst="rect">
            <a:avLst/>
          </a:prstGeom>
          <a:ln w="0">
            <a:noFill/>
          </a:ln>
        </p:spPr>
      </p:pic>
      <p:sp>
        <p:nvSpPr>
          <p:cNvPr id="439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15" descr="SFP11_Poincare_circle_zerobeta.png"/>
          <p:cNvPicPr/>
          <p:nvPr/>
        </p:nvPicPr>
        <p:blipFill>
          <a:blip r:embed="rId2"/>
          <a:stretch/>
        </p:blipFill>
        <p:spPr>
          <a:xfrm>
            <a:off x="0" y="1981080"/>
            <a:ext cx="3603600" cy="327672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increasing pressure shows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sm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have significant response to external perturb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3" name="Object 10"/>
          <p:cNvGraphicFramePr/>
          <p:nvPr/>
        </p:nvGraphicFramePr>
        <p:xfrm>
          <a:off x="76320" y="909720"/>
          <a:ext cx="474480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909720"/>
                    <a:ext cx="47448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Picture 19" descr="SFP_11_resolution.png"/>
          <p:cNvPicPr/>
          <p:nvPr/>
        </p:nvPicPr>
        <p:blipFill>
          <a:blip r:embed="rId5"/>
          <a:stretch/>
        </p:blipFill>
        <p:spPr>
          <a:xfrm>
            <a:off x="4724280" y="826920"/>
            <a:ext cx="4419720" cy="1230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1" descr="SFP_11_Poincare_elcric.png"/>
          <p:cNvPicPr/>
          <p:nvPr/>
        </p:nvPicPr>
        <p:blipFill>
          <a:blip r:embed="rId6"/>
          <a:stretch/>
        </p:blipFill>
        <p:spPr>
          <a:xfrm>
            <a:off x="6229440" y="2057400"/>
            <a:ext cx="2914560" cy="2743200"/>
          </a:xfrm>
          <a:prstGeom prst="rect">
            <a:avLst/>
          </a:prstGeom>
          <a:ln w="0">
            <a:noFill/>
          </a:ln>
        </p:spPr>
      </p:pic>
      <p:sp>
        <p:nvSpPr>
          <p:cNvPr id="457" name="TextBox 37"/>
          <p:cNvSpPr/>
          <p:nvPr/>
        </p:nvSpPr>
        <p:spPr>
          <a:xfrm>
            <a:off x="6248520" y="5056200"/>
            <a:ext cx="289548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esonant radial field at rational surface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n=1,2,3 stability from PEST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2011Mar30142036.mpeg" descr=""/>
          <p:cNvPicPr/>
          <p:nvPr/>
        </p:nvPicPr>
        <p:blipFill>
          <a:blip r:embed="rId7"/>
          <a:stretch/>
        </p:blipFill>
        <p:spPr>
          <a:xfrm>
            <a:off x="3497400" y="2057400"/>
            <a:ext cx="2827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traight Connector 48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6324480" y="1600200"/>
            <a:ext cx="2743200" cy="2743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5"/>
          <p:cNvSpPr/>
          <p:nvPr/>
        </p:nvSpPr>
        <p:spPr>
          <a:xfrm>
            <a:off x="6934320" y="1981080"/>
            <a:ext cx="2057400" cy="205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"/>
          <p:cNvSpPr/>
          <p:nvPr/>
        </p:nvSpPr>
        <p:spPr>
          <a:xfrm>
            <a:off x="7391520" y="2286000"/>
            <a:ext cx="1447560" cy="1447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             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ing the multi-volume, partially-relaxed model of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HD equilibria with topological constrai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Object 10"/>
          <p:cNvGraphicFramePr/>
          <p:nvPr/>
        </p:nvGraphicFramePr>
        <p:xfrm>
          <a:off x="119160" y="1079640"/>
          <a:ext cx="8872560" cy="55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1079640"/>
                    <a:ext cx="887256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3"/>
          <p:cNvSpPr/>
          <p:nvPr/>
        </p:nvSpPr>
        <p:spPr>
          <a:xfrm>
            <a:off x="7848720" y="2666880"/>
            <a:ext cx="685800" cy="6858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rc 13"/>
          <p:cNvSpPr/>
          <p:nvPr/>
        </p:nvSpPr>
        <p:spPr>
          <a:xfrm>
            <a:off x="5257800" y="1523880"/>
            <a:ext cx="3124080" cy="685800"/>
          </a:xfrm>
          <a:custGeom>
            <a:avLst/>
            <a:gdLst>
              <a:gd name="textAreaLeft" fmla="*/ 1192320 w 3124080"/>
              <a:gd name="textAreaRight" fmla="*/ 2673000 w 3124080"/>
              <a:gd name="textAreaTop" fmla="*/ 0 h 685800"/>
              <a:gd name="textAreaBottom" fmla="*/ 10188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192260" y="9749"/>
                </a:moveTo>
                <a:lnTo>
                  <a:pt x="1192260" y="9749"/>
                </a:lnTo>
                <a:arcTo wR="1562100" hR="342900" stAng="-8279253" swAng="7544620"/>
                <a:lnTo>
                  <a:pt x="1562100" y="342900"/>
                </a:lnTo>
                <a:close/>
              </a:path>
              <a:path fill="none" w="3124200" h="685800">
                <a:moveTo>
                  <a:pt x="1192260" y="9749"/>
                </a:moveTo>
                <a:lnTo>
                  <a:pt x="1192260" y="9749"/>
                </a:lnTo>
                <a:arcTo wR="1562100" hR="342900" stAng="-8279253" swAng="7544620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rc 14"/>
          <p:cNvSpPr/>
          <p:nvPr/>
        </p:nvSpPr>
        <p:spPr>
          <a:xfrm>
            <a:off x="5562720" y="1905120"/>
            <a:ext cx="3124080" cy="685800"/>
          </a:xfrm>
          <a:custGeom>
            <a:avLst/>
            <a:gdLst>
              <a:gd name="textAreaLeft" fmla="*/ 1290240 w 3124080"/>
              <a:gd name="textAreaRight" fmla="*/ 2615400 w 3124080"/>
              <a:gd name="textAreaTop" fmla="*/ 0 h 685800"/>
              <a:gd name="textAreaBottom" fmla="*/ 8964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290215" y="5234"/>
                </a:moveTo>
                <a:lnTo>
                  <a:pt x="1290215" y="5234"/>
                </a:lnTo>
                <a:arcTo wR="1562100" hR="342900" stAng="-7730438" swAng="6919469"/>
                <a:lnTo>
                  <a:pt x="1562100" y="342900"/>
                </a:lnTo>
                <a:close/>
              </a:path>
              <a:path fill="none" w="3124200" h="685800">
                <a:moveTo>
                  <a:pt x="1290215" y="5234"/>
                </a:moveTo>
                <a:lnTo>
                  <a:pt x="1290215" y="5234"/>
                </a:lnTo>
                <a:arcTo wR="1562100" hR="342900" stAng="-7730438" swAng="6919469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rc 15"/>
          <p:cNvSpPr/>
          <p:nvPr/>
        </p:nvSpPr>
        <p:spPr>
          <a:xfrm>
            <a:off x="5638680" y="2209680"/>
            <a:ext cx="3124440" cy="685800"/>
          </a:xfrm>
          <a:custGeom>
            <a:avLst/>
            <a:gdLst>
              <a:gd name="textAreaLeft" fmla="*/ 1676880 w 3124440"/>
              <a:gd name="textAreaRight" fmla="*/ 2561040 w 3124440"/>
              <a:gd name="textAreaTop" fmla="*/ 72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676818" y="926"/>
                </a:moveTo>
                <a:lnTo>
                  <a:pt x="1676818" y="926"/>
                </a:lnTo>
                <a:arcTo wR="1562100" hR="342900" stAng="-4287333" swAng="3400062"/>
                <a:lnTo>
                  <a:pt x="1562100" y="342900"/>
                </a:lnTo>
                <a:close/>
              </a:path>
              <a:path fill="none" w="3124200" h="685800">
                <a:moveTo>
                  <a:pt x="1676818" y="926"/>
                </a:moveTo>
                <a:lnTo>
                  <a:pt x="1676818" y="926"/>
                </a:lnTo>
                <a:arcTo wR="1562100" hR="342900" stAng="-4287333" swAng="3400062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rc 17"/>
          <p:cNvSpPr/>
          <p:nvPr/>
        </p:nvSpPr>
        <p:spPr>
          <a:xfrm>
            <a:off x="5715000" y="2590920"/>
            <a:ext cx="3124080" cy="685800"/>
          </a:xfrm>
          <a:custGeom>
            <a:avLst/>
            <a:gdLst>
              <a:gd name="textAreaLeft" fmla="*/ 1808280 w 3124080"/>
              <a:gd name="textAreaRight" fmla="*/ 2561040 w 3124080"/>
              <a:gd name="textAreaTop" fmla="*/ 396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808300" y="4286"/>
                </a:moveTo>
                <a:lnTo>
                  <a:pt x="1808300" y="4286"/>
                </a:lnTo>
                <a:arcTo wR="1562100" hR="342900" stAng="-3238787" swAng="2351517"/>
                <a:lnTo>
                  <a:pt x="1562100" y="342900"/>
                </a:lnTo>
                <a:close/>
              </a:path>
              <a:path fill="none" w="3124200" h="685800">
                <a:moveTo>
                  <a:pt x="1808300" y="4286"/>
                </a:moveTo>
                <a:lnTo>
                  <a:pt x="1808300" y="4286"/>
                </a:lnTo>
                <a:arcTo wR="1562100" hR="342900" stAng="-3238787" swAng="2351517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rc 18"/>
          <p:cNvSpPr/>
          <p:nvPr/>
        </p:nvSpPr>
        <p:spPr>
          <a:xfrm>
            <a:off x="5638680" y="3276720"/>
            <a:ext cx="3124440" cy="685800"/>
          </a:xfrm>
          <a:custGeom>
            <a:avLst/>
            <a:gdLst>
              <a:gd name="textAreaLeft" fmla="*/ 1816560 w 3124440"/>
              <a:gd name="textAreaRight" fmla="*/ 2561040 w 3124440"/>
              <a:gd name="textAreaTop" fmla="*/ 432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816385" y="4574"/>
                </a:moveTo>
                <a:lnTo>
                  <a:pt x="1816385" y="4574"/>
                </a:lnTo>
                <a:arcTo wR="1562100" hR="342900" stAng="-3184294" swAng="2297023"/>
                <a:lnTo>
                  <a:pt x="1562100" y="342900"/>
                </a:lnTo>
                <a:close/>
              </a:path>
              <a:path fill="none" w="3124200" h="685800">
                <a:moveTo>
                  <a:pt x="1816385" y="4574"/>
                </a:moveTo>
                <a:lnTo>
                  <a:pt x="1816385" y="4574"/>
                </a:lnTo>
                <a:arcTo wR="1562100" hR="342900" stAng="-3184294" swAng="229702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rc 19"/>
          <p:cNvSpPr/>
          <p:nvPr/>
        </p:nvSpPr>
        <p:spPr>
          <a:xfrm>
            <a:off x="5562720" y="3657600"/>
            <a:ext cx="3124080" cy="685800"/>
          </a:xfrm>
          <a:custGeom>
            <a:avLst/>
            <a:gdLst>
              <a:gd name="textAreaLeft" fmla="*/ 1636200 w 3124080"/>
              <a:gd name="textAreaRight" fmla="*/ 2433960 w 3124080"/>
              <a:gd name="textAreaTop" fmla="*/ 360 h 685800"/>
              <a:gd name="textAreaBottom" fmla="*/ 5832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636137" y="385"/>
                </a:moveTo>
                <a:lnTo>
                  <a:pt x="1636137" y="385"/>
                </a:lnTo>
                <a:arcTo wR="1562100" hR="342900" stAng="-4668166" swAng="3583982"/>
                <a:lnTo>
                  <a:pt x="1562100" y="342900"/>
                </a:lnTo>
                <a:close/>
              </a:path>
              <a:path fill="none" w="3124200" h="685800">
                <a:moveTo>
                  <a:pt x="1636137" y="385"/>
                </a:moveTo>
                <a:lnTo>
                  <a:pt x="1636137" y="385"/>
                </a:lnTo>
                <a:arcTo wR="1562100" hR="342900" stAng="-4668166" swAng="3583982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rc 16"/>
          <p:cNvSpPr/>
          <p:nvPr/>
        </p:nvSpPr>
        <p:spPr>
          <a:xfrm>
            <a:off x="5334120" y="3962520"/>
            <a:ext cx="3124080" cy="685800"/>
          </a:xfrm>
          <a:custGeom>
            <a:avLst/>
            <a:gdLst>
              <a:gd name="textAreaLeft" fmla="*/ 1431720 w 3124080"/>
              <a:gd name="textAreaRight" fmla="*/ 2433960 w 3124080"/>
              <a:gd name="textAreaTop" fmla="*/ 0 h 685800"/>
              <a:gd name="textAreaBottom" fmla="*/ 5832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431798" y="1195"/>
                </a:moveTo>
                <a:lnTo>
                  <a:pt x="1431798" y="1195"/>
                </a:lnTo>
                <a:arcTo wR="1562100" hR="342900" stAng="-6652398" swAng="5568213"/>
                <a:lnTo>
                  <a:pt x="1562100" y="342900"/>
                </a:lnTo>
                <a:close/>
              </a:path>
              <a:path fill="none" w="3124200" h="685800">
                <a:moveTo>
                  <a:pt x="1431798" y="1195"/>
                </a:moveTo>
                <a:lnTo>
                  <a:pt x="1431798" y="1195"/>
                </a:lnTo>
                <a:arcTo wR="1562100" hR="342900" stAng="-6652398" swAng="556821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3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21"/>
          <p:cNvSpPr/>
          <p:nvPr/>
        </p:nvSpPr>
        <p:spPr>
          <a:xfrm>
            <a:off x="6172200" y="6553080"/>
            <a:ext cx="28954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deal interfaces coincide with KAM su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22"/>
          <p:cNvSpPr/>
          <p:nvPr/>
        </p:nvSpPr>
        <p:spPr>
          <a:xfrm>
            <a:off x="6629400" y="4572000"/>
            <a:ext cx="251460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ield remains tangential to interfaces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 finite number of ideal constraints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mposed topologically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" name="Elbow Connector 30"/>
          <p:cNvCxnSpPr/>
          <p:nvPr/>
        </p:nvCxnSpPr>
        <p:spPr>
          <a:xfrm>
            <a:off x="5028840" y="3580920"/>
            <a:ext cx="1600920" cy="1220040"/>
          </a:xfrm>
          <a:prstGeom prst="bentConnector3">
            <a:avLst>
              <a:gd name="adj1" fmla="val 77013"/>
            </a:avLst>
          </a:prstGeom>
          <a:ln w="22320">
            <a:solidFill>
              <a:srgbClr val="ffc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495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Elbow Connector 34"/>
          <p:cNvCxnSpPr/>
          <p:nvPr/>
        </p:nvCxnSpPr>
        <p:spPr>
          <a:xfrm>
            <a:off x="5866920" y="4800600"/>
            <a:ext cx="762840" cy="2160"/>
          </a:xfrm>
          <a:prstGeom prst="bentConnector3">
            <a:avLst>
              <a:gd name="adj1" fmla="val 50000"/>
            </a:avLst>
          </a:prstGeom>
          <a:ln w="22320">
            <a:solidFill>
              <a:srgbClr val="ffc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497" name="Straight Connector 47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18" descr="Poincare000069.png"/>
          <p:cNvPicPr/>
          <p:nvPr/>
        </p:nvPicPr>
        <p:blipFill>
          <a:blip r:embed="rId1"/>
          <a:stretch/>
        </p:blipFill>
        <p:spPr>
          <a:xfrm>
            <a:off x="5286240" y="1676520"/>
            <a:ext cx="2791080" cy="3733560"/>
          </a:xfrm>
          <a:prstGeom prst="rect">
            <a:avLst/>
          </a:prstGeom>
          <a:ln w="0">
            <a:noFill/>
          </a:ln>
        </p:spPr>
      </p:pic>
      <p:pic>
        <p:nvPicPr>
          <p:cNvPr id="499" name="2011Mar17185436evolveisM=06N=03gap=04vec=1.mpg" descr=""/>
          <p:cNvPicPr/>
          <p:nvPr/>
        </p:nvPicPr>
        <p:blipFill>
          <a:blip r:embed="rId2"/>
          <a:stretch/>
        </p:blipFill>
        <p:spPr>
          <a:xfrm>
            <a:off x="2611440" y="1687680"/>
            <a:ext cx="2874960" cy="3722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3" descr="resonantfields.png"/>
          <p:cNvPicPr/>
          <p:nvPr/>
        </p:nvPicPr>
        <p:blipFill>
          <a:blip r:embed="rId3"/>
          <a:stretch/>
        </p:blipFill>
        <p:spPr>
          <a:xfrm>
            <a:off x="5181480" y="5257800"/>
            <a:ext cx="3814920" cy="1447920"/>
          </a:xfrm>
          <a:prstGeom prst="rect">
            <a:avLst/>
          </a:prstGeom>
          <a:ln w="0">
            <a:noFill/>
          </a:ln>
        </p:spPr>
      </p:pic>
      <p:sp>
        <p:nvSpPr>
          <p:cNvPr id="501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slowly increasing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29" descr="Poincare000002.png"/>
          <p:cNvPicPr/>
          <p:nvPr/>
        </p:nvPicPr>
        <p:blipFill>
          <a:blip r:embed="rId4"/>
          <a:stretch/>
        </p:blipFill>
        <p:spPr>
          <a:xfrm>
            <a:off x="0" y="1676520"/>
            <a:ext cx="2790720" cy="37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5" name="Object 17"/>
          <p:cNvGraphicFramePr/>
          <p:nvPr/>
        </p:nvGraphicFramePr>
        <p:xfrm>
          <a:off x="7251840" y="2009880"/>
          <a:ext cx="82548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6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1840" y="2009880"/>
                    <a:ext cx="825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18"/>
          <p:cNvGraphicFramePr/>
          <p:nvPr/>
        </p:nvGraphicFramePr>
        <p:xfrm>
          <a:off x="1841400" y="2009880"/>
          <a:ext cx="825480" cy="35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8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41400" y="2009880"/>
                    <a:ext cx="825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10"/>
          <p:cNvGraphicFramePr/>
          <p:nvPr/>
        </p:nvGraphicFramePr>
        <p:xfrm>
          <a:off x="3429000" y="685800"/>
          <a:ext cx="4876920" cy="105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685800"/>
                    <a:ext cx="48769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1" name="Picture 35" descr="resolution.png"/>
          <p:cNvPicPr/>
          <p:nvPr/>
        </p:nvPicPr>
        <p:blipFill>
          <a:blip r:embed="rId11"/>
          <a:stretch/>
        </p:blipFill>
        <p:spPr>
          <a:xfrm>
            <a:off x="0" y="5234040"/>
            <a:ext cx="3352680" cy="16081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27"/>
          <p:cNvSpPr/>
          <p:nvPr/>
        </p:nvSpPr>
        <p:spPr>
          <a:xfrm rot="16200000">
            <a:off x="4291200" y="5843520"/>
            <a:ext cx="144792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sonant error field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626160" y="6581880"/>
            <a:ext cx="145116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Object 5"/>
          <p:cNvGraphicFramePr/>
          <p:nvPr/>
        </p:nvGraphicFramePr>
        <p:xfrm>
          <a:off x="3505320" y="6248520"/>
          <a:ext cx="685800" cy="457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25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05320" y="6248520"/>
                    <a:ext cx="685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10"/>
          <p:cNvGraphicFramePr/>
          <p:nvPr/>
        </p:nvGraphicFramePr>
        <p:xfrm>
          <a:off x="22320" y="762120"/>
          <a:ext cx="9075600" cy="60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" y="762120"/>
                    <a:ext cx="9075600" cy="60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25" descr="diophantinerenorm.png"/>
          <p:cNvPicPr/>
          <p:nvPr/>
        </p:nvPicPr>
        <p:blipFill>
          <a:blip r:embed="rId3"/>
          <a:stretch/>
        </p:blipFill>
        <p:spPr>
          <a:xfrm>
            <a:off x="5715000" y="3505320"/>
            <a:ext cx="3276720" cy="23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4"/>
          <p:cNvGraphicFramePr/>
          <p:nvPr/>
        </p:nvGraphicFramePr>
        <p:xfrm>
          <a:off x="6629400" y="3473280"/>
          <a:ext cx="2482920" cy="125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5">
                    <a:alphaModFix amt="0"/>
                  </a:blip>
                  <a:stretch/>
                </p:blipFill>
                <p:spPr>
                  <a:xfrm>
                    <a:off x="6629400" y="3473280"/>
                    <a:ext cx="248292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 ideal equilibrium with non-integrable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field 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inuou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ressure,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finitely discontin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5867280" y="2514600"/>
            <a:ext cx="32767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Kolmogorov, Arnold and Moser,  Diophantine condi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6095880" y="762120"/>
            <a:ext cx="3048120" cy="5508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port of pressure along field is “infinitely” fast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o scale length in ideal MH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 adapts exactly to structure of phase spac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Straight Arrow Connector 27"/>
          <p:cNvCxnSpPr/>
          <p:nvPr/>
        </p:nvCxnSpPr>
        <p:spPr>
          <a:xfrm flipH="1" flipV="1">
            <a:off x="7009560" y="4723920"/>
            <a:ext cx="6865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29"/>
          <p:cNvCxnSpPr/>
          <p:nvPr/>
        </p:nvCxnSpPr>
        <p:spPr>
          <a:xfrm flipH="1">
            <a:off x="7009560" y="5029200"/>
            <a:ext cx="686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Rectangle 27"/>
          <p:cNvSpPr/>
          <p:nvPr/>
        </p:nvSpPr>
        <p:spPr>
          <a:xfrm rot="16200000">
            <a:off x="4952880" y="4495320"/>
            <a:ext cx="1676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4"/>
          <p:cNvSpPr/>
          <p:nvPr/>
        </p:nvSpPr>
        <p:spPr>
          <a:xfrm>
            <a:off x="6019920" y="57150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adial coordinate≡transfor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13"/>
          <p:cNvGrpSpPr/>
          <p:nvPr/>
        </p:nvGrpSpPr>
        <p:grpSpPr>
          <a:xfrm>
            <a:off x="7086600" y="990720"/>
            <a:ext cx="1905120" cy="1598400"/>
            <a:chOff x="7086600" y="990720"/>
            <a:chExt cx="1905120" cy="1598400"/>
          </a:xfrm>
        </p:grpSpPr>
        <p:pic>
          <p:nvPicPr>
            <p:cNvPr id="79" name="Picture 60" descr="F:\fusion_talks\flux_surfaces 001.jpg"/>
            <p:cNvPicPr/>
            <p:nvPr/>
          </p:nvPicPr>
          <p:blipFill>
            <a:blip r:embed="rId1"/>
            <a:srcRect l="20182" t="16861" r="0" b="20641"/>
            <a:stretch/>
          </p:blipFill>
          <p:spPr>
            <a:xfrm>
              <a:off x="7086600" y="990720"/>
              <a:ext cx="1905120" cy="15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Freeform 67"/>
            <p:cNvSpPr/>
            <p:nvPr/>
          </p:nvSpPr>
          <p:spPr>
            <a:xfrm>
              <a:off x="7991640" y="1388520"/>
              <a:ext cx="73080" cy="137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" h="57">
                  <a:moveTo>
                    <a:pt x="32" y="57"/>
                  </a:moveTo>
                  <a:cubicBezTo>
                    <a:pt x="31" y="46"/>
                    <a:pt x="30" y="35"/>
                    <a:pt x="25" y="25"/>
                  </a:cubicBezTo>
                  <a:cubicBezTo>
                    <a:pt x="20" y="15"/>
                    <a:pt x="10" y="7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68"/>
            <p:cNvSpPr/>
            <p:nvPr/>
          </p:nvSpPr>
          <p:spPr>
            <a:xfrm>
              <a:off x="7907400" y="1575720"/>
              <a:ext cx="189360" cy="730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0" h="38">
                  <a:moveTo>
                    <a:pt x="70" y="38"/>
                  </a:moveTo>
                  <a:cubicBezTo>
                    <a:pt x="58" y="25"/>
                    <a:pt x="47" y="12"/>
                    <a:pt x="35" y="6"/>
                  </a:cubicBezTo>
                  <a:cubicBezTo>
                    <a:pt x="23" y="0"/>
                    <a:pt x="6" y="1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69"/>
            <p:cNvSpPr/>
            <p:nvPr/>
          </p:nvSpPr>
          <p:spPr>
            <a:xfrm>
              <a:off x="7915680" y="1772640"/>
              <a:ext cx="191880" cy="543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05" h="31">
                  <a:moveTo>
                    <a:pt x="205" y="18"/>
                  </a:moveTo>
                  <a:cubicBezTo>
                    <a:pt x="162" y="9"/>
                    <a:pt x="120" y="0"/>
                    <a:pt x="86" y="2"/>
                  </a:cubicBezTo>
                  <a:cubicBezTo>
                    <a:pt x="52" y="4"/>
                    <a:pt x="26" y="17"/>
                    <a:pt x="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71"/>
            <p:cNvSpPr/>
            <p:nvPr/>
          </p:nvSpPr>
          <p:spPr>
            <a:xfrm>
              <a:off x="8669160" y="1644840"/>
              <a:ext cx="72000" cy="511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61" h="432">
                  <a:moveTo>
                    <a:pt x="32" y="432"/>
                  </a:moveTo>
                  <a:cubicBezTo>
                    <a:pt x="46" y="352"/>
                    <a:pt x="61" y="272"/>
                    <a:pt x="56" y="200"/>
                  </a:cubicBezTo>
                  <a:cubicBezTo>
                    <a:pt x="51" y="128"/>
                    <a:pt x="11" y="3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2"/>
            <p:cNvSpPr/>
            <p:nvPr/>
          </p:nvSpPr>
          <p:spPr>
            <a:xfrm>
              <a:off x="7351560" y="1000080"/>
              <a:ext cx="180000" cy="502200"/>
            </a:xfrm>
            <a:custGeom>
              <a:avLst/>
              <a:gdLst>
                <a:gd name="textAreaLeft" fmla="*/ 0 w 180000"/>
                <a:gd name="textAreaRight" fmla="*/ 180000 w 18000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48" h="704">
                  <a:moveTo>
                    <a:pt x="248" y="704"/>
                  </a:moveTo>
                  <a:cubicBezTo>
                    <a:pt x="220" y="562"/>
                    <a:pt x="193" y="421"/>
                    <a:pt x="152" y="304"/>
                  </a:cubicBezTo>
                  <a:cubicBezTo>
                    <a:pt x="111" y="187"/>
                    <a:pt x="55" y="9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73"/>
            <p:cNvSpPr/>
            <p:nvPr/>
          </p:nvSpPr>
          <p:spPr>
            <a:xfrm>
              <a:off x="8695080" y="1802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74"/>
            <p:cNvSpPr/>
            <p:nvPr/>
          </p:nvSpPr>
          <p:spPr>
            <a:xfrm>
              <a:off x="7526160" y="1040400"/>
              <a:ext cx="2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" name="Object 10"/>
          <p:cNvGraphicFramePr/>
          <p:nvPr/>
        </p:nvGraphicFramePr>
        <p:xfrm>
          <a:off x="152280" y="1073160"/>
          <a:ext cx="8750520" cy="571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073160"/>
                    <a:ext cx="875052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tead, a multi-region, relaxed energy principle for MHD equilibria with non-trivial pressure and chao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traight Connector 26"/>
          <p:cNvSpPr/>
          <p:nvPr/>
        </p:nvSpPr>
        <p:spPr>
          <a:xfrm>
            <a:off x="0" y="68580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11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abstract.png"/>
          <p:cNvPicPr/>
          <p:nvPr/>
        </p:nvPicPr>
        <p:blipFill>
          <a:blip r:embed="rId1"/>
          <a:stretch/>
        </p:blipFill>
        <p:spPr>
          <a:xfrm>
            <a:off x="171360" y="2895480"/>
            <a:ext cx="8801280" cy="2105280"/>
          </a:xfrm>
          <a:prstGeom prst="rect">
            <a:avLst/>
          </a:prstGeom>
          <a:ln w="0">
            <a:noFill/>
          </a:ln>
        </p:spPr>
      </p:pic>
      <p:sp>
        <p:nvSpPr>
          <p:cNvPr id="100" name="Straight Connector 12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Existence.png"/>
          <p:cNvPicPr/>
          <p:nvPr/>
        </p:nvPicPr>
        <p:blipFill>
          <a:blip r:embed="rId2"/>
          <a:stretch/>
        </p:blipFill>
        <p:spPr>
          <a:xfrm>
            <a:off x="985680" y="762120"/>
            <a:ext cx="7172640" cy="857160"/>
          </a:xfrm>
          <a:prstGeom prst="rect">
            <a:avLst/>
          </a:prstGeom>
          <a:ln w="0">
            <a:noFill/>
          </a:ln>
        </p:spPr>
      </p:pic>
      <p:sp>
        <p:nvSpPr>
          <p:cNvPr id="102" name="Straight Connector 13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Bruno.png"/>
          <p:cNvPicPr/>
          <p:nvPr/>
        </p:nvPicPr>
        <p:blipFill>
          <a:blip r:embed="rId3"/>
          <a:stretch/>
        </p:blipFill>
        <p:spPr>
          <a:xfrm>
            <a:off x="1143000" y="1905120"/>
            <a:ext cx="3448080" cy="676080"/>
          </a:xfrm>
          <a:prstGeom prst="rect">
            <a:avLst/>
          </a:prstGeom>
          <a:ln w="0">
            <a:noFill/>
          </a:ln>
        </p:spPr>
      </p:pic>
      <p:sp>
        <p:nvSpPr>
          <p:cNvPr id="104" name="Straight Connector 14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Laurence.png"/>
          <p:cNvPicPr/>
          <p:nvPr/>
        </p:nvPicPr>
        <p:blipFill>
          <a:blip r:embed="rId4"/>
          <a:stretch/>
        </p:blipFill>
        <p:spPr>
          <a:xfrm>
            <a:off x="4800600" y="1952640"/>
            <a:ext cx="3381480" cy="561960"/>
          </a:xfrm>
          <a:prstGeom prst="rect">
            <a:avLst/>
          </a:prstGeom>
          <a:ln w="0">
            <a:noFill/>
          </a:ln>
        </p:spPr>
      </p:pic>
      <p:sp>
        <p:nvSpPr>
          <p:cNvPr id="106" name="Straight Connector 15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0" descr="citation.png"/>
          <p:cNvPicPr/>
          <p:nvPr/>
        </p:nvPicPr>
        <p:blipFill>
          <a:blip r:embed="rId5"/>
          <a:stretch/>
        </p:blipFill>
        <p:spPr>
          <a:xfrm>
            <a:off x="533520" y="5394240"/>
            <a:ext cx="8001000" cy="244440"/>
          </a:xfrm>
          <a:prstGeom prst="rect">
            <a:avLst/>
          </a:prstGeom>
          <a:ln w="0">
            <a:noFill/>
          </a:ln>
        </p:spPr>
      </p:pic>
      <p:sp>
        <p:nvSpPr>
          <p:cNvPr id="108" name="Straight Connector 16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traight Connector 8"/>
          <p:cNvSpPr/>
          <p:nvPr/>
        </p:nvSpPr>
        <p:spPr>
          <a:xfrm>
            <a:off x="2057400" y="3171960"/>
            <a:ext cx="129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traight Connector 17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traight Connector 10"/>
          <p:cNvSpPr/>
          <p:nvPr/>
        </p:nvSpPr>
        <p:spPr>
          <a:xfrm>
            <a:off x="685800" y="446724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traight Connector 18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19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20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24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0" y="6397560"/>
            <a:ext cx="9144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ow large the “sufficiently small” departure from axisymmetry can be needs to be explored numerically . . . .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traight Connector 25"/>
          <p:cNvSpPr/>
          <p:nvPr/>
        </p:nvSpPr>
        <p:spPr>
          <a:xfrm>
            <a:off x="0" y="68580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aight Connector 10"/>
          <p:cNvSpPr/>
          <p:nvPr/>
        </p:nvSpPr>
        <p:spPr>
          <a:xfrm>
            <a:off x="3200400" y="495288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10"/>
          <p:cNvSpPr/>
          <p:nvPr/>
        </p:nvSpPr>
        <p:spPr>
          <a:xfrm>
            <a:off x="5638680" y="441972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10"/>
          <p:cNvSpPr/>
          <p:nvPr/>
        </p:nvSpPr>
        <p:spPr>
          <a:xfrm>
            <a:off x="304920" y="47242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1" descr="SFP_11_FareyTree.png"/>
          <p:cNvPicPr/>
          <p:nvPr/>
        </p:nvPicPr>
        <p:blipFill>
          <a:blip r:embed="rId1"/>
          <a:stretch/>
        </p:blipFill>
        <p:spPr>
          <a:xfrm>
            <a:off x="4191120" y="4699080"/>
            <a:ext cx="4952880" cy="215892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y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, an equilibrium code must constrain topology;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∙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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=0 means flux surfac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oincide with pressure gradi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10"/>
          <p:cNvGraphicFramePr/>
          <p:nvPr/>
        </p:nvGraphicFramePr>
        <p:xfrm>
          <a:off x="76320" y="1020600"/>
          <a:ext cx="8980200" cy="431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020600"/>
                    <a:ext cx="8980200" cy="43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5638680" y="4538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arey tr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11"/>
          <p:cNvGraphicFramePr/>
          <p:nvPr/>
        </p:nvGraphicFramePr>
        <p:xfrm>
          <a:off x="76320" y="5407200"/>
          <a:ext cx="4635360" cy="137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5407200"/>
                    <a:ext cx="4635360" cy="13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traight Connector 4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trema of energy functional obtained numerically;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ing the Stepped Pressure Equilibrium Code, SP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10"/>
          <p:cNvGraphicFramePr/>
          <p:nvPr/>
        </p:nvGraphicFramePr>
        <p:xfrm>
          <a:off x="76320" y="1168560"/>
          <a:ext cx="8837640" cy="56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68560"/>
                    <a:ext cx="8837640" cy="56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20"/>
          <p:cNvSpPr/>
          <p:nvPr/>
        </p:nvSpPr>
        <p:spPr>
          <a:xfrm>
            <a:off x="4114800" y="279396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iecewise cubic or quintic basis polynomial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6095880" y="614664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inimal spectral width [Hirshman, VMEC]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7086600" y="358128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olved using sparse linear solve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5334120" y="4495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djusted so interface transform is strongly irrational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6121440" y="330192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1440" y="3301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3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traight Connector 62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10"/>
          <p:cNvGraphicFramePr/>
          <p:nvPr/>
        </p:nvGraphicFramePr>
        <p:xfrm>
          <a:off x="108000" y="571680"/>
          <a:ext cx="728352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571680"/>
                    <a:ext cx="72835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merical error in Beltrami field scales as expec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5" descr="curlerror.png"/>
          <p:cNvPicPr/>
          <p:nvPr/>
        </p:nvPicPr>
        <p:blipFill>
          <a:blip r:embed="rId3"/>
          <a:stretch/>
        </p:blipFill>
        <p:spPr>
          <a:xfrm>
            <a:off x="3429000" y="1965240"/>
            <a:ext cx="5715000" cy="192096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" descr="BeltramiA.png"/>
          <p:cNvPicPr/>
          <p:nvPr/>
        </p:nvPicPr>
        <p:blipFill>
          <a:blip r:embed="rId4"/>
          <a:stretch/>
        </p:blipFill>
        <p:spPr>
          <a:xfrm>
            <a:off x="3124080" y="4343400"/>
            <a:ext cx="3133800" cy="2514600"/>
          </a:xfrm>
          <a:prstGeom prst="rect">
            <a:avLst/>
          </a:prstGeom>
          <a:ln w="0">
            <a:noFill/>
          </a:ln>
        </p:spPr>
      </p:pic>
      <p:sp>
        <p:nvSpPr>
          <p:cNvPr id="169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1676520" y="1447920"/>
            <a:ext cx="175248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h = radial grid size = 1 / 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= order of polynomial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962520" y="4038480"/>
            <a:ext cx="14475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incaré plot,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24"/>
          <p:cNvSpPr/>
          <p:nvPr/>
        </p:nvSpPr>
        <p:spPr>
          <a:xfrm>
            <a:off x="1752480" y="5334120"/>
            <a:ext cx="129564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m,n)=(3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+ (m,n)=(2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=                     chao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Straight Arrow Connector 26"/>
          <p:cNvCxnSpPr/>
          <p:nvPr/>
        </p:nvCxnSpPr>
        <p:spPr>
          <a:xfrm flipV="1">
            <a:off x="3048120" y="5028840"/>
            <a:ext cx="91512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Straight Arrow Connector 28"/>
          <p:cNvCxnSpPr/>
          <p:nvPr/>
        </p:nvCxnSpPr>
        <p:spPr>
          <a:xfrm>
            <a:off x="3048120" y="5638320"/>
            <a:ext cx="3816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Straight Arrow Connector 31"/>
          <p:cNvCxnSpPr/>
          <p:nvPr/>
        </p:nvCxnSpPr>
        <p:spPr>
          <a:xfrm>
            <a:off x="3048120" y="5791320"/>
            <a:ext cx="7624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76320" y="4876920"/>
          <a:ext cx="2814480" cy="169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4876920"/>
                    <a:ext cx="281448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ight Arrow 41"/>
          <p:cNvSpPr/>
          <p:nvPr/>
        </p:nvSpPr>
        <p:spPr>
          <a:xfrm rot="1909800">
            <a:off x="5867280" y="2692080"/>
            <a:ext cx="1051200" cy="3016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quintic, n=5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ight Arrow 42"/>
          <p:cNvSpPr/>
          <p:nvPr/>
        </p:nvSpPr>
        <p:spPr>
          <a:xfrm rot="1014000">
            <a:off x="6090840" y="2209680"/>
            <a:ext cx="1050840" cy="300240"/>
          </a:xfrm>
          <a:prstGeom prst="rightArrow">
            <a:avLst>
              <a:gd name="adj1" fmla="val 50000"/>
              <a:gd name="adj2" fmla="val 50183"/>
            </a:avLst>
          </a:prstGeom>
          <a:solidFill>
            <a:srgbClr val="ffffcc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ubic, n=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7"/>
          <p:cNvGraphicFramePr/>
          <p:nvPr/>
        </p:nvGraphicFramePr>
        <p:xfrm>
          <a:off x="7696080" y="3657600"/>
          <a:ext cx="1128960" cy="2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3657600"/>
                    <a:ext cx="11289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Object 8"/>
          <p:cNvGraphicFramePr/>
          <p:nvPr/>
        </p:nvGraphicFramePr>
        <p:xfrm>
          <a:off x="7237440" y="1828800"/>
          <a:ext cx="114948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7440" y="1828800"/>
                    <a:ext cx="1149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3657600" y="1676520"/>
          <a:ext cx="5486400" cy="35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1676520"/>
                    <a:ext cx="54864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Straight Connector 5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traight Connector 6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traight Connector 61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57" descr="BeltramiC.png"/>
          <p:cNvPicPr/>
          <p:nvPr/>
        </p:nvPicPr>
        <p:blipFill>
          <a:blip r:embed="rId13"/>
          <a:stretch/>
        </p:blipFill>
        <p:spPr>
          <a:xfrm>
            <a:off x="6259680" y="4343400"/>
            <a:ext cx="288432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2"/>
          <p:cNvSpPr/>
          <p:nvPr/>
        </p:nvSpPr>
        <p:spPr>
          <a:xfrm>
            <a:off x="7086600" y="4038480"/>
            <a:ext cx="14479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incaré plot,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l-GR" sz="12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0" y="419112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ample of chaotic Beltrami fiel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 single given annulus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5" descr="transformhigh.png"/>
          <p:cNvPicPr/>
          <p:nvPr/>
        </p:nvPicPr>
        <p:blipFill>
          <a:blip r:embed="rId1"/>
          <a:stretch/>
        </p:blipFill>
        <p:spPr>
          <a:xfrm>
            <a:off x="7015320" y="5257800"/>
            <a:ext cx="2128680" cy="1600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5" descr="transformlow.png"/>
          <p:cNvPicPr/>
          <p:nvPr/>
        </p:nvPicPr>
        <p:blipFill>
          <a:blip r:embed="rId2"/>
          <a:stretch/>
        </p:blipFill>
        <p:spPr>
          <a:xfrm>
            <a:off x="4952880" y="5257800"/>
            <a:ext cx="212580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Straight Connector 79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25"/>
          <p:cNvSpPr/>
          <p:nvPr/>
        </p:nvSpPr>
        <p:spPr>
          <a:xfrm rot="16200000">
            <a:off x="-397440" y="1590840"/>
            <a:ext cx="19047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2590920" y="449568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9" descr="vmeczerobeta.png"/>
          <p:cNvPicPr/>
          <p:nvPr/>
        </p:nvPicPr>
        <p:blipFill>
          <a:blip r:embed="rId3"/>
          <a:stretch/>
        </p:blipFill>
        <p:spPr>
          <a:xfrm>
            <a:off x="685800" y="762120"/>
            <a:ext cx="1905120" cy="1908000"/>
          </a:xfrm>
          <a:prstGeom prst="rect">
            <a:avLst/>
          </a:prstGeom>
          <a:ln w="0">
            <a:noFill/>
          </a:ln>
        </p:spPr>
      </p:pic>
      <p:sp>
        <p:nvSpPr>
          <p:cNvPr id="219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epped-pressure equilibria accurately approximate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mooth-pressu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xisymmetr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quilib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10"/>
          <p:cNvGraphicFramePr/>
          <p:nvPr/>
        </p:nvGraphicFramePr>
        <p:xfrm>
          <a:off x="4952880" y="896760"/>
          <a:ext cx="4013280" cy="17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3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896760"/>
                    <a:ext cx="401328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26"/>
          <p:cNvSpPr/>
          <p:nvPr/>
        </p:nvSpPr>
        <p:spPr>
          <a:xfrm>
            <a:off x="685800" y="449568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27"/>
          <p:cNvSpPr/>
          <p:nvPr/>
        </p:nvSpPr>
        <p:spPr>
          <a:xfrm rot="16200000">
            <a:off x="-397440" y="3496320"/>
            <a:ext cx="190512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eft Arrow 31"/>
          <p:cNvSpPr/>
          <p:nvPr/>
        </p:nvSpPr>
        <p:spPr>
          <a:xfrm>
            <a:off x="2590920" y="18288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wer half = SPEC inte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eft Arrow 32"/>
          <p:cNvSpPr/>
          <p:nvPr/>
        </p:nvSpPr>
        <p:spPr>
          <a:xfrm>
            <a:off x="2590920" y="9144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pper half = SPEC &amp; VMEC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eft Arrow 25"/>
          <p:cNvSpPr/>
          <p:nvPr/>
        </p:nvSpPr>
        <p:spPr>
          <a:xfrm rot="16200000">
            <a:off x="-1599840" y="2437920"/>
            <a:ext cx="3809880" cy="45720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ight Arrow 28"/>
          <p:cNvSpPr/>
          <p:nvPr/>
        </p:nvSpPr>
        <p:spPr>
          <a:xfrm>
            <a:off x="533520" y="4673520"/>
            <a:ext cx="4114800" cy="3812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 resolution ≡ number of interfac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0" descr="vmechighbeta.png"/>
          <p:cNvPicPr/>
          <p:nvPr/>
        </p:nvPicPr>
        <p:blipFill>
          <a:blip r:embed="rId6"/>
          <a:stretch/>
        </p:blipFill>
        <p:spPr>
          <a:xfrm>
            <a:off x="685800" y="2666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39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5" descr="specraxis.png"/>
          <p:cNvPicPr/>
          <p:nvPr/>
        </p:nvPicPr>
        <p:blipFill>
          <a:blip r:embed="rId7"/>
          <a:stretch/>
        </p:blipFill>
        <p:spPr>
          <a:xfrm>
            <a:off x="5029200" y="2784600"/>
            <a:ext cx="3657600" cy="2058840"/>
          </a:xfrm>
          <a:prstGeom prst="rect">
            <a:avLst/>
          </a:prstGeom>
          <a:ln w="0">
            <a:noFill/>
          </a:ln>
        </p:spPr>
      </p:pic>
      <p:sp>
        <p:nvSpPr>
          <p:cNvPr id="241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5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6"/>
          <p:cNvSpPr/>
          <p:nvPr/>
        </p:nvSpPr>
        <p:spPr>
          <a:xfrm>
            <a:off x="6172200" y="4842000"/>
            <a:ext cx="2514600" cy="2462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 ≡ finite-element resolu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6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37"/>
          <p:cNvSpPr/>
          <p:nvPr/>
        </p:nvSpPr>
        <p:spPr>
          <a:xfrm>
            <a:off x="6477120" y="2666880"/>
            <a:ext cx="2361960" cy="6728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agnetic axis vs. radial resolution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using quintic-radial finite-element basis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for high pressure equilibrium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dotted line indicates VMEC result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6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6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22"/>
          <p:cNvSpPr/>
          <p:nvPr/>
        </p:nvSpPr>
        <p:spPr>
          <a:xfrm>
            <a:off x="609480" y="647712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traight Connector 6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23"/>
          <p:cNvSpPr/>
          <p:nvPr/>
        </p:nvSpPr>
        <p:spPr>
          <a:xfrm rot="16200000">
            <a:off x="-143280" y="5705640"/>
            <a:ext cx="14475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, p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traight Connector 6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11" descr="vmechighbetaN.png"/>
          <p:cNvPicPr/>
          <p:nvPr/>
        </p:nvPicPr>
        <p:blipFill>
          <a:blip r:embed="rId8"/>
          <a:stretch/>
        </p:blipFill>
        <p:spPr>
          <a:xfrm>
            <a:off x="2590920" y="2666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254" name="Straight Connector 7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7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28"/>
          <p:cNvSpPr/>
          <p:nvPr/>
        </p:nvSpPr>
        <p:spPr>
          <a:xfrm>
            <a:off x="2590920" y="647712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7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685800" y="492768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epped-profile approximation to smooth profil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7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40" descr="steppedprofilelow.png"/>
          <p:cNvPicPr/>
          <p:nvPr/>
        </p:nvPicPr>
        <p:blipFill>
          <a:blip r:embed="rId9"/>
          <a:stretch/>
        </p:blipFill>
        <p:spPr>
          <a:xfrm>
            <a:off x="685800" y="5133960"/>
            <a:ext cx="1905120" cy="1419120"/>
          </a:xfrm>
          <a:prstGeom prst="rect">
            <a:avLst/>
          </a:prstGeom>
          <a:ln w="0">
            <a:noFill/>
          </a:ln>
        </p:spPr>
      </p:pic>
      <p:sp>
        <p:nvSpPr>
          <p:cNvPr id="261" name="Straight Connector 7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41" descr="steppedprofilehigh.png"/>
          <p:cNvPicPr/>
          <p:nvPr/>
        </p:nvPicPr>
        <p:blipFill>
          <a:blip r:embed="rId10"/>
          <a:stretch/>
        </p:blipFill>
        <p:spPr>
          <a:xfrm>
            <a:off x="2590920" y="5133960"/>
            <a:ext cx="1904760" cy="1419120"/>
          </a:xfrm>
          <a:prstGeom prst="rect">
            <a:avLst/>
          </a:prstGeom>
          <a:ln w="0">
            <a:noFill/>
          </a:ln>
        </p:spPr>
      </p:pic>
      <p:sp>
        <p:nvSpPr>
          <p:cNvPr id="263" name="Straight Connector 78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54"/>
          <p:cNvSpPr/>
          <p:nvPr/>
        </p:nvSpPr>
        <p:spPr>
          <a:xfrm rot="16200000">
            <a:off x="4250520" y="5782320"/>
            <a:ext cx="129528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3" descr="SFP_11_pressureprofile.png"/>
          <p:cNvPicPr/>
          <p:nvPr/>
        </p:nvPicPr>
        <p:blipFill>
          <a:blip r:embed="rId1"/>
          <a:stretch/>
        </p:blipFill>
        <p:spPr>
          <a:xfrm>
            <a:off x="2819520" y="4952880"/>
            <a:ext cx="2993760" cy="1881360"/>
          </a:xfrm>
          <a:prstGeom prst="rect">
            <a:avLst/>
          </a:prstGeom>
          <a:ln w="0">
            <a:noFill/>
          </a:ln>
        </p:spPr>
      </p:pic>
      <p:sp>
        <p:nvSpPr>
          <p:cNvPr id="266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libria with (i) perturbed boundary≡chaotic fields,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 (ii) pressure are computed 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Object 10"/>
          <p:cNvGraphicFramePr/>
          <p:nvPr/>
        </p:nvGraphicFramePr>
        <p:xfrm>
          <a:off x="5703840" y="1523880"/>
          <a:ext cx="3363840" cy="19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03840" y="1523880"/>
                    <a:ext cx="33638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37"/>
          <p:cNvSpPr/>
          <p:nvPr/>
        </p:nvSpPr>
        <p:spPr>
          <a:xfrm>
            <a:off x="2892600" y="1457280"/>
            <a:ext cx="23619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igh-pressure equilibriu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37"/>
          <p:cNvSpPr/>
          <p:nvPr/>
        </p:nvSpPr>
        <p:spPr>
          <a:xfrm>
            <a:off x="228600" y="1447920"/>
            <a:ext cx="2362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ero-pressure equilibriu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0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21" descr="zerobetaislands.png"/>
          <p:cNvPicPr/>
          <p:nvPr/>
        </p:nvPicPr>
        <p:blipFill>
          <a:blip r:embed="rId4"/>
          <a:stretch/>
        </p:blipFill>
        <p:spPr>
          <a:xfrm>
            <a:off x="0" y="19051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2" descr="highbetaislands.png"/>
          <p:cNvPicPr/>
          <p:nvPr/>
        </p:nvPicPr>
        <p:blipFill>
          <a:blip r:embed="rId5"/>
          <a:stretch/>
        </p:blipFill>
        <p:spPr>
          <a:xfrm>
            <a:off x="2743200" y="19051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3" descr="islandconvergence.png"/>
          <p:cNvPicPr/>
          <p:nvPr/>
        </p:nvPicPr>
        <p:blipFill>
          <a:blip r:embed="rId6"/>
          <a:stretch/>
        </p:blipFill>
        <p:spPr>
          <a:xfrm>
            <a:off x="5619600" y="4343400"/>
            <a:ext cx="3524400" cy="25146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37"/>
          <p:cNvSpPr/>
          <p:nvPr/>
        </p:nvSpPr>
        <p:spPr>
          <a:xfrm>
            <a:off x="6172200" y="3836880"/>
            <a:ext cx="289548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Convergence of (2,1) &amp; (3,1) island widths with Fourier resolution for 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1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4% cas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37"/>
          <p:cNvSpPr/>
          <p:nvPr/>
        </p:nvSpPr>
        <p:spPr>
          <a:xfrm>
            <a:off x="2286000" y="220968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2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33"/>
          <p:cNvCxnSpPr/>
          <p:nvPr/>
        </p:nvCxnSpPr>
        <p:spPr>
          <a:xfrm>
            <a:off x="3124080" y="2460600"/>
            <a:ext cx="457920" cy="51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TextBox 37"/>
          <p:cNvSpPr/>
          <p:nvPr/>
        </p:nvSpPr>
        <p:spPr>
          <a:xfrm>
            <a:off x="2286000" y="411480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3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Straight Arrow Connector 39"/>
          <p:cNvCxnSpPr/>
          <p:nvPr/>
        </p:nvCxnSpPr>
        <p:spPr>
          <a:xfrm flipH="1">
            <a:off x="1828440" y="2361240"/>
            <a:ext cx="45792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Straight Arrow Connector 41"/>
          <p:cNvCxnSpPr/>
          <p:nvPr/>
        </p:nvCxnSpPr>
        <p:spPr>
          <a:xfrm flipV="1">
            <a:off x="2895480" y="3504600"/>
            <a:ext cx="15336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92" name="Picture 26" descr="qfmsiswidths.png"/>
          <p:cNvPicPr/>
          <p:nvPr/>
        </p:nvPicPr>
        <p:blipFill>
          <a:blip r:embed="rId7"/>
          <a:stretch/>
        </p:blipFill>
        <p:spPr>
          <a:xfrm>
            <a:off x="109440" y="4648320"/>
            <a:ext cx="2100240" cy="1981080"/>
          </a:xfrm>
          <a:prstGeom prst="rect">
            <a:avLst/>
          </a:prstGeom>
          <a:ln w="0">
            <a:noFill/>
          </a:ln>
        </p:spPr>
      </p:pic>
      <p:sp>
        <p:nvSpPr>
          <p:cNvPr id="293" name="TextBox 37"/>
          <p:cNvSpPr/>
          <p:nvPr/>
        </p:nvSpPr>
        <p:spPr>
          <a:xfrm>
            <a:off x="76320" y="6519960"/>
            <a:ext cx="213336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oloidal ang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37"/>
          <p:cNvSpPr/>
          <p:nvPr/>
        </p:nvSpPr>
        <p:spPr>
          <a:xfrm rot="16200000">
            <a:off x="-783360" y="5507640"/>
            <a:ext cx="1981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dial coordinat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37"/>
          <p:cNvSpPr/>
          <p:nvPr/>
        </p:nvSpPr>
        <p:spPr>
          <a:xfrm>
            <a:off x="3886200" y="4952880"/>
            <a:ext cx="137160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sure profi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hudson</cp:lastModifiedBy>
  <cp:lastPrinted>2010-10-19T22:35:21Z</cp:lastPrinted>
  <dcterms:modified xsi:type="dcterms:W3CDTF">2011-04-12T09:09:30Z</dcterms:modified>
  <cp:revision>2029</cp:revision>
  <dc:subject/>
  <dc:title>Direct calculation of   using eigenvalue perturbation theory   S.R.Hudson  </dc:title>
</cp:coreProperties>
</file>