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1.png" ContentType="image/png"/>
  <Override PartName="/ppt/media/image48.png" ContentType="image/png"/>
  <Override PartName="/ppt/media/image29.png" ContentType="image/png"/>
  <Override PartName="/ppt/media/image40.png" ContentType="image/png"/>
  <Override PartName="/ppt/media/image33.wmf" ContentType="image/x-wmf"/>
  <Override PartName="/ppt/media/image26.wmf" ContentType="image/x-wmf"/>
  <Override PartName="/ppt/media/image6.png" ContentType="image/png"/>
  <Override PartName="/ppt/media/image36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55.wmf" ContentType="image/x-wmf"/>
  <Override PartName="/ppt/media/image24.png" ContentType="image/png"/>
  <Override PartName="/ppt/media/image61.png" ContentType="image/png"/>
  <Override PartName="/ppt/media/image3.wmf" ContentType="image/x-wmf"/>
  <Override PartName="/ppt/media/image58.png" ContentType="image/png"/>
  <Override PartName="/ppt/media/image19.wmf" ContentType="image/x-wmf"/>
  <Override PartName="/ppt/media/image23.png" ContentType="image/png"/>
  <Override PartName="/ppt/media/image22.png" ContentType="image/png"/>
  <Override PartName="/ppt/media/image57.wmf" ContentType="image/x-wmf"/>
  <Override PartName="/ppt/media/image17.png" ContentType="image/png"/>
  <Override PartName="/ppt/media/image21.wmf" ContentType="image/x-wmf"/>
  <Override PartName="/ppt/media/image20.wmf" ContentType="image/x-wmf"/>
  <Override PartName="/ppt/media/image63.png" ContentType="image/png"/>
  <Override PartName="/ppt/media/image18.wmf" ContentType="image/x-wmf"/>
  <Override PartName="/ppt/media/image7.png" ContentType="image/png"/>
  <Override PartName="/ppt/media/image37.png" ContentType="image/png"/>
  <Override PartName="/ppt/media/image59.png" ContentType="image/png"/>
  <Override PartName="/ppt/media/image16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27.png" ContentType="image/png"/>
  <Override PartName="/ppt/media/image12.wmf" ContentType="image/x-wmf"/>
  <Override PartName="/ppt/media/image49.wmf" ContentType="image/x-wmf"/>
  <Override PartName="/ppt/media/image4.jpeg" ContentType="image/jpeg"/>
  <Override PartName="/ppt/media/image51.png" ContentType="image/png"/>
  <Override PartName="/ppt/media/image9.png" ContentType="image/png"/>
  <Override PartName="/ppt/media/image28.png" ContentType="image/png"/>
  <Override PartName="/ppt/media/image13.wmf" ContentType="image/x-wmf"/>
  <Override PartName="/ppt/media/image5.wmf" ContentType="image/x-wmf"/>
  <Override PartName="/ppt/media/image10.png" ContentType="image/png"/>
  <Override PartName="/ppt/media/image47.png" ContentType="image/png"/>
  <Override PartName="/ppt/media/image30.png" ContentType="image/png"/>
  <Override PartName="/ppt/media/image32.png" ContentType="image/png"/>
  <Override PartName="/ppt/media/image34.png" ContentType="image/png"/>
  <Override PartName="/ppt/media/image35.png" ContentType="image/png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1D6-9AC9-4899-B051-33253BB506A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0F8D-44ED-4F19-88E6-5B1A8EF7986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92B6-4204-4859-ACDF-44B67A9FF53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3B01-D52A-4E06-8AD6-312A30264FE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F45-B0E3-40C1-A643-AC1B3F168FF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2455-1648-4B0A-A33E-11C7203DD60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790A-E536-4C5D-A8D2-A2C3280541B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A68-538E-493E-954E-7C95D068CAF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E890-CC02-4DB0-BA46-F19CE0251BB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12B-FEEE-4564-9EEF-ABE9A44990E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E7FC-9B2D-4C46-ABC8-5869B985DAF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5DEA-24E1-4423-8316-5FD14FC22B4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DDD1-EAE9-4AC9-893A-C8FFBD4412D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E743-8F0D-47BA-A13F-4D53863AB1C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0E19-1502-4EE7-A150-08782F73EF7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264-DDF7-4D93-B078-CFFF557CE7E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BA2A-943A-4DEE-B592-9AE79E35B86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13D-A221-4D12-96C7-D80A5B4FCD0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A72-0FA7-4ECB-AF52-55F545BC618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B144-B423-4769-A94E-A08FEEBA3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DABE-F31F-4F3C-9257-6BE13B279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4C56-4107-490A-8847-2D47492E3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5483-A42E-41B7-B60E-C515E7582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ECFC-0C34-4E4E-B3A4-FBE5E96A4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B7D6-E936-496E-A54D-DF9A05747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6B48-8BC4-4307-A098-D8AFE60CE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F3FF-6B0D-4E55-AC9A-6F0EC7200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129D-4E27-485B-800F-48BBBA873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D222-CAA8-4326-B255-2F14EBC3F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5593-6436-4B2C-A83D-50F3B1BF5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68A8-4F49-4811-88C9-AB299B968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BEBB-2848-4E80-B52F-7A26122DC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wmf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0" y="218124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-balance in toroidal plasma confinement with arbitrary geometry is magnetohydrodynamics (MHD)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-axisymmetric magnetic fields generall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ve a nested family of smooth flux surfaces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deal surface currents are allowed at the rational surface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field is non-integrable  (i.e. chaotic, with a fractal phase space), then an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sure that satisfi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st have a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finitely discontinuous gradient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ead, solutions with stepped-pressure profiles are guaranteed to exist. A partially-relaxed, topologically-constrained, MHD energy principle is describ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ium solutions are calculated numerically. Results demonstrating convergence tests, benchmarks, and non-trivial solutions are present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straints of ideal MHD may be applied at the rational surfaces, in which case surface curre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 the formation of islands. Or, these constraints may be relaxed in the vicinity of the ratio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faces, in which case magnetic islands will open if resonant perturbations are appli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0" y="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-linearly perturbed equilibria,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or without magnetic islands</a:t>
            </a:r>
            <a:br>
              <a:rPr sz="1000"/>
            </a:br>
            <a:br>
              <a:rPr sz="800"/>
            </a:br>
            <a:br>
              <a:rPr sz="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   R.L. Dewar,   M.J. Hole,   M. McGann,   G. Denn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PPL                                   Australian        National           Univers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3" descr="DIIIDPoincare.png"/>
          <p:cNvPicPr/>
          <p:nvPr/>
        </p:nvPicPr>
        <p:blipFill>
          <a:blip r:embed="rId1"/>
          <a:stretch/>
        </p:blipFill>
        <p:spPr>
          <a:xfrm>
            <a:off x="6203880" y="1523880"/>
            <a:ext cx="294012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Object 10"/>
          <p:cNvGraphicFramePr/>
          <p:nvPr/>
        </p:nvGraphicFramePr>
        <p:xfrm>
          <a:off x="123840" y="762120"/>
          <a:ext cx="82818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Object 10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123840" y="762120"/>
                    <a:ext cx="82818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Picture 32" descr="DIIIDpressure.png"/>
          <p:cNvPicPr/>
          <p:nvPr/>
        </p:nvPicPr>
        <p:blipFill>
          <a:blip r:embed="rId4"/>
          <a:stretch/>
        </p:blipFill>
        <p:spPr>
          <a:xfrm>
            <a:off x="304920" y="4038480"/>
            <a:ext cx="3351240" cy="178128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calculation: DIIID with N=3 applied error fie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37"/>
          <p:cNvSpPr/>
          <p:nvPr/>
        </p:nvSpPr>
        <p:spPr>
          <a:xfrm rot="16200000">
            <a:off x="-347400" y="480672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37"/>
          <p:cNvSpPr/>
          <p:nvPr/>
        </p:nvSpPr>
        <p:spPr>
          <a:xfrm>
            <a:off x="990720" y="3505320"/>
            <a:ext cx="4647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smooth EFIT pressure profile,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dotted curve is smooth pressure gradient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stepped pressure profile approxi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6248520" y="1523880"/>
            <a:ext cx="289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mation of magnetic island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ational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Straight Arrow Connector 33"/>
          <p:cNvCxnSpPr/>
          <p:nvPr/>
        </p:nvCxnSpPr>
        <p:spPr>
          <a:xfrm flipH="1">
            <a:off x="7848360" y="2057400"/>
            <a:ext cx="83880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Straight Arrow Connector 33"/>
          <p:cNvCxnSpPr/>
          <p:nvPr/>
        </p:nvCxnSpPr>
        <p:spPr>
          <a:xfrm flipH="1">
            <a:off x="7848360" y="2057040"/>
            <a:ext cx="8388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0" name="Straight Arrow Connector 33"/>
          <p:cNvCxnSpPr/>
          <p:nvPr/>
        </p:nvCxnSpPr>
        <p:spPr>
          <a:xfrm flipH="1">
            <a:off x="7848360" y="20574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TextBox 37"/>
          <p:cNvSpPr/>
          <p:nvPr/>
        </p:nvSpPr>
        <p:spPr>
          <a:xfrm>
            <a:off x="914400" y="1676520"/>
            <a:ext cx="5410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ffect of RMP modelled by including (m,n)=(2,3), (3,3) &amp; (4,3) boundary deformation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n spectrally condensed angle, so this corresponds to broad m spectrum in magnetic coordinates)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t present      : can only treat stellarator-symmetric configurations, in fixed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or future work  : include up-down asymmetry; allow free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2" descr="ITERPoincare.png"/>
          <p:cNvPicPr/>
          <p:nvPr/>
        </p:nvPicPr>
        <p:blipFill>
          <a:blip r:embed="rId1"/>
          <a:stretch/>
        </p:blipFill>
        <p:spPr>
          <a:xfrm>
            <a:off x="6080040" y="1523880"/>
            <a:ext cx="2987640" cy="525780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ITER relevant configuration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 and without rational shielding curren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35" descr="npecpressure.png"/>
          <p:cNvPicPr/>
          <p:nvPr/>
        </p:nvPicPr>
        <p:blipFill>
          <a:blip r:embed="rId2"/>
          <a:stretch/>
        </p:blipFill>
        <p:spPr>
          <a:xfrm>
            <a:off x="304920" y="4249800"/>
            <a:ext cx="3504960" cy="26082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7"/>
          <p:cNvSpPr/>
          <p:nvPr/>
        </p:nvSpPr>
        <p:spPr>
          <a:xfrm rot="16200000">
            <a:off x="-732960" y="5284440"/>
            <a:ext cx="198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6" descr="npectransform.png"/>
          <p:cNvPicPr/>
          <p:nvPr/>
        </p:nvPicPr>
        <p:blipFill>
          <a:blip r:embed="rId3"/>
          <a:stretch/>
        </p:blipFill>
        <p:spPr>
          <a:xfrm>
            <a:off x="228600" y="1828800"/>
            <a:ext cx="3581280" cy="2562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7"/>
          <p:cNvSpPr/>
          <p:nvPr/>
        </p:nvSpPr>
        <p:spPr>
          <a:xfrm rot="16200000">
            <a:off x="-783360" y="2850480"/>
            <a:ext cx="19810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otational 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37"/>
          <p:cNvSpPr/>
          <p:nvPr/>
        </p:nvSpPr>
        <p:spPr>
          <a:xfrm>
            <a:off x="6095880" y="1457280"/>
            <a:ext cx="27432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o island for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Straight Arrow Connector 33"/>
          <p:cNvCxnSpPr/>
          <p:nvPr/>
        </p:nvCxnSpPr>
        <p:spPr>
          <a:xfrm>
            <a:off x="6552720" y="1752480"/>
            <a:ext cx="2293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342" name="Object 10"/>
          <p:cNvGraphicFramePr/>
          <p:nvPr/>
        </p:nvGraphicFramePr>
        <p:xfrm>
          <a:off x="171360" y="1066680"/>
          <a:ext cx="8515440" cy="140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360" y="1066680"/>
                    <a:ext cx="85154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Straight Connector 28"/>
          <p:cNvSpPr/>
          <p:nvPr/>
        </p:nvSpPr>
        <p:spPr>
          <a:xfrm flipH="1">
            <a:off x="6079680" y="4152960"/>
            <a:ext cx="298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37"/>
          <p:cNvSpPr/>
          <p:nvPr/>
        </p:nvSpPr>
        <p:spPr>
          <a:xfrm>
            <a:off x="5791320" y="4419720"/>
            <a:ext cx="32004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OUT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=2/1 island ope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"/>
          <p:cNvCxnSpPr/>
          <p:nvPr/>
        </p:nvCxnSpPr>
        <p:spPr>
          <a:xfrm flipH="1">
            <a:off x="6933600" y="4800240"/>
            <a:ext cx="686520" cy="1067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TextBox 37"/>
          <p:cNvSpPr/>
          <p:nvPr/>
        </p:nvSpPr>
        <p:spPr>
          <a:xfrm>
            <a:off x="3581280" y="293832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tional surface q=2/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Straight Arrow Connector 33"/>
          <p:cNvCxnSpPr/>
          <p:nvPr/>
        </p:nvCxnSpPr>
        <p:spPr>
          <a:xfrm flipH="1">
            <a:off x="3276000" y="3200400"/>
            <a:ext cx="1905480" cy="23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0" y="5223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described and the equilibrium solutions constructed numericall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ing the profiles discretely is a practical means of retaining some control ov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files, while making minimal assumptions regarding the topology of the fiel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enforcing the ideal constraint at the rational surfaces, the formation of magnetic islands is prohibited by the formation of surface “shielding” curr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533520" y="3627360"/>
            <a:ext cx="8229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ed Topics by collaborato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1 Dennis,    Multiple-region Taylor relaxed states in a Reversed Field Pinch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2 Dewar,     On the relation of Taylor relaxation to the tearing m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3 Dewar,     Inverse problem for an equilibrium current she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.14 Gibson,    Reconciliation of Almost-Invariant Tori in Chaotic System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0" y="646200"/>
            <a:ext cx="9144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described and the equilibrium solutions construc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, and a spectrally condensed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standard numerical methods (NAG): modified Newton’s method,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non-axisymmetric solutions with chaotic fields and non-trivial pressure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the profiles discretely is a practical means of retaining some control 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s, while making minimal assumptions regarding the topology of the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it is only assumed tha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ux surfaces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pressure gradients coincide with strongly irrational flux su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monstrated convergence of island widths with Fourier resolution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enforcing the ideal constraint at the rational surfaces, the formation of magnetic islands is prohibited by the formation of surface “shielding” current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imilar to non-linear generalization of IPEC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relaxing ideal constraint at rational surfaces allows islands to ope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113"/>
          <p:cNvGrpSpPr/>
          <p:nvPr/>
        </p:nvGrpSpPr>
        <p:grpSpPr>
          <a:xfrm>
            <a:off x="7086600" y="990720"/>
            <a:ext cx="1905120" cy="1598400"/>
            <a:chOff x="7086600" y="990720"/>
            <a:chExt cx="1905120" cy="1598400"/>
          </a:xfrm>
        </p:grpSpPr>
        <p:pic>
          <p:nvPicPr>
            <p:cNvPr id="386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086600" y="990720"/>
              <a:ext cx="190512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Freeform 67"/>
            <p:cNvSpPr/>
            <p:nvPr/>
          </p:nvSpPr>
          <p:spPr>
            <a:xfrm>
              <a:off x="7991640" y="138852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68"/>
            <p:cNvSpPr/>
            <p:nvPr/>
          </p:nvSpPr>
          <p:spPr>
            <a:xfrm>
              <a:off x="7907400" y="157572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69"/>
            <p:cNvSpPr/>
            <p:nvPr/>
          </p:nvSpPr>
          <p:spPr>
            <a:xfrm>
              <a:off x="7915680" y="177264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71"/>
            <p:cNvSpPr/>
            <p:nvPr/>
          </p:nvSpPr>
          <p:spPr>
            <a:xfrm>
              <a:off x="8669160" y="164484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72"/>
            <p:cNvSpPr/>
            <p:nvPr/>
          </p:nvSpPr>
          <p:spPr>
            <a:xfrm>
              <a:off x="7351560" y="1000080"/>
              <a:ext cx="180000" cy="5022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73"/>
            <p:cNvSpPr/>
            <p:nvPr/>
          </p:nvSpPr>
          <p:spPr>
            <a:xfrm>
              <a:off x="8695080" y="1802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74"/>
            <p:cNvSpPr/>
            <p:nvPr/>
          </p:nvSpPr>
          <p:spPr>
            <a:xfrm>
              <a:off x="7526160" y="104040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4" name="Object 10"/>
          <p:cNvGraphicFramePr/>
          <p:nvPr/>
        </p:nvGraphicFramePr>
        <p:xfrm>
          <a:off x="122400" y="933480"/>
          <a:ext cx="8861400" cy="58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" y="933480"/>
                    <a:ext cx="88614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5" descr="evolvestart.png"/>
          <p:cNvPicPr/>
          <p:nvPr/>
        </p:nvPicPr>
        <p:blipFill>
          <a:blip r:embed="rId1"/>
          <a:stretch/>
        </p:blipFill>
        <p:spPr>
          <a:xfrm>
            <a:off x="135000" y="1717560"/>
            <a:ext cx="2286000" cy="3057480"/>
          </a:xfrm>
          <a:prstGeom prst="rect">
            <a:avLst/>
          </a:prstGeom>
          <a:ln w="0">
            <a:noFill/>
          </a:ln>
        </p:spPr>
      </p:pic>
      <p:pic>
        <p:nvPicPr>
          <p:cNvPr id="405" name="2011May13185631.mpeg" descr=""/>
          <p:cNvPicPr/>
          <p:nvPr/>
        </p:nvPicPr>
        <p:blipFill>
          <a:blip r:embed="rId2"/>
          <a:stretch/>
        </p:blipFill>
        <p:spPr>
          <a:xfrm>
            <a:off x="2496960" y="1704960"/>
            <a:ext cx="2379960" cy="3070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8" descr="epsresonantfields.png"/>
          <p:cNvPicPr/>
          <p:nvPr/>
        </p:nvPicPr>
        <p:blipFill>
          <a:blip r:embed="rId3"/>
          <a:stretch/>
        </p:blipFill>
        <p:spPr>
          <a:xfrm>
            <a:off x="5029200" y="4876920"/>
            <a:ext cx="4114800" cy="1792080"/>
          </a:xfrm>
          <a:prstGeom prst="rect">
            <a:avLst/>
          </a:prstGeom>
          <a:ln w="0">
            <a:noFill/>
          </a:ln>
        </p:spPr>
      </p:pic>
      <p:sp>
        <p:nvSpPr>
          <p:cNvPr id="40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18"/>
          <p:cNvGraphicFramePr/>
          <p:nvPr/>
        </p:nvGraphicFramePr>
        <p:xfrm>
          <a:off x="1582560" y="1679400"/>
          <a:ext cx="82584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2560" y="1679400"/>
                    <a:ext cx="8258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Box 27"/>
          <p:cNvSpPr/>
          <p:nvPr/>
        </p:nvSpPr>
        <p:spPr>
          <a:xfrm rot="16200000">
            <a:off x="4099680" y="5485320"/>
            <a:ext cx="1676160" cy="4590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   normal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rror   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6" descr="evolvefinish.png"/>
          <p:cNvPicPr/>
          <p:nvPr/>
        </p:nvPicPr>
        <p:blipFill>
          <a:blip r:embed="rId6"/>
          <a:stretch/>
        </p:blipFill>
        <p:spPr>
          <a:xfrm>
            <a:off x="4782960" y="172728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9" descr="evolveresolution.png"/>
          <p:cNvPicPr/>
          <p:nvPr/>
        </p:nvPicPr>
        <p:blipFill>
          <a:blip r:embed="rId7"/>
          <a:stretch/>
        </p:blipFill>
        <p:spPr>
          <a:xfrm>
            <a:off x="0" y="5203800"/>
            <a:ext cx="3733920" cy="165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Object 26"/>
          <p:cNvGraphicFramePr/>
          <p:nvPr/>
        </p:nvGraphicFramePr>
        <p:xfrm>
          <a:off x="3352680" y="4800600"/>
          <a:ext cx="1219320" cy="100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6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4800600"/>
                    <a:ext cx="12193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17"/>
          <p:cNvGraphicFramePr/>
          <p:nvPr/>
        </p:nvGraphicFramePr>
        <p:xfrm>
          <a:off x="6167520" y="1679400"/>
          <a:ext cx="825480" cy="3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67520" y="167940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Box 37"/>
          <p:cNvSpPr/>
          <p:nvPr/>
        </p:nvSpPr>
        <p:spPr>
          <a:xfrm>
            <a:off x="6705720" y="423396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37"/>
          <p:cNvSpPr/>
          <p:nvPr/>
        </p:nvSpPr>
        <p:spPr>
          <a:xfrm>
            <a:off x="6400800" y="453852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Straight Arrow Connector 33"/>
          <p:cNvCxnSpPr/>
          <p:nvPr/>
        </p:nvCxnSpPr>
        <p:spPr>
          <a:xfrm flipH="1" flipV="1">
            <a:off x="5790960" y="4114080"/>
            <a:ext cx="91512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Straight Arrow Connector 33"/>
          <p:cNvCxnSpPr/>
          <p:nvPr/>
        </p:nvCxnSpPr>
        <p:spPr>
          <a:xfrm flipH="1" flipV="1">
            <a:off x="5790600" y="4494960"/>
            <a:ext cx="6102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436" name="Object 6"/>
          <p:cNvGraphicFramePr/>
          <p:nvPr/>
        </p:nvGraphicFramePr>
        <p:xfrm>
          <a:off x="8439120" y="4888080"/>
          <a:ext cx="316080" cy="301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39120" y="4888080"/>
                    <a:ext cx="31608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27"/>
          <p:cNvGraphicFramePr/>
          <p:nvPr/>
        </p:nvGraphicFramePr>
        <p:xfrm>
          <a:off x="7924680" y="5867280"/>
          <a:ext cx="316080" cy="301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9" name="Object 2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867280"/>
                    <a:ext cx="3160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 condition at interfaces gives rise to auxilliary pressure-jump Hamiltonian syste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Object 10"/>
          <p:cNvGraphicFramePr/>
          <p:nvPr/>
        </p:nvGraphicFramePr>
        <p:xfrm>
          <a:off x="98280" y="1066680"/>
          <a:ext cx="88934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066680"/>
                    <a:ext cx="88934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Rectangle 31"/>
          <p:cNvSpPr/>
          <p:nvPr/>
        </p:nvSpPr>
        <p:spPr>
          <a:xfrm>
            <a:off x="0" y="6027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milton-Jacobi theory for continuation of magnetic field across a toroidal surface supporting a plasma pressure discontinuity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cGann, S.R.Hudson, R.L. Dewar and G. von Nessi, Physics Letters A, 374(33):3308, 2010 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1" descr="SFP_11_resonantfields.png"/>
          <p:cNvPicPr/>
          <p:nvPr/>
        </p:nvPicPr>
        <p:blipFill>
          <a:blip r:embed="rId1"/>
          <a:stretch/>
        </p:blipFill>
        <p:spPr>
          <a:xfrm>
            <a:off x="3276720" y="4952880"/>
            <a:ext cx="5189400" cy="1905120"/>
          </a:xfrm>
          <a:prstGeom prst="rect">
            <a:avLst/>
          </a:prstGeom>
          <a:ln w="0">
            <a:noFill/>
          </a:ln>
        </p:spPr>
      </p:pic>
      <p:sp>
        <p:nvSpPr>
          <p:cNvPr id="45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15" descr="SFP11_Poincare_circle_zerobeta.png"/>
          <p:cNvPicPr/>
          <p:nvPr/>
        </p:nvPicPr>
        <p:blipFill>
          <a:blip r:embed="rId2"/>
          <a:stretch/>
        </p:blipFill>
        <p:spPr>
          <a:xfrm>
            <a:off x="0" y="1981080"/>
            <a:ext cx="3603600" cy="3276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Object 10"/>
          <p:cNvGraphicFramePr/>
          <p:nvPr/>
        </p:nvGraphicFramePr>
        <p:xfrm>
          <a:off x="76320" y="909720"/>
          <a:ext cx="474480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909720"/>
                    <a:ext cx="47448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Picture 19" descr="SFP_11_resolution.png"/>
          <p:cNvPicPr/>
          <p:nvPr/>
        </p:nvPicPr>
        <p:blipFill>
          <a:blip r:embed="rId5"/>
          <a:stretch/>
        </p:blipFill>
        <p:spPr>
          <a:xfrm>
            <a:off x="4724280" y="826920"/>
            <a:ext cx="4419720" cy="1230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1" descr="SFP_11_Poincare_elcric.png"/>
          <p:cNvPicPr/>
          <p:nvPr/>
        </p:nvPicPr>
        <p:blipFill>
          <a:blip r:embed="rId6"/>
          <a:stretch/>
        </p:blipFill>
        <p:spPr>
          <a:xfrm>
            <a:off x="6229440" y="2057400"/>
            <a:ext cx="2914560" cy="27432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37"/>
          <p:cNvSpPr/>
          <p:nvPr/>
        </p:nvSpPr>
        <p:spPr>
          <a:xfrm>
            <a:off x="6248520" y="505620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esonant radial field at rational surface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n=1,2,3 stability from PES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2011Mar30142036.mpeg" descr=""/>
          <p:cNvPicPr/>
          <p:nvPr/>
        </p:nvPicPr>
        <p:blipFill>
          <a:blip r:embed="rId7"/>
          <a:stretch/>
        </p:blipFill>
        <p:spPr>
          <a:xfrm>
            <a:off x="3497400" y="2057400"/>
            <a:ext cx="282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6095880" y="81756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to fractal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5" descr="diophantinerenorm.png"/>
          <p:cNvPicPr/>
          <p:nvPr/>
        </p:nvPicPr>
        <p:blipFill>
          <a:blip r:embed="rId1"/>
          <a:stretch/>
        </p:blipFill>
        <p:spPr>
          <a:xfrm>
            <a:off x="586728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0"/>
          <p:cNvGraphicFramePr/>
          <p:nvPr/>
        </p:nvGraphicFramePr>
        <p:xfrm>
          <a:off x="66600" y="831960"/>
          <a:ext cx="9037800" cy="602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831960"/>
                    <a:ext cx="903780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6585120" y="3276720"/>
          <a:ext cx="248256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585120" y="3276720"/>
                    <a:ext cx="24825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16220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16220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 rot="16200000">
            <a:off x="5371920" y="445716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162920" y="2590920"/>
            <a:ext cx="1904760" cy="39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13"/>
          <p:cNvGrpSpPr/>
          <p:nvPr/>
        </p:nvGrpSpPr>
        <p:grpSpPr>
          <a:xfrm>
            <a:off x="7238880" y="915840"/>
            <a:ext cx="1905120" cy="1598760"/>
            <a:chOff x="7238880" y="915840"/>
            <a:chExt cx="1905120" cy="1598760"/>
          </a:xfrm>
        </p:grpSpPr>
        <p:pic>
          <p:nvPicPr>
            <p:cNvPr id="80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238880" y="915840"/>
              <a:ext cx="190512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7"/>
            <p:cNvSpPr/>
            <p:nvPr/>
          </p:nvSpPr>
          <p:spPr>
            <a:xfrm>
              <a:off x="8143920" y="131364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8"/>
            <p:cNvSpPr/>
            <p:nvPr/>
          </p:nvSpPr>
          <p:spPr>
            <a:xfrm>
              <a:off x="8059680" y="150120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9"/>
            <p:cNvSpPr/>
            <p:nvPr/>
          </p:nvSpPr>
          <p:spPr>
            <a:xfrm>
              <a:off x="8067960" y="169776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8821440" y="156996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503840" y="925200"/>
              <a:ext cx="180000" cy="50256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3"/>
            <p:cNvSpPr/>
            <p:nvPr/>
          </p:nvSpPr>
          <p:spPr>
            <a:xfrm>
              <a:off x="8847360" y="172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4"/>
            <p:cNvSpPr/>
            <p:nvPr/>
          </p:nvSpPr>
          <p:spPr>
            <a:xfrm>
              <a:off x="7678440" y="96552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" name="Object 10"/>
          <p:cNvGraphicFramePr/>
          <p:nvPr/>
        </p:nvGraphicFramePr>
        <p:xfrm>
          <a:off x="47520" y="1192320"/>
          <a:ext cx="880596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520" y="1192320"/>
                    <a:ext cx="880596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bstract.png"/>
          <p:cNvPicPr/>
          <p:nvPr/>
        </p:nvPicPr>
        <p:blipFill>
          <a:blip r:embed="rId1"/>
          <a:stretch/>
        </p:blipFill>
        <p:spPr>
          <a:xfrm>
            <a:off x="171360" y="19810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Existence.png"/>
          <p:cNvPicPr/>
          <p:nvPr/>
        </p:nvPicPr>
        <p:blipFill>
          <a:blip r:embed="rId2"/>
          <a:stretch/>
        </p:blipFill>
        <p:spPr>
          <a:xfrm>
            <a:off x="985680" y="152280"/>
            <a:ext cx="7172640" cy="85752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runo.png"/>
          <p:cNvPicPr/>
          <p:nvPr/>
        </p:nvPicPr>
        <p:blipFill>
          <a:blip r:embed="rId3"/>
          <a:stretch/>
        </p:blipFill>
        <p:spPr>
          <a:xfrm>
            <a:off x="1143000" y="1143000"/>
            <a:ext cx="344808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19052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34340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2057400" y="220968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0"/>
          <p:cNvSpPr/>
          <p:nvPr/>
        </p:nvSpPr>
        <p:spPr>
          <a:xfrm>
            <a:off x="68580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52280" y="5505480"/>
            <a:ext cx="8839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is was a strong motivation for pursuing the stepped-pressure equilibrium mode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3200400" y="40384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563868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0"/>
          <p:cNvSpPr/>
          <p:nvPr/>
        </p:nvSpPr>
        <p:spPr>
          <a:xfrm>
            <a:off x="304920" y="3809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57200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definition, an equilibrium code must constrain topology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111240" y="685800"/>
          <a:ext cx="8956440" cy="38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240" y="685800"/>
                    <a:ext cx="895644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7848720" y="4800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1"/>
          <p:cNvGraphicFramePr/>
          <p:nvPr/>
        </p:nvGraphicFramePr>
        <p:xfrm>
          <a:off x="76320" y="5052960"/>
          <a:ext cx="4635360" cy="17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6320" y="5052960"/>
                    <a:ext cx="4635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</a:t>
            </a:r>
            <a:br>
              <a:rPr sz="2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[Plasma Physics and Controlled Fusion, 54:014005, 201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76320" y="1092240"/>
          <a:ext cx="8837640" cy="56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92240"/>
                    <a:ext cx="883764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038480" y="26668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6095880" y="60958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477120" y="348624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be solved using (i) sparse linear solver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Newton methods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minimization          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4120" y="4368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adjust profiles to match (i) parallel current constraint   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rotational-transform constrain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helicity constraint                     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4" descr="BeltramiPoincare.png"/>
          <p:cNvPicPr/>
          <p:nvPr/>
        </p:nvPicPr>
        <p:blipFill>
          <a:blip r:embed="rId1"/>
          <a:stretch/>
        </p:blipFill>
        <p:spPr>
          <a:xfrm>
            <a:off x="36576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98280" y="571680"/>
          <a:ext cx="730440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" y="571680"/>
                    <a:ext cx="7304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5" descr="curlerror.png"/>
          <p:cNvPicPr/>
          <p:nvPr/>
        </p:nvPicPr>
        <p:blipFill>
          <a:blip r:embed="rId4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981080" y="525780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Straight Arrow Connector 26"/>
          <p:cNvCxnSpPr/>
          <p:nvPr/>
        </p:nvCxnSpPr>
        <p:spPr>
          <a:xfrm flipV="1">
            <a:off x="3276360" y="4723920"/>
            <a:ext cx="106740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Straight Arrow Connector 28"/>
          <p:cNvCxnSpPr>
            <a:stCxn id="179" idx="3"/>
          </p:cNvCxnSpPr>
          <p:nvPr/>
        </p:nvCxnSpPr>
        <p:spPr>
          <a:xfrm flipV="1">
            <a:off x="3276360" y="5487480"/>
            <a:ext cx="991080" cy="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Straight Arrow Connector 31"/>
          <p:cNvCxnSpPr/>
          <p:nvPr/>
        </p:nvCxnSpPr>
        <p:spPr>
          <a:xfrm flipV="1">
            <a:off x="3276360" y="5638680"/>
            <a:ext cx="6865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76320" y="5014800"/>
          <a:ext cx="2814480" cy="16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014800"/>
                    <a:ext cx="28144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0" y="41911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6" descr="BeltramiSubgrid.png"/>
          <p:cNvPicPr/>
          <p:nvPr/>
        </p:nvPicPr>
        <p:blipFill>
          <a:blip r:embed="rId13"/>
          <a:stretch/>
        </p:blipFill>
        <p:spPr>
          <a:xfrm>
            <a:off x="64008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1"/>
          <p:cNvSpPr/>
          <p:nvPr/>
        </p:nvSpPr>
        <p:spPr>
          <a:xfrm>
            <a:off x="6400800" y="4038480"/>
            <a:ext cx="1676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ub-radial grid, N=1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8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5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      (i) perturbed boundary &amp; 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      (ii) pressure are computed   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10"/>
          <p:cNvGraphicFramePr/>
          <p:nvPr/>
        </p:nvGraphicFramePr>
        <p:xfrm>
          <a:off x="5703840" y="1143000"/>
          <a:ext cx="336384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143000"/>
                    <a:ext cx="33638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37"/>
          <p:cNvSpPr/>
          <p:nvPr/>
        </p:nvSpPr>
        <p:spPr>
          <a:xfrm>
            <a:off x="2892600" y="91440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228600" y="91440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53341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.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ith Fourier resolution,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loidal resolution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roidal resolution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2286000" y="17524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Straight Arrow Connector 33"/>
          <p:cNvCxnSpPr/>
          <p:nvPr/>
        </p:nvCxnSpPr>
        <p:spPr>
          <a:xfrm>
            <a:off x="3124080" y="20034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TextBox 37"/>
          <p:cNvSpPr/>
          <p:nvPr/>
        </p:nvSpPr>
        <p:spPr>
          <a:xfrm>
            <a:off x="2286000" y="36576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39"/>
          <p:cNvCxnSpPr/>
          <p:nvPr/>
        </p:nvCxnSpPr>
        <p:spPr>
          <a:xfrm flipH="1">
            <a:off x="1828440" y="19040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Straight Arrow Connector 41"/>
          <p:cNvCxnSpPr/>
          <p:nvPr/>
        </p:nvCxnSpPr>
        <p:spPr>
          <a:xfrm flipV="1">
            <a:off x="2895480" y="30474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1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1"/>
          <p:cNvSpPr/>
          <p:nvPr/>
        </p:nvSpPr>
        <p:spPr>
          <a:xfrm>
            <a:off x="5562720" y="2590920"/>
            <a:ext cx="3504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d Convergenc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f high-pressure equilibrium with island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th Fourier Resolution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76320" y="4200480"/>
            <a:ext cx="2133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toroid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37"/>
          <p:cNvSpPr/>
          <p:nvPr/>
        </p:nvSpPr>
        <p:spPr>
          <a:xfrm rot="16200000">
            <a:off x="1883160" y="5279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2-01-26T15:02:26Z</dcterms:modified>
  <cp:revision>2308</cp:revision>
  <dc:subject/>
  <dc:title>Direct calculation of   using eigenvalue perturbation theory   S.R.Hudson  </dc:title>
</cp:coreProperties>
</file>