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4278-DBF4-4662-A91B-12662543BA1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6F64-519A-4B2D-97E4-536970AAE14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7"/>
          <p:cNvSpPr/>
          <p:nvPr/>
        </p:nvSpPr>
        <p:spPr>
          <a:xfrm>
            <a:off x="-25560" y="0"/>
            <a:ext cx="13005000" cy="180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Title. . . 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10083960" y="2666880"/>
            <a:ext cx="2819160" cy="2722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3316" descr=""/>
          <p:cNvPicPr/>
          <p:nvPr/>
        </p:nvPicPr>
        <p:blipFill>
          <a:blip r:embed="rId2"/>
          <a:stretch/>
        </p:blipFill>
        <p:spPr>
          <a:xfrm>
            <a:off x="101520" y="3206880"/>
            <a:ext cx="12781080" cy="6430680"/>
          </a:xfrm>
          <a:prstGeom prst="rect">
            <a:avLst/>
          </a:prstGeom>
          <a:ln w="0">
            <a:noFill/>
          </a:ln>
        </p:spPr>
      </p:pic>
      <p:sp>
        <p:nvSpPr>
          <p:cNvPr id="497" name="TextBox 7"/>
          <p:cNvSpPr/>
          <p:nvPr/>
        </p:nvSpPr>
        <p:spPr>
          <a:xfrm>
            <a:off x="-25560" y="0"/>
            <a:ext cx="1300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Multi-Region Relaxed MHD (MRxMH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quilibriu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strained, minimum-energy sta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sistent with given pressure, transform, and boundary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ounded Rectangle 12"/>
          <p:cNvSpPr/>
          <p:nvPr/>
        </p:nvSpPr>
        <p:spPr>
          <a:xfrm>
            <a:off x="101520" y="7696080"/>
            <a:ext cx="12649320" cy="1905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Rounded Rectangle 2"/>
          <p:cNvSpPr/>
          <p:nvPr/>
        </p:nvSpPr>
        <p:spPr>
          <a:xfrm>
            <a:off x="101520" y="3809880"/>
            <a:ext cx="12649320" cy="1473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0" y="0"/>
            <a:ext cx="13004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Early and recent publication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Oval 10"/>
          <p:cNvSpPr/>
          <p:nvPr/>
        </p:nvSpPr>
        <p:spPr>
          <a:xfrm>
            <a:off x="8636040" y="5511960"/>
            <a:ext cx="65736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TextBox 1"/>
          <p:cNvSpPr/>
          <p:nvPr/>
        </p:nvSpPr>
        <p:spPr>
          <a:xfrm>
            <a:off x="177840" y="841320"/>
            <a:ext cx="1280160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le, Hudson &amp; Dewar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0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Hole &amp; Dewar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0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theoretical mod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war, Hole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ropy 2008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Dewar et al.,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2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SPEC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3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MRxMHD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ideal as N</a:t>
            </a:r>
            <a:r>
              <a:rPr b="0" i="1" lang="en-US" sz="1000" spc="-1" strike="noStrike">
                <a:solidFill>
                  <a:srgbClr val="000000"/>
                </a:solidFill>
                <a:latin typeface="Gill Sans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,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L 2013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helical states in RFP = double Taylor stat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,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4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MRxMHD+flow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 et al.,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4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MRxMHD+flow+pressure anisotroph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 et al.   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 2015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first ever computation of 1/x &amp;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current-densities in ideal-MHD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 et al.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, 2015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well-defined, 3D ideal MHD with discontinuous transform, RMP penetration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war, Yoshida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PP, 2015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variational formulation of MRxMHD dynamics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743040" indent="-74304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 et al.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, 2016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pressure amplification of RMPs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25560" y="5450040"/>
            <a:ext cx="13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"/>
              </a:rPr>
              <a:t>Recent and upcoming invited talk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101520" y="6248520"/>
            <a:ext cx="12801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Dewar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2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herwood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3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herwood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nnis, Hudson, et. a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3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tellarator Heliotron Worksho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le, Dewar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4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Congress on Plasma Physi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5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ternational Sherwood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, et al.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5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S-DP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udson, Loizu, et al.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ia Pacific Plasma Theory Conference, 201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izu, Hudson, et al.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arenna Fusion Theory Confer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Right Brace 3"/>
          <p:cNvSpPr/>
          <p:nvPr/>
        </p:nvSpPr>
        <p:spPr>
          <a:xfrm>
            <a:off x="5892840" y="917640"/>
            <a:ext cx="304920" cy="911160"/>
          </a:xfrm>
          <a:custGeom>
            <a:avLst/>
            <a:gdLst>
              <a:gd name="textAreaLeft" fmla="*/ 0 w 304920"/>
              <a:gd name="textAreaRight" fmla="*/ 110160 w 304920"/>
              <a:gd name="textAreaTop" fmla="*/ 83160 h 911160"/>
              <a:gd name="textAreaBottom" fmla="*/ 828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2"/>
                  <a:pt x="10800" y="6304"/>
                </a:cubicBezTo>
                <a:lnTo>
                  <a:pt x="10800" y="4496"/>
                </a:lnTo>
                <a:cubicBezTo>
                  <a:pt x="10800" y="7648"/>
                  <a:pt x="16200" y="10800"/>
                  <a:pt x="21600" y="10800"/>
                </a:cubicBezTo>
                <a:cubicBezTo>
                  <a:pt x="16200" y="10800"/>
                  <a:pt x="10800" y="13952"/>
                  <a:pt x="10800" y="17104"/>
                </a:cubicBezTo>
                <a:lnTo>
                  <a:pt x="10800" y="15296"/>
                </a:lnTo>
                <a:cubicBezTo>
                  <a:pt x="10800" y="1844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7"/>
          <p:cNvSpPr/>
          <p:nvPr/>
        </p:nvSpPr>
        <p:spPr>
          <a:xfrm>
            <a:off x="0" y="0"/>
            <a:ext cx="130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Ongoing Efforts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-25560" y="2362320"/>
            <a:ext cx="130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ilestone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TextBox 10"/>
          <p:cNvSpPr/>
          <p:nvPr/>
        </p:nvSpPr>
        <p:spPr>
          <a:xfrm>
            <a:off x="101520" y="762120"/>
            <a:ext cx="1280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early perturbed calcu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already published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acuum benchmark, W7-X, OP1.1,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 vs. Biot-Savart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how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-stellarator symmetric capability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completed, not-yet published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ree-boundary capabilit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almost finished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10083960" y="0"/>
            <a:ext cx="2895480" cy="33163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"/>
          <p:cNvSpPr/>
          <p:nvPr/>
        </p:nvSpPr>
        <p:spPr>
          <a:xfrm>
            <a:off x="101520" y="2971800"/>
            <a:ext cx="1280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ublish vacuum verificatio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lete free-boundar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7-X calcu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6 / 2017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ear stability calcu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clude flow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201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collaboration with Dr. Hamdi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0083960" y="3276720"/>
            <a:ext cx="29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"/>
              </a:rPr>
              <a:t>W7-X vacuum verifica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"/>
              </a:rPr>
              <a:t>excellent agreement!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25560" y="4800600"/>
            <a:ext cx="13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ctive Collaborator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52280" y="5446800"/>
            <a:ext cx="12801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. R. Hudson, A. Bhattacharje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inceton Plasma Physics Laborator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.L. Dewar, M. J. Hol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ustralian National University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awarded 3 Australian Research Council Grants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. Loizu, P. Helander, C. Nuehrenber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Max-Planck Institute for Plasma Physic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Z. Yoshid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ity of Tokyo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indirect collaboration via Prof.Dewar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. AbdelHamid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ity of Tokyo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presently visiting PPP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TextBox 7"/>
          <p:cNvSpPr/>
          <p:nvPr/>
        </p:nvSpPr>
        <p:spPr>
          <a:xfrm>
            <a:off x="-50760" y="7086600"/>
            <a:ext cx="13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EC vc M3D-C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TextBox 16"/>
          <p:cNvSpPr/>
          <p:nvPr/>
        </p:nvSpPr>
        <p:spPr>
          <a:xfrm>
            <a:off x="76320" y="7732800"/>
            <a:ext cx="128016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w can an equilibrium code be verified against an initial-value code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self-organized stationary states in tokamaks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[Jardin et al. PRL]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 explained as constrained minimum energy states?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(preliminary discussions with A. Bhattacharjee, H. Abdelhamid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6" descr="NaturePhysics.png"/>
          <p:cNvPicPr/>
          <p:nvPr/>
        </p:nvPicPr>
        <p:blipFill>
          <a:blip r:embed="rId1"/>
          <a:stretch/>
        </p:blipFill>
        <p:spPr>
          <a:xfrm>
            <a:off x="9645480" y="1666800"/>
            <a:ext cx="3316320" cy="4294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3" descr="SPECRFPB.png"/>
          <p:cNvPicPr/>
          <p:nvPr/>
        </p:nvPicPr>
        <p:blipFill>
          <a:blip r:embed="rId2"/>
          <a:srcRect l="0" t="4034" r="0" b="0"/>
          <a:stretch/>
        </p:blipFill>
        <p:spPr>
          <a:xfrm>
            <a:off x="2384280" y="6195960"/>
            <a:ext cx="2167200" cy="2070000"/>
          </a:xfrm>
          <a:prstGeom prst="rect">
            <a:avLst/>
          </a:prstGeom>
          <a:ln w="0">
            <a:noFill/>
          </a:ln>
        </p:spPr>
      </p:pic>
      <p:sp>
        <p:nvSpPr>
          <p:cNvPr id="518" name="Straight Connector 15"/>
          <p:cNvSpPr/>
          <p:nvPr/>
        </p:nvSpPr>
        <p:spPr>
          <a:xfrm>
            <a:off x="0" y="0"/>
            <a:ext cx="130032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Straight Connector 6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300464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RxMHD explains self-organization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Reversed Field Pinch into internal helical stat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Straight Connector 7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Straight Connector 8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Straight Connector 9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Straight Connector 13"/>
          <p:cNvSpPr/>
          <p:nvPr/>
        </p:nvSpPr>
        <p:spPr>
          <a:xfrm>
            <a:off x="0" y="0"/>
            <a:ext cx="65088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Straight Connector 14"/>
          <p:cNvSpPr/>
          <p:nvPr/>
        </p:nvSpPr>
        <p:spPr>
          <a:xfrm>
            <a:off x="0" y="0"/>
            <a:ext cx="0" cy="65088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Picture 24" descr="SPECRFPC.png"/>
          <p:cNvPicPr/>
          <p:nvPr/>
        </p:nvPicPr>
        <p:blipFill>
          <a:blip r:embed="rId3"/>
          <a:srcRect l="0" t="3882" r="0" b="0"/>
          <a:stretch/>
        </p:blipFill>
        <p:spPr>
          <a:xfrm>
            <a:off x="4768920" y="6195960"/>
            <a:ext cx="2166840" cy="2081160"/>
          </a:xfrm>
          <a:prstGeom prst="rect">
            <a:avLst/>
          </a:prstGeom>
          <a:ln w="0">
            <a:noFill/>
          </a:ln>
        </p:spPr>
      </p:pic>
      <p:sp>
        <p:nvSpPr>
          <p:cNvPr id="527" name="Oval 27"/>
          <p:cNvSpPr/>
          <p:nvPr/>
        </p:nvSpPr>
        <p:spPr>
          <a:xfrm>
            <a:off x="7953480" y="6195960"/>
            <a:ext cx="6660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Straight Connector 34"/>
          <p:cNvSpPr/>
          <p:nvPr/>
        </p:nvSpPr>
        <p:spPr>
          <a:xfrm>
            <a:off x="13004640" y="1300320"/>
            <a:ext cx="0" cy="80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Picture 39" descr="SPECRFPA.png"/>
          <p:cNvPicPr/>
          <p:nvPr/>
        </p:nvPicPr>
        <p:blipFill>
          <a:blip r:embed="rId4"/>
          <a:stretch/>
        </p:blipFill>
        <p:spPr>
          <a:xfrm>
            <a:off x="0" y="6195960"/>
            <a:ext cx="2166840" cy="2144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0" descr="SPECRFPD.png"/>
          <p:cNvPicPr/>
          <p:nvPr/>
        </p:nvPicPr>
        <p:blipFill>
          <a:blip r:embed="rId5"/>
          <a:stretch/>
        </p:blipFill>
        <p:spPr>
          <a:xfrm>
            <a:off x="7153200" y="6195960"/>
            <a:ext cx="2166840" cy="21495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41"/>
          <p:cNvSpPr/>
          <p:nvPr/>
        </p:nvSpPr>
        <p:spPr>
          <a:xfrm>
            <a:off x="0" y="8356680"/>
            <a:ext cx="130046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Qualitative agreement  between numerical calculation and experi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first (and perhaps only?) equilibrium model able to explain internal helical state with two magnetic ax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Oval 32"/>
          <p:cNvSpPr/>
          <p:nvPr/>
        </p:nvSpPr>
        <p:spPr>
          <a:xfrm>
            <a:off x="0" y="6195960"/>
            <a:ext cx="32544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Oval 34"/>
          <p:cNvSpPr/>
          <p:nvPr/>
        </p:nvSpPr>
        <p:spPr>
          <a:xfrm>
            <a:off x="6176880" y="5978520"/>
            <a:ext cx="325440" cy="32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Oval 35"/>
          <p:cNvSpPr/>
          <p:nvPr/>
        </p:nvSpPr>
        <p:spPr>
          <a:xfrm>
            <a:off x="8994600" y="6195960"/>
            <a:ext cx="43344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Oval 33"/>
          <p:cNvSpPr/>
          <p:nvPr/>
        </p:nvSpPr>
        <p:spPr>
          <a:xfrm>
            <a:off x="2817720" y="5978520"/>
            <a:ext cx="325440" cy="32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Picture 41" descr="MartinNuclearFusion.png"/>
          <p:cNvPicPr/>
          <p:nvPr/>
        </p:nvPicPr>
        <p:blipFill>
          <a:blip r:embed="rId6"/>
          <a:srcRect l="1806" t="9275" r="74648" b="18534"/>
          <a:stretch/>
        </p:blipFill>
        <p:spPr>
          <a:xfrm>
            <a:off x="0" y="2925720"/>
            <a:ext cx="2176560" cy="21686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0" descr="MartinNuclearFusion.png"/>
          <p:cNvPicPr/>
          <p:nvPr/>
        </p:nvPicPr>
        <p:blipFill>
          <a:blip r:embed="rId7"/>
          <a:srcRect l="74644" t="9268" r="1806" b="18536"/>
          <a:stretch/>
        </p:blipFill>
        <p:spPr>
          <a:xfrm>
            <a:off x="0" y="2925720"/>
            <a:ext cx="2166840" cy="2168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2" descr="MartinNuclearFusion.png"/>
          <p:cNvPicPr/>
          <p:nvPr/>
        </p:nvPicPr>
        <p:blipFill>
          <a:blip r:embed="rId8"/>
          <a:srcRect l="50565" t="9268" r="25283" b="18536"/>
          <a:stretch/>
        </p:blipFill>
        <p:spPr>
          <a:xfrm>
            <a:off x="2384280" y="2925720"/>
            <a:ext cx="2275200" cy="2168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3" descr="MartinNuclearFusion.png"/>
          <p:cNvPicPr/>
          <p:nvPr/>
        </p:nvPicPr>
        <p:blipFill>
          <a:blip r:embed="rId9"/>
          <a:srcRect l="26487" t="9268" r="49963" b="18536"/>
          <a:stretch/>
        </p:blipFill>
        <p:spPr>
          <a:xfrm>
            <a:off x="4768920" y="2925720"/>
            <a:ext cx="2157480" cy="2168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4" descr="MartinNuclearFusion.png"/>
          <p:cNvPicPr/>
          <p:nvPr/>
        </p:nvPicPr>
        <p:blipFill>
          <a:blip r:embed="rId10"/>
          <a:srcRect l="1806" t="9268" r="74044" b="18536"/>
          <a:stretch/>
        </p:blipFill>
        <p:spPr>
          <a:xfrm>
            <a:off x="7153200" y="2925720"/>
            <a:ext cx="2166840" cy="21686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5"/>
          <p:cNvSpPr/>
          <p:nvPr/>
        </p:nvSpPr>
        <p:spPr>
          <a:xfrm>
            <a:off x="108000" y="5202360"/>
            <a:ext cx="9104400" cy="90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UMERICAL CALCULATION USING STEPPED PRESSURE EQUILIBRIUM COD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aylor relaxation and reversed field pinche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. Dennis, R. Dewar, S. Hudson, M. Hole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 2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Australian Institute of Physics Congres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TextBox 42"/>
          <p:cNvSpPr/>
          <p:nvPr/>
        </p:nvSpPr>
        <p:spPr>
          <a:xfrm>
            <a:off x="108000" y="2384280"/>
            <a:ext cx="9104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Fig.6. Magnetic flux surfaces in the transition from a QSH state . . to a fully developed SHAx state .  . 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he Poincaré plots are obtained considering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Times New Roman"/>
              </a:rPr>
              <a:t>only the axisymmetric field and dominant perturbation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TextBox 55"/>
          <p:cNvSpPr/>
          <p:nvPr/>
        </p:nvSpPr>
        <p:spPr>
          <a:xfrm>
            <a:off x="66600" y="1523880"/>
            <a:ext cx="9102960" cy="90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verview of RFX-mod result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. Martin et al.,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uclear Fusion, 49 (2009) 104019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TextBox 43"/>
          <p:cNvSpPr/>
          <p:nvPr/>
        </p:nvSpPr>
        <p:spPr>
          <a:xfrm>
            <a:off x="11462400" y="1795320"/>
            <a:ext cx="1440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ugust,  2009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TextBox 47"/>
          <p:cNvSpPr/>
          <p:nvPr/>
        </p:nvSpPr>
        <p:spPr>
          <a:xfrm>
            <a:off x="9285120" y="1625760"/>
            <a:ext cx="2856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TextBox 49"/>
          <p:cNvSpPr/>
          <p:nvPr/>
        </p:nvSpPr>
        <p:spPr>
          <a:xfrm>
            <a:off x="9715680" y="2058840"/>
            <a:ext cx="285588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Times New Roman"/>
              </a:rPr>
              <a:t>physic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TextBox 50"/>
          <p:cNvSpPr/>
          <p:nvPr/>
        </p:nvSpPr>
        <p:spPr>
          <a:xfrm>
            <a:off x="9753480" y="3006720"/>
            <a:ext cx="28558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versed-field pinch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s self-organize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art R. Hudson</dc:creator>
  <dc:description/>
  <dc:language>en-US</dc:language>
  <cp:lastModifiedBy>Hudson</cp:lastModifiedBy>
  <dcterms:modified xsi:type="dcterms:W3CDTF">2016-03-21T13:49:28Z</dcterms:modified>
  <cp:revision>49</cp:revision>
  <dc:subject/>
  <dc:title>PowerPoint Presentation</dc:title>
</cp:coreProperties>
</file>