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12C0-0EDF-4D5D-9279-E3DCEC03BF9C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C07B-D049-4501-9BB6-08F02D371032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Box 7"/>
          <p:cNvSpPr/>
          <p:nvPr/>
        </p:nvSpPr>
        <p:spPr>
          <a:xfrm>
            <a:off x="-25560" y="0"/>
            <a:ext cx="13005000" cy="1800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0000"/>
                </a:solidFill>
                <a:uFillTx/>
                <a:latin typeface="Gill Sans"/>
              </a:rPr>
              <a:t>Title. . . 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5" descr=""/>
          <p:cNvPicPr/>
          <p:nvPr/>
        </p:nvPicPr>
        <p:blipFill>
          <a:blip r:embed="rId1"/>
          <a:stretch/>
        </p:blipFill>
        <p:spPr>
          <a:xfrm>
            <a:off x="10083960" y="2666880"/>
            <a:ext cx="2819160" cy="272268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3316" descr=""/>
          <p:cNvPicPr/>
          <p:nvPr/>
        </p:nvPicPr>
        <p:blipFill>
          <a:blip r:embed="rId2"/>
          <a:stretch/>
        </p:blipFill>
        <p:spPr>
          <a:xfrm>
            <a:off x="101520" y="3206880"/>
            <a:ext cx="12781080" cy="6430680"/>
          </a:xfrm>
          <a:prstGeom prst="rect">
            <a:avLst/>
          </a:prstGeom>
          <a:ln w="0">
            <a:noFill/>
          </a:ln>
        </p:spPr>
      </p:pic>
      <p:sp>
        <p:nvSpPr>
          <p:cNvPr id="497" name="TextBox 7"/>
          <p:cNvSpPr/>
          <p:nvPr/>
        </p:nvSpPr>
        <p:spPr>
          <a:xfrm>
            <a:off x="-25560" y="0"/>
            <a:ext cx="130050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0000"/>
                </a:solidFill>
                <a:uFillTx/>
                <a:latin typeface="Gill Sans"/>
              </a:rPr>
              <a:t>Multi-Region Relaxed MHD (MRxMHD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quilibriu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strained, minimum-energy stat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sistent with given pressure, transform, and boundary.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ounded Rectangle 12"/>
          <p:cNvSpPr/>
          <p:nvPr/>
        </p:nvSpPr>
        <p:spPr>
          <a:xfrm>
            <a:off x="101520" y="7696080"/>
            <a:ext cx="12649320" cy="19051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Rounded Rectangle 2"/>
          <p:cNvSpPr/>
          <p:nvPr/>
        </p:nvSpPr>
        <p:spPr>
          <a:xfrm>
            <a:off x="101520" y="3809880"/>
            <a:ext cx="12649320" cy="14734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TextBox 7"/>
          <p:cNvSpPr/>
          <p:nvPr/>
        </p:nvSpPr>
        <p:spPr>
          <a:xfrm>
            <a:off x="0" y="0"/>
            <a:ext cx="13004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0000"/>
                </a:solidFill>
                <a:uFillTx/>
                <a:latin typeface="Gill Sans"/>
              </a:rPr>
              <a:t>Early and recent publications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Oval 10"/>
          <p:cNvSpPr/>
          <p:nvPr/>
        </p:nvSpPr>
        <p:spPr>
          <a:xfrm>
            <a:off x="8636040" y="5511960"/>
            <a:ext cx="65736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TextBox 1"/>
          <p:cNvSpPr/>
          <p:nvPr/>
        </p:nvSpPr>
        <p:spPr>
          <a:xfrm>
            <a:off x="177840" y="841320"/>
            <a:ext cx="12801600" cy="43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Hole, Hudson &amp; Dewar,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oP 2006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743040" indent="-74304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Hudson, Hole &amp; Dewar,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oP 2007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      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(theoretical model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743040" indent="-74304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ewar, Hole et al.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ntropy 2008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743040" indent="-74304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743040" indent="-74304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Hudson, Dewar et al.,  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oP 2012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(SPEC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743040" indent="-74304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ennis, Hudson et al.  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oP 2013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(MRxMHD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 ideal as N</a:t>
            </a:r>
            <a:r>
              <a:rPr b="0" i="1" lang="en-US" sz="1000" spc="-1" strike="noStrike">
                <a:solidFill>
                  <a:srgbClr val="000000"/>
                </a:solidFill>
                <a:latin typeface="Gill Sans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743040" indent="-74304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ennis, Hudson et al., 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RL 2013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(helical states in RFP = double Taylor state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743040" indent="-74304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ennis, Hudson et al., 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oP 2014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(MRxMHD+flow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743040" indent="-74304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ennis, Hudson et al., 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oP 2014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(MRxMHD+flow+pressure anisotroph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743040" indent="-74304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743040" indent="-74304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oizu, Hudson et al.     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oP 2015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(first ever computation of 1/x &amp;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 current-densities in ideal-MHD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743040" indent="-74304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oizu, Hudson et al.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oP, 2015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(well-defined, 3D ideal MHD with discontinuous transform, RMP penetration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743040" indent="-74304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ewar, Yoshida et al.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JPP, 2015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(variational formulation of MRxMHD dynamics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743040" indent="-74304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oizu, Hudson et al.,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oP, 2016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(pressure amplification of RMPs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TextBox 7"/>
          <p:cNvSpPr/>
          <p:nvPr/>
        </p:nvSpPr>
        <p:spPr>
          <a:xfrm>
            <a:off x="25560" y="5450040"/>
            <a:ext cx="1300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Gill Sans"/>
              </a:rPr>
              <a:t>Recent and upcoming invited talks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TextBox 10"/>
          <p:cNvSpPr/>
          <p:nvPr/>
        </p:nvSpPr>
        <p:spPr>
          <a:xfrm>
            <a:off x="101520" y="6248520"/>
            <a:ext cx="12801600" cy="32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Hudson, Dewar, et al.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2012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nternational Sherwood Fusion Theory Conferenc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ennis, Hudson, et al.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2013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nternational Sherwood Fusion Theory Conferenc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ennis, Hudson, et. al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2013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nternational Stellarator Heliotron Workshop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Hole, Dewar, et al.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2014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nternational Congress on Plasma Physic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oizu, Hudson, et al.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2015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nternational Sherwood Fusion Theory Conferenc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oizu, Hudson, et al.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2015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PS-DPP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Hudson, Loizu, et al.,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2016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sia Pacific Plasma Theory Conference, 2016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oizu, Hudson, et al.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2016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Varenna Fusion Theory Conferenc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Right Brace 3"/>
          <p:cNvSpPr/>
          <p:nvPr/>
        </p:nvSpPr>
        <p:spPr>
          <a:xfrm>
            <a:off x="5892840" y="917640"/>
            <a:ext cx="304920" cy="911160"/>
          </a:xfrm>
          <a:custGeom>
            <a:avLst/>
            <a:gdLst>
              <a:gd name="textAreaLeft" fmla="*/ 0 w 304920"/>
              <a:gd name="textAreaRight" fmla="*/ 110160 w 304920"/>
              <a:gd name="textAreaTop" fmla="*/ 83160 h 911160"/>
              <a:gd name="textAreaBottom" fmla="*/ 828000 h 91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52"/>
                  <a:pt x="10800" y="6304"/>
                </a:cubicBezTo>
                <a:lnTo>
                  <a:pt x="10800" y="4496"/>
                </a:lnTo>
                <a:cubicBezTo>
                  <a:pt x="10800" y="7648"/>
                  <a:pt x="16200" y="10800"/>
                  <a:pt x="21600" y="10800"/>
                </a:cubicBezTo>
                <a:cubicBezTo>
                  <a:pt x="16200" y="10800"/>
                  <a:pt x="10800" y="13952"/>
                  <a:pt x="10800" y="17104"/>
                </a:cubicBezTo>
                <a:lnTo>
                  <a:pt x="10800" y="15296"/>
                </a:lnTo>
                <a:cubicBezTo>
                  <a:pt x="10800" y="18448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7"/>
          <p:cNvSpPr/>
          <p:nvPr/>
        </p:nvSpPr>
        <p:spPr>
          <a:xfrm>
            <a:off x="0" y="0"/>
            <a:ext cx="1300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Ongoing Efforts 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TextBox 7"/>
          <p:cNvSpPr/>
          <p:nvPr/>
        </p:nvSpPr>
        <p:spPr>
          <a:xfrm>
            <a:off x="-25560" y="2362320"/>
            <a:ext cx="130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Milestones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TextBox 10"/>
          <p:cNvSpPr/>
          <p:nvPr/>
        </p:nvSpPr>
        <p:spPr>
          <a:xfrm>
            <a:off x="101520" y="762120"/>
            <a:ext cx="12801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inearly perturbed calculations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(already published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Vacuum benchmark, W7-X, OP1.1,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PEC vs. Biot-Savart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how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Non-stellarator symmetric capability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(completed, not-yet published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ree-boundary capability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(almost finished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10083960" y="0"/>
            <a:ext cx="2895480" cy="3316320"/>
          </a:xfrm>
          <a:prstGeom prst="rect">
            <a:avLst/>
          </a:prstGeom>
          <a:ln w="0">
            <a:noFill/>
          </a:ln>
        </p:spPr>
      </p:pic>
      <p:sp>
        <p:nvSpPr>
          <p:cNvPr id="510" name="TextBox 9"/>
          <p:cNvSpPr/>
          <p:nvPr/>
        </p:nvSpPr>
        <p:spPr>
          <a:xfrm>
            <a:off x="101520" y="2971800"/>
            <a:ext cx="12801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ublish vacuum verification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2016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omplete free-boundary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2016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7-X calculations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2016 / 2017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inear stability calculations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2017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nclude flow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2017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(collaboration with Dr. Hamdi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TextBox 4"/>
          <p:cNvSpPr/>
          <p:nvPr/>
        </p:nvSpPr>
        <p:spPr>
          <a:xfrm>
            <a:off x="10083960" y="3276720"/>
            <a:ext cx="292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"/>
              </a:rPr>
              <a:t>W7-X vacuum verification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Gill Sans"/>
              </a:rPr>
              <a:t>excellent agreement!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TextBox 7"/>
          <p:cNvSpPr/>
          <p:nvPr/>
        </p:nvSpPr>
        <p:spPr>
          <a:xfrm>
            <a:off x="25560" y="4800600"/>
            <a:ext cx="1300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Active Collaborators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TextBox 13"/>
          <p:cNvSpPr/>
          <p:nvPr/>
        </p:nvSpPr>
        <p:spPr>
          <a:xfrm>
            <a:off x="152280" y="5446800"/>
            <a:ext cx="128016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. R. Hudson, A. Bhattacharjee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Princeton Plasma Physics Laboratory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.L. Dewar, M. J. Hole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Australian National University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(awarded 3 Australian Research Council Grants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J. Loizu, P. Helander, C. Nuehrenberg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Max-Planck Institute for Plasma Physic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Z. Yoshida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University of Tokyo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(indirect collaboration via Prof.Dewar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H. AbdelHamid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University of Tokyo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(presently visiting PPPL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TextBox 7"/>
          <p:cNvSpPr/>
          <p:nvPr/>
        </p:nvSpPr>
        <p:spPr>
          <a:xfrm>
            <a:off x="-50760" y="7086600"/>
            <a:ext cx="1300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PEC vc M3D-C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TextBox 16"/>
          <p:cNvSpPr/>
          <p:nvPr/>
        </p:nvSpPr>
        <p:spPr>
          <a:xfrm>
            <a:off x="76320" y="7732800"/>
            <a:ext cx="1280160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How can an equilibrium code be verified against an initial-value code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an self-organized stationary states in tokamaks </a:t>
            </a:r>
            <a:r>
              <a:rPr b="0" lang="en-US" sz="2000" spc="-1" strike="noStrike">
                <a:solidFill>
                  <a:srgbClr val="ff0000"/>
                </a:solidFill>
                <a:latin typeface="Gill Sans"/>
              </a:rPr>
              <a:t>[Jardin et al. PRL]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be explained as constrained minimum energy states? 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(preliminary discussions with A. Bhattacharjee, H. Abdelhamid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46" descr="NaturePhysics.png"/>
          <p:cNvPicPr/>
          <p:nvPr/>
        </p:nvPicPr>
        <p:blipFill>
          <a:blip r:embed="rId1"/>
          <a:stretch/>
        </p:blipFill>
        <p:spPr>
          <a:xfrm>
            <a:off x="9645480" y="1666800"/>
            <a:ext cx="3316320" cy="42944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23" descr="SPECRFPB.png"/>
          <p:cNvPicPr/>
          <p:nvPr/>
        </p:nvPicPr>
        <p:blipFill>
          <a:blip r:embed="rId2"/>
          <a:srcRect l="0" t="4034" r="0" b="0"/>
          <a:stretch/>
        </p:blipFill>
        <p:spPr>
          <a:xfrm>
            <a:off x="2384280" y="6195960"/>
            <a:ext cx="2167200" cy="2070000"/>
          </a:xfrm>
          <a:prstGeom prst="rect">
            <a:avLst/>
          </a:prstGeom>
          <a:ln w="0">
            <a:noFill/>
          </a:ln>
        </p:spPr>
      </p:pic>
      <p:sp>
        <p:nvSpPr>
          <p:cNvPr id="518" name="Straight Connector 15"/>
          <p:cNvSpPr/>
          <p:nvPr/>
        </p:nvSpPr>
        <p:spPr>
          <a:xfrm>
            <a:off x="0" y="0"/>
            <a:ext cx="130032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Straight Connector 6"/>
          <p:cNvSpPr/>
          <p:nvPr/>
        </p:nvSpPr>
        <p:spPr>
          <a:xfrm>
            <a:off x="0" y="0"/>
            <a:ext cx="65088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3004640" cy="1625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MRxMHD explains self-organization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Reversed Field Pinch into internal helical state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Straight Connector 7"/>
          <p:cNvSpPr/>
          <p:nvPr/>
        </p:nvSpPr>
        <p:spPr>
          <a:xfrm>
            <a:off x="0" y="0"/>
            <a:ext cx="65088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Straight Connector 8"/>
          <p:cNvSpPr/>
          <p:nvPr/>
        </p:nvSpPr>
        <p:spPr>
          <a:xfrm>
            <a:off x="0" y="0"/>
            <a:ext cx="65088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Straight Connector 9"/>
          <p:cNvSpPr/>
          <p:nvPr/>
        </p:nvSpPr>
        <p:spPr>
          <a:xfrm>
            <a:off x="0" y="0"/>
            <a:ext cx="65088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Straight Connector 13"/>
          <p:cNvSpPr/>
          <p:nvPr/>
        </p:nvSpPr>
        <p:spPr>
          <a:xfrm>
            <a:off x="0" y="0"/>
            <a:ext cx="65088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Straight Connector 14"/>
          <p:cNvSpPr/>
          <p:nvPr/>
        </p:nvSpPr>
        <p:spPr>
          <a:xfrm>
            <a:off x="0" y="0"/>
            <a:ext cx="0" cy="65088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26" name="Picture 24" descr="SPECRFPC.png"/>
          <p:cNvPicPr/>
          <p:nvPr/>
        </p:nvPicPr>
        <p:blipFill>
          <a:blip r:embed="rId3"/>
          <a:srcRect l="0" t="3882" r="0" b="0"/>
          <a:stretch/>
        </p:blipFill>
        <p:spPr>
          <a:xfrm>
            <a:off x="4768920" y="6195960"/>
            <a:ext cx="2166840" cy="2081160"/>
          </a:xfrm>
          <a:prstGeom prst="rect">
            <a:avLst/>
          </a:prstGeom>
          <a:ln w="0">
            <a:noFill/>
          </a:ln>
        </p:spPr>
      </p:pic>
      <p:sp>
        <p:nvSpPr>
          <p:cNvPr id="527" name="Oval 27"/>
          <p:cNvSpPr/>
          <p:nvPr/>
        </p:nvSpPr>
        <p:spPr>
          <a:xfrm>
            <a:off x="7953480" y="6195960"/>
            <a:ext cx="66600" cy="157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Straight Connector 34"/>
          <p:cNvSpPr/>
          <p:nvPr/>
        </p:nvSpPr>
        <p:spPr>
          <a:xfrm>
            <a:off x="13004640" y="1300320"/>
            <a:ext cx="0" cy="80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29" name="Picture 39" descr="SPECRFPA.png"/>
          <p:cNvPicPr/>
          <p:nvPr/>
        </p:nvPicPr>
        <p:blipFill>
          <a:blip r:embed="rId4"/>
          <a:stretch/>
        </p:blipFill>
        <p:spPr>
          <a:xfrm>
            <a:off x="0" y="6195960"/>
            <a:ext cx="2166840" cy="21448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40" descr="SPECRFPD.png"/>
          <p:cNvPicPr/>
          <p:nvPr/>
        </p:nvPicPr>
        <p:blipFill>
          <a:blip r:embed="rId5"/>
          <a:stretch/>
        </p:blipFill>
        <p:spPr>
          <a:xfrm>
            <a:off x="7153200" y="6195960"/>
            <a:ext cx="2166840" cy="2149560"/>
          </a:xfrm>
          <a:prstGeom prst="rect">
            <a:avLst/>
          </a:prstGeom>
          <a:ln w="0">
            <a:noFill/>
          </a:ln>
        </p:spPr>
      </p:pic>
      <p:sp>
        <p:nvSpPr>
          <p:cNvPr id="531" name="TextBox 41"/>
          <p:cNvSpPr/>
          <p:nvPr/>
        </p:nvSpPr>
        <p:spPr>
          <a:xfrm>
            <a:off x="0" y="8356680"/>
            <a:ext cx="1300464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llent Qualitative agreement  between numerical calculation and experime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first (and perhaps only?) equilibrium model able to explain internal helical state with two magnetic ax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Oval 32"/>
          <p:cNvSpPr/>
          <p:nvPr/>
        </p:nvSpPr>
        <p:spPr>
          <a:xfrm>
            <a:off x="0" y="6195960"/>
            <a:ext cx="325440" cy="32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Oval 34"/>
          <p:cNvSpPr/>
          <p:nvPr/>
        </p:nvSpPr>
        <p:spPr>
          <a:xfrm>
            <a:off x="6176880" y="5978520"/>
            <a:ext cx="325440" cy="325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Oval 35"/>
          <p:cNvSpPr/>
          <p:nvPr/>
        </p:nvSpPr>
        <p:spPr>
          <a:xfrm>
            <a:off x="8994600" y="6195960"/>
            <a:ext cx="433440" cy="433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Oval 33"/>
          <p:cNvSpPr/>
          <p:nvPr/>
        </p:nvSpPr>
        <p:spPr>
          <a:xfrm>
            <a:off x="2817720" y="5978520"/>
            <a:ext cx="325440" cy="325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6" name="Picture 41" descr="MartinNuclearFusion.png"/>
          <p:cNvPicPr/>
          <p:nvPr/>
        </p:nvPicPr>
        <p:blipFill>
          <a:blip r:embed="rId6"/>
          <a:srcRect l="1806" t="9275" r="74648" b="18534"/>
          <a:stretch/>
        </p:blipFill>
        <p:spPr>
          <a:xfrm>
            <a:off x="0" y="2925720"/>
            <a:ext cx="2176560" cy="216864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40" descr="MartinNuclearFusion.png"/>
          <p:cNvPicPr/>
          <p:nvPr/>
        </p:nvPicPr>
        <p:blipFill>
          <a:blip r:embed="rId7"/>
          <a:srcRect l="74644" t="9268" r="1806" b="18536"/>
          <a:stretch/>
        </p:blipFill>
        <p:spPr>
          <a:xfrm>
            <a:off x="0" y="2925720"/>
            <a:ext cx="2166840" cy="21686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42" descr="MartinNuclearFusion.png"/>
          <p:cNvPicPr/>
          <p:nvPr/>
        </p:nvPicPr>
        <p:blipFill>
          <a:blip r:embed="rId8"/>
          <a:srcRect l="50565" t="9268" r="25283" b="18536"/>
          <a:stretch/>
        </p:blipFill>
        <p:spPr>
          <a:xfrm>
            <a:off x="2384280" y="2925720"/>
            <a:ext cx="2275200" cy="21686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43" descr="MartinNuclearFusion.png"/>
          <p:cNvPicPr/>
          <p:nvPr/>
        </p:nvPicPr>
        <p:blipFill>
          <a:blip r:embed="rId9"/>
          <a:srcRect l="26487" t="9268" r="49963" b="18536"/>
          <a:stretch/>
        </p:blipFill>
        <p:spPr>
          <a:xfrm>
            <a:off x="4768920" y="2925720"/>
            <a:ext cx="2157480" cy="21686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4" descr="MartinNuclearFusion.png"/>
          <p:cNvPicPr/>
          <p:nvPr/>
        </p:nvPicPr>
        <p:blipFill>
          <a:blip r:embed="rId10"/>
          <a:srcRect l="1806" t="9268" r="74044" b="18536"/>
          <a:stretch/>
        </p:blipFill>
        <p:spPr>
          <a:xfrm>
            <a:off x="7153200" y="2925720"/>
            <a:ext cx="2166840" cy="2168640"/>
          </a:xfrm>
          <a:prstGeom prst="rect">
            <a:avLst/>
          </a:prstGeom>
          <a:ln w="0">
            <a:noFill/>
          </a:ln>
        </p:spPr>
      </p:pic>
      <p:sp>
        <p:nvSpPr>
          <p:cNvPr id="541" name="TextBox 55"/>
          <p:cNvSpPr/>
          <p:nvPr/>
        </p:nvSpPr>
        <p:spPr>
          <a:xfrm>
            <a:off x="108000" y="5202360"/>
            <a:ext cx="9104400" cy="90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NUMERICAL CALCULATION USING STEPPED PRESSURE EQUILIBRIUM CODE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Taylor relaxation and reversed field pinches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G. Dennis, R. Dewar, S. Hudson, M. Hole,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2012  20</a:t>
            </a:r>
            <a:r>
              <a:rPr b="0" lang="en-US" sz="17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Australian Institute of Physics Congress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TextBox 42"/>
          <p:cNvSpPr/>
          <p:nvPr/>
        </p:nvSpPr>
        <p:spPr>
          <a:xfrm>
            <a:off x="108000" y="2384280"/>
            <a:ext cx="9104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Fig.6. Magnetic flux surfaces in the transition from a QSH state . . to a fully developed SHAx state .  . 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The Poincaré plots are obtained considering </a:t>
            </a:r>
            <a:r>
              <a:rPr b="0" i="1" lang="en-US" sz="1700" spc="-1" strike="noStrike" u="sng">
                <a:solidFill>
                  <a:srgbClr val="000000"/>
                </a:solidFill>
                <a:uFillTx/>
                <a:latin typeface="Times New Roman"/>
              </a:rPr>
              <a:t>only the axisymmetric field and dominant perturbation</a:t>
            </a: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TextBox 55"/>
          <p:cNvSpPr/>
          <p:nvPr/>
        </p:nvSpPr>
        <p:spPr>
          <a:xfrm>
            <a:off x="66600" y="1523880"/>
            <a:ext cx="9102960" cy="90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PERIMENTAL RESULTS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verview of RFX-mod results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. Martin et al.,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uclear Fusion, 49 (2009) 104019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TextBox 43"/>
          <p:cNvSpPr/>
          <p:nvPr/>
        </p:nvSpPr>
        <p:spPr>
          <a:xfrm>
            <a:off x="11462400" y="1795320"/>
            <a:ext cx="144036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ugust,  2009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TextBox 47"/>
          <p:cNvSpPr/>
          <p:nvPr/>
        </p:nvSpPr>
        <p:spPr>
          <a:xfrm>
            <a:off x="9285120" y="1625760"/>
            <a:ext cx="28562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nature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TextBox 49"/>
          <p:cNvSpPr/>
          <p:nvPr/>
        </p:nvSpPr>
        <p:spPr>
          <a:xfrm>
            <a:off x="9715680" y="2058840"/>
            <a:ext cx="2855880" cy="9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Times New Roman"/>
              </a:rPr>
              <a:t>physics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TextBox 50"/>
          <p:cNvSpPr/>
          <p:nvPr/>
        </p:nvSpPr>
        <p:spPr>
          <a:xfrm>
            <a:off x="9753480" y="3006720"/>
            <a:ext cx="285588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versed-field pinch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s self-organized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uart R. Hudson</dc:creator>
  <dc:description/>
  <dc:language>en-US</dc:language>
  <cp:lastModifiedBy>Hudson</cp:lastModifiedBy>
  <dcterms:modified xsi:type="dcterms:W3CDTF">2016-03-21T13:49:28Z</dcterms:modified>
  <cp:revision>49</cp:revision>
  <dc:subject/>
  <dc:title>PowerPoint Presentation</dc:title>
</cp:coreProperties>
</file>