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19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0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3830760"/>
            <a:ext cx="2502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383076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0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00" y="77760"/>
            <a:ext cx="8987040" cy="670104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" name="pmiheader" descr=""/>
          <p:cNvPicPr/>
          <p:nvPr/>
        </p:nvPicPr>
        <p:blipFill>
          <a:blip r:embed="rId2"/>
          <a:stretch/>
        </p:blipFill>
        <p:spPr>
          <a:xfrm>
            <a:off x="7294680" y="6067440"/>
            <a:ext cx="17715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Book Antiqua"/>
              </a:rPr>
              <a:t>L I M I T</a:t>
            </a:r>
            <a:br>
              <a:rPr sz="4800"/>
            </a:br>
            <a:r>
              <a:rPr b="0" i="1" lang="en-US" sz="3600" spc="-1" strike="noStrike">
                <a:solidFill>
                  <a:srgbClr val="0000ff"/>
                </a:solidFill>
                <a:latin typeface="Book Antiqua"/>
              </a:rPr>
              <a:t>Liquid Metal Illinois Toroidal Test Facility</a:t>
            </a:r>
            <a:br>
              <a:rPr sz="3600"/>
            </a:br>
            <a:br>
              <a:rPr sz="2000"/>
            </a:b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oroidally Symmetric Liquid Metal J X B Experiments</a:t>
            </a:r>
            <a:endParaRPr b="0" i="1" lang="en-US" sz="28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29718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avid N. Ruz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J. Norman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.P. Allain, M. Boaz, and N. L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epartment of Nuclear, Plasma and Radiological Engineering, University of Illinois at Urbana-Champaig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PS / DPP  October 26, 2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MVC-006S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MIT ---  with electrodes and pool of gal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Power Supplies Courtesy of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PPPL        and        INTEL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pic>
        <p:nvPicPr>
          <p:cNvPr id="73" name="MVC-001S" descr=""/>
          <p:cNvPicPr/>
          <p:nvPr/>
        </p:nvPicPr>
        <p:blipFill>
          <a:blip r:embed="rId1"/>
          <a:stretch/>
        </p:blipFill>
        <p:spPr>
          <a:xfrm>
            <a:off x="457200" y="23814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74" name="MVC-002S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   </a:t>
            </a: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Tokamak First Wall :</a:t>
            </a:r>
            <a:br>
              <a:rPr sz="4400"/>
            </a:b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self propelled metal concept 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934320" cy="45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467480" y="3809880"/>
                <a:ext cx="1143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934320" y="182880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ternally supplied current               may cause metal to flow up outboard w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 X B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up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, J=200 A, B raised to 1000 Gauss</a:t>
            </a:r>
            <a:endParaRPr b="0" i="1" lang="en-US" sz="3200" spc="-1" strike="noStrike">
              <a:solidFill>
                <a:srgbClr val="0000ff"/>
              </a:solidFill>
              <a:latin typeface="Book Antiqu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71600" y="990720"/>
          <a:ext cx="6324480" cy="51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324480" cy="51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91440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 X B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down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, J=200 A, B raised to 1000 Gauss</a:t>
            </a:r>
            <a:endParaRPr b="0" i="1" lang="en-US" sz="3200" spc="-1" strike="noStrike">
              <a:solidFill>
                <a:srgbClr val="0000ff"/>
              </a:solidFill>
              <a:latin typeface="Book Antiqu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00200" y="949320"/>
          <a:ext cx="617220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49320"/>
                    <a:ext cx="61722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828800" y="1139760"/>
          <a:ext cx="579132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39760"/>
                    <a:ext cx="579132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380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 X 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J=200 A, B raised to 1000 Ga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946080"/>
          <a:ext cx="617220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46080"/>
                    <a:ext cx="61722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0880" y="30492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 X 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J=200 A, B raised to 1000 Ga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Force Calculatio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-457200" y="1355760"/>
          <a:ext cx="8839080" cy="45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355760"/>
                    <a:ext cx="88390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How Big is this Force ?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 inner most 5 m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ce of Gravity = 0.3 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 X B Force = 0.09 N   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 inner most 1 m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ce of Gravity = 0.05 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 X B Force = 0.02 N   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Flow down the central colum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e electrode near to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e electrode near botto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 Ga down center colum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rrent path created when Ga reaches botto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 X B can be radially in or 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ol Experi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 Experi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Electrodes after Ga wetting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pic>
        <p:nvPicPr>
          <p:cNvPr id="99" name="MVC-011F" descr=""/>
          <p:cNvPicPr/>
          <p:nvPr/>
        </p:nvPicPr>
        <p:blipFill>
          <a:blip r:embed="rId1"/>
          <a:stretch/>
        </p:blipFill>
        <p:spPr>
          <a:xfrm>
            <a:off x="1523880" y="14810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91540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low down center post, J X B radially in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Flow is thinned and b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600200" y="949320"/>
          <a:ext cx="617220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49320"/>
                    <a:ext cx="61722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-302400" y="176040"/>
            <a:ext cx="936144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low down center post, J X B radially out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Flow is bunched and explo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447920" y="822240"/>
          <a:ext cx="6324480" cy="52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22240"/>
                    <a:ext cx="63244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580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de view of J X B force radially out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VC-009F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4300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Ejected Materia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VC-013F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304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ose up of ejected gallium from central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Analysi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00 A flows through a small cross se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ce of gravity downward = 0.0026 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ce outward = 0.325 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125 times grav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allistic droplets of Ga result and impinge on far wall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Conclusion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urface instabilities still arise in toroidally symmetric configur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7480" indent="-2674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gnetic propulsion not observed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7480" indent="-2674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pansion against free surface boundary is se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7480" indent="-2674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nter stack flowing liquid metal can be severely thinn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7480" indent="-2674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re must be exercised in center stack eddy current formation to avoid injecting liquid metal into a plasm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Future Work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experi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galium to wet entire center stack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ary current configura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parison to the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of ripp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Acknowledgment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PPL for equipment and fund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E, APEX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dergraduate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n Marron-Beeb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ssain Nomanbha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hadi Beid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Motivation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48068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ing liquid metal walls can…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stand high heat flux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pidly remove hea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stand disrup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duce impurity influ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Font typeface="Math1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roduce new operating regi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ll they work as we expect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ild a device and test the LIMI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avebmp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199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57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MIT -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quid Metal Illinois Toroidal test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530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0 C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4419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yrex reservo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Ga reservo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971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yrex center 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8288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S suppor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0" cy="41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43000" y="137124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3623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ave2bmp" descr=""/>
          <p:cNvPicPr/>
          <p:nvPr/>
        </p:nvPicPr>
        <p:blipFill>
          <a:blip r:embed="rId1"/>
          <a:stretch/>
        </p:blipFill>
        <p:spPr>
          <a:xfrm>
            <a:off x="2209680" y="960480"/>
            <a:ext cx="4572000" cy="454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MIT ---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p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5508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14240" y="5508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5508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cm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VC-003S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3808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MIT -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quid Metal Illinois Toroidal test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LIMIT Characteristic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0 coils of 12 Gage wire.  R=0.13 Ohm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7 V creates 200 Amps and produces         1000 Gauss at outside radius of center colum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kW of heat limits duration of experi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00 A available to pass through liquid metal  Resistance of Gallium pool plus contact resistance is 0.015 Ohm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Magnetic Field at 190 Amp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95280" y="1447920"/>
          <a:ext cx="6500880" cy="400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50088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ook Antiqua"/>
              </a:rPr>
              <a:t>Electrodes</a:t>
            </a:r>
            <a:endParaRPr b="0" i="1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pper tap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riped and flattened magnet wire lea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wo concentric circles at bottom of pool to produce a uniform radial curr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rrent density will decease as R increases, but pool depth will decrease too near edg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7T02:22:28Z</dcterms:created>
  <dc:creator>David Ruzic and Doug Hayden</dc:creator>
  <dc:description/>
  <dc:language>en-US</dc:language>
  <cp:lastModifiedBy>David N. Ruzic</cp:lastModifiedBy>
  <cp:lastPrinted>2000-03-10T01:08:22Z</cp:lastPrinted>
  <dcterms:modified xsi:type="dcterms:W3CDTF">2000-10-20T21:07:50Z</dcterms:modified>
  <cp:revision>134</cp:revision>
  <dc:subject>ionized PVD</dc:subject>
  <dc:title>AV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starfire.ne.uiuc.edu</vt:lpwstr>
  </property>
  <property fmtid="{D5CDD505-2E9C-101B-9397-08002B2CF9AE}" pid="9" name="LinkColor">
    <vt:r8>16711782</vt:r8>
  </property>
  <property fmtid="{D5CDD505-2E9C-101B-9397-08002B2CF9AE}" pid="10" name="MailAddress">
    <vt:lpwstr>jpallain@starfire.ne.uiuc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jpallain\APS 98 Poster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