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0760"/>
            <a:ext cx="77724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0760"/>
            <a:ext cx="37926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3830760"/>
            <a:ext cx="37926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0236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676520"/>
            <a:ext cx="250236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676520"/>
            <a:ext cx="250236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0760"/>
            <a:ext cx="250236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3830760"/>
            <a:ext cx="250236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3830760"/>
            <a:ext cx="250236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772400" cy="54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0760"/>
            <a:ext cx="37926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3830760"/>
            <a:ext cx="37926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0760"/>
            <a:ext cx="77724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00" y="77760"/>
            <a:ext cx="8987040" cy="670104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ath1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" name="pmiheader" descr=""/>
          <p:cNvPicPr/>
          <p:nvPr/>
        </p:nvPicPr>
        <p:blipFill>
          <a:blip r:embed="rId2"/>
          <a:stretch/>
        </p:blipFill>
        <p:spPr>
          <a:xfrm>
            <a:off x="7294680" y="6067440"/>
            <a:ext cx="17715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Book Antiqua"/>
              </a:rPr>
              <a:t>F L I R E</a:t>
            </a:r>
            <a:br>
              <a:rPr sz="4400"/>
            </a:br>
            <a:r>
              <a:rPr b="0" i="1" lang="en-US" sz="3200" spc="-1" strike="noStrike">
                <a:solidFill>
                  <a:srgbClr val="0000ff"/>
                </a:solidFill>
                <a:latin typeface="Book Antiqua"/>
              </a:rPr>
              <a:t>Flowing Liquid-Surface Illinois Retention Experi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Critical Design Considerations</a:t>
            </a:r>
            <a:endParaRPr b="0" i="1" lang="en-US" sz="32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2666520"/>
            <a:ext cx="723888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rk Boaz,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David N. Ruzic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Ning Li,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eff Norman and Jean-Paul Allai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epartment of Nuclear, Plasma, and Radiological Engine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iversity of Illinoi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t Urbana Champaig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ctober 25, 2000     APS DPP Meeting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Critical Questions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80680"/>
            <a:ext cx="7772400" cy="41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ll surface layer with the implanted ions smoothly flow into the inner vacuum chamber or will the liquid metal pool at the opening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f it does not pool, will a vacuum seal be maintained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s having two ramps sufficient to ensure this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Prototype Design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ey is to have flow maintain contact with ramp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quation of motion for free flow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y(x) = x - b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asure flow speed, find “b”, cut plywoo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ength of ramp determined by co-joining angle.  Experiment, choose 25 degre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VC-009F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4572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lotted holes in plywood allowed for adjustment of exi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VC-007F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ap from reservoir controlled by teflon 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Mvc-008r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520" y="1295280"/>
            <a:ext cx="1218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3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MVC-003F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144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ssembled FLIRE prot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VC-001F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6668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te brightness of exit when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676520" y="1012680"/>
          <a:ext cx="609588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12680"/>
                    <a:ext cx="609588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6212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5 mm gap from reservoirs is too big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676520" y="1012680"/>
          <a:ext cx="609588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12680"/>
                    <a:ext cx="609588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6680" y="3049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4 mm gap still pools, but then settles down nic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600200" y="949320"/>
          <a:ext cx="609588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49320"/>
                    <a:ext cx="609588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914400" y="304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3 mm gap is just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Outline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LIRE Concep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periment to Address Critical Concer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676520" y="1012680"/>
          <a:ext cx="609588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12680"/>
                    <a:ext cx="609588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762120" y="228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 mm gap is okay, but some Cu is sh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523880" y="885960"/>
          <a:ext cx="624852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885960"/>
                    <a:ext cx="624852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914400" y="228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3 mm gap again, differen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rough careful design, uniform “folding” flow can be achiev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LIRE experiment could determine critical parameters for the ALPS/ APEX program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Acknowledgements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E ALPS progra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Undergraduate Research Assistan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ath1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ussain Nomanbhai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ath1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hadi Beida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Motivation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lowing Liquid Metal Wall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0000ff"/>
              </a:buClr>
              <a:buFont typeface="Math1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gh heat flux capabilit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0000ff"/>
              </a:buClr>
              <a:buFont typeface="Math1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sruption resista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0000ff"/>
              </a:buClr>
              <a:buFont typeface="Math1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ow Z possibl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0000ff"/>
              </a:buClr>
              <a:buFont typeface="Math1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y have new plasma operating regim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n helium be removed 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at is the retention of He in liquid metals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Proposed Experiment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low Li down a ramp into a second vacuum system inside the large vacuum syste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Li flow provide vacuum isol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im He ion beam at flowing Li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ook for He in inner chamber with a He leak detecto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93800" y="1752480"/>
            <a:ext cx="576108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65160" y="762120"/>
            <a:ext cx="54165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523880" y="914400"/>
          <a:ext cx="6099120" cy="44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14400"/>
                    <a:ext cx="6099120" cy="44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Detectability Limits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e leak detectors can see 2.7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81160" indent="-28116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on beam at 1 mA has 1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seven-orders-of-magnitude !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1160" indent="-28116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low velocity = 1 m/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81160" indent="-28116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usion system will have same time in chamber, 0.01 sec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81160" indent="-28116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f 1 ppm is seen, (</a:t>
            </a: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six-orders-of-magnitud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)  minimum observable retention time constant = </a:t>
            </a:r>
            <a:r>
              <a:rPr b="0" lang="en-US" sz="3200" spc="-1" strike="noStrike">
                <a:solidFill>
                  <a:srgbClr val="ff0000"/>
                </a:solidFill>
                <a:latin typeface="Book Antiqua"/>
              </a:rPr>
              <a:t>25 </a:t>
            </a:r>
            <a:r>
              <a:rPr b="0" lang="en-US" sz="3200" spc="-1" strike="noStrike">
                <a:solidFill>
                  <a:srgbClr val="ff0000"/>
                </a:solidFill>
                <a:latin typeface="Math1"/>
                <a:ea typeface="Math1"/>
              </a:rPr>
              <a:t></a:t>
            </a:r>
            <a:r>
              <a:rPr b="0" lang="en-US" sz="3200" spc="-1" strike="noStrike">
                <a:solidFill>
                  <a:srgbClr val="ff0000"/>
                </a:solidFill>
                <a:latin typeface="Book Antiqua"/>
              </a:rPr>
              <a:t>sec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7T02:22:28Z</dcterms:created>
  <dc:creator>David Ruzic and Doug Hayden</dc:creator>
  <dc:description/>
  <dc:language>en-US</dc:language>
  <cp:lastModifiedBy>David N. Ruzic</cp:lastModifiedBy>
  <cp:lastPrinted>2000-03-10T01:08:22Z</cp:lastPrinted>
  <dcterms:modified xsi:type="dcterms:W3CDTF">2000-10-20T20:57:37Z</dcterms:modified>
  <cp:revision>127</cp:revision>
  <dc:subject>ionized PVD</dc:subject>
  <dc:title>AV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starfire.ne.uiuc.edu</vt:lpwstr>
  </property>
  <property fmtid="{D5CDD505-2E9C-101B-9397-08002B2CF9AE}" pid="9" name="LinkColor">
    <vt:r8>16711782</vt:r8>
  </property>
  <property fmtid="{D5CDD505-2E9C-101B-9397-08002B2CF9AE}" pid="10" name="MailAddress">
    <vt:lpwstr>jpallain@starfire.ne.uiuc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jpallain\APS 98 Poster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